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_rels/item1.xml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2160" y="5389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2160" y="5389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4840" y="5389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0160" y="4605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77800" y="4605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22160" y="5389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0160" y="5389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77800" y="5389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22160" y="4605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22160" y="610560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22160" y="5389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22160" y="4605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04840" y="5389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2160" y="5389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22160" y="5389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22160" y="5389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04840" y="5389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50160" y="4605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77800" y="4605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22160" y="5389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50160" y="5389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77800" y="5389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22160" y="4605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22160" y="610560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22160" y="5389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704840" y="5389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22160" y="5389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22160" y="5389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22160" y="5389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704840" y="5389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50160" y="4605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77800" y="4605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22160" y="5389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50160" y="5389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977800" y="5389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22160" y="4605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22160" y="610560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22160" y="5389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4840" y="5389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22160" y="5389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22160" y="5389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22160" y="5389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4840" y="5389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50160" y="4605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77800" y="4605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722160" y="5389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50160" y="5389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77800" y="5389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22160" y="4605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22160" y="610560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22160" y="5389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704840" y="5389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22160" y="5389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22160" y="5389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22160" y="5389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704840" y="5389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22160" y="610560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350160" y="4605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77800" y="460548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722160" y="5389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350160" y="5389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977800" y="538920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22160" y="5389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4840" y="538920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216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460548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2160" y="538920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995560"/>
            <a:ext cx="769572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2160" y="610560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 cap="all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22160" y="460548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1340640"/>
            <a:ext cx="7488360" cy="2952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дительское собрани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  тему 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ль семьи в формировании личности»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tle 5"/>
          <p:cNvSpPr/>
          <p:nvPr/>
        </p:nvSpPr>
        <p:spPr>
          <a:xfrm>
            <a:off x="5220000" y="5877360"/>
            <a:ext cx="338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ер-преподавател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шапова В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548640"/>
            <a:ext cx="663480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йственная любовь (симпатия, уважение, близость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а семейного воспитания при этом такова: хочу, чтобы мой ребенок был счастлив, и буду помогать ему в этом. Действенная любовь включает активное внимание к интересам ребенка, принятие его как самостоятельной личности, теплое эмоциональное отношение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6634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страненная любовь (симпатия, уважение, но большая дистанция в общении)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осуществляется по формуле: смотрите, какой у меня прекрасный ребенок, жаль, что у меня так мало времени для общения с ним. Родители высоко оценивают ребенка, особенно его успехи или способности, но это сочетается с незнанием его душевного мира, с неумением помочь в его проблемах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260640"/>
            <a:ext cx="6634800" cy="58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йственная жалость (симпатия, близость, но отсутствие уважения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а такова: хотя мой ребенок недостаточно умен и развит, но все равно я его люблю. Для этого стиля характерно признание действительных (а часто и мнимых) отклонений в умственном или физическом развитии ребенка, в результате чего родители начинают чрезмерно опекать, не веря в его способности и возможности, не доверяя ребенку.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260640"/>
            <a:ext cx="6634800" cy="58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исходительное отстранение (симпатия, неуважение, большая дистанция в общении)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по принципу: нельзя винить моего ребенка в том, что он недостаточно умен и развит. Они как бы признают за ребенком право на неблагополучие и несчастье и при этом не особенно стремятся предотвратить это, не вмешиваются в его дела и плохо осведомлены о его переживаниях и внутреннем мире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260640"/>
            <a:ext cx="6634800" cy="58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зрение (антипатия, неуважение и малая дистанция в общении)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ое отношение соответствует формуле: я мучаюсь и страдаю от того, что мой ребенок так неразвит, неумен, неприятен другим. Родитель обычно не замечает в ребенке ничего положительного, игнорирует любые достижения, но в то же время мучительно переживает свою связь с таким неудачником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260640"/>
            <a:ext cx="6634800" cy="58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ржение (антипатия, неуважение, большая дистанция в общении)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обное отношение встречается достаточно редко, его формула: ребенок меня раздражает, не хочу иметь с ним дела. Родитель холоден и неприступен даже тогда, когда ребенок нуждается в помощи и поддержке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260640"/>
            <a:ext cx="6634800" cy="58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611640" y="493560"/>
            <a:ext cx="6336360" cy="5636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аз (антипатия, уважение, большая дистанция в общении)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дители живут по формуле: я не хочу иметь дело с этим негодяем. В воспитании преобладает отстранение от проблем ребенка, родители как бы издали следят за ним, признавая его силу, ценность некоторых личностных качеств. В поведении родителей просматривается не вполне осознанный призыв: оградите нас от этого чудовищ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79640" y="332640"/>
            <a:ext cx="878472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же должна быть подлинная      родительская любовь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"/>
          <p:cNvSpPr/>
          <p:nvPr/>
        </p:nvSpPr>
        <p:spPr>
          <a:xfrm>
            <a:off x="179640" y="1196640"/>
            <a:ext cx="87127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линная родительская любовь проявляется в умении видеть неповторимую личность. Знания можно приобрести, и опыт приходит со временем, а душа живёт в человеке с рождения. Готовность познавать внутренний мир своего ребёнка, видеть окружающее его глазами, совместными усилиями создавать ту общность, которую мы зовём семьёй – это и есть истинное воспи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79640" y="188640"/>
            <a:ext cx="89640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ест «Какие мы родители» Проверьте себя, ответив на вопросы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а, нет, ино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Следите ли вы за статьями в журналах, программами по телевидению и радио на эту т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Единодушны ли вы с вашим супругом в воспитании дет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Если ребенок предлагает вам помощь, примете ли вы ее, даже если при этом дело может задержа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аш ребенок совершил проступок. Задумаетесь ли вы в таком случае, не является ли его поведение результатом вашего воспит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Используете ли вы формулу запрета или приказа только тогда, когда это действительно необходим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Считаете ли вы что последовательность, есть один из педагогических принцип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Сознаете ли вы, что среда, окружающая ребенка, оказывает на него существенное влия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Признаете ли вы, что спорт и физкультура имеют большое значение для гармоничного развития ребен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Сумеете ли вы не приказать, а попросить о чем-либо своего ребен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Неприятно ли вам «отделываться» от ребенка фразой типа: «У меня нет времени» или «Подожди, пока я закончу работу»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476640"/>
            <a:ext cx="8229240" cy="49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"/>
          <p:cNvSpPr/>
          <p:nvPr/>
        </p:nvSpPr>
        <p:spPr>
          <a:xfrm>
            <a:off x="179640" y="-56880"/>
            <a:ext cx="8712720" cy="548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люч к тесту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каждый положительный ответ припишите себе 2 очка, за ответ «Иногда» и отрицательный –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енее 6 очк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 настоящем воспитании вы имеете довольно смутное представление. И хотя говорят, что начать никогда не поздно, советуем вам не уповать на эту поговорку и не мешкая заняться повышением образования в эт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т 7 до 14 очк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 не делаете крупных ошибок в воспитании, но все же кое в чем над собой и своими итогами в этой области следовало бы задум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начать можно с того, что ближайший выходной полностью посвятить детям, забыв на время приятелей и производственные пробл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будьте уверены, дети вас за это полностью вознаград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олее 15 очк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 вполне справляетесь со своими родительскими обязанностями. И, тем не менее, не останавливайтесь на достигну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260640"/>
            <a:ext cx="8229240" cy="5865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ья - это счастье, любовь и удач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ья - это летом поездки на дачу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ья - это праздник, семейные даты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рки, покупки, приятные траты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жденье детей, первый шаг, первый лепет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чты о хорошем, волненье и трепет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ья - это труд, друг о друге забот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ья - это много домашней работы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ья - это важно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ья - это сложно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счастливо жить одному невозможно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да будьте вместе, любовь берегите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иды и ссоры подальше гоните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чу, чтоб про нас говорили друзья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ая хорошая Ваша семь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73548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ШАГА К «ХОРОШЕМУ РОДИТЕЛЬСТВУ»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Постарайтесь обрести внутренне покой и выработать спокойное отношение прежде всего к своим собственным родителям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Пересильте в себе чувство превосходства над детьми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Старайтесь выработать к ребенку ровное и спокойное отношение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66348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РАЙТЕСЬ СТАТЬ «ОТВЕТСТВЕННЫМИ РОДИТЕЛЯМИ»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есто постоянного контроля  жизни детей, надо доверять им, давать право выбора. Это залог того, что они вырастут уверенными в себе, с большими личностными ресурсами и умением принимать ответственные решения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“Ответственные родители” не боятся обнаружить перед детьми свое несовершенство. Дети склонны рассматривать свои ошибки как брошенный им вызов и пытаются сделать то же самое снова и снова, пока, наконец, не добьются успеха. Но в основн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260640"/>
            <a:ext cx="6634800" cy="58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"/>
          <p:cNvSpPr/>
          <p:nvPr/>
        </p:nvSpPr>
        <p:spPr>
          <a:xfrm>
            <a:off x="251640" y="715320"/>
            <a:ext cx="6768360" cy="4783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 действительно очень нравится, как ты это сделал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свидетельствует, как много труда ты вложила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 понимаю твое огорчение, потому что знаю, как ты старался”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 так горжусь тобой!”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и вправду оказываешь мне огромную помощь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 действительно уважаю твое мнение”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260640"/>
            <a:ext cx="6634800" cy="58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ы будете постоянно придерживаться вышеперечисленных правил, то очень скоро обязательно ощутите позитивные результаты. У вас появятся веские основания почувствовать себя хорошим родителем. А ребенок всегда будет уверен: мама и папа знают, как сделать лучш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251640" y="2955240"/>
            <a:ext cx="676836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67640" y="476640"/>
            <a:ext cx="6634800" cy="58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"/>
          <p:cNvSpPr/>
          <p:nvPr/>
        </p:nvSpPr>
        <p:spPr>
          <a:xfrm>
            <a:off x="251640" y="2955240"/>
            <a:ext cx="676836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"/>
          <p:cNvSpPr/>
          <p:nvPr/>
        </p:nvSpPr>
        <p:spPr>
          <a:xfrm>
            <a:off x="323640" y="1226160"/>
            <a:ext cx="6048360" cy="393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им образом, определённое количество детей не получают в своей семье того, что, по его мнению, должна давать семья человеку. Это говорит о том, что для многих подростков опыт взаимоотношений их родителей станет примером того, как не нужно строить семейный оч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7640" y="476640"/>
            <a:ext cx="6634800" cy="58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251640" y="2955240"/>
            <a:ext cx="676836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"/>
          <p:cNvSpPr/>
          <p:nvPr/>
        </p:nvSpPr>
        <p:spPr>
          <a:xfrm>
            <a:off x="251640" y="1012320"/>
            <a:ext cx="6192360" cy="435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нас у всех есть возможность выбора. Но именно от вас в большей степени зависит, каким вырастет ваш ребёнок, каким он войдёт во взрослую жизнь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мните, что самое большое влияние на формирование личности ребёнка оказывают поступки и поведение родителёй, а не слова и нраво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0" y="-243360"/>
            <a:ext cx="7102440" cy="71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рание хотелось закончить стихотворением, ещё раз подтверждающим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м проповедь выслушивать, мне лучше бы взглянуть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лучше проводить меня, чем указать мне путь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лаза умнее слуха, поймут все без труда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лова порой запутаны, пример же никогда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от лучший проповедник, кто веру в жизнь провел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бро увидеть в действии - вот лучшая из школ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если все мне показать, - я выучу урок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нятней мне движенье рук, чем быстрый слов поток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лжно быть, можно верить и мыслям и словам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о я уж лучше погляжу, что делаешь ты сам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друг я неправильно пойму твой правильный совет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то пойму, как ты живешь, - по правде или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251640" y="2931840"/>
            <a:ext cx="6192360" cy="51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22160" y="6059880"/>
            <a:ext cx="7772040" cy="321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юбите ваших дете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1640" y="332640"/>
            <a:ext cx="6624360" cy="6192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ажаемые родители, сегодня мы поговорим о роли семьи в формировании личности. О семье,  особого рода коллективе, играющем в воспитании основную, долговременную и важнейшую р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вязи с особой воспитательной ролью семьи возникает вопрос о том, как сделать так, чтобы максимизировать положительные и свести к минимуму отрицательные влияния семьи на воспитание ребенка. Для этого необходимо точно определить внутрисемейные социально-психологические факторы,            имеющие воспитательное зна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539640" y="479880"/>
            <a:ext cx="8279640" cy="4479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 каким лицом вы чаще всего общаетесь со своим ребёнк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2" descr="http://school1beloreshensk.siteedit.ru/images/916607147.jpg"/>
          <p:cNvPicPr/>
          <p:nvPr/>
        </p:nvPicPr>
        <p:blipFill>
          <a:blip r:embed="rId1"/>
          <a:stretch/>
        </p:blipFill>
        <p:spPr>
          <a:xfrm>
            <a:off x="179640" y="1628640"/>
            <a:ext cx="1944000" cy="1800000"/>
          </a:xfrm>
          <a:prstGeom prst="rect">
            <a:avLst/>
          </a:prstGeom>
          <a:ln w="9525">
            <a:noFill/>
          </a:ln>
        </p:spPr>
      </p:pic>
      <p:pic>
        <p:nvPicPr>
          <p:cNvPr id="196" name="Рисунок 3" descr="http://school1beloreshensk.siteedit.ru/images/916607207.jpg"/>
          <p:cNvPicPr/>
          <p:nvPr/>
        </p:nvPicPr>
        <p:blipFill>
          <a:blip r:embed="rId2"/>
          <a:stretch/>
        </p:blipFill>
        <p:spPr>
          <a:xfrm>
            <a:off x="4284000" y="1628640"/>
            <a:ext cx="2088000" cy="1728000"/>
          </a:xfrm>
          <a:prstGeom prst="rect">
            <a:avLst/>
          </a:prstGeom>
          <a:ln w="9525">
            <a:noFill/>
          </a:ln>
        </p:spPr>
      </p:pic>
      <p:pic>
        <p:nvPicPr>
          <p:cNvPr id="197" name="Рисунок 4" descr="http://school1beloreshensk.siteedit.ru/images/916607186.jpg"/>
          <p:cNvPicPr/>
          <p:nvPr/>
        </p:nvPicPr>
        <p:blipFill>
          <a:blip r:embed="rId3"/>
          <a:stretch/>
        </p:blipFill>
        <p:spPr>
          <a:xfrm>
            <a:off x="2195640" y="1628640"/>
            <a:ext cx="2016000" cy="1800000"/>
          </a:xfrm>
          <a:prstGeom prst="rect">
            <a:avLst/>
          </a:prstGeom>
          <a:ln w="9525">
            <a:noFill/>
          </a:ln>
        </p:spPr>
      </p:pic>
      <p:pic>
        <p:nvPicPr>
          <p:cNvPr id="198" name="Рисунок 5" descr="http://school1beloreshensk.siteedit.ru/images/916607226.jpg"/>
          <p:cNvPicPr/>
          <p:nvPr/>
        </p:nvPicPr>
        <p:blipFill>
          <a:blip r:embed="rId4"/>
          <a:stretch/>
        </p:blipFill>
        <p:spPr>
          <a:xfrm>
            <a:off x="6444360" y="1556640"/>
            <a:ext cx="2304000" cy="187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539640" y="662760"/>
            <a:ext cx="8279640" cy="411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2" descr="http://school1beloreshensk.siteedit.ru/images/916607147.jpg"/>
          <p:cNvPicPr/>
          <p:nvPr/>
        </p:nvPicPr>
        <p:blipFill>
          <a:blip r:embed="rId1"/>
          <a:stretch/>
        </p:blipFill>
        <p:spPr>
          <a:xfrm>
            <a:off x="179640" y="1628640"/>
            <a:ext cx="1944000" cy="1800000"/>
          </a:xfrm>
          <a:prstGeom prst="rect">
            <a:avLst/>
          </a:prstGeom>
          <a:ln w="9525">
            <a:noFill/>
          </a:ln>
        </p:spPr>
      </p:pic>
      <p:pic>
        <p:nvPicPr>
          <p:cNvPr id="201" name="Рисунок 3" descr="http://school1beloreshensk.siteedit.ru/images/916607207.jpg"/>
          <p:cNvPicPr/>
          <p:nvPr/>
        </p:nvPicPr>
        <p:blipFill>
          <a:blip r:embed="rId2"/>
          <a:stretch/>
        </p:blipFill>
        <p:spPr>
          <a:xfrm>
            <a:off x="4284000" y="1628640"/>
            <a:ext cx="2088000" cy="1728000"/>
          </a:xfrm>
          <a:prstGeom prst="rect">
            <a:avLst/>
          </a:prstGeom>
          <a:ln w="9525">
            <a:noFill/>
          </a:ln>
        </p:spPr>
      </p:pic>
      <p:pic>
        <p:nvPicPr>
          <p:cNvPr id="202" name="Рисунок 4" descr="http://school1beloreshensk.siteedit.ru/images/916607186.jpg"/>
          <p:cNvPicPr/>
          <p:nvPr/>
        </p:nvPicPr>
        <p:blipFill>
          <a:blip r:embed="rId3"/>
          <a:stretch/>
        </p:blipFill>
        <p:spPr>
          <a:xfrm>
            <a:off x="2195640" y="1628640"/>
            <a:ext cx="2016000" cy="1800000"/>
          </a:xfrm>
          <a:prstGeom prst="rect">
            <a:avLst/>
          </a:prstGeom>
          <a:ln w="9525">
            <a:noFill/>
          </a:ln>
        </p:spPr>
      </p:pic>
      <p:pic>
        <p:nvPicPr>
          <p:cNvPr id="203" name="Рисунок 5" descr="http://school1beloreshensk.siteedit.ru/images/916607226.jpg"/>
          <p:cNvPicPr/>
          <p:nvPr/>
        </p:nvPicPr>
        <p:blipFill>
          <a:blip r:embed="rId4"/>
          <a:stretch/>
        </p:blipFill>
        <p:spPr>
          <a:xfrm>
            <a:off x="6444360" y="1556640"/>
            <a:ext cx="2304000" cy="1872000"/>
          </a:xfrm>
          <a:prstGeom prst="rect">
            <a:avLst/>
          </a:prstGeom>
          <a:ln w="9525">
            <a:noFill/>
          </a:ln>
        </p:spPr>
      </p:pic>
      <p:sp>
        <p:nvSpPr>
          <p:cNvPr id="204" name="Rectangle 1"/>
          <p:cNvSpPr/>
          <p:nvPr/>
        </p:nvSpPr>
        <p:spPr>
          <a:xfrm>
            <a:off x="179640" y="136080"/>
            <a:ext cx="850464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 каким лицом чаще всего общается с вами ваш ребён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539640" y="662760"/>
            <a:ext cx="8279640" cy="411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2" descr="http://school1beloreshensk.siteedit.ru/images/916607147.jpg"/>
          <p:cNvPicPr/>
          <p:nvPr/>
        </p:nvPicPr>
        <p:blipFill>
          <a:blip r:embed="rId1"/>
          <a:stretch/>
        </p:blipFill>
        <p:spPr>
          <a:xfrm>
            <a:off x="179640" y="1628640"/>
            <a:ext cx="1944000" cy="1800000"/>
          </a:xfrm>
          <a:prstGeom prst="rect">
            <a:avLst/>
          </a:prstGeom>
          <a:ln w="9525">
            <a:noFill/>
          </a:ln>
        </p:spPr>
      </p:pic>
      <p:pic>
        <p:nvPicPr>
          <p:cNvPr id="207" name="Рисунок 3" descr="http://school1beloreshensk.siteedit.ru/images/916607207.jpg"/>
          <p:cNvPicPr/>
          <p:nvPr/>
        </p:nvPicPr>
        <p:blipFill>
          <a:blip r:embed="rId2"/>
          <a:stretch/>
        </p:blipFill>
        <p:spPr>
          <a:xfrm>
            <a:off x="4284000" y="1628640"/>
            <a:ext cx="2088000" cy="1728000"/>
          </a:xfrm>
          <a:prstGeom prst="rect">
            <a:avLst/>
          </a:prstGeom>
          <a:ln w="9525">
            <a:noFill/>
          </a:ln>
        </p:spPr>
      </p:pic>
      <p:pic>
        <p:nvPicPr>
          <p:cNvPr id="208" name="Рисунок 4" descr="http://school1beloreshensk.siteedit.ru/images/916607186.jpg"/>
          <p:cNvPicPr/>
          <p:nvPr/>
        </p:nvPicPr>
        <p:blipFill>
          <a:blip r:embed="rId3"/>
          <a:stretch/>
        </p:blipFill>
        <p:spPr>
          <a:xfrm>
            <a:off x="2195640" y="1628640"/>
            <a:ext cx="2016000" cy="1800000"/>
          </a:xfrm>
          <a:prstGeom prst="rect">
            <a:avLst/>
          </a:prstGeom>
          <a:ln w="9525">
            <a:noFill/>
          </a:ln>
        </p:spPr>
      </p:pic>
      <p:pic>
        <p:nvPicPr>
          <p:cNvPr id="209" name="Рисунок 5" descr="http://school1beloreshensk.siteedit.ru/images/916607226.jpg"/>
          <p:cNvPicPr/>
          <p:nvPr/>
        </p:nvPicPr>
        <p:blipFill>
          <a:blip r:embed="rId4"/>
          <a:stretch/>
        </p:blipFill>
        <p:spPr>
          <a:xfrm>
            <a:off x="6444360" y="1556640"/>
            <a:ext cx="2304000" cy="1872000"/>
          </a:xfrm>
          <a:prstGeom prst="rect">
            <a:avLst/>
          </a:prstGeom>
          <a:ln w="9525">
            <a:noFill/>
          </a:ln>
        </p:spPr>
      </p:pic>
      <p:sp>
        <p:nvSpPr>
          <p:cNvPr id="210" name="Rectangle 1"/>
          <p:cNvSpPr/>
          <p:nvPr/>
        </p:nvSpPr>
        <p:spPr>
          <a:xfrm>
            <a:off x="323640" y="112320"/>
            <a:ext cx="8280720" cy="118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аким, по вашему мнению, должно быть лицо вашего ребёнка во время общения с в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323640" y="246960"/>
            <a:ext cx="8568720" cy="435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Чтобы вырастить полноценного человека, культурную, высоконравственную, творческую, зрелую личность, необходимо, чтобы учителя и родители действовали как союзники, делясь с детьми своей добротой, опытом, зна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Школа может помочь родителям в решении многих вопросов воспитания детей, но именно семья является самым мощным фактором семейного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395640" y="523800"/>
            <a:ext cx="8352720" cy="393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Жизнь и наука доказали, что все беды у детей, а потом и у взрослых объясняются ошибками семейного воспитания, главная из которых – отсутствие нормальной любви и неумение хвалить и поддерживать свои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Самое главное для ребенка – чтобы его люби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любовь должна быть мудрой, должна приносить только благо ребенк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663480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вестный детский психотерапевт, А. С. Спиваковская выделяет восемь типов родительской любв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S010336803">
  <a:themeElements>
    <a:clrScheme name="Office The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S010336803">
  <a:themeElements>
    <a:clrScheme name="Office The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S010336803">
  <a:themeElements>
    <a:clrScheme name="Office The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TS010336803">
  <a:themeElements>
    <a:clrScheme name="Office The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TS010336803">
  <a:themeElements>
    <a:clrScheme name="Office The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item1.xml><?xml version="1.0" encoding="utf-8"?>
<?mso-contentType ?>
<FormTemplates xmlns="http://schemas.microsoft.com/sharepoint/v3/contenttype/forms">
  <Display>DocumentLibraryForm</Display>
  <Edit>AssetEditForm</Edit>
  <New>DocumentLibraryForm</New>
</FormTemplates>
</file>

<file path=customXml/itemProps1.xml><?xml version="1.0" encoding="utf-8"?>
<ds:datastoreItem xmlns:ds="http://schemas.openxmlformats.org/officeDocument/2006/customXml" ds:itemID="{9C1EAD42-71A5-41C6-8948-E820E65FE0EF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TS010336803</Template>
  <TotalTime>0</TotalTime>
  <Application>LibreOffice/7.4.7.2$Linux_X86_64 LibreOffice_project/40$Build-2</Application>
  <AppVersion>15.0000</AppVersion>
  <Words>360</Words>
  <Paragraphs>9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7:35:51Z</dcterms:created>
  <dc:creator/>
  <dc:description/>
  <dc:language>en-US</dc:language>
  <cp:lastModifiedBy/>
  <dcterms:modified xsi:type="dcterms:W3CDTF">2015-04-15T03:05:1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7</vt:r8>
  </property>
  <property fmtid="{D5CDD505-2E9C-101B-9397-08002B2CF9AE}" pid="4" name="_TemplateID">
    <vt:lpwstr>TC103368039990</vt:lpwstr>
  </property>
</Properties>
</file>