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E4A-4AAA-4ECD-9560-3516D446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B3E5-B971-47CD-8D94-7A301CBF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876DA-167A-4F4C-BDC4-472AEF70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C7E51-CD0E-451C-837D-8A6C40B1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697E4-6C05-4420-9644-7F9B20DC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EF9DB-2FA9-45BE-985E-7EF8D625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EA363-BF3A-45CB-A539-3A2BCE74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44C2B-9B3D-4E0F-9C13-1B6D2F38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1D3EB-E9F9-4330-B5AC-8F113031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27D6A-20C8-444A-89BC-351FECFD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0988E-7801-462D-9564-EA8978CF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98D-227B-4AA7-A39F-076EDA44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229-3FE4-4898-98EA-603CC256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7E73-9E99-44D6-ACE5-E42D5FCD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B3D0-0022-4EBE-9746-30A57C9C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874B-F36A-4B41-B6B6-BABBF7E2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1EA8-62FC-4B78-91D5-895FCD70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4179-9B56-4D54-B6F9-CBE1283F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43CC-9F5E-4E10-B67A-A7DE2E87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2431-EA49-4771-BF67-07296528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3AA-E855-4535-98C4-61C01733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F168-BB31-4C9C-890A-8383DF25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3416-B1FB-468D-9B0A-1F462026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358C-7FF9-4B08-8E5A-BE085791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07A6-2DBA-4486-B2F5-92111C0C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F3FB-BBB2-4C8E-BD33-825C3749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B340B-4001-4FBF-B3AE-EC0417F8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9F609-9B80-4EBD-9954-3D89F1F9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9BA28-C0C9-48C1-A5D5-18164A01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D716D-6D32-4179-BB41-C0BACD09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DCF81-1FE7-4E35-8125-3E07BE08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9C0-74B2-497B-92D7-EB592C7A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BAF8A-EBB5-4A3D-B206-8DA49911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B576D-828D-4BC7-BB18-49FC7449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EF542-4366-4ED2-BE1C-49145D32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19013-CB9C-4C73-A872-C2F41C52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C8C7-BD89-4509-A73A-7CDB5375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DFE70-4FE4-4CE5-9A57-BCC65E69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22687-8AB2-4740-B077-40D6DE61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640C1-9D39-4D7F-9941-9163C751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3FEE2-E5BE-4687-ADE3-F5499DA0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2ED22-471C-43A1-AA84-063D5F5B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F6B-1B10-40E0-BB3E-30672DF8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746E5-BAAE-43BF-8E1E-6A92D83A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DB67E-B0B3-411A-BF47-82929EB9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0036C-BB36-45D9-86A0-CE275DD6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2AD81-7130-43F8-936B-B62B5043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E1183-1978-4C9E-8478-2D2CD334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7E8CD-7F98-43C0-AE07-8AEB3A89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B0ED2-5FA8-41D5-AA75-23B3199F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DB0C6-9E56-48AD-BC6E-9C906C9C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3054E-4763-48F9-A1F3-5885382B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D7F39-8DB3-4D22-A210-8BCDB6F0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874-8204-41F7-9E5D-29C9BA71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D7DFD-9C34-4ADF-971C-D6732344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24B6E-BDB9-4FDB-BB3E-69269D12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D3F87-8354-4BBD-BA10-14CCD75D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E99F8-9846-46F3-8B4E-DFE8F1F8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8548F-9483-4220-A35F-935587FB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314F9-DF04-46E1-BE07-1BE3C55D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8AF06-9407-4EF0-B534-E42F62AF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33894-21BB-414A-9AE7-EEDDEB42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13938-8E90-4E0F-AB78-A01F60A5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7B6D2-5EC7-4AB3-8E56-DA15CB43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626-AE48-47DD-9285-0913F8E0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C62DD-F254-4748-BDB3-2D850D67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713D2-C1A3-4EBE-A283-B52EB1C5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8B081-11BC-4225-A21C-9FF99550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7DD73-02FC-4253-A869-C7A37F2D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8E5FE-06C3-4052-A94F-AEDAFD25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F3BD3-9B6B-4F23-821E-CE107E00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D1F2D-CA2F-407C-B06E-1F34FD51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6FDDD-E70C-44A5-A58F-25A53618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B12CD-99F5-4623-B8A2-D54F1C3B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D902C-9BC9-482B-8021-AD18F0CA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C42-CB79-4021-8713-BAB4FA75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456DF-1062-4C40-9E01-0C0265E3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3A180-ED4F-454E-A012-7F5D5B69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68CB6-1A70-4153-A25F-6C76FD5B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B7BD6-6DED-4A5C-9932-145205E0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BF488-A026-4640-8616-E3D1B5D3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EE789-24BD-4283-A447-E9AF75FC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1EDDB-7E65-4AC6-8590-64174093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F3F15-AB21-4AAE-83F9-86C7D4AC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090D3-8452-4890-93FB-105AF119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5FE2A-A4CA-482C-9871-DAF17DA9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2D8-D7AD-43B5-AA75-5C269591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BF7FF-955D-49AE-98DE-9A5DBC9A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D8B50-D71C-426A-BC31-46C0FF17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84D54-70A6-4FB5-9FCC-4A6FDADC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A887D-DAAB-4B4D-9672-EB874B83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05B96-21FE-4DEE-855D-F11166A7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EE8C8-D876-4EEF-BE84-C442B22B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D15B8-E2A5-481E-8ACE-173ACDDD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51F39-CBEB-4920-ADE0-74B78A17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BE710-2092-450E-8212-65605F08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9F344-7D03-47F5-AEF6-8BC4931B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ADD-048B-4980-A71D-11BC024E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E521F-8EBD-47C2-9A4A-13C57245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CC384-1853-4EDD-8D3B-9A4A366B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FFC16-BC45-4AED-961A-5869AA33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EB1E9-5262-4E19-986C-640E39A5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D99E0-AFB1-4438-8E62-B07EE3AA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27D08-BDB9-4DFB-A89C-A7DB82C1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5F274-FCD2-48DC-A1BC-C2B37A8B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8565D-0C55-4C97-8D05-AFE3576C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08E06-3463-4F8A-9460-C4572F4E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AB298-E87E-4EF8-A00C-5A16884C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1CB6-D460-4203-93D9-EC29DF5579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4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15FD-DC90-435D-8F5A-20084AFAD62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36A6-57DC-46C8-B973-F1CDA6BA16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B762-799C-422E-8A4F-B9E31E7354C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8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890E-FF9B-4F7A-A6AB-9D96B9ECE3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65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6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67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79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98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16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24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E279-5689-4893-A0B6-06359FC6D9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7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0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EB7E-B79D-486E-8BA9-DB7887C872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51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09A4-81FC-43FB-9B44-E3246EEF2F4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9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9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10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25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A6DD-69D4-4C6E-B46D-52DF09D823F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58920" y="1483920"/>
            <a:ext cx="68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Towns and cities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of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Great Brit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there are more then twenty colleges in Cambridge University. The University was only for men until 1871. In 1871 the first women’s college was ope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1" name="Picture 7" descr="кембридж"/>
          <p:cNvPicPr/>
          <p:nvPr/>
        </p:nvPicPr>
        <p:blipFill>
          <a:blip r:embed="rId1"/>
          <a:stretch/>
        </p:blipFill>
        <p:spPr>
          <a:xfrm rot="202800">
            <a:off x="4932360" y="620640"/>
            <a:ext cx="3889440" cy="5112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ncheste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5233680" y="1268280"/>
            <a:ext cx="390996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n industrial and commercial centre in the north-west of England. In th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 the Manchester Ship Canal was built and Manchester became  an important po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4" name="Picture 8" descr="улицы манчестера"/>
          <p:cNvPicPr/>
          <p:nvPr/>
        </p:nvPicPr>
        <p:blipFill>
          <a:blip r:embed="rId1"/>
          <a:stretch/>
        </p:blipFill>
        <p:spPr>
          <a:xfrm>
            <a:off x="324000" y="692280"/>
            <a:ext cx="3240000" cy="396072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9" descr="улицы лидса"/>
          <p:cNvPicPr/>
          <p:nvPr/>
        </p:nvPicPr>
        <p:blipFill>
          <a:blip r:embed="rId2"/>
          <a:stretch/>
        </p:blipFill>
        <p:spPr>
          <a:xfrm>
            <a:off x="1692360" y="3645000"/>
            <a:ext cx="3887640" cy="275436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19400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town in the south of England known for its Roman baths. Some are in ruins, others are still used today. The hot water comes out of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8" name="Picture 7" descr="собор в центре бата"/>
          <p:cNvPicPr/>
          <p:nvPr/>
        </p:nvPicPr>
        <p:blipFill>
          <a:blip r:embed="rId1"/>
          <a:stretch/>
        </p:blipFill>
        <p:spPr>
          <a:xfrm rot="423000">
            <a:off x="4571640" y="1700280"/>
            <a:ext cx="4280040" cy="4032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reat Brita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at Britain is the largest island of the British Isles. It is divided into three parts: England, Scotland and W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9" name="Picture 17" descr="карта брит остр"/>
          <p:cNvPicPr/>
          <p:nvPr/>
        </p:nvPicPr>
        <p:blipFill>
          <a:blip r:embed="rId1"/>
          <a:stretch/>
        </p:blipFill>
        <p:spPr>
          <a:xfrm rot="303600">
            <a:off x="4142880" y="1487520"/>
            <a:ext cx="4564080" cy="49593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Union Ja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popular name given to the flag of Great Britain. It is a mixture of the Scottish flag, St Andrew’s Cross, the English flag, St George’s Cross and the Irish Flag of St Patrick’s Cro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2" name="Picture 10" descr="13"/>
          <p:cNvPicPr/>
          <p:nvPr/>
        </p:nvPicPr>
        <p:blipFill>
          <a:blip r:embed="rId1"/>
          <a:stretch/>
        </p:blipFill>
        <p:spPr>
          <a:xfrm rot="21205800">
            <a:off x="250920" y="2349000"/>
            <a:ext cx="4402080" cy="360072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d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don is the capital of Great Britain. It began life two thousand years ago as a Roman fortification at a place where it was possible to cross the River Tha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5" name="Picture 10" descr="лондон"/>
          <p:cNvPicPr/>
          <p:nvPr/>
        </p:nvPicPr>
        <p:blipFill>
          <a:blip r:embed="rId1"/>
          <a:stretch/>
        </p:blipFill>
        <p:spPr>
          <a:xfrm rot="327000">
            <a:off x="4140360" y="1773000"/>
            <a:ext cx="4714560" cy="417672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5105520" y="62028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don has a number of centres, each with a distinct character: the financial and business centre called the City, the industrial part called the East End, the shopping and entertainment center in the West End and the government center in Westmins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7" name="Picture 20" descr="лондонский биг бен"/>
          <p:cNvPicPr/>
          <p:nvPr/>
        </p:nvPicPr>
        <p:blipFill>
          <a:blip r:embed="rId1"/>
          <a:stretch/>
        </p:blipFill>
        <p:spPr>
          <a:xfrm rot="21337200">
            <a:off x="250560" y="764640"/>
            <a:ext cx="4895640" cy="486108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3348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don is called the centre of sights. It has more theaters and concert halls, more picture galleries and museums than any other city in Brit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Picture 7" descr="бин бе"/>
          <p:cNvPicPr/>
          <p:nvPr/>
        </p:nvPicPr>
        <p:blipFill>
          <a:blip r:embed="rId1"/>
          <a:stretch/>
        </p:blipFill>
        <p:spPr>
          <a:xfrm>
            <a:off x="4284720" y="3287880"/>
            <a:ext cx="4319640" cy="338112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10" descr="отель лондон хилтон"/>
          <p:cNvPicPr/>
          <p:nvPr/>
        </p:nvPicPr>
        <p:blipFill>
          <a:blip r:embed="rId2"/>
          <a:stretch/>
        </p:blipFill>
        <p:spPr>
          <a:xfrm rot="342000">
            <a:off x="6516360" y="189000"/>
            <a:ext cx="2409840" cy="338436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11" descr="лондон арка"/>
          <p:cNvPicPr/>
          <p:nvPr/>
        </p:nvPicPr>
        <p:blipFill>
          <a:blip r:embed="rId3"/>
          <a:stretch/>
        </p:blipFill>
        <p:spPr>
          <a:xfrm rot="21278400">
            <a:off x="3492000" y="189000"/>
            <a:ext cx="2695680" cy="3600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verpo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643280" y="1125000"/>
            <a:ext cx="403704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rpool is situated in Lancashire, at the mouth of the River Mersey, where it empties into the Irish Se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ttlement of Liverpool was first mentioned in 1191, and in 1207 it got the status of a t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4" name="Picture 13" descr="ночн ливерп"/>
          <p:cNvPicPr/>
          <p:nvPr/>
        </p:nvPicPr>
        <p:blipFill>
          <a:blip r:embed="rId1"/>
          <a:stretch/>
        </p:blipFill>
        <p:spPr>
          <a:xfrm rot="21327600">
            <a:off x="250560" y="1773000"/>
            <a:ext cx="4211640" cy="352872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3673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the 1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century it has been a port. In the second half of 1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century it began playing an important part in the trade with the English colonies in Americ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At present it is the second largest     (after London) sea- port in Brit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6" name="Picture 15" descr="английское побережье"/>
          <p:cNvPicPr/>
          <p:nvPr/>
        </p:nvPicPr>
        <p:blipFill>
          <a:blip r:embed="rId1"/>
          <a:stretch/>
        </p:blipFill>
        <p:spPr>
          <a:xfrm rot="301800">
            <a:off x="3780000" y="1125000"/>
            <a:ext cx="5113080" cy="388944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mbrid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160960" y="1628640"/>
            <a:ext cx="3983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one of the best- known towns in the world, and the principal reason for its fame is its University, the second oldest university of Britain, which was founded    in 120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9" name="Picture 10" descr="152"/>
          <p:cNvPicPr/>
          <p:nvPr/>
        </p:nvPicPr>
        <p:blipFill>
          <a:blip r:embed="rId1"/>
          <a:stretch/>
        </p:blipFill>
        <p:spPr>
          <a:xfrm rot="21472800">
            <a:off x="250560" y="1773360"/>
            <a:ext cx="5003640" cy="411768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31:23Z</dcterms:created>
  <dc:creator>1</dc:creator>
  <dc:description/>
  <dc:language>en-US</dc:language>
  <cp:lastModifiedBy>113 user</cp:lastModifiedBy>
  <dcterms:modified xsi:type="dcterms:W3CDTF">2015-03-24T08:13:56Z</dcterms:modified>
  <cp:revision>13</cp:revision>
  <dc:subject/>
  <dc:title>Museums in Great Britain</dc:title>
</cp:coreProperties>
</file>