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5BB-312F-4FC6-A8BD-9C03D4AA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C09-35B5-4600-A9E6-341F659E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F0A2E-D138-456A-8ED0-7364E772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7B6BA-276B-45DC-9B0B-3C3EC98C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1E797-7264-49A8-916B-B6C2DF56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A5F9-7714-40B3-9533-223538C7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EEC30-1DE9-47C4-B6D1-D0AB1D5D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170C5-F8B9-42F4-9C5C-BE611619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69A59-E3D3-4463-8DEF-9CBB48C8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A9200-90C5-4CDD-B8C6-34B1EB2A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57DB7-129B-4286-8FDD-7831C7FF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E09-F72A-482E-9975-F6E15E48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83A-40E8-437E-B80B-393270C2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121F-253B-4218-9759-2A2D2D47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97B6-B9E6-4832-A8AF-3108F440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038F-4B38-4635-B4E3-659681E1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7766-7E85-476B-926C-0984158D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E1A-08BB-4A3E-922A-E07A97B5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D91E-12B7-4303-B4B1-DFF830D0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F2A3-EFFC-4586-ADB4-0D3FEB3A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081-F3B6-4485-B673-3C4DB03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85B5-159E-4534-9546-692939F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0C9A-1983-420D-938E-0B3F2DB1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75BD-AEBD-4090-805C-40CC4BAE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C1EF-191E-4B0B-98F9-AFFC1489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BE1B-8070-4D68-B3CD-72162FF4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630C-486D-45DE-9466-CB565581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FE3E-7B88-4EF8-AF09-8FA0690D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55A5-4227-4ECB-B14A-9742F9CC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DDB2-19AE-487F-9F5E-8BCFBFDB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5A52-E4F6-46D9-BB7D-D0C55530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0D8-6FE4-48D9-80E2-3170A558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86C9-18C5-4C17-A00C-1428B790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E313-981C-4F82-B55F-24943A5F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2B3B-B347-4A28-8AEC-914D6A45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6010-491C-4E16-8169-89E2460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BA6F-00DB-460C-BF35-F6AD6A9B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78B5-EF35-4C06-B10F-A021A73F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6748-6940-46A6-8E80-5E7968A2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6485D-9797-44BF-9A64-B97927C2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BDBEE-65EA-4738-8C59-6CC613A3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90F3-FED9-4789-B728-B1FD2813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F62-582E-45AB-AC47-D55685E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D4671-2E9D-44AE-8FCA-9DD75494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F467-3644-43D1-8D2C-445089DC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2C2E8-8EA5-41FE-A6BA-4FF7E7AE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DB25-CAFD-4083-9A83-3F28B436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B1F8-A11E-495C-AFE2-F1BD66D4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E9A8-AA60-417D-B2A1-5CAC4F6A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C14A-B6C2-4E72-B873-B590B4C3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8430-D6E8-42F7-A2FC-1E1E4CBE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5963-3B61-46FD-8C77-3E75BED8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20D0-2DD3-476D-B3B3-47407682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88C-6B9B-4903-A066-EB7D1A0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C8226-AF46-4093-A01C-F962DC7A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6141-FF39-4434-905B-631F72E3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F4129-E387-4BA3-832F-74018034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0489E-23CC-4BA4-AAF4-F902BD8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2E7F-C39C-4734-9A17-18458F19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93F63-29C7-45AD-ACA9-8176D1DD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7F8EF-1003-42D3-BB6E-06BA35C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A513-29F3-4034-9EC6-675FA0B7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2390-EB3A-4615-8267-5FE9C6B2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422E-413E-4D7E-9696-F2B7F8AE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759-D216-4CC7-BB1F-FCB3AD18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65C0E-A21C-49D5-897F-F7A5A7ED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0868E-9251-4131-A009-F8AA3FB7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7E48-6186-404C-988C-ADABACBE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58A0B-5169-49D4-AA0D-F8ED1567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C09E-72A8-4599-AD72-0B508A1A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E21A2-CB6A-4057-A489-6E9B80E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DE302-C3EE-4D1A-A898-6DD89A94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E201-1244-493A-8AEA-2D7CBEF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5CB4-BC40-4FDF-8B41-3AD29E59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1EBDC-C122-4536-A72D-9FD89D06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F42-9772-4857-AB0F-EE60FE5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08848-9F5A-4523-9FAB-66CEF8E7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AEFB-B6E5-4D3B-97D6-40AADBEF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A3B72-B0FC-4052-98E5-8496F5B8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9BD13-C345-4A0B-BC19-69CCED0E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9C166-8CC7-45B5-A2F8-7500633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AF53D-D9A2-4CFB-9402-F9E3A1E1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FA6EC-3EE4-4C0C-91B2-6D845015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E9A04-1DB2-4E40-8F3C-1BFFDA9E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CFD8A-870C-422B-8F1C-C156ACA4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B0D39-BD28-4CDC-B5A9-67525B5F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1DE-2208-4BAE-A3FA-DD9EE43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89171-BF43-4118-82AD-E1CC91A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B89D0-4860-4267-9A3F-EFD10B18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4452-8637-47C8-9E30-71CCCAA7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12B36-AE46-4517-A561-C608D907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E68E7-5BAB-4D68-8216-D35CCB51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0FC69-5DC4-454D-AFD1-71F8851C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4FFE5-4D80-45D8-9462-67AB7227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833FC-5173-452D-BD64-B51A9B7D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DFBFC-7445-437A-A4C9-43BA59D8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B813E-2C33-4B59-9A34-79F31622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824-5AE5-4B2F-8BF1-50DF26C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BC428-C1FF-4394-88DB-563403A8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680D1-2959-4C36-B932-96A6B7C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ABEA-8E86-4851-8E5A-B086090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50B1B-1BD0-4831-AA72-342E60BB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5BA2D-0F4B-4B6B-BDF2-53AFF375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A8059-E42F-4C44-8347-6D8CAFBB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78C9E-F0BB-461E-A02D-16B666A0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D1550-8191-4F98-B59A-CFB4D4E1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68C56-147D-45AB-8DBB-643D58BA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E8BF2-8BB4-4909-ACA7-5CB3F489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EFA7-7C15-4C76-AC67-FFD4451FF0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16F8-719B-4509-98F4-36AE900CF8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7880-3E56-4B24-984D-B626E30886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32F-89B5-4E64-A241-40A991F659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8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E64C-B7D9-4310-A231-93E12DEA26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7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9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2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FDDE-3FA8-4773-BA61-689127B13A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7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0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F897-732C-4DA8-9718-F3952240B2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5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5436-9868-46EC-8E82-95427CCAC9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9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9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1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4501-2083-46F4-B052-C118D9DFF9A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58920" y="1483920"/>
            <a:ext cx="68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Towns and cities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of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Great Brit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there are more then twenty colleges in Cambridge University. The University was only for men until 1871. In 1871 the first women’s college was ope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1" name="Picture 7" descr="кембридж"/>
          <p:cNvPicPr/>
          <p:nvPr/>
        </p:nvPicPr>
        <p:blipFill>
          <a:blip r:embed="rId1"/>
          <a:stretch/>
        </p:blipFill>
        <p:spPr>
          <a:xfrm rot="202800">
            <a:off x="4932360" y="62064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anchest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5233680" y="1268280"/>
            <a:ext cx="39099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n industrial and commercial centre in the north-west of England. In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the Manchester Ship Canal was built and Manchester became  an important 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4" name="Picture 8" descr="улицы манчестера"/>
          <p:cNvPicPr/>
          <p:nvPr/>
        </p:nvPicPr>
        <p:blipFill>
          <a:blip r:embed="rId1"/>
          <a:stretch/>
        </p:blipFill>
        <p:spPr>
          <a:xfrm>
            <a:off x="324000" y="692280"/>
            <a:ext cx="3240000" cy="396072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9" descr="улицы лидса"/>
          <p:cNvPicPr/>
          <p:nvPr/>
        </p:nvPicPr>
        <p:blipFill>
          <a:blip r:embed="rId2"/>
          <a:stretch/>
        </p:blipFill>
        <p:spPr>
          <a:xfrm>
            <a:off x="1692360" y="3645000"/>
            <a:ext cx="3887640" cy="275436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town in the south of England known for its Roman baths. Some are in ruins, others are still used today. The hot water comes out of the g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8" name="Picture 7" descr="собор в центре бата"/>
          <p:cNvPicPr/>
          <p:nvPr/>
        </p:nvPicPr>
        <p:blipFill>
          <a:blip r:embed="rId1"/>
          <a:stretch/>
        </p:blipFill>
        <p:spPr>
          <a:xfrm rot="423000">
            <a:off x="4571640" y="1700280"/>
            <a:ext cx="4280040" cy="4032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eat Brita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at Britain is the largest island of the British Isles. It is divided into three parts: England, Scotland and W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9" name="Picture 17" descr="карта брит остр"/>
          <p:cNvPicPr/>
          <p:nvPr/>
        </p:nvPicPr>
        <p:blipFill>
          <a:blip r:embed="rId1"/>
          <a:stretch/>
        </p:blipFill>
        <p:spPr>
          <a:xfrm rot="303600">
            <a:off x="4142880" y="1487520"/>
            <a:ext cx="4564080" cy="49593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Union J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popular name given to the flag of Great Britain. It is a mixture of the Scottish flag, St Andrew’s Cross, the English flag, St George’s Cross and the Irish Flag of St Patrick’s Cro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Picture 10" descr="13"/>
          <p:cNvPicPr/>
          <p:nvPr/>
        </p:nvPicPr>
        <p:blipFill>
          <a:blip r:embed="rId1"/>
          <a:stretch/>
        </p:blipFill>
        <p:spPr>
          <a:xfrm rot="21205800">
            <a:off x="250920" y="2349000"/>
            <a:ext cx="4402080" cy="36007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nd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don is the capital of Great Britain. It began life two thousand years ago as a Roman fortification at a place where it was possible to cross the River Tha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5" name="Picture 10" descr="лондон"/>
          <p:cNvPicPr/>
          <p:nvPr/>
        </p:nvPicPr>
        <p:blipFill>
          <a:blip r:embed="rId1"/>
          <a:stretch/>
        </p:blipFill>
        <p:spPr>
          <a:xfrm rot="327000">
            <a:off x="4140360" y="1773000"/>
            <a:ext cx="4714560" cy="417672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5105520" y="62028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don has a number of centres, each with a distinct character: the financial and business centre called the City, the industrial part called the East End, the shopping and entertainment center in the West End and the government center in Westmin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7" name="Picture 20" descr="лондонский биг бен"/>
          <p:cNvPicPr/>
          <p:nvPr/>
        </p:nvPicPr>
        <p:blipFill>
          <a:blip r:embed="rId1"/>
          <a:stretch/>
        </p:blipFill>
        <p:spPr>
          <a:xfrm rot="21337200">
            <a:off x="250560" y="764640"/>
            <a:ext cx="4895640" cy="48610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334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don is called the centre of sights. It has more theaters and concert halls, more picture galleries and museums than any other city in Brit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Picture 7" descr="бин бе"/>
          <p:cNvPicPr/>
          <p:nvPr/>
        </p:nvPicPr>
        <p:blipFill>
          <a:blip r:embed="rId1"/>
          <a:stretch/>
        </p:blipFill>
        <p:spPr>
          <a:xfrm>
            <a:off x="4284720" y="3287880"/>
            <a:ext cx="4319640" cy="33811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0" descr="отель лондон хилтон"/>
          <p:cNvPicPr/>
          <p:nvPr/>
        </p:nvPicPr>
        <p:blipFill>
          <a:blip r:embed="rId2"/>
          <a:stretch/>
        </p:blipFill>
        <p:spPr>
          <a:xfrm rot="342000">
            <a:off x="6516360" y="189000"/>
            <a:ext cx="2409840" cy="33843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11" descr="лондон арка"/>
          <p:cNvPicPr/>
          <p:nvPr/>
        </p:nvPicPr>
        <p:blipFill>
          <a:blip r:embed="rId3"/>
          <a:stretch/>
        </p:blipFill>
        <p:spPr>
          <a:xfrm rot="21278400">
            <a:off x="3492000" y="189000"/>
            <a:ext cx="2695680" cy="360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erpo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43280" y="1125000"/>
            <a:ext cx="40370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rpool is situated in Lancashire, at the mouth of the River Mersey, where it empties into the Irish Se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ttlement of Liverpool was first mentioned in 1191, and in 1207 it got the status of a t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4" name="Picture 13" descr="ночн ливерп"/>
          <p:cNvPicPr/>
          <p:nvPr/>
        </p:nvPicPr>
        <p:blipFill>
          <a:blip r:embed="rId1"/>
          <a:stretch/>
        </p:blipFill>
        <p:spPr>
          <a:xfrm rot="21327600">
            <a:off x="250560" y="1773000"/>
            <a:ext cx="4211640" cy="352872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3673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the 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century it has been a port. In the second half of 1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century it began playing an important part in the trade with the English colonies in Americ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At present it is the second largest     (after London) sea- port in Brit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6" name="Picture 15" descr="английское побережье"/>
          <p:cNvPicPr/>
          <p:nvPr/>
        </p:nvPicPr>
        <p:blipFill>
          <a:blip r:embed="rId1"/>
          <a:stretch/>
        </p:blipFill>
        <p:spPr>
          <a:xfrm rot="301800">
            <a:off x="3780000" y="1125000"/>
            <a:ext cx="5113080" cy="388944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mbrid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160960" y="1628640"/>
            <a:ext cx="3983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one of the best- known towns in the world, and the principal reason for its fame is its University, the second oldest university of Britain, which was founded    in 120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9" name="Picture 10" descr="152"/>
          <p:cNvPicPr/>
          <p:nvPr/>
        </p:nvPicPr>
        <p:blipFill>
          <a:blip r:embed="rId1"/>
          <a:stretch/>
        </p:blipFill>
        <p:spPr>
          <a:xfrm rot="21472800">
            <a:off x="250560" y="1773360"/>
            <a:ext cx="5003640" cy="411768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31:23Z</dcterms:created>
  <dc:creator>1</dc:creator>
  <dc:description/>
  <dc:language>en-US</dc:language>
  <cp:lastModifiedBy>113 user</cp:lastModifiedBy>
  <dcterms:modified xsi:type="dcterms:W3CDTF">2015-03-24T08:13:56Z</dcterms:modified>
  <cp:revision>13</cp:revision>
  <dc:subject/>
  <dc:title>Museums in Great Britain</dc:title>
</cp:coreProperties>
</file>