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7C3-3D2B-4E8D-B20F-AFA7AB6C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19A-962C-4217-A8E3-860E72EF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5D2-031F-4D78-84C0-7A0C745B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D51-3B1A-4A38-9EDC-ECAC1600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590-163A-47EA-BBCC-912FFE2A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B78-9577-41BE-AE9F-5FA8826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D73-3670-4D16-A151-6A28B79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D72-B955-40B2-AF7B-1926653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F29-23BA-4559-ACD9-BD816050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056-E9E3-40DA-978B-55E6B74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0E7-9B74-4F8D-8DB8-DEA503E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E7B-275A-4B44-A124-75CB2A7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71B-EC1C-42CE-822A-2BB264ACD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200240"/>
            <a:ext cx="4930560" cy="204300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33640"/>
            <a:ext cx="4048200" cy="2043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67652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7480"/>
            <a:ext cx="5054760" cy="204156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5200"/>
            <a:ext cx="5284440" cy="204336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32480"/>
            <a:ext cx="4846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33640"/>
            <a:ext cx="6145200" cy="204300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9400"/>
            <a:ext cx="6077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Nabster</cp:lastModifiedBy>
  <dcterms:modified xsi:type="dcterms:W3CDTF">2015-04-13T15:59:51Z</dcterms:modified>
  <cp:revision>60</cp:revision>
  <dc:subject/>
  <dc:title>Слайд 1</dc:title>
</cp:coreProperties>
</file>