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994-0B40-4290-94EA-A26B53AC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28F-FE16-49D5-871C-3C894AEE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B50-2BC4-49D9-8028-3A8D23C1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5D4-7F35-44CF-BB96-6E2EE330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A43-72BB-459C-929F-26FB42D1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5C8-8C0A-406C-803A-60C2B81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1F8-2AD4-4D29-A2FB-7E3C239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5FB-8277-4837-BAC4-28EF3D3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9FD-3727-48A3-893D-BD08F65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5E9-2592-45C1-8DAC-1285146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CE8-A471-4D9B-9F81-C096447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623-75BE-4B66-8FAC-D6CEBAA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E02-8AEB-46AA-B9C6-044C92880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200240"/>
            <a:ext cx="4930560" cy="204300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33640"/>
            <a:ext cx="4048200" cy="2043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67652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7480"/>
            <a:ext cx="5054760" cy="204156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5200"/>
            <a:ext cx="5284440" cy="20433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32480"/>
            <a:ext cx="4846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33640"/>
            <a:ext cx="6145200" cy="204300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9400"/>
            <a:ext cx="6077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Nabster</cp:lastModifiedBy>
  <dcterms:modified xsi:type="dcterms:W3CDTF">2015-04-13T15:59:51Z</dcterms:modified>
  <cp:revision>60</cp:revision>
  <dc:subject/>
  <dc:title>Слайд 1</dc:title>
</cp:coreProperties>
</file>