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F37-B6B0-4C78-8C7C-A41A5097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C0C-97F2-4BA7-B416-4D373E1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E6E-B6DD-45E1-BC89-8A42902A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A51-A271-4055-8FF0-584422F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6D04-DC17-4FF8-ABAF-C41D5F85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D293-E119-4479-9EFA-8940EDA4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B6AC-C099-4A48-92C4-1F4F3BA0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EBB-615F-4788-A2F6-BE32B7A9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2D0-A09A-49E7-974E-EDCF0EC3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7835-0117-422F-890E-D04920D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44A0-ACA1-48C7-81AA-F7E8910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316-2C4A-4FBE-86F2-C0168B62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85BC-04D3-41D9-9D3B-56C1690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FEB0-91EB-492F-B017-7B9683E5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8E5-6D20-49C9-A4EE-C989EBED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DF5B-C6CA-4514-913B-C0E2A91C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7883-54D9-400B-810D-5E4C27CF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3C44-06FB-48D4-8B16-195A0652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AC80-C811-4436-94E9-FA3ADB7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B939-0E38-4B62-8CE5-660144E1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0B26-1F45-474D-B89C-5869BE6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E828-5B81-49E5-81E4-DC1D2A4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D4C-E7D0-453E-9884-3E42281F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3D4A-BC36-44D4-9B85-5E7236E4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EA31-9192-4340-B56F-882E07D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8FDF-DB51-41CA-9058-9F094BF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0CA8-9F1A-4AE2-972B-CB1A72D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15B8-85A6-4E55-85B0-A61D0E73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C21F-D3CE-4189-A178-502AB7DA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3038-DAB3-44AC-816C-E3B1B465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1A27-D65A-46BA-9C03-8F3B9CED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90DD-27C0-400B-B914-BB6376C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077B-F0F9-4D63-AD47-01BFD88A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AEF-E1BA-4E6D-AA6E-0093814F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0B03-6721-461D-8BCB-76368762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9DA0-EA62-452C-A13F-7DB338B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332D-2DF2-4F95-9A77-1C4B7161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4B06-599B-4DC8-A30A-B1B24456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7D19-A930-4606-850C-60FFADA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D38CE-8AF9-4C54-B906-3DE3090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DAE3-A560-48A8-B8E4-CFBC8B7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BF50-0E4B-4C5B-BB86-8A47AA24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2173-BF73-4E09-96DF-E1E0F283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01E-B803-41E5-B101-F2440EB2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FA9-5FE0-41A8-B492-F83AB7F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34B-7544-452F-AB5B-0C54660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988-7D00-433F-A194-E934E40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93B-F985-4B13-9CCD-14AC567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6FD7-F876-42CD-A341-FD962FD86F2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FD5-E509-4BEB-954E-64D3757BCF9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DD6-F0D6-46B7-9E85-4DED19189DF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B8E8-F8FF-4237-9E78-B954564F82B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bmt.ru/ru/display/eye.php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229600" cy="3103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7772400" cy="2954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303e"/>
                </a:solidFill>
                <a:latin typeface="Constantia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втор работы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ролева Дарья Алексеевна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03.04.2007 г.р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Москва ГБОУ СОШ № 12, 2 «а» класс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учный руководител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ицына  Марина Александро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Users\Наташа\Desktop\P_20150108_181527.jpg"/>
          <p:cNvPicPr/>
          <p:nvPr/>
        </p:nvPicPr>
        <p:blipFill>
          <a:blip r:embed="rId2"/>
          <a:stretch/>
        </p:blipFill>
        <p:spPr>
          <a:xfrm>
            <a:off x="142920" y="3143160"/>
            <a:ext cx="4786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642960"/>
            <a:ext cx="84009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6" descr="C:\Users\user\Pictures\2015-04-08 1а\1а 001.jpg"/>
          <p:cNvPicPr/>
          <p:nvPr/>
        </p:nvPicPr>
        <p:blipFill>
          <a:blip r:embed="rId1"/>
          <a:stretch/>
        </p:blipFill>
        <p:spPr>
          <a:xfrm>
            <a:off x="1960560" y="0"/>
            <a:ext cx="50022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12600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рчоглян Г.Г., Демирчоглян А.Г.“Улучшаем зрение. – М., “Эксмо”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йлова Л.“Школа зоркости” Москва “Крон-пресс”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лова Н.С. Ребятишкам про глаза. – Рис. Т. Домниной. – СПб, клиника детской офтальмологии “ЭксимерKI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. Энциклопедия для детей. Т. 18. – М.: Аванта+, 200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Зачем? Почему? Большая книга вопросов и ответов» . – изд.: «ЭКСМО», М.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-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 Vis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циклопедия нарушения зрения http://www.imavision.ru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glazmed.ru/lib/public04/constr014.shtml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geolenok.ru/geolenok/kraski-vne-za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ovatel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1867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n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56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hin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hudsheniy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niy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214200" y="571500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6a3"/>
                </a:solidFill>
                <a:latin typeface="Arial"/>
              </a:rPr>
              <a:t>Спасибо 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83763"/>
                </a:solidFill>
                <a:latin typeface="Calibri"/>
              </a:rPr>
              <a:t>Цели  и задачи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Цель работы</a:t>
            </a:r>
            <a:r>
              <a:rPr b="1" lang="ru-RU" sz="2200" spc="-1" strike="noStrike">
                <a:solidFill>
                  <a:srgbClr val="21b2c9"/>
                </a:solidFill>
                <a:latin typeface="Constantia"/>
              </a:rPr>
              <a:t>:</a:t>
            </a:r>
            <a:r>
              <a:rPr b="0" lang="ru-RU" sz="2200" spc="-1" strike="noStrike">
                <a:solidFill>
                  <a:srgbClr val="21b2c9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ение  особенностей зрения, влияния  различных факторов на снижение зрения и способов его сохран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Задачи: 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и проанализировать информацию по теме исследова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ать понятие о глазах – органе зрения, о роли глаз в функционировании организм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ыявить   факторы, влияющие  на снижение зр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способы сохранения зр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зучить комплекс упражнений для глаз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 (гимнастика для глаз)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готовить памятки с упражнениями для снятия усталости глаз, рекомендации “Береги глаза”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оение глаз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http://fern-flower.ru/sites/default/files/pictures/articles/eye/eye_03.jpg"/>
          <p:cNvPicPr/>
          <p:nvPr/>
        </p:nvPicPr>
        <p:blipFill>
          <a:blip r:embed="rId2"/>
          <a:stretch/>
        </p:blipFill>
        <p:spPr>
          <a:xfrm>
            <a:off x="214200" y="1125360"/>
            <a:ext cx="6000840" cy="511200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3" descr="Рисунок3.jpg"/>
          <p:cNvPicPr/>
          <p:nvPr/>
        </p:nvPicPr>
        <p:blipFill>
          <a:blip r:embed="rId3"/>
          <a:stretch/>
        </p:blipFill>
        <p:spPr>
          <a:xfrm>
            <a:off x="5643720" y="385776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579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Бесценный дар природы</a:t>
            </a:r>
            <a:r>
              <a:rPr b="0" lang="ru-RU" sz="4500" spc="-1" strike="noStrike">
                <a:solidFill>
                  <a:srgbClr val="21b2c9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2844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0% всей информации люди получают через глаз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набжают нас информацией о глубине, расстоянии, величине, движении и цвет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ны двигаться вверх, вниз и в обе стороны, давая нам максимально широкий обзор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за  бывают огромные и большие, маленькие и выпуклые, узкие и круглые, миндалевидные и глубоко посаженны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за бывают карие, голубые, зелёные, серые, синие. Цвет глаз зависит от пигмента, содержащегося в радужк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4" descr="C:\Documents and Settings\Admin\Рабочий стол\pril1\img41.jpg"/>
          <p:cNvPicPr/>
          <p:nvPr/>
        </p:nvPicPr>
        <p:blipFill>
          <a:blip r:embed="rId1"/>
          <a:stretch/>
        </p:blipFill>
        <p:spPr>
          <a:xfrm>
            <a:off x="5904000" y="1557360"/>
            <a:ext cx="2967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ey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143000"/>
            <a:ext cx="3143160" cy="2000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2071800" y="335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терес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&amp;kcy;&amp;acy;&amp;kcy;&amp;icy;&amp;iecy; &amp;tscy;&amp;vcy;&amp;iecy;&amp;tcy;&amp;acy; &amp;vcy;&amp;icy;&amp;dcy;&amp;yacy;&amp;tcy; &amp;scy;&amp;ocy;&amp;bcy;&amp;acy;&amp;kcy;&amp;icy;"/>
          <p:cNvPicPr/>
          <p:nvPr/>
        </p:nvPicPr>
        <p:blipFill>
          <a:blip r:embed="rId3"/>
          <a:stretch/>
        </p:blipFill>
        <p:spPr>
          <a:xfrm>
            <a:off x="4143240" y="4357800"/>
            <a:ext cx="4714920" cy="221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&amp;CHcy;&amp;ucy;&amp;zhcy;&amp;icy;&amp;mcy;&amp;icy; &amp;gcy;&amp;lcy;&amp;acy;&amp;zcy;&amp;acy;&amp;mcy;&amp;icy; &amp;ZHcy;&amp;ucy;&amp;rcy;&amp;ncy;&amp;acy;&amp;lcy; &amp;Vcy;&amp;ocy;&amp;kcy;&amp;rcy;&amp;ucy;&amp;gcy; &amp;Scy;&amp;vcy;&amp;iecy;&amp;tcy;&amp;acy;"/>
          <p:cNvPicPr/>
          <p:nvPr/>
        </p:nvPicPr>
        <p:blipFill>
          <a:blip r:embed="rId4"/>
          <a:stretch/>
        </p:blipFill>
        <p:spPr>
          <a:xfrm>
            <a:off x="1785960" y="3429000"/>
            <a:ext cx="2214720" cy="314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Наташа\Desktop\P_20150108_180520.jpg"/>
          <p:cNvPicPr/>
          <p:nvPr/>
        </p:nvPicPr>
        <p:blipFill>
          <a:blip r:embed="rId5"/>
          <a:stretch/>
        </p:blipFill>
        <p:spPr>
          <a:xfrm>
            <a:off x="4572000" y="78588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54372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влияющие на ухудшение зре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571400"/>
            <a:ext cx="53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личие болезне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характер питани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словия зрительной работ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кружающая  сре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редные привычки ;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еправильная организация работы за компьютеро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причинами снижения зрения среди школьников являются значительные зрительные нагрузки во время учёбы и отсутствие гигиены зр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135369"/>
          <p:cNvPicPr/>
          <p:nvPr/>
        </p:nvPicPr>
        <p:blipFill>
          <a:blip r:embed="rId1"/>
          <a:stretch/>
        </p:blipFill>
        <p:spPr>
          <a:xfrm>
            <a:off x="6429240" y="0"/>
            <a:ext cx="2500560" cy="3357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7cc5457ecfb"/>
          <p:cNvPicPr/>
          <p:nvPr/>
        </p:nvPicPr>
        <p:blipFill>
          <a:blip r:embed="rId2"/>
          <a:stretch/>
        </p:blipFill>
        <p:spPr>
          <a:xfrm>
            <a:off x="6429240" y="3357720"/>
            <a:ext cx="250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580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Результаты  анкетир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3408480" cy="5546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928880" y="1214280"/>
          <a:ext cx="7215120" cy="564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1214280"/>
                    <a:ext cx="721512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642960"/>
            <a:ext cx="84009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Больше двигаться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Телевизор - чем меньше, тем лучш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блюдение правил чтения книг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ороткая  "передышка" для глаз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равильное  освещение рабочего мест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гулярное посещение врача офтальмолог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блюдени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итаминной  дие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А (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морковь, томаты, листовые овощи, жир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В 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(орехи, большинство фруктов, зерновые, печень, почки,  рыба различных сортов)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С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(плоды шиповника, цитрусовые, лук, помидоры, шпинат,  яблоки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Необходимы  нашим глазам </a:t>
            </a: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микроэлементы - калий (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мёд, бананы, печёный картофель,  растительное масл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     </a:t>
            </a:r>
            <a:r>
              <a:rPr b="1" lang="ru-RU" sz="2200" spc="-1" strike="noStrike">
                <a:solidFill>
                  <a:srgbClr val="000a0c"/>
                </a:solidFill>
                <a:latin typeface="Constantia"/>
              </a:rPr>
              <a:t>и цинк</a:t>
            </a:r>
            <a:r>
              <a:rPr b="0" lang="ru-RU" sz="2200" spc="-1" strike="noStrike">
                <a:solidFill>
                  <a:srgbClr val="000a0c"/>
                </a:solidFill>
                <a:latin typeface="Constantia"/>
              </a:rPr>
              <a:t>  (креветки, устрицы, сельдь, печень, мясо, грибы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19840" indent="-39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00440" y="785880"/>
            <a:ext cx="3429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611280" y="857160"/>
            <a:ext cx="6913440" cy="3071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611280" y="4462200"/>
            <a:ext cx="69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«Карты «Движение». Это упражнение способствует улучшению оптической координации обоих глаз, укреплению наружных прямых мышц гл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user</cp:lastModifiedBy>
  <dcterms:modified xsi:type="dcterms:W3CDTF">2015-04-08T15:15:42Z</dcterms:modified>
  <cp:revision>119</cp:revision>
  <dc:subject/>
  <dc:title>Проект  «Береги зрение смолоду!»</dc:title>
</cp:coreProperties>
</file>