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21.jpeg" ContentType="image/jpeg"/>
  <Override PartName="/ppt/media/image16.jpeg" ContentType="image/jpeg"/>
  <Override PartName="/ppt/media/image19.wmf" ContentType="image/x-wmf"/>
  <Override PartName="/ppt/media/image15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8.png" ContentType="image/png"/>
  <Override PartName="/ppt/media/image20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1283-66FD-4666-9C21-4F84B0F6C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5D55-DA9B-432A-B3B5-299538BC3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5288-3210-47A4-9FAA-1D3EBE0B1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4FB6-21CA-4873-B7BF-FBF676CAD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5A901-18C8-4831-93F6-105B2CC68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81D91-4676-4F2B-B1C5-956FD0A07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AC146-4A7F-4338-9435-81A322FA3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CAA05-716E-4214-AF2A-A0DA06F0C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13074-FCE5-4DB7-8714-BCAB9F647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AEC48-25DD-41F7-9704-03E71E9AF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C79EE-ACDD-473D-9D10-0483B3F0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C42C-EEC4-4BE6-AE50-61EDD747B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98A1D-0345-4BBF-8AEC-F859EEF7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5FFB1-3C13-4A2C-BD0B-59BEA060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49613-D52A-4DC0-A333-52484A574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30516-32DC-41A2-AF03-44D042E5C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D5F7C-5D84-4A9A-954A-FB5D4504B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B7FE7-61AD-4C8D-A08D-25C754CCE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0AD29-5AB6-4273-A9BF-CAFBC5BCE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C6128-8E84-4268-BE16-4F7632321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350B4-35BB-408A-A3DF-28B6C2D08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C7AF5-F945-4F6F-B6B6-C64EFCA35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B3BE-3AE8-438F-BC99-2460AF06B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C14A6-7B71-4779-92FA-52E14393A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904CB-D662-4EFE-9884-840A7BCA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97F1F-0CAA-40B6-BDAA-A69B91AE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A6079-7084-4A65-A8B1-01100E6F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B8F8E-2B6F-4716-9927-3A3D5F6FE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E2E70-38F2-45DE-A7C4-386731E63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F71D7-81E7-40F2-B6F9-E35341359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553FE-1A19-47F4-B393-A2B858FE3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11F2E-90CD-4CAE-8E1C-3D1B90554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C1EDC-A089-4560-93CE-F8D9F339C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990F-EC5B-42EC-B76B-707DB9C5F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4676E-FF8D-4A80-90A8-DD4212E20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90869-7E84-4311-9E38-F23CC6872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CDA61-ED48-4097-94A3-E97A298D1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CEA6E-8F58-47A9-979D-176FC808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8F6F0-58A5-4530-B4D8-C83CCF4A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4978C-4C0A-491C-9C02-17C3B791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6626F-9FA7-4000-B60E-564BCD19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2CF81-1FFA-48E4-9049-5B2D43CE8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A44F9-E582-414F-A618-22DBE68B5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661D-7E4C-4C01-B6A7-4E08B0BB5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A19D-1A6D-4E64-AD81-651763657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C023-92DF-4316-B406-EE7C8CB3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DE34-B9A4-42EE-8E72-21D5C426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583B-6873-4C99-A8A4-68D0BFFD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8FCD1-F61A-4108-A581-3539D30C1EE1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EC47E-CE64-4D13-9E7E-206DEB3BD282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4B9E4-34D4-4278-B20F-393B0460643E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AB57F-9E51-4228-B596-9802B1828A67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gbmt.ru/ru/display/eye.php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420840" y="109440"/>
            <a:ext cx="8229600" cy="31035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371600" y="3331800"/>
            <a:ext cx="7772400" cy="29545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2303e"/>
                </a:solidFill>
                <a:latin typeface="Constantia"/>
              </a:rPr>
              <a:t>                         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Автор работы: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Королева Дарья Алексеевна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03.04.2007 г.р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г. Москва ГБОУ СОШ № 12, 2 «а» класс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Научный руководитель: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Кицына  Марина Александровна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учитель начальных классов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5" descr="C:\Users\Наташа\Desktop\P_20150108_181527.jpg"/>
          <p:cNvPicPr/>
          <p:nvPr/>
        </p:nvPicPr>
        <p:blipFill>
          <a:blip r:embed="rId2"/>
          <a:stretch/>
        </p:blipFill>
        <p:spPr>
          <a:xfrm>
            <a:off x="142920" y="3143160"/>
            <a:ext cx="478620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669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642960"/>
            <a:ext cx="8400960" cy="56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0" name="Picture 6" descr="C:\Users\user\Pictures\2015-04-08 1а\1а 001.jpg"/>
          <p:cNvPicPr/>
          <p:nvPr/>
        </p:nvPicPr>
        <p:blipFill>
          <a:blip r:embed="rId1"/>
          <a:stretch/>
        </p:blipFill>
        <p:spPr>
          <a:xfrm>
            <a:off x="1960560" y="0"/>
            <a:ext cx="5002200" cy="66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4"/>
          <p:cNvSpPr/>
          <p:nvPr/>
        </p:nvSpPr>
        <p:spPr>
          <a:xfrm>
            <a:off x="0" y="126000"/>
            <a:ext cx="9144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мирчоглян Г.Г., Демирчоглян А.Г.“Улучшаем зрение. – М., “Эксмо” 20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хайлова Л.“Школа зоркости” Москва “Крон-пресс” 199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лова Н.С. Ребятишкам про глаза. – Рис. Т. Домниной. – СПб, клиника детской офтальмологии “ЭксимерKID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Человек. Энциклопедия для детей. Т. 18. – М.: Аванта+, 2001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? Зачем? Почему? Большая книга вопросов и ответов» . – изд.: «ЭКСМО», М. 200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 - ресур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й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 Visio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нциклопедия нарушения зрения http://www.imavision.ru/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ru.wikipedia.org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ttp://www.glazmed.ru/lib/public04/constr014.shtml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ttp://geolenok.ru/geolenok/kraski-vne-zak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/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znovatelno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se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11867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/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ren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856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chiny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hudsheniya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reniya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5"/>
          <p:cNvSpPr/>
          <p:nvPr/>
        </p:nvSpPr>
        <p:spPr>
          <a:xfrm>
            <a:off x="214200" y="5715000"/>
            <a:ext cx="857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76a3"/>
                </a:solidFill>
                <a:latin typeface="Arial"/>
              </a:rPr>
              <a:t>Спасибо 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83763"/>
                </a:solidFill>
                <a:latin typeface="Calibri"/>
              </a:rPr>
              <a:t>Цели  и задачи 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57176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Цель работы</a:t>
            </a:r>
            <a:r>
              <a:rPr b="1" lang="ru-RU" sz="2200" spc="-1" strike="noStrike">
                <a:solidFill>
                  <a:srgbClr val="21b2c9"/>
                </a:solidFill>
                <a:latin typeface="Constantia"/>
              </a:rPr>
              <a:t>:</a:t>
            </a:r>
            <a:r>
              <a:rPr b="0" lang="ru-RU" sz="2200" spc="-1" strike="noStrike">
                <a:solidFill>
                  <a:srgbClr val="21b2c9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41800" indent="-40680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b2c9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Изучение  особенностей зрения, влияния  различных факторов на снижение зрения и способов его сохранения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41800" indent="-40680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Задачи:  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41800" indent="-4068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Изучить и проанализировать информацию по теме исследования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41800" indent="-4068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дать понятие о глазах – органе зрения, о роли глаз в функционировании организма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41800" indent="-4068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Выявить   факторы, влияющие  на снижение зрения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41800" indent="-4068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Изучить способы сохранения зрения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41800" indent="-4068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Разучить комплекс упражнений для глаз</a:t>
            </a:r>
            <a:r>
              <a:rPr b="0" i="1" lang="ru-RU" sz="2200" spc="-1" strike="noStrike">
                <a:solidFill>
                  <a:srgbClr val="000000"/>
                </a:solidFill>
                <a:latin typeface="Constantia"/>
              </a:rPr>
              <a:t> (гимнастика для глаз)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41800" indent="-4068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Изготовить памятки с упражнениями для снятия усталости глаз, рекомендации “Береги глаза”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41800" indent="-406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9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Строение глаз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1" descr="http://fern-flower.ru/sites/default/files/pictures/articles/eye/eye_03.jpg"/>
          <p:cNvPicPr/>
          <p:nvPr/>
        </p:nvPicPr>
        <p:blipFill>
          <a:blip r:embed="rId2"/>
          <a:stretch/>
        </p:blipFill>
        <p:spPr>
          <a:xfrm>
            <a:off x="214200" y="1125360"/>
            <a:ext cx="6000840" cy="5112000"/>
          </a:xfrm>
          <a:prstGeom prst="rect">
            <a:avLst/>
          </a:prstGeom>
          <a:ln w="0">
            <a:noFill/>
          </a:ln>
        </p:spPr>
      </p:pic>
      <p:pic>
        <p:nvPicPr>
          <p:cNvPr id="203" name="Содержимое 3" descr="Рисунок3.jpg"/>
          <p:cNvPicPr/>
          <p:nvPr/>
        </p:nvPicPr>
        <p:blipFill>
          <a:blip r:embed="rId3"/>
          <a:stretch/>
        </p:blipFill>
        <p:spPr>
          <a:xfrm>
            <a:off x="5643720" y="3857760"/>
            <a:ext cx="35002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35796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Бесценный дар природы</a:t>
            </a:r>
            <a:r>
              <a:rPr b="0" lang="ru-RU" sz="4500" spc="-1" strike="noStrike">
                <a:solidFill>
                  <a:srgbClr val="21b2c9"/>
                </a:solidFill>
                <a:latin typeface="Calibri"/>
              </a:rPr>
              <a:t>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928440"/>
            <a:ext cx="5715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47560" indent="-41112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80% всей информации люди получают через глаза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47560" indent="-411120" algn="just">
              <a:spcBef>
                <a:spcPts val="451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набжают нас информацией о глубине, расстоянии, величине, движении и цвете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47560" indent="-411120" algn="just">
              <a:spcBef>
                <a:spcPts val="451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пособны двигаться вверх, вниз и в обе стороны, давая нам максимально широкий обзор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47560" indent="-411120" algn="just">
              <a:spcBef>
                <a:spcPts val="451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глаза  бывают огромные и большие, маленькие и выпуклые, узкие и круглые, миндалевидные и глубоко посаженные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47560" indent="-411120" algn="just">
              <a:spcBef>
                <a:spcPts val="451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глаза бывают карие, голубые, зелёные, серые, синие. Цвет глаз зависит от пигмента, содержащегося в радужке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47560" indent="-411120"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547560" indent="-411120"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Рисунок 4" descr="C:\Documents and Settings\Admin\Рабочий стол\pril1\img41.jpg"/>
          <p:cNvPicPr/>
          <p:nvPr/>
        </p:nvPicPr>
        <p:blipFill>
          <a:blip r:embed="rId1"/>
          <a:stretch/>
        </p:blipFill>
        <p:spPr>
          <a:xfrm>
            <a:off x="5904000" y="1557360"/>
            <a:ext cx="296712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3" descr="ey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760" y="1143000"/>
            <a:ext cx="3143160" cy="200016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5"/>
          <p:cNvSpPr/>
          <p:nvPr/>
        </p:nvSpPr>
        <p:spPr>
          <a:xfrm>
            <a:off x="2071800" y="3358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интерес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6" descr="&amp;kcy;&amp;acy;&amp;kcy;&amp;icy;&amp;iecy; &amp;tscy;&amp;vcy;&amp;iecy;&amp;tcy;&amp;acy; &amp;vcy;&amp;icy;&amp;dcy;&amp;yacy;&amp;tcy; &amp;scy;&amp;ocy;&amp;bcy;&amp;acy;&amp;kcy;&amp;icy;"/>
          <p:cNvPicPr/>
          <p:nvPr/>
        </p:nvPicPr>
        <p:blipFill>
          <a:blip r:embed="rId3"/>
          <a:stretch/>
        </p:blipFill>
        <p:spPr>
          <a:xfrm>
            <a:off x="4143240" y="4357800"/>
            <a:ext cx="4714920" cy="22143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7" descr="&amp;CHcy;&amp;ucy;&amp;zhcy;&amp;icy;&amp;mcy;&amp;icy; &amp;gcy;&amp;lcy;&amp;acy;&amp;zcy;&amp;acy;&amp;mcy;&amp;icy; &amp;ZHcy;&amp;ucy;&amp;rcy;&amp;ncy;&amp;acy;&amp;lcy; &amp;Vcy;&amp;ocy;&amp;kcy;&amp;rcy;&amp;ucy;&amp;gcy; &amp;Scy;&amp;vcy;&amp;iecy;&amp;tcy;&amp;acy;"/>
          <p:cNvPicPr/>
          <p:nvPr/>
        </p:nvPicPr>
        <p:blipFill>
          <a:blip r:embed="rId4"/>
          <a:stretch/>
        </p:blipFill>
        <p:spPr>
          <a:xfrm>
            <a:off x="1785960" y="3429000"/>
            <a:ext cx="2214720" cy="3143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8" descr="C:\Users\Наташа\Desktop\P_20150108_180520.jpg"/>
          <p:cNvPicPr/>
          <p:nvPr/>
        </p:nvPicPr>
        <p:blipFill>
          <a:blip r:embed="rId5"/>
          <a:stretch/>
        </p:blipFill>
        <p:spPr>
          <a:xfrm>
            <a:off x="4572000" y="785880"/>
            <a:ext cx="42861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54372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акторы, влияющие на ухудшение зрения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6840" y="1571400"/>
            <a:ext cx="53290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9840" indent="-39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наличие болезней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19840" indent="-39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характер питания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19840" indent="-39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условия зрительной работы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19840" indent="-39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окружающая  среда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19840" indent="-39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вредные привычки ; 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19840" indent="-390240">
              <a:spcBef>
                <a:spcPts val="550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неправильная организация работы за компьютером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19840" indent="-3902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Основными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 причинами снижения зрения среди школьников являются значительные зрительные нагрузки во время учёбы и отсутствие гигиены зрения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19840" indent="-39024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19840" indent="-39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9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4" descr="135369"/>
          <p:cNvPicPr/>
          <p:nvPr/>
        </p:nvPicPr>
        <p:blipFill>
          <a:blip r:embed="rId1"/>
          <a:stretch/>
        </p:blipFill>
        <p:spPr>
          <a:xfrm>
            <a:off x="6429240" y="0"/>
            <a:ext cx="2500560" cy="33577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c7cc5457ecfb"/>
          <p:cNvPicPr/>
          <p:nvPr/>
        </p:nvPicPr>
        <p:blipFill>
          <a:blip r:embed="rId2"/>
          <a:stretch/>
        </p:blipFill>
        <p:spPr>
          <a:xfrm>
            <a:off x="6429240" y="3357720"/>
            <a:ext cx="250056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5800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Результаты  анкетирован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8" name="Содержимое 3" descr=""/>
          <p:cNvPicPr/>
          <p:nvPr/>
        </p:nvPicPr>
        <p:blipFill>
          <a:blip r:embed="rId1"/>
          <a:stretch/>
        </p:blipFill>
        <p:spPr>
          <a:xfrm>
            <a:off x="152280" y="1262160"/>
            <a:ext cx="3408480" cy="554652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Object 4"/>
          <p:cNvGraphicFramePr/>
          <p:nvPr/>
        </p:nvGraphicFramePr>
        <p:xfrm>
          <a:off x="1928880" y="1214280"/>
          <a:ext cx="7215120" cy="5643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28880" y="1214280"/>
                    <a:ext cx="7215120" cy="564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Профилактик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642960"/>
            <a:ext cx="8400960" cy="56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9840" indent="-390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Больше двигаться!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19840" indent="-390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Телевизор - чем меньше, тем лучше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19840" indent="-390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Соблюдение правил чтения книг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19840" indent="-390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Короткая  "передышка" для глаз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19840" indent="-390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Правильное  освещение рабочего места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19840" indent="-390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Регулярное посещение врача офтальмолог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19840" indent="-390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Соблюдение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витаминной  диеты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19840" indent="-390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200" spc="-1" strike="noStrike">
                <a:solidFill>
                  <a:srgbClr val="000a0c"/>
                </a:solidFill>
                <a:latin typeface="Constantia"/>
              </a:rPr>
              <a:t>А (</a:t>
            </a:r>
            <a:r>
              <a:rPr b="0" lang="ru-RU" sz="2200" spc="-1" strike="noStrike">
                <a:solidFill>
                  <a:srgbClr val="000a0c"/>
                </a:solidFill>
                <a:latin typeface="Constantia"/>
              </a:rPr>
              <a:t>морковь, томаты, листовые овощи, жир)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19840" indent="-390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a0c"/>
                </a:solidFill>
                <a:latin typeface="Constantia"/>
              </a:rPr>
              <a:t>В </a:t>
            </a:r>
            <a:r>
              <a:rPr b="0" lang="ru-RU" sz="2200" spc="-1" strike="noStrike">
                <a:solidFill>
                  <a:srgbClr val="000a0c"/>
                </a:solidFill>
                <a:latin typeface="Constantia"/>
              </a:rPr>
              <a:t>(орехи, большинство фруктов, зерновые, печень, почки,  рыба различных сортов)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19840" indent="-390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a0c"/>
                </a:solidFill>
                <a:latin typeface="Constantia"/>
              </a:rPr>
              <a:t>С</a:t>
            </a:r>
            <a:r>
              <a:rPr b="0" lang="ru-RU" sz="2200" spc="-1" strike="noStrike">
                <a:solidFill>
                  <a:srgbClr val="000a0c"/>
                </a:solidFill>
                <a:latin typeface="Constantia"/>
              </a:rPr>
              <a:t> (плоды шиповника, цитрусовые, лук, помидоры, шпинат,  яблоки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19840" indent="-390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a0c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a0c"/>
                </a:solidFill>
                <a:latin typeface="Constantia"/>
              </a:rPr>
              <a:t>Необходимы  нашим глазам </a:t>
            </a:r>
            <a:r>
              <a:rPr b="1" lang="ru-RU" sz="2200" spc="-1" strike="noStrike">
                <a:solidFill>
                  <a:srgbClr val="000a0c"/>
                </a:solidFill>
                <a:latin typeface="Constantia"/>
              </a:rPr>
              <a:t>микроэлементы - калий (</a:t>
            </a:r>
            <a:r>
              <a:rPr b="0" lang="ru-RU" sz="2200" spc="-1" strike="noStrike">
                <a:solidFill>
                  <a:srgbClr val="000a0c"/>
                </a:solidFill>
                <a:latin typeface="Constantia"/>
              </a:rPr>
              <a:t>мёд, бананы, печёный картофель,  растительное масло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19840" indent="-390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a0c"/>
                </a:solidFill>
                <a:latin typeface="Constantia"/>
              </a:rPr>
              <a:t>      </a:t>
            </a:r>
            <a:r>
              <a:rPr b="1" lang="ru-RU" sz="2200" spc="-1" strike="noStrike">
                <a:solidFill>
                  <a:srgbClr val="000a0c"/>
                </a:solidFill>
                <a:latin typeface="Constantia"/>
              </a:rPr>
              <a:t>и цинк</a:t>
            </a:r>
            <a:r>
              <a:rPr b="0" lang="ru-RU" sz="2200" spc="-1" strike="noStrike">
                <a:solidFill>
                  <a:srgbClr val="000a0c"/>
                </a:solidFill>
                <a:latin typeface="Constantia"/>
              </a:rPr>
              <a:t>  (креветки, устрицы, сельдь, печень, мясо, грибы)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19840" indent="-390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19840" indent="-390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9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19840" indent="-390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19840" indent="-390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9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Гимнастика для глаз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500440" y="785880"/>
            <a:ext cx="34290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"/>
          <p:cNvPicPr/>
          <p:nvPr/>
        </p:nvPicPr>
        <p:blipFill>
          <a:blip r:embed="rId1"/>
          <a:stretch/>
        </p:blipFill>
        <p:spPr>
          <a:xfrm>
            <a:off x="611280" y="857160"/>
            <a:ext cx="6913440" cy="307188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6"/>
          <p:cNvSpPr/>
          <p:nvPr/>
        </p:nvSpPr>
        <p:spPr>
          <a:xfrm>
            <a:off x="611280" y="4462200"/>
            <a:ext cx="6913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е «Карты «Движение». Это упражнение способствует улучшению оптической координации обоих глаз, укреплению наружных прямых мышц глаз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аташа</dc:creator>
  <dc:description/>
  <dc:language>en-US</dc:language>
  <cp:lastModifiedBy>user</cp:lastModifiedBy>
  <dcterms:modified xsi:type="dcterms:W3CDTF">2015-04-08T15:15:42Z</dcterms:modified>
  <cp:revision>119</cp:revision>
  <dc:subject/>
  <dc:title>Проект  «Береги зрение смолоду!»</dc:title>
</cp:coreProperties>
</file>