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0.jpeg" ContentType="image/jpeg"/>
  <Override PartName="/ppt/media/image15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4C5-9951-45C7-8321-4ECA1C04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2A8-8275-4415-894D-40BA0D48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D03-E948-4F17-9214-6739A13D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087-8449-4727-97A4-3D055855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110-CD72-4136-8DE2-77A55453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937-267A-40B1-A9D2-40355251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F7F-47E5-4B7B-BF2D-6BAB1C94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0779-4B1F-4416-9A5E-4EFEA9F2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796-BDCE-4504-8ADE-2252F82A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356-3223-44F2-B1E2-722E3C0E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284-AE7E-4D4B-A388-1FC4D19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45F-0FFB-4D11-9FFB-9411FDF1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7BA3-F58D-4FE0-9855-F1E1017344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London tour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4427640" y="4653000"/>
            <a:ext cx="4572000" cy="2014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ешетняк Яна Никола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читель английского языка МБОУ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ОШ № 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раснодарского кр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ущёвского райо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таницы Кисляков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ritish Museu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4284720" y="0"/>
            <a:ext cx="46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ritish Museum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550120"/>
          </a:xfrm>
          <a:prstGeom prst="rect">
            <a:avLst/>
          </a:prstGeom>
          <a:ln w="0">
            <a:noFill/>
          </a:ln>
        </p:spPr>
      </p:pic>
      <p:sp>
        <p:nvSpPr>
          <p:cNvPr id="65" name="WordArt 6"/>
          <p:cNvSpPr txBox="1"/>
          <p:nvPr/>
        </p:nvSpPr>
        <p:spPr>
          <a:xfrm>
            <a:off x="1908000" y="5950080"/>
            <a:ext cx="522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ritish Museum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1a"/>
          <p:cNvPicPr/>
          <p:nvPr/>
        </p:nvPicPr>
        <p:blipFill>
          <a:blip r:embed="rId1"/>
          <a:stretch/>
        </p:blipFill>
        <p:spPr>
          <a:xfrm>
            <a:off x="611280" y="189000"/>
            <a:ext cx="4314600" cy="6453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7"/>
          <p:cNvSpPr txBox="1"/>
          <p:nvPr/>
        </p:nvSpPr>
        <p:spPr>
          <a:xfrm rot="19615800">
            <a:off x="5011560" y="4784400"/>
            <a:ext cx="427536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St. Paul's Cathedral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986360" y="5792400"/>
            <a:ext cx="4122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minster Abb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2" descr="C:\Documents and Settings\Администратор\Рабочий стол\450px-Westminster_Abbey_-_West_Door.jpg"/>
          <p:cNvPicPr/>
          <p:nvPr/>
        </p:nvPicPr>
        <p:blipFill>
          <a:blip r:embed="rId1"/>
          <a:stretch/>
        </p:blipFill>
        <p:spPr>
          <a:xfrm>
            <a:off x="395280" y="539640"/>
            <a:ext cx="45133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Администратор\Рабочий стол\220px-Westminster_Abbey_by_Canaletto,_1749.jpg"/>
          <p:cNvPicPr/>
          <p:nvPr/>
        </p:nvPicPr>
        <p:blipFill>
          <a:blip r:embed="rId1"/>
          <a:stretch/>
        </p:blipFill>
        <p:spPr>
          <a:xfrm>
            <a:off x="0" y="0"/>
            <a:ext cx="4500720" cy="439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Администратор\Рабочий стол\388px-WestminsterNorth55.jpg"/>
          <p:cNvPicPr/>
          <p:nvPr/>
        </p:nvPicPr>
        <p:blipFill>
          <a:blip r:embed="rId2"/>
          <a:stretch/>
        </p:blipFill>
        <p:spPr>
          <a:xfrm>
            <a:off x="4809960" y="189000"/>
            <a:ext cx="4206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гайд парк3"/>
          <p:cNvPicPr/>
          <p:nvPr/>
        </p:nvPicPr>
        <p:blipFill>
          <a:blip r:embed="rId1"/>
          <a:stretch/>
        </p:blipFill>
        <p:spPr>
          <a:xfrm>
            <a:off x="179280" y="260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гайд парк"/>
          <p:cNvPicPr/>
          <p:nvPr/>
        </p:nvPicPr>
        <p:blipFill>
          <a:blip r:embed="rId2"/>
          <a:stretch/>
        </p:blipFill>
        <p:spPr>
          <a:xfrm>
            <a:off x="3492360" y="105264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74" name="WordArt 12"/>
          <p:cNvSpPr txBox="1"/>
          <p:nvPr/>
        </p:nvSpPr>
        <p:spPr>
          <a:xfrm>
            <a:off x="4572000" y="5300640"/>
            <a:ext cx="410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Hyde Park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75" name="Picture 6" descr="гайд парк2"/>
          <p:cNvPicPr/>
          <p:nvPr/>
        </p:nvPicPr>
        <p:blipFill>
          <a:blip r:embed="rId3"/>
          <a:stretch/>
        </p:blipFill>
        <p:spPr>
          <a:xfrm>
            <a:off x="179280" y="364500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Ворота (главные) Гайд-пар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-61920" y="5589720"/>
            <a:ext cx="9250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f0066"/>
                </a:solidFill>
                <a:latin typeface="Comic Sans MS"/>
              </a:rPr>
              <a:t>Главные ворота Гайд Парка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2863800" y="59220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ɔːl'redɪ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774720" y="5922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alre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5076720" y="59220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122"/>
                </a:solidFill>
                <a:latin typeface="Comic Sans MS"/>
              </a:rPr>
              <a:t>уж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985680" y="12859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ju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2863800" y="1281240"/>
            <a:ext cx="16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ʤʌst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4788000" y="137304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122"/>
                </a:solidFill>
                <a:latin typeface="Comic Sans MS"/>
              </a:rPr>
              <a:t>Только ч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2581200" y="1944720"/>
            <a:ext cx="14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'evə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774720" y="1932120"/>
            <a:ext cx="18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ev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4448160" y="199872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122"/>
                </a:solidFill>
                <a:latin typeface="Comic Sans MS"/>
              </a:rPr>
              <a:t>Когда-либ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880920" y="262584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y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13"/>
          <p:cNvSpPr/>
          <p:nvPr/>
        </p:nvSpPr>
        <p:spPr>
          <a:xfrm>
            <a:off x="3049560" y="262080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jet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48160" y="2763720"/>
            <a:ext cx="32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122"/>
                </a:solidFill>
                <a:latin typeface="Comic Sans MS"/>
              </a:rPr>
              <a:t>Еще не, уж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696960" y="3500280"/>
            <a:ext cx="18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ui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20720" y="4437000"/>
            <a:ext cx="294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685800" y="5187960"/>
            <a:ext cx="21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rid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18"/>
          <p:cNvSpPr/>
          <p:nvPr/>
        </p:nvSpPr>
        <p:spPr>
          <a:xfrm>
            <a:off x="3110040" y="5187960"/>
            <a:ext cx="15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brɪʤ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Прямоугольник 19"/>
          <p:cNvSpPr/>
          <p:nvPr/>
        </p:nvSpPr>
        <p:spPr>
          <a:xfrm>
            <a:off x="2816280" y="3460680"/>
            <a:ext cx="13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bɪld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ямоугольник 20"/>
          <p:cNvSpPr/>
          <p:nvPr/>
        </p:nvSpPr>
        <p:spPr>
          <a:xfrm>
            <a:off x="2832120" y="4437000"/>
            <a:ext cx="191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['bɪldɪŋ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4470480" y="3500280"/>
            <a:ext cx="31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122"/>
                </a:solidFill>
                <a:latin typeface="Comic Sans MS"/>
              </a:rPr>
              <a:t>стро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4889520" y="4402080"/>
            <a:ext cx="26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122"/>
                </a:solidFill>
                <a:latin typeface="Comic Sans MS"/>
              </a:rPr>
              <a:t>зд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Box 23"/>
          <p:cNvSpPr/>
          <p:nvPr/>
        </p:nvSpPr>
        <p:spPr>
          <a:xfrm>
            <a:off x="4917960" y="5187960"/>
            <a:ext cx="31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122"/>
                </a:solidFill>
                <a:latin typeface="Comic Sans MS"/>
              </a:rPr>
              <a:t>мо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76720" y="5911560"/>
            <a:ext cx="259056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441680" y="4935600"/>
            <a:ext cx="21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rid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539640" y="56214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alre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6618240" y="5589720"/>
            <a:ext cx="18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Comic Sans MS"/>
              </a:rPr>
              <a:t>bui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bridge"/>
          <p:cNvPicPr/>
          <p:nvPr/>
        </p:nvPicPr>
        <p:blipFill>
          <a:blip r:embed="rId1"/>
          <a:stretch/>
        </p:blipFill>
        <p:spPr>
          <a:xfrm>
            <a:off x="738360" y="907920"/>
            <a:ext cx="3779640" cy="2264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Букингемский Дворец"/>
          <p:cNvPicPr/>
          <p:nvPr/>
        </p:nvPicPr>
        <p:blipFill>
          <a:blip r:embed="rId2"/>
          <a:stretch/>
        </p:blipFill>
        <p:spPr>
          <a:xfrm>
            <a:off x="5148360" y="1341360"/>
            <a:ext cx="3132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46821E-007 L -0.28577 -0.19283 E">
                                      <p:cBhvr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5087E-006 L 0.16475 -0.29271 E">
                                      <p:cBhvr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380520"/>
            <a:ext cx="8507520" cy="22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Have you …………..cooked chicken so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Nick has. …………..finished playing hock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 has not finished it 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4211640" y="4948200"/>
            <a:ext cx="12240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122"/>
                </a:solidFill>
                <a:latin typeface="Tahoma"/>
              </a:rPr>
              <a:t>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6181560" y="4624560"/>
            <a:ext cx="100836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122"/>
                </a:solidFill>
                <a:latin typeface="Tahoma"/>
              </a:rPr>
              <a:t>y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257480" y="5272200"/>
            <a:ext cx="17031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122"/>
                </a:solidFill>
                <a:latin typeface="Tahoma"/>
              </a:rPr>
              <a:t>alrea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00578E-006 L -0.13767 -0.63099 E"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46821E-007 L 0.1434 -0.51607 E">
                                      <p:cBhvr>
                                        <p:cTn id="4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64162E-006 L -0.09723 -0.27375 E">
                                      <p:cBhvr>
                                        <p:cTn id="4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f you are tired of London you are tired of lif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358720" y="692280"/>
            <a:ext cx="2901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1122"/>
                </a:solidFill>
                <a:uFillTx/>
                <a:latin typeface="Arial"/>
              </a:rPr>
              <a:t>Hav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387880" y="1700280"/>
            <a:ext cx="2788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1122"/>
                </a:solidFill>
                <a:uFillTx/>
                <a:latin typeface="Arial"/>
              </a:rPr>
              <a:t>Ha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+ V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611280" y="1700280"/>
            <a:ext cx="669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348000" y="2919240"/>
            <a:ext cx="46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200400" y="3940200"/>
            <a:ext cx="495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3218040" y="342576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3203640" y="67057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5100480" y="2579760"/>
            <a:ext cx="350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1122"/>
                </a:solidFill>
                <a:uFillTx/>
                <a:latin typeface="Tahoma"/>
              </a:rPr>
              <a:t>have</a:t>
            </a:r>
            <a:r>
              <a:rPr b="0" lang="en-US" sz="4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+ V3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26"/>
          <p:cNvSpPr/>
          <p:nvPr/>
        </p:nvSpPr>
        <p:spPr>
          <a:xfrm>
            <a:off x="395280" y="262584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/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860760" y="2684520"/>
            <a:ext cx="11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/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1929960" y="2709720"/>
            <a:ext cx="153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/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3225960" y="2625840"/>
            <a:ext cx="19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4883400" y="3378240"/>
            <a:ext cx="29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1122"/>
                </a:solidFill>
                <a:uFillTx/>
                <a:latin typeface="Tahoma"/>
              </a:rPr>
              <a:t>has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+ V3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546480" y="3419640"/>
            <a:ext cx="149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he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2116080" y="3452760"/>
            <a:ext cx="11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e/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292400" y="47642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ready   yet    never   ever  just  this week    this month                   this year    si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4360" y="476280"/>
            <a:ext cx="7991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lready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asn’t rea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yet. I have never hear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ou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e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film ye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"/>
          <p:cNvPicPr/>
          <p:nvPr/>
        </p:nvPicPr>
        <p:blipFill>
          <a:blip r:embed="rId1"/>
          <a:srcRect l="0" t="0" r="531" b="0"/>
          <a:stretch/>
        </p:blipFill>
        <p:spPr>
          <a:xfrm>
            <a:off x="755640" y="476280"/>
            <a:ext cx="3441600" cy="244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Администратор\Рабочий стол\Pr Contin or Pr. Perfect\Рисунок2.png"/>
          <p:cNvPicPr/>
          <p:nvPr/>
        </p:nvPicPr>
        <p:blipFill>
          <a:blip r:embed="rId2"/>
          <a:stretch/>
        </p:blipFill>
        <p:spPr>
          <a:xfrm>
            <a:off x="4716360" y="692280"/>
            <a:ext cx="3989520" cy="2824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39640" y="3516480"/>
            <a:ext cx="35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Wash -wash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580000" y="3700440"/>
            <a:ext cx="31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ok- coo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122"/>
                </a:solidFill>
                <a:latin typeface="Tahoma"/>
              </a:rPr>
              <a:t>Be                  was/were       b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122"/>
                </a:solidFill>
                <a:latin typeface="Tahoma"/>
              </a:rPr>
              <a:t>Begin              began            begu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122"/>
                </a:solidFill>
                <a:latin typeface="Tahoma"/>
              </a:rPr>
              <a:t>Become            became         be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122"/>
                </a:solidFill>
                <a:latin typeface="Tahoma"/>
              </a:rPr>
              <a:t>Bring               brought       br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122"/>
                </a:solidFill>
                <a:latin typeface="Tahoma"/>
              </a:rPr>
              <a:t>Build                 built            buil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емые материал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ображ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ig B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review-planet.ru%2Fwp-content%2Fuploads%2F2011%2F01%2FBigben.jpg&amp;uinfo=sw-1366-sh-768-ww-1349-wh-642-pd-1-wp-16x9_1366x768&amp;_=1429369231124&amp;suggest_reqid=941453925142678697292309042405183&amp;viewport=wide&amp;text=big%20ben&amp;pos=3&amp;rpt=sim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he Houses of Parlia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www.foe.co.uk%2Fsites%2Fdefault%2Ffiles%2Fthumbnails%2Fimage%2Fparl.jpg&amp;uinfo=sw-1366-sh-768-ww-1349-wh-642-pd-1-wp-16x9_1366x768&amp;_=1429369344077&amp;suggest_reqid=941453925142678697293440403354929&amp;viewport=wide&amp;text=the%20houses%20of%20parliament&amp;pos=2&amp;rpt=sim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he Tow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s://yandex.ru/images/search?text=the%20tower%20of%20london&amp;suggest_reqid=941453925142678697294472609675631&amp;uinfo=sw-1366-sh-768-ww-1349-wh-642-pd-1-wp-16x9_1366x76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ower Bri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wallpapers-fenix.eu%2Ffull%2F141215%2F035822753.jpg&amp;uinfo=sw-1366-sh-768-ww-1349-wh-642-pd-1-wp-16x9_1366x768&amp;_=1429369554636&amp;suggest_reqid=941453925142678697295545116931826&amp;viewport=wide&amp;text=tower%20bridge&amp;pos=1&amp;rpt=sim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ritish Muse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london-help.ru%2Fwp-content%2Fuploads%2F2014%2F12%2FBritish_Museum_Dome.jpg&amp;uinfo=sw-1366-sh-768-ww-1349-wh-642-pd-1-wp-16x9_1366x768&amp;_=1429369596992&amp;suggest_reqid=941453925142678697295968880429441&amp;viewport=wide&amp;text=britis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t.Paul’s Cathed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www.wallpaperscp.com%2Fwallpapers%2F2013%2F06%2FSt-Paul-S-Cathedral-London-England-United-Kingdom-1800x2880.jpg&amp;uinfo=sw-1366-sh-768-ww-1349-wh-642-pd-1-wp-16x9_1366x768&amp;_=1429369670539&amp;suggest_reqid=941453925142678697296704834985922&amp;viewport=wide&amp;text=st.paul%20s%20cathedral&amp;pos=5&amp;rpt=sim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Westminister Abb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ttps://yandex.ru/images/search?text=westminister%20abbey&amp;suggest_reqid=941453925142678697297120085306070&amp;uinfo=sw-1366-sh-768-ww-1349-wh-642-pd-1-wp-16x9_1366x76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Hyde Pa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ttps://yandex.ru/images/search?img_url=http%3A%2F%2Fwww.amal-alalam.net%2Fforum%2Fimgcache%2F2%2F56546alsh3er.jpg&amp;uinfo=sw-1366-sh-768-ww-1349-wh-642-pd-1-wp-16x9_1366x768&amp;_=1429369745517&amp;suggest_reqid=941453925142678697297407971800336&amp;p=1&amp;viewport=wide&amp;text=hyde%20park&amp;pos=54&amp;rpt=sim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"/>
          <p:cNvPicPr/>
          <p:nvPr/>
        </p:nvPicPr>
        <p:blipFill>
          <a:blip r:embed="rId1"/>
          <a:stretch/>
        </p:blipFill>
        <p:spPr>
          <a:xfrm>
            <a:off x="900000" y="189000"/>
            <a:ext cx="7596360" cy="512280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 rot="21448800">
            <a:off x="2771640" y="5516280"/>
            <a:ext cx="410544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ig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2895480" y="546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50920" y="4508640"/>
            <a:ext cx="399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The Hous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of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S Note"/>
              </a:rPr>
              <a:t>Parlia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10" descr="parliam"/>
          <p:cNvPicPr/>
          <p:nvPr/>
        </p:nvPicPr>
        <p:blipFill>
          <a:blip r:embed="rId1"/>
          <a:stretch/>
        </p:blipFill>
        <p:spPr>
          <a:xfrm>
            <a:off x="2268360" y="404640"/>
            <a:ext cx="62643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tower4"/>
          <p:cNvPicPr/>
          <p:nvPr/>
        </p:nvPicPr>
        <p:blipFill>
          <a:blip r:embed="rId1"/>
          <a:stretch/>
        </p:blipFill>
        <p:spPr>
          <a:xfrm>
            <a:off x="39600" y="18900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914360" y="5759280"/>
            <a:ext cx="430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Tahoma"/>
              </a:rPr>
              <a:t>The Tower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tower3"/>
          <p:cNvPicPr/>
          <p:nvPr/>
        </p:nvPicPr>
        <p:blipFill>
          <a:blip r:embed="rId2"/>
          <a:stretch/>
        </p:blipFill>
        <p:spPr>
          <a:xfrm>
            <a:off x="4092480" y="1773360"/>
            <a:ext cx="50515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bridge"/>
          <p:cNvPicPr/>
          <p:nvPr/>
        </p:nvPicPr>
        <p:blipFill>
          <a:blip r:embed="rId1"/>
          <a:stretch/>
        </p:blipFill>
        <p:spPr>
          <a:xfrm>
            <a:off x="900000" y="404640"/>
            <a:ext cx="7561440" cy="4527720"/>
          </a:xfrm>
          <a:prstGeom prst="rect">
            <a:avLst/>
          </a:prstGeom>
          <a:ln w="0">
            <a:noFill/>
          </a:ln>
        </p:spPr>
      </p:pic>
      <p:sp>
        <p:nvSpPr>
          <p:cNvPr id="54" name="WordArt 10"/>
          <p:cNvSpPr txBox="1"/>
          <p:nvPr/>
        </p:nvSpPr>
        <p:spPr>
          <a:xfrm>
            <a:off x="2340000" y="5157720"/>
            <a:ext cx="47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wer Bri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:\Documents and Settings\Администратор\Рабочий стол\trafalgar_square.jpg"/>
          <p:cNvPicPr/>
          <p:nvPr/>
        </p:nvPicPr>
        <p:blipFill>
          <a:blip r:embed="rId1"/>
          <a:stretch/>
        </p:blipFill>
        <p:spPr>
          <a:xfrm>
            <a:off x="3527280" y="2205000"/>
            <a:ext cx="5442120" cy="39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Trafalgar Square2"/>
          <p:cNvPicPr/>
          <p:nvPr/>
        </p:nvPicPr>
        <p:blipFill>
          <a:blip r:embed="rId2"/>
          <a:stretch/>
        </p:blipFill>
        <p:spPr>
          <a:xfrm>
            <a:off x="455760" y="189000"/>
            <a:ext cx="4249440" cy="319068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>
            <a:off x="455760" y="6021360"/>
            <a:ext cx="579276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rafalgar Squ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Buckingham Pala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11"/>
          <p:cNvSpPr txBox="1"/>
          <p:nvPr/>
        </p:nvSpPr>
        <p:spPr>
          <a:xfrm>
            <a:off x="3635280" y="6093000"/>
            <a:ext cx="5200920" cy="765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Букингемский Дворе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4140360" y="6283440"/>
            <a:ext cx="469584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5:59:40Z</dcterms:created>
  <dc:creator>Einshtein</dc:creator>
  <dc:description/>
  <dc:language>en-US</dc:language>
  <cp:lastModifiedBy>Admin</cp:lastModifiedBy>
  <dcterms:modified xsi:type="dcterms:W3CDTF">2015-04-18T15:20:27Z</dcterms:modified>
  <cp:revision>29</cp:revision>
  <dc:subject/>
  <dc:title>Слайд 1</dc:title>
</cp:coreProperties>
</file>