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0.jpeg" ContentType="image/jpeg"/>
  <Override PartName="/ppt/media/image15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AFEF-B8C2-41D2-879A-E4BD6D9A9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7109-0941-4E8A-B675-6D1D3B51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FA87-7340-4D65-9EFB-44EF66EEA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9DAE-7241-4396-A2A4-012DCCB84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50E2-3EF1-48C4-BC96-EA11EEDB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30E5-58DC-479C-881F-6EEF9246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0FA5-CA2B-4838-90E6-2D59572B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D713-6B3D-4883-9747-EC7B4FFF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289D-592F-4616-B740-14339D76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42C1-43D9-45C1-8434-8A1DBD6C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4E55-33EF-4B8C-969B-5D15CCB6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EFE7-2592-4440-B1EF-697BF066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6A23-C092-40C7-99F5-9369ECDB457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London tour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Прямоугольник 3"/>
          <p:cNvSpPr/>
          <p:nvPr/>
        </p:nvSpPr>
        <p:spPr>
          <a:xfrm>
            <a:off x="4427640" y="4653000"/>
            <a:ext cx="4572000" cy="20142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Автор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3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Решетняк Яна Николае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3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учитель английского языка МБОУ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СОШ № 1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3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Краснодарского кр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3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Кущёвского райо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3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станицы Кисляковск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British Museum2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3" name="WordArt 6"/>
          <p:cNvSpPr txBox="1"/>
          <p:nvPr/>
        </p:nvSpPr>
        <p:spPr>
          <a:xfrm>
            <a:off x="4284720" y="0"/>
            <a:ext cx="464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British Museum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British Museum"/>
          <p:cNvPicPr/>
          <p:nvPr/>
        </p:nvPicPr>
        <p:blipFill>
          <a:blip r:embed="rId1"/>
          <a:stretch/>
        </p:blipFill>
        <p:spPr>
          <a:xfrm>
            <a:off x="324000" y="260280"/>
            <a:ext cx="8424720" cy="5550120"/>
          </a:xfrm>
          <a:prstGeom prst="rect">
            <a:avLst/>
          </a:prstGeom>
          <a:ln w="0">
            <a:noFill/>
          </a:ln>
        </p:spPr>
      </p:pic>
      <p:sp>
        <p:nvSpPr>
          <p:cNvPr id="65" name="WordArt 6"/>
          <p:cNvSpPr txBox="1"/>
          <p:nvPr/>
        </p:nvSpPr>
        <p:spPr>
          <a:xfrm>
            <a:off x="1908000" y="5950080"/>
            <a:ext cx="5220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British Museum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11a"/>
          <p:cNvPicPr/>
          <p:nvPr/>
        </p:nvPicPr>
        <p:blipFill>
          <a:blip r:embed="rId1"/>
          <a:stretch/>
        </p:blipFill>
        <p:spPr>
          <a:xfrm>
            <a:off x="611280" y="189000"/>
            <a:ext cx="4314600" cy="6453000"/>
          </a:xfrm>
          <a:prstGeom prst="rect">
            <a:avLst/>
          </a:prstGeom>
          <a:ln w="0">
            <a:noFill/>
          </a:ln>
        </p:spPr>
      </p:pic>
      <p:sp>
        <p:nvSpPr>
          <p:cNvPr id="67" name="WordArt 7"/>
          <p:cNvSpPr txBox="1"/>
          <p:nvPr/>
        </p:nvSpPr>
        <p:spPr>
          <a:xfrm rot="19615800">
            <a:off x="5011560" y="4784400"/>
            <a:ext cx="4275360" cy="8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St. Paul's Cathedral</a:t>
            </a:r>
            <a:endParaRPr b="0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986360" y="5792400"/>
            <a:ext cx="4122720" cy="10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stminster Abb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2" descr="C:\Documents and Settings\Администратор\Рабочий стол\450px-Westminster_Abbey_-_West_Door.jpg"/>
          <p:cNvPicPr/>
          <p:nvPr/>
        </p:nvPicPr>
        <p:blipFill>
          <a:blip r:embed="rId1"/>
          <a:stretch/>
        </p:blipFill>
        <p:spPr>
          <a:xfrm>
            <a:off x="395280" y="539640"/>
            <a:ext cx="451332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Documents and Settings\Администратор\Рабочий стол\220px-Westminster_Abbey_by_Canaletto,_1749.jpg"/>
          <p:cNvPicPr/>
          <p:nvPr/>
        </p:nvPicPr>
        <p:blipFill>
          <a:blip r:embed="rId1"/>
          <a:stretch/>
        </p:blipFill>
        <p:spPr>
          <a:xfrm>
            <a:off x="0" y="0"/>
            <a:ext cx="4500720" cy="4397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Documents and Settings\Администратор\Рабочий стол\388px-WestminsterNorth55.jpg"/>
          <p:cNvPicPr/>
          <p:nvPr/>
        </p:nvPicPr>
        <p:blipFill>
          <a:blip r:embed="rId2"/>
          <a:stretch/>
        </p:blipFill>
        <p:spPr>
          <a:xfrm>
            <a:off x="4809960" y="189000"/>
            <a:ext cx="420696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9" descr="гайд парк3"/>
          <p:cNvPicPr/>
          <p:nvPr/>
        </p:nvPicPr>
        <p:blipFill>
          <a:blip r:embed="rId1"/>
          <a:stretch/>
        </p:blipFill>
        <p:spPr>
          <a:xfrm>
            <a:off x="179280" y="260280"/>
            <a:ext cx="4033800" cy="3025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гайд парк"/>
          <p:cNvPicPr/>
          <p:nvPr/>
        </p:nvPicPr>
        <p:blipFill>
          <a:blip r:embed="rId2"/>
          <a:stretch/>
        </p:blipFill>
        <p:spPr>
          <a:xfrm>
            <a:off x="3492360" y="1052640"/>
            <a:ext cx="5400720" cy="4051080"/>
          </a:xfrm>
          <a:prstGeom prst="rect">
            <a:avLst/>
          </a:prstGeom>
          <a:ln w="0">
            <a:noFill/>
          </a:ln>
        </p:spPr>
      </p:pic>
      <p:sp>
        <p:nvSpPr>
          <p:cNvPr id="74" name="WordArt 12"/>
          <p:cNvSpPr txBox="1"/>
          <p:nvPr/>
        </p:nvSpPr>
        <p:spPr>
          <a:xfrm>
            <a:off x="4572000" y="5300640"/>
            <a:ext cx="41036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Hyde Park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00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pic>
        <p:nvPicPr>
          <p:cNvPr id="75" name="Picture 6" descr="гайд парк2"/>
          <p:cNvPicPr/>
          <p:nvPr/>
        </p:nvPicPr>
        <p:blipFill>
          <a:blip r:embed="rId3"/>
          <a:stretch/>
        </p:blipFill>
        <p:spPr>
          <a:xfrm>
            <a:off x="179280" y="3645000"/>
            <a:ext cx="403380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Ворота (главные) Гайд-пар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-61920" y="5589720"/>
            <a:ext cx="9250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200" spc="-1" strike="noStrike">
                <a:solidFill>
                  <a:srgbClr val="ff0066"/>
                </a:solidFill>
                <a:latin typeface="Comic Sans MS"/>
              </a:rPr>
              <a:t>Главные ворота Гайд Парка</a:t>
            </a: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3"/>
          <p:cNvSpPr/>
          <p:nvPr/>
        </p:nvSpPr>
        <p:spPr>
          <a:xfrm>
            <a:off x="2863800" y="59220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122"/>
                </a:solidFill>
                <a:latin typeface="Comic Sans MS"/>
              </a:rPr>
              <a:t>[ɔːl'redɪ]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774720" y="5922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122"/>
                </a:solidFill>
                <a:latin typeface="Comic Sans MS"/>
              </a:rPr>
              <a:t>alread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5076720" y="592200"/>
            <a:ext cx="11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1122"/>
                </a:solidFill>
                <a:latin typeface="Comic Sans MS"/>
              </a:rPr>
              <a:t>уж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985680" y="1285920"/>
            <a:ext cx="17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122"/>
                </a:solidFill>
                <a:latin typeface="Comic Sans MS"/>
              </a:rPr>
              <a:t>ju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Прямоугольник 7"/>
          <p:cNvSpPr/>
          <p:nvPr/>
        </p:nvSpPr>
        <p:spPr>
          <a:xfrm>
            <a:off x="2863800" y="1281240"/>
            <a:ext cx="160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122"/>
                </a:solidFill>
                <a:latin typeface="Comic Sans MS"/>
              </a:rPr>
              <a:t>[ʤʌst]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4788000" y="1373040"/>
            <a:ext cx="252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1122"/>
                </a:solidFill>
                <a:latin typeface="Comic Sans MS"/>
              </a:rPr>
              <a:t>Только чт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Прямоугольник 9"/>
          <p:cNvSpPr/>
          <p:nvPr/>
        </p:nvSpPr>
        <p:spPr>
          <a:xfrm>
            <a:off x="2581200" y="1944720"/>
            <a:ext cx="141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122"/>
                </a:solidFill>
                <a:latin typeface="Comic Sans MS"/>
              </a:rPr>
              <a:t>['evə]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774720" y="1932120"/>
            <a:ext cx="187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122"/>
                </a:solidFill>
                <a:latin typeface="Comic Sans MS"/>
              </a:rPr>
              <a:t>ev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Box 11"/>
          <p:cNvSpPr/>
          <p:nvPr/>
        </p:nvSpPr>
        <p:spPr>
          <a:xfrm>
            <a:off x="4448160" y="1998720"/>
            <a:ext cx="348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1122"/>
                </a:solidFill>
                <a:latin typeface="Comic Sans MS"/>
              </a:rPr>
              <a:t>Когда-либ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TextBox 12"/>
          <p:cNvSpPr/>
          <p:nvPr/>
        </p:nvSpPr>
        <p:spPr>
          <a:xfrm>
            <a:off x="880920" y="2625840"/>
            <a:ext cx="17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122"/>
                </a:solidFill>
                <a:latin typeface="Comic Sans MS"/>
              </a:rPr>
              <a:t>y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Прямоугольник 13"/>
          <p:cNvSpPr/>
          <p:nvPr/>
        </p:nvSpPr>
        <p:spPr>
          <a:xfrm>
            <a:off x="3049560" y="2620800"/>
            <a:ext cx="11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122"/>
                </a:solidFill>
                <a:latin typeface="Comic Sans MS"/>
              </a:rPr>
              <a:t>[jet]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48160" y="2763720"/>
            <a:ext cx="321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1122"/>
                </a:solidFill>
                <a:latin typeface="Comic Sans MS"/>
              </a:rPr>
              <a:t>Еще не, уж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Box 15"/>
          <p:cNvSpPr/>
          <p:nvPr/>
        </p:nvSpPr>
        <p:spPr>
          <a:xfrm>
            <a:off x="696960" y="3500280"/>
            <a:ext cx="187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122"/>
                </a:solidFill>
                <a:latin typeface="Comic Sans MS"/>
              </a:rPr>
              <a:t>buil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Box 16"/>
          <p:cNvSpPr/>
          <p:nvPr/>
        </p:nvSpPr>
        <p:spPr>
          <a:xfrm>
            <a:off x="720720" y="4437000"/>
            <a:ext cx="294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122"/>
                </a:solidFill>
                <a:latin typeface="Comic Sans MS"/>
              </a:rPr>
              <a:t>build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Box 17"/>
          <p:cNvSpPr/>
          <p:nvPr/>
        </p:nvSpPr>
        <p:spPr>
          <a:xfrm>
            <a:off x="685800" y="5187960"/>
            <a:ext cx="21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122"/>
                </a:solidFill>
                <a:latin typeface="Comic Sans MS"/>
              </a:rPr>
              <a:t>bridg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Прямоугольник 18"/>
          <p:cNvSpPr/>
          <p:nvPr/>
        </p:nvSpPr>
        <p:spPr>
          <a:xfrm>
            <a:off x="3110040" y="5187960"/>
            <a:ext cx="156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122"/>
                </a:solidFill>
                <a:latin typeface="Comic Sans MS"/>
              </a:rPr>
              <a:t>[brɪʤ]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Прямоугольник 19"/>
          <p:cNvSpPr/>
          <p:nvPr/>
        </p:nvSpPr>
        <p:spPr>
          <a:xfrm>
            <a:off x="2816280" y="3460680"/>
            <a:ext cx="133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122"/>
                </a:solidFill>
                <a:latin typeface="Comic Sans MS"/>
              </a:rPr>
              <a:t>[bɪld]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Прямоугольник 20"/>
          <p:cNvSpPr/>
          <p:nvPr/>
        </p:nvSpPr>
        <p:spPr>
          <a:xfrm>
            <a:off x="2832120" y="4437000"/>
            <a:ext cx="191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122"/>
                </a:solidFill>
                <a:latin typeface="Comic Sans MS"/>
              </a:rPr>
              <a:t>['bɪldɪŋ]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Box 21"/>
          <p:cNvSpPr/>
          <p:nvPr/>
        </p:nvSpPr>
        <p:spPr>
          <a:xfrm>
            <a:off x="4470480" y="3500280"/>
            <a:ext cx="31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1122"/>
                </a:solidFill>
                <a:latin typeface="Comic Sans MS"/>
              </a:rPr>
              <a:t>строи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Box 22"/>
          <p:cNvSpPr/>
          <p:nvPr/>
        </p:nvSpPr>
        <p:spPr>
          <a:xfrm>
            <a:off x="4889520" y="4402080"/>
            <a:ext cx="26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1122"/>
                </a:solidFill>
                <a:latin typeface="Comic Sans MS"/>
              </a:rPr>
              <a:t>здани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Box 23"/>
          <p:cNvSpPr/>
          <p:nvPr/>
        </p:nvSpPr>
        <p:spPr>
          <a:xfrm>
            <a:off x="4917960" y="5187960"/>
            <a:ext cx="31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1122"/>
                </a:solidFill>
                <a:latin typeface="Comic Sans MS"/>
              </a:rPr>
              <a:t>мос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276720" y="5911560"/>
            <a:ext cx="2590560" cy="6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122"/>
                </a:solidFill>
                <a:latin typeface="Comic Sans MS"/>
              </a:rPr>
              <a:t>build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4441680" y="4935600"/>
            <a:ext cx="21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122"/>
                </a:solidFill>
                <a:latin typeface="Comic Sans MS"/>
              </a:rPr>
              <a:t>bridg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539640" y="56214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122"/>
                </a:solidFill>
                <a:latin typeface="Comic Sans MS"/>
              </a:rPr>
              <a:t>alread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6618240" y="5589720"/>
            <a:ext cx="187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122"/>
                </a:solidFill>
                <a:latin typeface="Comic Sans MS"/>
              </a:rPr>
              <a:t>buil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7" descr="bridge"/>
          <p:cNvPicPr/>
          <p:nvPr/>
        </p:nvPicPr>
        <p:blipFill>
          <a:blip r:embed="rId1"/>
          <a:stretch/>
        </p:blipFill>
        <p:spPr>
          <a:xfrm>
            <a:off x="738360" y="907920"/>
            <a:ext cx="3779640" cy="2264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Букингемский Дворец"/>
          <p:cNvPicPr/>
          <p:nvPr/>
        </p:nvPicPr>
        <p:blipFill>
          <a:blip r:embed="rId2"/>
          <a:stretch/>
        </p:blipFill>
        <p:spPr>
          <a:xfrm>
            <a:off x="5148360" y="1341360"/>
            <a:ext cx="313200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46821E-007 L -0.28577 -0.19283 E">
                                      <p:cBhvr>
                                        <p:cTn id="31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45087E-006 L 0.16475 -0.29271 E">
                                      <p:cBhvr>
                                        <p:cTn id="35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380520"/>
            <a:ext cx="8507520" cy="22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Have you …………..cooked chicken soup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Nick has. …………..finished playing hocke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He has not finished it 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4211640" y="4948200"/>
            <a:ext cx="1224000" cy="581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122"/>
                </a:solidFill>
                <a:latin typeface="Tahoma"/>
              </a:rPr>
              <a:t>e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6181560" y="4624560"/>
            <a:ext cx="100836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122"/>
                </a:solidFill>
                <a:latin typeface="Tahoma"/>
              </a:rPr>
              <a:t>y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1257480" y="5272200"/>
            <a:ext cx="1703160" cy="52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122"/>
                </a:solidFill>
                <a:latin typeface="Tahoma"/>
              </a:rPr>
              <a:t>alread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3.00578E-006 L -0.13767 -0.63099 E">
                                      <p:cBhvr>
                                        <p:cTn id="41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46821E-007 L 0.1434 -0.51607 E">
                                      <p:cBhvr>
                                        <p:cTn id="45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64162E-006 L -0.09723 -0.27375 E">
                                      <p:cBhvr>
                                        <p:cTn id="49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f you are tired of London you are tired of life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2358720" y="692280"/>
            <a:ext cx="29012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1122"/>
                </a:solidFill>
                <a:uFillTx/>
                <a:latin typeface="Arial"/>
              </a:rPr>
              <a:t>Have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+ V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2387880" y="1700280"/>
            <a:ext cx="27885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1122"/>
                </a:solidFill>
                <a:uFillTx/>
                <a:latin typeface="Arial"/>
              </a:rPr>
              <a:t>Ha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+ V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Line 6"/>
          <p:cNvSpPr/>
          <p:nvPr/>
        </p:nvSpPr>
        <p:spPr>
          <a:xfrm>
            <a:off x="611280" y="1700280"/>
            <a:ext cx="6697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3348000" y="2919240"/>
            <a:ext cx="46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3200400" y="3940200"/>
            <a:ext cx="495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3218040" y="3425760"/>
            <a:ext cx="188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ext Box 23"/>
          <p:cNvSpPr/>
          <p:nvPr/>
        </p:nvSpPr>
        <p:spPr>
          <a:xfrm>
            <a:off x="3203640" y="67057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25"/>
          <p:cNvSpPr/>
          <p:nvPr/>
        </p:nvSpPr>
        <p:spPr>
          <a:xfrm>
            <a:off x="5100480" y="2579760"/>
            <a:ext cx="350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1122"/>
                </a:solidFill>
                <a:uFillTx/>
                <a:latin typeface="Tahoma"/>
              </a:rPr>
              <a:t>have</a:t>
            </a:r>
            <a:r>
              <a:rPr b="0" lang="en-US" sz="48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+ V3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ectangle 26"/>
          <p:cNvSpPr/>
          <p:nvPr/>
        </p:nvSpPr>
        <p:spPr>
          <a:xfrm>
            <a:off x="395280" y="2625840"/>
            <a:ext cx="82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/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27"/>
          <p:cNvSpPr/>
          <p:nvPr/>
        </p:nvSpPr>
        <p:spPr>
          <a:xfrm>
            <a:off x="860760" y="2684520"/>
            <a:ext cx="114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e/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28"/>
          <p:cNvSpPr/>
          <p:nvPr/>
        </p:nvSpPr>
        <p:spPr>
          <a:xfrm>
            <a:off x="1929960" y="2709720"/>
            <a:ext cx="153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y/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29"/>
          <p:cNvSpPr/>
          <p:nvPr/>
        </p:nvSpPr>
        <p:spPr>
          <a:xfrm>
            <a:off x="3225960" y="2625840"/>
            <a:ext cx="19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you </a:t>
            </a: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31"/>
          <p:cNvSpPr/>
          <p:nvPr/>
        </p:nvSpPr>
        <p:spPr>
          <a:xfrm>
            <a:off x="4883400" y="3378240"/>
            <a:ext cx="293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1122"/>
                </a:solidFill>
                <a:uFillTx/>
                <a:latin typeface="Tahoma"/>
              </a:rPr>
              <a:t>has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 + V3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32"/>
          <p:cNvSpPr/>
          <p:nvPr/>
        </p:nvSpPr>
        <p:spPr>
          <a:xfrm>
            <a:off x="546480" y="3419640"/>
            <a:ext cx="149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She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/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Rectangle 33"/>
          <p:cNvSpPr/>
          <p:nvPr/>
        </p:nvSpPr>
        <p:spPr>
          <a:xfrm>
            <a:off x="2116080" y="3452760"/>
            <a:ext cx="112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he/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1292400" y="476424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lready   yet    never   ever  just  this week    this month                   this year    si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4360" y="476280"/>
            <a:ext cx="79912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8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8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hav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lready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do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84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8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8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hasn’t rea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yet. I have never heard 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8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8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Hav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you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see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film ye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9" descr=""/>
          <p:cNvPicPr/>
          <p:nvPr/>
        </p:nvPicPr>
        <p:blipFill>
          <a:blip r:embed="rId1"/>
          <a:srcRect l="0" t="0" r="531" b="0"/>
          <a:stretch/>
        </p:blipFill>
        <p:spPr>
          <a:xfrm>
            <a:off x="755640" y="476280"/>
            <a:ext cx="3441600" cy="2444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C:\Documents and Settings\Администратор\Рабочий стол\Pr Contin or Pr. Perfect\Рисунок2.png"/>
          <p:cNvPicPr/>
          <p:nvPr/>
        </p:nvPicPr>
        <p:blipFill>
          <a:blip r:embed="rId2"/>
          <a:stretch/>
        </p:blipFill>
        <p:spPr>
          <a:xfrm>
            <a:off x="4716360" y="692280"/>
            <a:ext cx="3989520" cy="28242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539640" y="3516480"/>
            <a:ext cx="352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Wash -washe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5580000" y="3700440"/>
            <a:ext cx="312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ok- cook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380520"/>
            <a:ext cx="8229600" cy="5715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122"/>
                </a:solidFill>
                <a:latin typeface="Tahoma"/>
              </a:rPr>
              <a:t>Be                  was/were       be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122"/>
                </a:solidFill>
                <a:latin typeface="Tahoma"/>
              </a:rPr>
              <a:t>Begin              began            begu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122"/>
                </a:solidFill>
                <a:latin typeface="Tahoma"/>
              </a:rPr>
              <a:t>Become            became         bec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122"/>
                </a:solidFill>
                <a:latin typeface="Tahoma"/>
              </a:rPr>
              <a:t>Bring               brought       brou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122"/>
                </a:solidFill>
                <a:latin typeface="Tahoma"/>
              </a:rPr>
              <a:t>Build                 built            buil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пользуемые материал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ображени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Big B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ttps://yandex.ru/images/search?img_url=http%3A%2F%2Freview-planet.ru%2Fwp-content%2Fuploads%2F2011%2F01%2FBigben.jpg&amp;uinfo=sw-1366-sh-768-ww-1349-wh-642-pd-1-wp-16x9_1366x768&amp;_=1429369231124&amp;suggest_reqid=941453925142678697292309042405183&amp;viewport=wide&amp;text=big%20ben&amp;pos=3&amp;rpt=sima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The Houses of Parlia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ttps://yandex.ru/images/search?img_url=http%3A%2F%2Fwww.foe.co.uk%2Fsites%2Fdefault%2Ffiles%2Fthumbnails%2Fimage%2Fparl.jpg&amp;uinfo=sw-1366-sh-768-ww-1349-wh-642-pd-1-wp-16x9_1366x768&amp;_=1429369344077&amp;suggest_reqid=941453925142678697293440403354929&amp;viewport=wide&amp;text=the%20houses%20of%20parliament&amp;pos=2&amp;rpt=sima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The Tower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ttps://yandex.ru/images/search?text=the%20tower%20of%20london&amp;suggest_reqid=941453925142678697294472609675631&amp;uinfo=sw-1366-sh-768-ww-1349-wh-642-pd-1-wp-16x9_1366x76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Tower Brid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ttps://yandex.ru/images/search?img_url=http%3A%2F%2Fwallpapers-fenix.eu%2Ffull%2F141215%2F035822753.jpg&amp;uinfo=sw-1366-sh-768-ww-1349-wh-642-pd-1-wp-16x9_1366x768&amp;_=1429369554636&amp;suggest_reqid=941453925142678697295545116931826&amp;viewport=wide&amp;text=tower%20bridge&amp;pos=1&amp;rpt=sima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rafalgar Squ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British Museu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ttps://yandex.ru/images/search?img_url=http%3A%2F%2Flondon-help.ru%2Fwp-content%2Fuploads%2F2014%2F12%2FBritish_Museum_Dome.jpg&amp;uinfo=sw-1366-sh-768-ww-1349-wh-642-pd-1-wp-16x9_1366x768&amp;_=1429369596992&amp;suggest_reqid=941453925142678697295968880429441&amp;viewport=wide&amp;text=britis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t.Paul’s Cathed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https://yandex.ru/images/search?img_url=http%3A%2F%2Fwww.wallpaperscp.com%2Fwallpapers%2F2013%2F06%2FSt-Paul-S-Cathedral-London-England-United-Kingdom-1800x2880.jpg&amp;uinfo=sw-1366-sh-768-ww-1349-wh-642-pd-1-wp-16x9_1366x768&amp;_=1429369670539&amp;suggest_reqid=941453925142678697296704834985922&amp;viewport=wide&amp;text=st.paul%20s%20cathedral&amp;pos=5&amp;rpt=sima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Westminister Abbe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https://yandex.ru/images/search?text=westminister%20abbey&amp;suggest_reqid=941453925142678697297120085306070&amp;uinfo=sw-1366-sh-768-ww-1349-wh-642-pd-1-wp-16x9_1366x76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Hyde Par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https://yandex.ru/images/search?img_url=http%3A%2F%2Fwww.amal-alalam.net%2Fforum%2Fimgcache%2F2%2F56546alsh3er.jpg&amp;uinfo=sw-1366-sh-768-ww-1349-wh-642-pd-1-wp-16x9_1366x768&amp;_=1429369745517&amp;suggest_reqid=941453925142678697297407971800336&amp;p=1&amp;viewport=wide&amp;text=hyde%20park&amp;pos=54&amp;rpt=sima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"/>
          <p:cNvPicPr/>
          <p:nvPr/>
        </p:nvPicPr>
        <p:blipFill>
          <a:blip r:embed="rId1"/>
          <a:stretch/>
        </p:blipFill>
        <p:spPr>
          <a:xfrm>
            <a:off x="900000" y="189000"/>
            <a:ext cx="7596360" cy="5122800"/>
          </a:xfrm>
          <a:prstGeom prst="rect">
            <a:avLst/>
          </a:prstGeom>
          <a:ln w="0">
            <a:noFill/>
          </a:ln>
        </p:spPr>
      </p:pic>
      <p:sp>
        <p:nvSpPr>
          <p:cNvPr id="46" name="WordArt 3"/>
          <p:cNvSpPr txBox="1"/>
          <p:nvPr/>
        </p:nvSpPr>
        <p:spPr>
          <a:xfrm rot="21448800">
            <a:off x="2771640" y="5516280"/>
            <a:ext cx="4105440" cy="50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igB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7"/>
          <p:cNvSpPr/>
          <p:nvPr/>
        </p:nvSpPr>
        <p:spPr>
          <a:xfrm>
            <a:off x="2895480" y="5460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250920" y="4508640"/>
            <a:ext cx="3995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DS Note"/>
              </a:rPr>
              <a:t>The House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DS Note"/>
              </a:rPr>
              <a:t>of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DS Note"/>
              </a:rPr>
              <a:t>Parliament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" name="Picture 10" descr="parliam"/>
          <p:cNvPicPr/>
          <p:nvPr/>
        </p:nvPicPr>
        <p:blipFill>
          <a:blip r:embed="rId1"/>
          <a:stretch/>
        </p:blipFill>
        <p:spPr>
          <a:xfrm>
            <a:off x="2268360" y="404640"/>
            <a:ext cx="626436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tower4"/>
          <p:cNvPicPr/>
          <p:nvPr/>
        </p:nvPicPr>
        <p:blipFill>
          <a:blip r:embed="rId1"/>
          <a:stretch/>
        </p:blipFill>
        <p:spPr>
          <a:xfrm>
            <a:off x="39600" y="189000"/>
            <a:ext cx="4032360" cy="3024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4914360" y="5759280"/>
            <a:ext cx="4306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66"/>
                </a:solidFill>
                <a:latin typeface="Tahoma"/>
              </a:rPr>
              <a:t>The Tower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4" descr="tower3"/>
          <p:cNvPicPr/>
          <p:nvPr/>
        </p:nvPicPr>
        <p:blipFill>
          <a:blip r:embed="rId2"/>
          <a:stretch/>
        </p:blipFill>
        <p:spPr>
          <a:xfrm>
            <a:off x="4092480" y="1773360"/>
            <a:ext cx="505152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bridge"/>
          <p:cNvPicPr/>
          <p:nvPr/>
        </p:nvPicPr>
        <p:blipFill>
          <a:blip r:embed="rId1"/>
          <a:stretch/>
        </p:blipFill>
        <p:spPr>
          <a:xfrm>
            <a:off x="900000" y="404640"/>
            <a:ext cx="7561440" cy="4527720"/>
          </a:xfrm>
          <a:prstGeom prst="rect">
            <a:avLst/>
          </a:prstGeom>
          <a:ln w="0">
            <a:noFill/>
          </a:ln>
        </p:spPr>
      </p:pic>
      <p:sp>
        <p:nvSpPr>
          <p:cNvPr id="54" name="WordArt 10"/>
          <p:cNvSpPr txBox="1"/>
          <p:nvPr/>
        </p:nvSpPr>
        <p:spPr>
          <a:xfrm>
            <a:off x="2340000" y="5157720"/>
            <a:ext cx="4753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ower Bridg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C:\Documents and Settings\Администратор\Рабочий стол\trafalgar_square.jpg"/>
          <p:cNvPicPr/>
          <p:nvPr/>
        </p:nvPicPr>
        <p:blipFill>
          <a:blip r:embed="rId1"/>
          <a:stretch/>
        </p:blipFill>
        <p:spPr>
          <a:xfrm>
            <a:off x="3527280" y="2205000"/>
            <a:ext cx="5442120" cy="3986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Trafalgar Square2"/>
          <p:cNvPicPr/>
          <p:nvPr/>
        </p:nvPicPr>
        <p:blipFill>
          <a:blip r:embed="rId2"/>
          <a:stretch/>
        </p:blipFill>
        <p:spPr>
          <a:xfrm>
            <a:off x="455760" y="189000"/>
            <a:ext cx="4249440" cy="3190680"/>
          </a:xfrm>
          <a:prstGeom prst="rect">
            <a:avLst/>
          </a:prstGeom>
          <a:ln w="0">
            <a:noFill/>
          </a:ln>
        </p:spPr>
      </p:pic>
      <p:sp>
        <p:nvSpPr>
          <p:cNvPr id="57" name="WordArt 7"/>
          <p:cNvSpPr txBox="1"/>
          <p:nvPr/>
        </p:nvSpPr>
        <p:spPr>
          <a:xfrm>
            <a:off x="455760" y="6021360"/>
            <a:ext cx="5792760" cy="7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Trafalgar Squ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Buckingham Palace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WordArt 11"/>
          <p:cNvSpPr txBox="1"/>
          <p:nvPr/>
        </p:nvSpPr>
        <p:spPr>
          <a:xfrm>
            <a:off x="3635280" y="6093000"/>
            <a:ext cx="5200920" cy="765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Buckingham Palace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Букингемский Дворец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WordArt 6"/>
          <p:cNvSpPr txBox="1"/>
          <p:nvPr/>
        </p:nvSpPr>
        <p:spPr>
          <a:xfrm>
            <a:off x="4140360" y="6283440"/>
            <a:ext cx="4695840" cy="57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uckingham Pala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15:59:40Z</dcterms:created>
  <dc:creator>Einshtein</dc:creator>
  <dc:description/>
  <dc:language>en-US</dc:language>
  <cp:lastModifiedBy>Admin</cp:lastModifiedBy>
  <dcterms:modified xsi:type="dcterms:W3CDTF">2015-04-18T15:20:27Z</dcterms:modified>
  <cp:revision>29</cp:revision>
  <dc:subject/>
  <dc:title>Слайд 1</dc:title>
</cp:coreProperties>
</file>