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942513" cy="6940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94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8480" cy="34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2560" y="0"/>
            <a:ext cx="4309920" cy="34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38560" y="52056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3600" y="3297240"/>
            <a:ext cx="7956720" cy="3124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94120"/>
            <a:ext cx="4308480" cy="345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2560" y="6594120"/>
            <a:ext cx="4309920" cy="345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6052B9E-C4B1-4B92-9E0C-13994ECEB4A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3238560" y="52056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93600" y="3297240"/>
            <a:ext cx="79567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5632560" y="6594480"/>
            <a:ext cx="4309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423EAD1-8E7A-4C77-82E8-2429A2E9016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C50-E281-47B0-81C6-F7EF6DF1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B43-13BC-486B-A825-38F1FA92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94B-40D5-4870-A26D-8652FDFA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AE8-1943-4B28-8234-9EAA74A6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362-B111-4DF0-AA46-339754BF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C62-54F2-4334-B9F5-799ECDE1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9EF-1B8E-4BF8-9DC2-E845FBAC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FAF-4786-4674-8787-CFFED0E5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78D-FC2F-4E7C-97FA-6796450F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66C-AA67-44E9-BA79-F0F40741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D58-931E-45CE-8A90-2EC1108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71E-1DAB-4007-B2F8-6A784ADE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C562-23B6-4D7A-95A3-7664F6A3F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18472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нал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бразователь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ипу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Татьяна 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оспитатель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елово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8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БОУ «Бачатская О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ческое приме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гиенические треб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комфорт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соответствующего температурного режима, проветривание, чистота воздуха, надлежащие нормы освещения, осанка дошкольников (правильная посад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умственного и физического переутомления – своевременная смена видов деятельности (чередование слушания и выполнение практических зада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рганизационные треб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времени образовательной деятельности – путь к успе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итывая других, мы воспитываем прежде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амих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ексей Николаевич Острого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чти все признают, что воспитание требует терпения; но весьма немногие пришли к убеждению, что кроме терпения необходимы ещё и специальные знания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стантин Дмитриевич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новых встре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870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507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lexandra Scrip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7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96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lexandra Script"/>
              </a:rPr>
              <a:t>                                       </a:t>
            </a:r>
            <a:r>
              <a:rPr b="0" lang="ru-RU" sz="6000" spc="-1" strike="noStrike">
                <a:solidFill>
                  <a:srgbClr val="ff0000"/>
                </a:solidFill>
                <a:latin typeface="Annabelle"/>
                <a:ea typeface="Angsana New"/>
              </a:rPr>
              <a:t>Спасибо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0796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nnabelle"/>
                <a:ea typeface="Angsana New"/>
              </a:rPr>
              <a:t>         </a:t>
            </a:r>
            <a:r>
              <a:rPr b="0" lang="ru-RU" sz="6000" spc="-1" strike="noStrike">
                <a:solidFill>
                  <a:srgbClr val="ff0000"/>
                </a:solidFill>
                <a:latin typeface="Annabelle"/>
                <a:ea typeface="Angsana New"/>
              </a:rPr>
              <a:t>за  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дея 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Анализ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– метод исследования путём рассмотрения отдельных структур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Толковый словарь русс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ергей Иванович Оже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ысл 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Для того, чтобы быстрее и в совершенстве овладеть педагогическим мастерством, следует взять за правило тщательно продумывать предстоящий день встречи с детьми и каждое проведённое заня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держание  в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Общие критерии 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Требования к 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Основные элементы 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Подготовка к занят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ерии анализа 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бъективное рассмотрение удачи и промаха конкретного занятия в системе ОП ( место занятия в календарном пл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одержание дидактических, развивающих, воспитательных задач на конкретно взятый промежуток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Уровень достижения цели, задач и качества усвоенных детьми знаний, умений,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Эффективность образовательных и  воспитательных ситуаций в ходе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09480" y="3085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бования к образов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развития детей дошкольного возраста с учётом их психолого-возрастных и индивидуальных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ОД должно охватывать пять образовательных обл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ОД должно отражать следующие аспекты социальной ситуации развития ребёнка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Предметно-пространственная развивающая образовательная ср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Характер взаимодействия с  взрос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Характер взаимодействия с другими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Система отношений ребёнка к миру, к другим людям, к себе сам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элементы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Тема, цель,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Интеграция образовательных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иды детской деятельности, ожидаемый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Тип занятия по характеру усвоения, форма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редств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Методы и разнообразные приё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труктура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Гигиенически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готовка к занят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водная часть –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ызов интереса к предстоящей деятельности, активизация внимания, раскрытие учеб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сновная часть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– обеспечение активного участия детей всей группы, организация детской самостоятельности как условия прочного усвоения З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Итог занятия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– связь полученных знаний с последующей перспективой, напутствие на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ческое приме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– предполагаем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: объём и структура матери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ация опорных знаний, ум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ы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ложение нового матери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: доступ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 и дифференцированный подх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лядность и технические средства обуч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и с другими сферами (интеграция образовательных обла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: работа в зоне ближайшего развит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т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общеучебных ум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4-09T05:12:54Z</dcterms:modified>
  <cp:revision>3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