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942513" cy="6940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94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8480" cy="34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2560" y="0"/>
            <a:ext cx="4309920" cy="34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38560" y="52056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3600" y="3297240"/>
            <a:ext cx="7956720" cy="3124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94120"/>
            <a:ext cx="4308480" cy="345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2560" y="6594120"/>
            <a:ext cx="4309920" cy="345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9648D5E-600D-4610-95D8-9205FA45089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3238560" y="52056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93600" y="3297240"/>
            <a:ext cx="79567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5632560" y="6594480"/>
            <a:ext cx="4309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3BCB98B-FF1E-408E-AEEB-BA1CEB0E277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71E-6902-423C-B0D8-73F1F649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C2E-BDEB-4B4F-B3FA-D8F00BAD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9FD-AC0F-40CC-9965-E9729109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30E-A82E-40C1-8C33-86EEE4AB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221-0F51-4EFF-9DC4-D98A5E64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311-6DA5-428E-ABCC-44DABA7A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A20-929C-48B1-B921-C04A9CA9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1CD-4F86-41AA-9B3C-C802DB79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E79-E683-4F8F-82D9-7823D34F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B92-14CC-490B-9C1A-776CBED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0A1-A48B-4A72-BA06-F6ACBC64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0E6-2832-4091-8411-BAC580D8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4423-7ED6-47B8-A160-C3C78F950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18472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нал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бразователь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ипу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Татьяна 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оспитатель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елово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8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БОУ «Бачатская О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ческое приме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гиенические треб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комфорт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соответствующего температурного режима, проветривание, чистота воздуха, надлежащие нормы освещения, осанка дошкольников (правильная посад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умственного и физического переутомления – своевременная смена видов деятельности (чередование слушания и выполнение практических зада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рганизационные треб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времени образовательной деятельности – путь к успе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итывая других, мы воспитываем прежде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амих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ексей Николаевич Острого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чти все признают, что воспитание требует терпения; но весьма немногие пришли к убеждению, что кроме терпения необходимы ещё и специальные знания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стантин Дмитриевич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новых встре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870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507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lexandra Scrip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7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796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lexandra Script"/>
              </a:rPr>
              <a:t>                                       </a:t>
            </a:r>
            <a:r>
              <a:rPr b="0" lang="ru-RU" sz="6000" spc="-1" strike="noStrike">
                <a:solidFill>
                  <a:srgbClr val="ff0000"/>
                </a:solidFill>
                <a:latin typeface="Annabelle"/>
                <a:ea typeface="Angsana New"/>
              </a:rPr>
              <a:t>Спасибо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0796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nnabelle"/>
                <a:ea typeface="Angsana New"/>
              </a:rPr>
              <a:t>         </a:t>
            </a:r>
            <a:r>
              <a:rPr b="0" lang="ru-RU" sz="6000" spc="-1" strike="noStrike">
                <a:solidFill>
                  <a:srgbClr val="ff0000"/>
                </a:solidFill>
                <a:latin typeface="Annabelle"/>
                <a:ea typeface="Angsana New"/>
              </a:rPr>
              <a:t>за  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дея 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Анализ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– метод исследования путём рассмотрения отдельных структур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Толковый словарь русс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ергей Иванович Оже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ысл 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Для того, чтобы быстрее и в совершенстве овладеть педагогическим мастерством, следует взять за правило тщательно продумывать предстоящий день встречи с детьми и каждое проведённое заня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держание  в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Общие критерии 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Требования к 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Основные элементы 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Подготовка к занят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ерии анализа 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бъективное рассмотрение удачи и промаха конкретного занятия в системе ОП ( место занятия в календарном пл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одержание дидактических, развивающих, воспитательных задач на конкретно взятый промежуток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Уровень достижения цели, задач и качества усвоенных детьми знаний, умений,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Эффективность образовательных и  воспитательных ситуаций в ходе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09480" y="3085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бования к образов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развития детей дошкольного возраста с учётом их психолого-возрастных и индивидуальных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ОД должно охватывать пять образовательных обл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ОД должно отражать следующие аспекты социальной ситуации развития ребёнка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Предметно-пространственная развивающая образовательная ср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Характер взаимодействия с  взрос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Характер взаимодействия с другими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Система отношений ребёнка к миру, к другим людям, к себе сам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элементы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Тема, цель,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Интеграция образовательных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иды детской деятельности, ожидаемый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Тип занятия по характеру усвоения, форма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редств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Методы и разнообразные приё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труктура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Гигиенически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готовка к занят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водная часть –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ызов интереса к предстоящей деятельности, активизация внимания, раскрытие учеб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сновная часть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– обеспечение активного участия детей всей группы, организация детской самостоятельности как условия прочного усвоения З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Итог занятия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– связь полученных знаний с последующей перспективой, напутствие на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ческое приме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– предполагаем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: объём и структура матери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ация опорных знаний, ум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ы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ложение нового матери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: доступ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 и дифференцированный подх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лядность и технические средства обуч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и с другими сферами (интеграция образовательных обла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: работа в зоне ближайшего развит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т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общеучебных ум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5-04-09T05:12:54Z</dcterms:modified>
  <cp:revision>3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