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ADE2-BFEA-42A4-8695-41E5EED0F3E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ГОКУ СКШ № 11 г. Иркут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27F0-A765-4013-B9F8-69EF7AB7DA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2E07-F42D-44D3-B7AE-45DDF646C93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ель истории ГОКУ СКШ № 11 г. Иркутс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178-2C3E-43A6-90FA-D10BCB84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B22-2B50-482D-943B-D9DCF2E4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272-209E-4C00-9566-CE8A846D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CC0-2490-45C2-8050-B2E28D8E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7B11-50AD-4F5C-B8FD-981EE19A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22A8-CE2B-4CB1-95F0-B3D1870F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2595-8F07-4241-AF50-87FA894A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7DDF-0E97-403E-AC65-ECE66403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174B-F2CD-486D-A3B4-633E74D0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F68B-3CC2-4375-AB8A-D01C4622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0DC5-A388-41F0-99B8-6C74F7D1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385-82F8-4790-960D-10DE614E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5F7F-C9AA-49E7-910E-BCBBBD30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817D-7545-4902-8B9A-1B457465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F4A0-3104-4F71-8F7C-A20CD965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7150-75A1-494B-B27D-BC4F45E3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A2FD-38D6-4C87-ACA4-02384FC8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06A-5CE9-449F-AC93-B2F9C926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D45-882B-4C70-9ED7-65EF5A56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E11-2482-42EA-BC31-98265EF5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532-C699-418A-B737-50EC91D4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9C47-0743-4849-91F5-D1C68E16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7F1-8DAC-429F-B4A3-8397CE06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A95-A305-40C2-8BBB-B4CD40D9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2615-0EDA-42C7-81BB-E52ED36B0AF2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5675-64DB-4BF7-9F03-E2BC15E09AA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A96A-473F-4403-BE0D-C20B2D9F8C75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8C2C-E4E2-4418-AA3D-69564806A1D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5626080" y="268200"/>
            <a:ext cx="3773520" cy="3310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Возвращение сына / Фотинья Светлана"/>
          <p:cNvPicPr/>
          <p:nvPr/>
        </p:nvPicPr>
        <p:blipFill>
          <a:blip r:embed="rId2"/>
          <a:srcRect l="12094" t="0" r="12304" b="0"/>
          <a:stretch/>
        </p:blipFill>
        <p:spPr>
          <a:xfrm>
            <a:off x="250920" y="907920"/>
            <a:ext cx="5637240" cy="5040360"/>
          </a:xfrm>
          <a:prstGeom prst="rect">
            <a:avLst/>
          </a:prstGeom>
          <a:ln w="0">
            <a:noFill/>
          </a:ln>
        </p:spPr>
      </p:pic>
      <p:sp>
        <p:nvSpPr>
          <p:cNvPr id="91" name="Нижний колонтитул 4"/>
          <p:cNvSpPr/>
          <p:nvPr/>
        </p:nvSpPr>
        <p:spPr>
          <a:xfrm>
            <a:off x="2627280" y="6492960"/>
            <a:ext cx="447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2843280" y="6416640"/>
            <a:ext cx="41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2" descr="Проекты &quot; Страница 9 &quot; Нескучная школа! . Блог лицея &quot;Ковчег-XXI&quot;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5"/>
          <p:cNvSpPr/>
          <p:nvPr/>
        </p:nvSpPr>
        <p:spPr>
          <a:xfrm>
            <a:off x="3124080" y="6416640"/>
            <a:ext cx="389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6" descr="Баллада о солдате. . OnlyFilms.TV - Фильмы Онлайн и Сериалы Онлайн в хорошем качестве БЕСПЛАТНО и БЕЗ РЕГИСТРАЦИИ"/>
          <p:cNvPicPr/>
          <p:nvPr/>
        </p:nvPicPr>
        <p:blipFill>
          <a:blip r:embed="rId1"/>
          <a:stretch/>
        </p:blipFill>
        <p:spPr>
          <a:xfrm>
            <a:off x="179280" y="0"/>
            <a:ext cx="87710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Баллада о солдате (1959) - кадры из фильма - советские фильмы - Кино-Театр.РУ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5"/>
          <p:cNvSpPr/>
          <p:nvPr/>
        </p:nvSpPr>
        <p:spPr>
          <a:xfrm>
            <a:off x="2484360" y="6416640"/>
            <a:ext cx="424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ГОРЕ МАТЕРИ читает-Miliza - стихи и проза на Избе-Читальне"/>
          <p:cNvPicPr/>
          <p:nvPr/>
        </p:nvPicPr>
        <p:blipFill>
          <a:blip r:embed="rId1"/>
          <a:stretch/>
        </p:blipFill>
        <p:spPr>
          <a:xfrm>
            <a:off x="1187280" y="0"/>
            <a:ext cx="69282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Нижний колонтитул 3"/>
          <p:cNvSpPr/>
          <p:nvPr/>
        </p:nvSpPr>
        <p:spPr>
          <a:xfrm>
            <a:off x="2268360" y="6416640"/>
            <a:ext cx="439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6" descr="Стена ВКонтакте"/>
          <p:cNvPicPr/>
          <p:nvPr/>
        </p:nvPicPr>
        <p:blipFill>
          <a:blip r:embed="rId1"/>
          <a:srcRect l="0" t="0" r="8894" b="0"/>
          <a:stretch/>
        </p:blipFill>
        <p:spPr>
          <a:xfrm>
            <a:off x="3616200" y="2286000"/>
            <a:ext cx="5527800" cy="457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Download твою мать 2 pictures for free and share now"/>
          <p:cNvPicPr/>
          <p:nvPr/>
        </p:nvPicPr>
        <p:blipFill>
          <a:blip r:embed="rId2"/>
          <a:srcRect l="0" t="0" r="11318" b="0"/>
          <a:stretch/>
        </p:blipFill>
        <p:spPr>
          <a:xfrm>
            <a:off x="0" y="0"/>
            <a:ext cx="3708360" cy="522936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6"/>
          <p:cNvSpPr/>
          <p:nvPr/>
        </p:nvSpPr>
        <p:spPr>
          <a:xfrm>
            <a:off x="3124080" y="6416640"/>
            <a:ext cx="468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20509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5"/>
          <p:cNvSpPr/>
          <p:nvPr/>
        </p:nvSpPr>
        <p:spPr>
          <a:xfrm>
            <a:off x="3124080" y="6416640"/>
            <a:ext cx="4256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Тверская правда Тверь и окрестности - Литературно-музыкальная гостиная ко Дню памяти и скорби"/>
          <p:cNvPicPr/>
          <p:nvPr/>
        </p:nvPicPr>
        <p:blipFill>
          <a:blip r:embed="rId1"/>
          <a:stretch/>
        </p:blipFill>
        <p:spPr>
          <a:xfrm>
            <a:off x="0" y="189000"/>
            <a:ext cx="9190080" cy="652464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5"/>
          <p:cNvSpPr/>
          <p:nvPr/>
        </p:nvSpPr>
        <p:spPr>
          <a:xfrm>
            <a:off x="2340000" y="6416640"/>
            <a:ext cx="489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Photo-Wallpapers.Biz Ивашов Владимир - Photo-Wallpapers.Biz - фото-обои актеров"/>
          <p:cNvPicPr/>
          <p:nvPr/>
        </p:nvPicPr>
        <p:blipFill>
          <a:blip r:embed="rId1"/>
          <a:stretch/>
        </p:blipFill>
        <p:spPr>
          <a:xfrm>
            <a:off x="324000" y="0"/>
            <a:ext cx="85039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2340000" y="6416640"/>
            <a:ext cx="453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Соконфетники 2 - Страница 71 - Трынделка - Тульский форум TulaTalk.ru"/>
          <p:cNvPicPr/>
          <p:nvPr/>
        </p:nvPicPr>
        <p:blipFill>
          <a:blip r:embed="rId1"/>
          <a:stretch/>
        </p:blipFill>
        <p:spPr>
          <a:xfrm>
            <a:off x="0" y="404640"/>
            <a:ext cx="9188280" cy="5948640"/>
          </a:xfrm>
          <a:prstGeom prst="rect">
            <a:avLst/>
          </a:prstGeom>
          <a:ln w="0">
            <a:noFill/>
          </a:ln>
        </p:spPr>
      </p:pic>
      <p:sp>
        <p:nvSpPr>
          <p:cNvPr id="111" name="Нижний колонтитул 4"/>
          <p:cNvSpPr/>
          <p:nvPr/>
        </p:nvSpPr>
        <p:spPr>
          <a:xfrm>
            <a:off x="3124080" y="6416640"/>
            <a:ext cx="382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Владимир Ивашов - Фотографии - Фотография (4 из 31) - биография - Афиша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5"/>
          <p:cNvSpPr/>
          <p:nvPr/>
        </p:nvSpPr>
        <p:spPr>
          <a:xfrm>
            <a:off x="2627280" y="6416640"/>
            <a:ext cx="453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валентина бирюкова баллада о матери минус скачать mp3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5"/>
          <p:cNvSpPr/>
          <p:nvPr/>
        </p:nvSpPr>
        <p:spPr>
          <a:xfrm>
            <a:off x="3124080" y="6416640"/>
            <a:ext cx="4327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Баллада о солдате. . OnlyFilms.TV - Фильмы Онлайн и Сериалы Онлайн в хорошем качестве БЕСПЛАТНО и БЕЗ РЕГИСТРАЦИИ"/>
          <p:cNvPicPr/>
          <p:nvPr/>
        </p:nvPicPr>
        <p:blipFill>
          <a:blip r:embed="rId1"/>
          <a:stretch/>
        </p:blipFill>
        <p:spPr>
          <a:xfrm>
            <a:off x="179280" y="0"/>
            <a:ext cx="87710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5"/>
          <p:cNvSpPr/>
          <p:nvPr/>
        </p:nvSpPr>
        <p:spPr>
          <a:xfrm>
            <a:off x="2627280" y="6416640"/>
            <a:ext cx="439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учитель истории ГОКУ СКШ № 11 г. Иркутска Леднев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3:48:27Z</dcterms:created>
  <dc:creator>Наталья</dc:creator>
  <dc:description/>
  <dc:language>en-US</dc:language>
  <cp:lastModifiedBy>Наталья</cp:lastModifiedBy>
  <dcterms:modified xsi:type="dcterms:W3CDTF">2015-04-18T15:11:51Z</dcterms:modified>
  <cp:revision>9</cp:revision>
  <dc:subject/>
  <dc:title>А. Дементьев «Баллада о матери»</dc:title>
</cp:coreProperties>
</file>