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6F90-D6A8-4684-93CF-683D8644B6D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ГОКУ СКШ № 11 г. Иркут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80FB-CCB7-42DA-92BB-7A185D503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2408-5E5F-41A3-9035-A5677DEB8FC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истории ГОКУ СКШ № 11 г. Иркутс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C46-ABD6-4B3F-B75F-34974302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938-1A69-4322-B4BD-BB8AB5F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C57-8D77-4CC2-A006-A72D214F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B7F-0921-4036-82A9-D50D08C7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8900-09A0-47A4-BD25-0513A1EF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EED7-BBC1-4072-A379-82CD299F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5F21-C61B-406E-954E-C63C3A83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8FE9-8B37-4CEE-B26E-346993AC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98A8-010D-484A-BF1C-09D6B55A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261F-0D05-4D34-AC2A-5C7BF34B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1C8E-EA3F-4F0E-B71E-FAD48797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ED6-449B-40AC-8E47-2A871BE9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1F10-CEF8-4C3D-A871-AA93E948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2399-53E7-4B37-B6D4-02B4DA39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62F8-537E-494B-9920-AB355FB6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6EAA-F016-4F42-8931-290E72E1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9B00-A603-48F3-9F0D-3E850C32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F78-D880-432C-B290-B247F1B0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645-05EB-4812-B4F5-B7EC4E2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D32-6B66-477B-965A-ED1376FE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4E7-4FB6-47AE-9676-718C3649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5A1-3440-4AD6-A713-9192C7AB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E4D-E727-49FC-AA82-BBD2001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C67-4AF4-43C1-B0BE-A0C2339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0E5-D077-4AA4-B277-7EE47AD94AC3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2A53-8ACA-4664-8EA7-48C6D3972E7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E4B7-3C85-4F2C-9D24-105AE45121EC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A74-A7D7-4333-BEFB-12101288F9D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5626080" y="268200"/>
            <a:ext cx="3773520" cy="3310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Возвращение сына / Фотинья Светлана"/>
          <p:cNvPicPr/>
          <p:nvPr/>
        </p:nvPicPr>
        <p:blipFill>
          <a:blip r:embed="rId2"/>
          <a:srcRect l="12094" t="0" r="12304" b="0"/>
          <a:stretch/>
        </p:blipFill>
        <p:spPr>
          <a:xfrm>
            <a:off x="250920" y="907920"/>
            <a:ext cx="5637240" cy="504036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4"/>
          <p:cNvSpPr/>
          <p:nvPr/>
        </p:nvSpPr>
        <p:spPr>
          <a:xfrm>
            <a:off x="2627280" y="6492960"/>
            <a:ext cx="44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2843280" y="6416640"/>
            <a:ext cx="41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Проекты &quot; Страница 9 &quot; Нескучная школа! . Блог лицея &quot;Ковчег-XXI&quot;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5"/>
          <p:cNvSpPr/>
          <p:nvPr/>
        </p:nvSpPr>
        <p:spPr>
          <a:xfrm>
            <a:off x="3124080" y="6416640"/>
            <a:ext cx="389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Баллада о солдате. . OnlyFilms.TV - Фильмы Онлайн и Сериалы Онлайн в хорошем качестве БЕСПЛАТНО и БЕЗ РЕГИСТРАЦИИ"/>
          <p:cNvPicPr/>
          <p:nvPr/>
        </p:nvPicPr>
        <p:blipFill>
          <a:blip r:embed="rId1"/>
          <a:stretch/>
        </p:blipFill>
        <p:spPr>
          <a:xfrm>
            <a:off x="179280" y="0"/>
            <a:ext cx="87710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Баллада о солдате (1959) - кадры из фильма - советские фильмы - Кино-Театр.РУ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5"/>
          <p:cNvSpPr/>
          <p:nvPr/>
        </p:nvSpPr>
        <p:spPr>
          <a:xfrm>
            <a:off x="2484360" y="6416640"/>
            <a:ext cx="424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ГОРЕ МАТЕРИ читает-Miliza - стихи и проза на Избе-Читальне"/>
          <p:cNvPicPr/>
          <p:nvPr/>
        </p:nvPicPr>
        <p:blipFill>
          <a:blip r:embed="rId1"/>
          <a:stretch/>
        </p:blipFill>
        <p:spPr>
          <a:xfrm>
            <a:off x="1187280" y="0"/>
            <a:ext cx="69282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3"/>
          <p:cNvSpPr/>
          <p:nvPr/>
        </p:nvSpPr>
        <p:spPr>
          <a:xfrm>
            <a:off x="2268360" y="6416640"/>
            <a:ext cx="439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6" descr="Стена ВКонтакте"/>
          <p:cNvPicPr/>
          <p:nvPr/>
        </p:nvPicPr>
        <p:blipFill>
          <a:blip r:embed="rId1"/>
          <a:srcRect l="0" t="0" r="8894" b="0"/>
          <a:stretch/>
        </p:blipFill>
        <p:spPr>
          <a:xfrm>
            <a:off x="3616200" y="2286000"/>
            <a:ext cx="5527800" cy="457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ownload твою мать 2 pictures for free and share now"/>
          <p:cNvPicPr/>
          <p:nvPr/>
        </p:nvPicPr>
        <p:blipFill>
          <a:blip r:embed="rId2"/>
          <a:srcRect l="0" t="0" r="11318" b="0"/>
          <a:stretch/>
        </p:blipFill>
        <p:spPr>
          <a:xfrm>
            <a:off x="0" y="0"/>
            <a:ext cx="3708360" cy="522936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416640"/>
            <a:ext cx="468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0509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416640"/>
            <a:ext cx="425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Тверская правда Тверь и окрестности - Литературно-музыкальная гостиная ко Дню памяти и скорби"/>
          <p:cNvPicPr/>
          <p:nvPr/>
        </p:nvPicPr>
        <p:blipFill>
          <a:blip r:embed="rId1"/>
          <a:stretch/>
        </p:blipFill>
        <p:spPr>
          <a:xfrm>
            <a:off x="0" y="189000"/>
            <a:ext cx="9190080" cy="65246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5"/>
          <p:cNvSpPr/>
          <p:nvPr/>
        </p:nvSpPr>
        <p:spPr>
          <a:xfrm>
            <a:off x="2340000" y="6416640"/>
            <a:ext cx="489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Photo-Wallpapers.Biz Ивашов Владимир - Photo-Wallpapers.Biz - фото-обои актеров"/>
          <p:cNvPicPr/>
          <p:nvPr/>
        </p:nvPicPr>
        <p:blipFill>
          <a:blip r:embed="rId1"/>
          <a:stretch/>
        </p:blipFill>
        <p:spPr>
          <a:xfrm>
            <a:off x="324000" y="0"/>
            <a:ext cx="8503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2340000" y="6416640"/>
            <a:ext cx="453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Соконфетники 2 - Страница 71 - Трынделка - Тульский форум TulaTalk.ru"/>
          <p:cNvPicPr/>
          <p:nvPr/>
        </p:nvPicPr>
        <p:blipFill>
          <a:blip r:embed="rId1"/>
          <a:stretch/>
        </p:blipFill>
        <p:spPr>
          <a:xfrm>
            <a:off x="0" y="404640"/>
            <a:ext cx="9188280" cy="5948640"/>
          </a:xfrm>
          <a:prstGeom prst="rect">
            <a:avLst/>
          </a:prstGeom>
          <a:ln w="0">
            <a:noFill/>
          </a:ln>
        </p:spPr>
      </p:pic>
      <p:sp>
        <p:nvSpPr>
          <p:cNvPr id="111" name="Нижний колонтитул 4"/>
          <p:cNvSpPr/>
          <p:nvPr/>
        </p:nvSpPr>
        <p:spPr>
          <a:xfrm>
            <a:off x="3124080" y="6416640"/>
            <a:ext cx="38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Владимир Ивашов - Фотографии - Фотография (4 из 31) - биография - Афиша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5"/>
          <p:cNvSpPr/>
          <p:nvPr/>
        </p:nvSpPr>
        <p:spPr>
          <a:xfrm>
            <a:off x="2627280" y="6416640"/>
            <a:ext cx="453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валентина бирюкова баллада о матери минус скачать mp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5"/>
          <p:cNvSpPr/>
          <p:nvPr/>
        </p:nvSpPr>
        <p:spPr>
          <a:xfrm>
            <a:off x="3124080" y="641664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Баллада о солдате. . OnlyFilms.TV - Фильмы Онлайн и Сериалы Онлайн в хорошем качестве БЕСПЛАТНО и БЕЗ РЕГИСТРАЦИИ"/>
          <p:cNvPicPr/>
          <p:nvPr/>
        </p:nvPicPr>
        <p:blipFill>
          <a:blip r:embed="rId1"/>
          <a:stretch/>
        </p:blipFill>
        <p:spPr>
          <a:xfrm>
            <a:off x="179280" y="0"/>
            <a:ext cx="87710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5"/>
          <p:cNvSpPr/>
          <p:nvPr/>
        </p:nvSpPr>
        <p:spPr>
          <a:xfrm>
            <a:off x="2627280" y="6416640"/>
            <a:ext cx="439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3:48:27Z</dcterms:created>
  <dc:creator>Наталья</dc:creator>
  <dc:description/>
  <dc:language>en-US</dc:language>
  <cp:lastModifiedBy>Наталья</cp:lastModifiedBy>
  <dcterms:modified xsi:type="dcterms:W3CDTF">2015-04-18T15:11:51Z</dcterms:modified>
  <cp:revision>9</cp:revision>
  <dc:subject/>
  <dc:title>А. Дементьев «Баллада о матери»</dc:title>
</cp:coreProperties>
</file>