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308-1748-44AF-A067-BF34D819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F456-8A80-4AFB-BBFB-0AFCC7B4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B364-EE67-4652-BC77-396848D7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2573-88D3-47CD-83F0-B66254CC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202A-52D1-4317-8AA2-F18716D8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7161-ED7F-406D-92E8-1288109C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3DFE-BFB9-4F61-B7B6-CDACE4A9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4E55-EC1F-48E4-ABF0-9F6B2106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FB0F-1FBB-48C2-BD4F-BC95D0B2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6BB1-BA1A-4030-A725-86573ACE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FA7B-39B2-4192-9E8B-43E05140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CFCF-C1ED-4F5B-B51D-85F9E5BA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A6EF-1FD5-48EB-B8DC-48D53074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61C0-2DCB-48F9-8E3E-CC24979F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DF41-FBD8-4221-BADE-09AC17B5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F2EE-112C-4A85-9F33-ECE0CE4C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BA21-5C6D-4D92-8201-66921A5B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1FE6A-3787-4928-9EFC-D96A0153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573A2-2EDF-4B55-991F-343E60F2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998C4-B9B1-4859-ABA0-9FDECDFA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210D5-7AEF-454B-8F6E-C2AF1C57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525B8-79CA-4EB9-A053-E6B36183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79E7-5E52-49DD-B515-F1DD3F5D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83740-3F19-4834-941C-8822E630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DBE39-01AB-4FD8-96CB-704288EB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7E970-9E55-497F-AD8A-F60E1597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9F47B-C0FA-486E-8F60-1798A0CC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D8247-DC60-4D00-A34A-016F0145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E05EC-48AF-4891-BDE8-7855628B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8F540-4A1E-4B6C-9A1F-1F577E53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923A9-73A6-4EEA-9282-0ACC525A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F0FC1-3771-43CD-8205-87C8681B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2A956-77A3-4301-B163-DAA56636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C365-C020-485E-8253-28A1FE85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F3650-AFC1-4355-8C53-B3977419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81FEE-793E-45C2-A36A-7A229442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72DB1-BC3F-43B2-88D6-802E7F7D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A093B-BF88-423E-B4D6-ED731D1B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F1D5B-2114-46A0-BEA7-127D8E80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772F9-F894-45A5-A719-38FAF101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39CFE-B001-4FBD-A3A6-DCCA2087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3927C-A70E-4020-BEB4-86885B59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644B2-A541-4F4E-BEBA-C4B615B1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EB84F-7E8A-41B5-9EA1-A573F974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F19C-1CC2-4B2F-B5D5-DA0FC269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FED90-A9E1-40AE-B888-4A930553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01231-C7A5-4C27-81D5-FCF05106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71304-B914-4F50-B389-1DDBE499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34210-021B-4A4B-830D-B131E66C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3F1B4-684B-414B-8073-A4D9B580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202D4-0811-4A89-A6E7-FA23EB4E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72CB3-3325-4957-B313-275B83E9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0613D-4ABC-48F2-A8D0-A5C5861E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DB7F5-9A07-411D-B57B-EAE02BD3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60D7C-D34D-4B65-9014-AE3271C9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9168-ADCC-42BD-8446-502005D9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2B735-3273-4626-B9CC-4E7EEC5F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D5D-55F5-49BF-ADD7-98B2981F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4157-FB75-42E5-BF80-627E3441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A3F9-BE7A-4E6F-A42D-AF4C5083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2F13-3134-4FF6-A3AE-DB711414774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FE75-4ED9-4EA9-ADD0-73E072FDA8CD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B365-DE68-49BF-B039-B56A29FB70F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7A34-2A5A-4343-BD0A-1C3E0241C0A8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19FD-3551-43A5-931F-B24175FFD27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693880" y="-1427040"/>
            <a:ext cx="6688080" cy="4687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029120" y="575640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учитель музык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Чарина О.В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2" descr="D:\школа\illustrations\nad-vechnym.jpg"/>
          <p:cNvPicPr/>
          <p:nvPr/>
        </p:nvPicPr>
        <p:blipFill>
          <a:blip r:embed="rId2"/>
          <a:stretch/>
        </p:blipFill>
        <p:spPr>
          <a:xfrm>
            <a:off x="0" y="3000240"/>
            <a:ext cx="53578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500040" y="0"/>
            <a:ext cx="7242120" cy="14382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7580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800" spc="-1" strike="noStrike">
                <a:solidFill>
                  <a:srgbClr val="852f74"/>
                </a:solidFill>
                <a:latin typeface="Trebuchet MS"/>
              </a:rPr>
              <a:t>симфоническая музыка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52f74"/>
                </a:solidFill>
                <a:latin typeface="Trebuchet MS"/>
              </a:rPr>
              <a:t> </a:t>
            </a:r>
            <a:r>
              <a:rPr b="0" lang="ru-RU" sz="4800" spc="-1" strike="noStrike">
                <a:solidFill>
                  <a:srgbClr val="852f74"/>
                </a:solidFill>
                <a:latin typeface="Trebuchet MS"/>
              </a:rPr>
              <a:t>симфонический оркестр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52f74"/>
                </a:solidFill>
                <a:latin typeface="Trebuchet MS"/>
              </a:rPr>
              <a:t> </a:t>
            </a:r>
            <a:r>
              <a:rPr b="0" lang="ru-RU" sz="4800" spc="-1" strike="noStrike">
                <a:solidFill>
                  <a:srgbClr val="852f74"/>
                </a:solidFill>
                <a:latin typeface="Trebuchet MS"/>
              </a:rPr>
              <a:t>сюита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52f74"/>
                </a:solidFill>
                <a:latin typeface="Trebuchet MS"/>
              </a:rPr>
              <a:t> </a:t>
            </a:r>
            <a:r>
              <a:rPr b="0" lang="ru-RU" sz="4800" spc="-1" strike="noStrike">
                <a:solidFill>
                  <a:srgbClr val="852f74"/>
                </a:solidFill>
                <a:latin typeface="Trebuchet MS"/>
              </a:rPr>
              <a:t>песенность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52f74"/>
                </a:solidFill>
                <a:latin typeface="Trebuchet MS"/>
              </a:rPr>
              <a:t> </a:t>
            </a:r>
            <a:r>
              <a:rPr b="0" lang="ru-RU" sz="4800" spc="-1" strike="noStrike">
                <a:solidFill>
                  <a:srgbClr val="852f74"/>
                </a:solidFill>
                <a:latin typeface="Trebuchet MS"/>
              </a:rPr>
              <a:t>танцевальность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52f74"/>
                </a:solidFill>
                <a:latin typeface="Trebuchet MS"/>
              </a:rPr>
              <a:t> </a:t>
            </a:r>
            <a:r>
              <a:rPr b="0" lang="ru-RU" sz="4800" spc="-1" strike="noStrike">
                <a:solidFill>
                  <a:srgbClr val="852f74"/>
                </a:solidFill>
                <a:latin typeface="Trebuchet MS"/>
              </a:rPr>
              <a:t>маршевость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5969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394920" y="1844280"/>
            <a:ext cx="7777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rebuchet MS"/>
              </a:rPr>
              <a:t>Солнышко всходит и небо светлеет, природа проснулась и утро пришло..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Григ. Сюита «Пер Гюнт». Утро.mp3" descr=""/>
          <p:cNvPicPr/>
          <p:nvPr/>
        </p:nvPicPr>
        <p:blipFill>
          <a:blip r:embed="rId2"/>
          <a:stretch/>
        </p:blipFill>
        <p:spPr>
          <a:xfrm>
            <a:off x="8388360" y="5661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457200" y="298440"/>
            <a:ext cx="7242120" cy="1420920"/>
          </a:xfrm>
          <a:prstGeom prst="rect">
            <a:avLst/>
          </a:prstGeom>
          <a:ln w="0">
            <a:noFill/>
          </a:ln>
        </p:spPr>
      </p:pic>
      <p:pic>
        <p:nvPicPr>
          <p:cNvPr id="246" name="Содержимое 3" descr="5-2.jpg"/>
          <p:cNvPicPr/>
          <p:nvPr/>
        </p:nvPicPr>
        <p:blipFill>
          <a:blip r:embed="rId2"/>
          <a:stretch/>
        </p:blipFill>
        <p:spPr>
          <a:xfrm>
            <a:off x="1357200" y="1428840"/>
            <a:ext cx="5857920" cy="5184720"/>
          </a:xfrm>
          <a:prstGeom prst="rect">
            <a:avLst/>
          </a:prstGeom>
          <a:ln w="0">
            <a:noFill/>
          </a:ln>
        </p:spPr>
      </p:pic>
      <p:pic>
        <p:nvPicPr>
          <p:cNvPr id="247" name="Григ-Танец Анитры-Н.mp3" descr=""/>
          <p:cNvPicPr/>
          <p:nvPr/>
        </p:nvPicPr>
        <p:blipFill>
          <a:blip r:embed="rId3"/>
          <a:stretch/>
        </p:blipFill>
        <p:spPr>
          <a:xfrm>
            <a:off x="8388360" y="580536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0" y="324000"/>
            <a:ext cx="8143920" cy="15541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356760" y="1857240"/>
            <a:ext cx="77151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  </a:t>
            </a:r>
            <a:r>
              <a:rPr b="0" lang="ru-RU" sz="6600" spc="-1" strike="noStrike">
                <a:solidFill>
                  <a:srgbClr val="984204"/>
                </a:solidFill>
                <a:latin typeface="Trebuchet MS"/>
              </a:rPr>
              <a:t>Описание         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84204"/>
                </a:solidFill>
                <a:latin typeface="Trebuchet MS"/>
              </a:rPr>
              <a:t>      </a:t>
            </a:r>
            <a:r>
              <a:rPr b="0" lang="ru-RU" sz="6600" spc="-1" strike="noStrike">
                <a:solidFill>
                  <a:srgbClr val="984204"/>
                </a:solidFill>
                <a:latin typeface="Trebuchet MS"/>
              </a:rPr>
              <a:t>музыки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0" y="762120"/>
            <a:ext cx="8143920" cy="15602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356760" y="1857240"/>
            <a:ext cx="77151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  </a:t>
            </a:r>
            <a:r>
              <a:rPr b="0" lang="ru-RU" sz="6600" spc="-1" strike="noStrike">
                <a:solidFill>
                  <a:srgbClr val="984204"/>
                </a:solidFill>
                <a:latin typeface="Trebuchet MS"/>
              </a:rPr>
              <a:t>Описание         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84204"/>
                </a:solidFill>
                <a:latin typeface="Trebuchet MS"/>
              </a:rPr>
              <a:t>      </a:t>
            </a:r>
            <a:r>
              <a:rPr b="0" lang="ru-RU" sz="6600" spc="-1" strike="noStrike">
                <a:solidFill>
                  <a:srgbClr val="984204"/>
                </a:solidFill>
                <a:latin typeface="Trebuchet MS"/>
              </a:rPr>
              <a:t>музыки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0" y="231840"/>
            <a:ext cx="8143920" cy="20541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356760" y="1857240"/>
            <a:ext cx="77151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  </a:t>
            </a:r>
            <a:r>
              <a:rPr b="0" lang="ru-RU" sz="6600" spc="-1" strike="noStrike">
                <a:solidFill>
                  <a:srgbClr val="984204"/>
                </a:solidFill>
                <a:latin typeface="Trebuchet MS"/>
              </a:rPr>
              <a:t>Описание         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84204"/>
                </a:solidFill>
                <a:latin typeface="Trebuchet MS"/>
              </a:rPr>
              <a:t>      </a:t>
            </a:r>
            <a:r>
              <a:rPr b="0" lang="ru-RU" sz="6600" spc="-1" strike="noStrike">
                <a:solidFill>
                  <a:srgbClr val="984204"/>
                </a:solidFill>
                <a:latin typeface="Trebuchet MS"/>
              </a:rPr>
              <a:t>музыки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4" name="Григ. Сюита «Пер Гюнт». В пещере горного короля.mp3" descr=""/>
          <p:cNvPicPr/>
          <p:nvPr/>
        </p:nvPicPr>
        <p:blipFill>
          <a:blip r:embed="rId2"/>
          <a:stretch/>
        </p:blipFill>
        <p:spPr>
          <a:xfrm>
            <a:off x="8317080" y="5805360"/>
            <a:ext cx="60948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324000" y="-12600"/>
            <a:ext cx="7240320" cy="2408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-3600" y="2491920"/>
            <a:ext cx="83631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Какая?(2 прилагательных)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Что делает? (3 глагола)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Ваше отношение (4 слова)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Синоним (основному понятию)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Содержимое 2"/>
          <p:cNvSpPr/>
          <p:nvPr/>
        </p:nvSpPr>
        <p:spPr>
          <a:xfrm>
            <a:off x="0" y="2492280"/>
            <a:ext cx="83628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204"/>
                </a:solidFill>
                <a:latin typeface="Trebuchet MS"/>
                <a:ea typeface="Arial"/>
              </a:rPr>
              <a:t> </a:t>
            </a:r>
            <a:r>
              <a:rPr b="0" lang="ru-RU" sz="4400" spc="-1" strike="noStrike">
                <a:solidFill>
                  <a:srgbClr val="984204"/>
                </a:solidFill>
                <a:latin typeface="Trebuchet MS"/>
                <a:ea typeface="Arial"/>
              </a:rPr>
              <a:t>Какая?(2 прилагательных)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204"/>
                </a:solidFill>
                <a:latin typeface="Trebuchet MS"/>
                <a:ea typeface="Arial"/>
              </a:rPr>
              <a:t> </a:t>
            </a:r>
            <a:r>
              <a:rPr b="0" lang="ru-RU" sz="4400" spc="-1" strike="noStrike">
                <a:solidFill>
                  <a:srgbClr val="984204"/>
                </a:solidFill>
                <a:latin typeface="Trebuchet MS"/>
                <a:ea typeface="Arial"/>
              </a:rPr>
              <a:t>Что делает? (3 глагола)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204"/>
                </a:solidFill>
                <a:latin typeface="Trebuchet MS"/>
                <a:ea typeface="Arial"/>
              </a:rPr>
              <a:t> </a:t>
            </a:r>
            <a:r>
              <a:rPr b="0" lang="ru-RU" sz="4400" spc="-1" strike="noStrike">
                <a:solidFill>
                  <a:srgbClr val="984204"/>
                </a:solidFill>
                <a:latin typeface="Trebuchet MS"/>
                <a:ea typeface="Arial"/>
              </a:rPr>
              <a:t>Ваше отношение (4 слова)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204"/>
                </a:solidFill>
                <a:latin typeface="Trebuchet MS"/>
                <a:ea typeface="Arial"/>
              </a:rPr>
              <a:t> </a:t>
            </a:r>
            <a:r>
              <a:rPr b="0" lang="ru-RU" sz="4400" spc="-1" strike="noStrike">
                <a:solidFill>
                  <a:srgbClr val="984204"/>
                </a:solidFill>
                <a:latin typeface="Trebuchet MS"/>
                <a:ea typeface="Arial"/>
              </a:rPr>
              <a:t>Синоним (основному понятию)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311040" y="347760"/>
            <a:ext cx="7613640" cy="24080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0" y="2420640"/>
            <a:ext cx="7858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прекрасная, удивительная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волнует, восхищает, возвышает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проникает в мою душу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счастье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500040" y="212760"/>
            <a:ext cx="7242120" cy="1440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28760" y="1356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«цветовая палитра»( к одному из прослушанных произведений)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написать синквейн к словам: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4400" spc="-1" strike="noStrike">
                <a:solidFill>
                  <a:srgbClr val="c00000"/>
                </a:solidFill>
                <a:latin typeface="Trebuchet MS"/>
              </a:rPr>
              <a:t>природа, жизнь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426960" y="0"/>
            <a:ext cx="7242120" cy="1438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-360" y="1285920"/>
            <a:ext cx="807228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c360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6c3600"/>
                </a:solidFill>
                <a:latin typeface="Trebuchet MS"/>
              </a:rPr>
              <a:t>работал на уроке активно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c360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6c3600"/>
                </a:solidFill>
                <a:latin typeface="Trebuchet MS"/>
              </a:rPr>
              <a:t>давал полные и правильные ответы на    вопросы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c360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6c3600"/>
                </a:solidFill>
                <a:latin typeface="Trebuchet MS"/>
              </a:rPr>
              <a:t>не допускал ошибок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c360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6c3600"/>
                </a:solidFill>
                <a:latin typeface="Trebuchet MS"/>
              </a:rPr>
              <a:t>помогал товарищу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c360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6c3600"/>
                </a:solidFill>
                <a:latin typeface="Trebuchet MS"/>
              </a:rPr>
              <a:t>был внимателен и сосредоточен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c360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6c3600"/>
                </a:solidFill>
                <a:latin typeface="Trebuchet MS"/>
              </a:rPr>
              <a:t>использовал для ответа знания, полученные на других уроках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Users\Учитель\Desktop\чтение и музыка\4,1.jpg"/>
          <p:cNvPicPr/>
          <p:nvPr/>
        </p:nvPicPr>
        <p:blipFill>
          <a:blip r:embed="rId1"/>
          <a:stretch/>
        </p:blipFill>
        <p:spPr>
          <a:xfrm>
            <a:off x="200160" y="365040"/>
            <a:ext cx="4319280" cy="578016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"/>
          <p:cNvSpPr/>
          <p:nvPr/>
        </p:nvSpPr>
        <p:spPr>
          <a:xfrm>
            <a:off x="4743360" y="7920"/>
            <a:ext cx="3357720" cy="64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rebuchet MS"/>
              </a:rPr>
              <a:t>Эдвард Хагеруп Григ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i="1" lang="ru-RU" sz="4000" spc="-1" strike="noStrike">
                <a:solidFill>
                  <a:srgbClr val="000000"/>
                </a:solidFill>
                <a:latin typeface="Trebuchet MS"/>
              </a:rPr>
              <a:t>1843 – 1907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Норвежский композитор периода романтизма,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музыкальный деятель, пианист, дирижёр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-36360" y="128520"/>
            <a:ext cx="8156520" cy="2657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0" y="2053800"/>
            <a:ext cx="81439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« Я видел жизнь. Чтобы тебе 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    </a:t>
            </a: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не говорили о ней,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    </a:t>
            </a: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верь  всегда, что она    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    </a:t>
            </a:r>
            <a:r>
              <a:rPr b="0" lang="ru-RU" sz="4400" spc="-1" strike="noStrike">
                <a:solidFill>
                  <a:srgbClr val="984204"/>
                </a:solidFill>
                <a:latin typeface="Trebuchet MS"/>
              </a:rPr>
              <a:t>удивительна и  прекрасна»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4624920" y="5286240"/>
            <a:ext cx="255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36406"/>
                </a:solidFill>
                <a:latin typeface="Trebuchet MS"/>
                <a:ea typeface="Aharoni"/>
              </a:rPr>
              <a:t>Э.Григ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2" descr="C:\Users\galina-muz\Desktop\Henrik_Ibsen_av_Eilif_Peterssen_1895.jpg"/>
          <p:cNvPicPr/>
          <p:nvPr/>
        </p:nvPicPr>
        <p:blipFill>
          <a:blip r:embed="rId1"/>
          <a:stretch/>
        </p:blipFill>
        <p:spPr>
          <a:xfrm>
            <a:off x="-34920" y="549360"/>
            <a:ext cx="4319640" cy="566100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4"/>
          <p:cNvSpPr/>
          <p:nvPr/>
        </p:nvSpPr>
        <p:spPr>
          <a:xfrm>
            <a:off x="4500720" y="0"/>
            <a:ext cx="381636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rebuchet MS"/>
              </a:rPr>
              <a:t>Генрик Юхан Ибсен  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rebuchet MS"/>
              </a:rPr>
              <a:t>1828 – 1906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rebuchet MS"/>
              </a:rPr>
              <a:t>Н</a:t>
            </a:r>
            <a:r>
              <a:rPr b="1" i="1" lang="ru-RU" sz="3600" spc="-1" strike="noStrike">
                <a:solidFill>
                  <a:srgbClr val="000000"/>
                </a:solidFill>
                <a:latin typeface="Trebuchet MS"/>
              </a:rPr>
              <a:t>орвежский драматург, основатель европейской «новой драмы»; поэт и публицист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0" y="285840"/>
            <a:ext cx="819144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0" y="285840"/>
            <a:ext cx="8278920" cy="62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628560" y="3316320"/>
            <a:ext cx="7236000" cy="3432240"/>
          </a:xfrm>
          <a:prstGeom prst="rect">
            <a:avLst/>
          </a:prstGeom>
          <a:ln w="0">
            <a:noFill/>
          </a:ln>
        </p:spPr>
      </p:pic>
      <p:pic>
        <p:nvPicPr>
          <p:cNvPr id="234" name="Заголовок 1" descr=""/>
          <p:cNvPicPr/>
          <p:nvPr/>
        </p:nvPicPr>
        <p:blipFill>
          <a:blip r:embed="rId2"/>
          <a:stretch/>
        </p:blipFill>
        <p:spPr>
          <a:xfrm>
            <a:off x="828720" y="79200"/>
            <a:ext cx="72356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298440" y="-360360"/>
            <a:ext cx="7486560" cy="1390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-360" y="1196640"/>
            <a:ext cx="8072280" cy="62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Автор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Жанр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Герои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Место действия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События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476280" y="-171360"/>
            <a:ext cx="7235640" cy="1562040"/>
          </a:xfrm>
          <a:prstGeom prst="rect">
            <a:avLst/>
          </a:prstGeom>
          <a:ln w="0">
            <a:noFill/>
          </a:ln>
        </p:spPr>
      </p:pic>
      <p:pic>
        <p:nvPicPr>
          <p:cNvPr id="238" name="Григ. Сюита «Пер Гюнт». Утро.mp3" descr=""/>
          <p:cNvPicPr/>
          <p:nvPr/>
        </p:nvPicPr>
        <p:blipFill>
          <a:blip r:embed="rId2"/>
          <a:stretch/>
        </p:blipFill>
        <p:spPr>
          <a:xfrm>
            <a:off x="8388360" y="59500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" descr="оркестр.jpg"/>
          <p:cNvPicPr/>
          <p:nvPr/>
        </p:nvPicPr>
        <p:blipFill>
          <a:blip r:embed="rId3"/>
          <a:stretch/>
        </p:blipFill>
        <p:spPr>
          <a:xfrm>
            <a:off x="250920" y="985680"/>
            <a:ext cx="763416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8T17:22:52Z</dcterms:created>
  <dc:creator>Никита Миняев</dc:creator>
  <dc:description/>
  <dc:language>en-US</dc:language>
  <cp:lastModifiedBy>Никита Миняев</cp:lastModifiedBy>
  <dcterms:modified xsi:type="dcterms:W3CDTF">2015-04-18T17:26:24Z</dcterms:modified>
  <cp:revision>1</cp:revision>
  <dc:subject/>
  <dc:title>Урок музыки  «Путешествие в мир  музыки  Эдварда Грига»</dc:title>
</cp:coreProperties>
</file>