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2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4.jpeg" ContentType="image/jpeg"/>
  <Override PartName="/ppt/media/image25.png" ContentType="image/pn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1.png" ContentType="image/png"/>
  <Override PartName="/ppt/media/image24.png" ContentType="image/pn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7EB3-92EC-4D8A-A167-DE2F6DCD3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B337-6C3F-4ADC-9DF3-F2BA3976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E11F-1A56-4107-805D-2E916CCAD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8E83-DFA9-4962-8766-706BD43CB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E5CB-7834-4482-8AA8-ABF10D845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2E90-F32E-4B9B-8258-15A3EC62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31BD-5875-4701-8E6C-7D98F601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359E-5716-4F60-86F5-25A9BD50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1411-A1CB-4DF6-AF12-19E3BE36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CB17-7D9A-41D3-BE4E-180AC2A3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EAEA-AA97-44CC-813D-96BCF3DB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9247-E816-4CEB-8759-3199E875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A572-263F-42A3-81C3-C73F4448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157A-8B36-42AC-9230-54F68EAE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2E5F-78EA-4F1E-BABC-7478656C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6376-33FA-482F-942E-6EA1FFB72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21CD-3ED5-49D9-9FB6-A3F85A242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2D8E2-4D60-4F4A-809C-45EC310C3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A9563-DCD6-4C7C-BAA4-8775FDFB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DBF44-41B5-4828-AA3E-E990ED27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2A37F-981C-4372-9842-9CAD3E7B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B6774-AD0C-4BA4-9231-B6E8D9C6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CA24-EB49-476A-BF66-EB452595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A50A0-E0FA-4C86-B782-72F5E2E9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2D375-3427-41FE-84E6-9D28A75D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FD816-2C9D-474E-BBEA-3E195FBC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7C188-CC7C-460D-B9EF-DD7D99AA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99DD6-E690-4BCF-9C8A-5B353386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EEA52-E90E-4FC5-A279-D6628AF41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095F1-7ADE-4F9F-BA9D-58AE8692A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6D97E-2164-40DC-995D-E3C56679A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16106-6869-448D-99A8-368C622D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82EC6-91CA-47E0-B8C2-EFC02088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2764-5803-421B-BA78-48EEAF67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FA313-9531-4B15-B70D-7F5974EC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8D46D-FCFA-440D-B553-61BF17E4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9271B-F084-4241-B226-945416A6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4BC2A-5E04-4A20-B364-9A6735C2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51C56-B2CC-4DB9-9692-E94BCCE5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0F2F9-B940-402E-AB93-6A0F2F0B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DB1C6-A7D3-4487-8E4B-4ADD9E80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9637F-410E-4152-A82C-74130C66F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DB270-8DB2-4FBF-BCE4-4874B1164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69FAE-72EE-4D50-ACEC-80827547D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DE4A-6EA5-4128-89B8-A8090B00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56F35-ACA6-4B64-8D01-B0F9DD1C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3EAAB-66FB-4A92-B435-97BD8A46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D978F-3FEA-4D01-9C0D-1A019D21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C3EFD-5F18-4E73-AA81-F8560247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ACF2B-CBFC-45A4-89C1-9C68DA2F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33CF3-3166-44A8-AA59-D1B1ED27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E4B89-CD0F-4B3C-A55F-4916C460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60937-4F6A-4BBE-8309-71FDE41B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A3BE0-05C2-442B-AA9F-A256FB58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F88AA-1537-4EA5-9919-ABCABD6D9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4F70-4ABA-4111-8E3A-1C9721E9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0BDD7-3BD3-4E31-B38A-A6F55F5B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8900-8FA0-4714-9E57-2030D97D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3616-E41F-4D43-A0EF-3BEF21B3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046F-58E9-43BC-8D6D-68138480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A105-3032-484F-9DE2-51610E4DA09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B7D6-EED4-4FB7-9BAF-D3A7B5789C04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3E0B-76E5-4042-8ABF-DC099AF347D2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81F8-BF4E-4830-9A1A-F19B2E55FB10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97AD-E44B-4541-8783-37C2717F54F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2693880" y="-1427040"/>
            <a:ext cx="6688080" cy="46879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029120" y="575640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учитель музык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Чарина О.В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Picture 2" descr="D:\школа\illustrations\nad-vechnym.jpg"/>
          <p:cNvPicPr/>
          <p:nvPr/>
        </p:nvPicPr>
        <p:blipFill>
          <a:blip r:embed="rId2"/>
          <a:stretch/>
        </p:blipFill>
        <p:spPr>
          <a:xfrm>
            <a:off x="0" y="3000240"/>
            <a:ext cx="53578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500040" y="0"/>
            <a:ext cx="7242120" cy="14382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609200"/>
            <a:ext cx="77580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4800" spc="-1" strike="noStrike">
                <a:solidFill>
                  <a:srgbClr val="852f74"/>
                </a:solidFill>
                <a:latin typeface="Trebuchet MS"/>
              </a:rPr>
              <a:t>симфоническая музыка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52f74"/>
                </a:solidFill>
                <a:latin typeface="Trebuchet MS"/>
              </a:rPr>
              <a:t> </a:t>
            </a:r>
            <a:r>
              <a:rPr b="0" lang="ru-RU" sz="4800" spc="-1" strike="noStrike">
                <a:solidFill>
                  <a:srgbClr val="852f74"/>
                </a:solidFill>
                <a:latin typeface="Trebuchet MS"/>
              </a:rPr>
              <a:t>симфонический оркестр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52f74"/>
                </a:solidFill>
                <a:latin typeface="Trebuchet MS"/>
              </a:rPr>
              <a:t> </a:t>
            </a:r>
            <a:r>
              <a:rPr b="0" lang="ru-RU" sz="4800" spc="-1" strike="noStrike">
                <a:solidFill>
                  <a:srgbClr val="852f74"/>
                </a:solidFill>
                <a:latin typeface="Trebuchet MS"/>
              </a:rPr>
              <a:t>сюита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52f74"/>
                </a:solidFill>
                <a:latin typeface="Trebuchet MS"/>
              </a:rPr>
              <a:t> </a:t>
            </a:r>
            <a:r>
              <a:rPr b="0" lang="ru-RU" sz="4800" spc="-1" strike="noStrike">
                <a:solidFill>
                  <a:srgbClr val="852f74"/>
                </a:solidFill>
                <a:latin typeface="Trebuchet MS"/>
              </a:rPr>
              <a:t>песенность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52f74"/>
                </a:solidFill>
                <a:latin typeface="Trebuchet MS"/>
              </a:rPr>
              <a:t> </a:t>
            </a:r>
            <a:r>
              <a:rPr b="0" lang="ru-RU" sz="4800" spc="-1" strike="noStrike">
                <a:solidFill>
                  <a:srgbClr val="852f74"/>
                </a:solidFill>
                <a:latin typeface="Trebuchet MS"/>
              </a:rPr>
              <a:t>танцевальность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52f74"/>
                </a:solidFill>
                <a:latin typeface="Trebuchet MS"/>
              </a:rPr>
              <a:t> </a:t>
            </a:r>
            <a:r>
              <a:rPr b="0" lang="ru-RU" sz="4800" spc="-1" strike="noStrike">
                <a:solidFill>
                  <a:srgbClr val="852f74"/>
                </a:solidFill>
                <a:latin typeface="Trebuchet MS"/>
              </a:rPr>
              <a:t>маршевость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5969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394920" y="1844280"/>
            <a:ext cx="77770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rebuchet MS"/>
              </a:rPr>
              <a:t>Солнышко всходит и небо светлеет, природа проснулась и утро пришло...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4" name="Григ. Сюита «Пер Гюнт». Утро.mp3" descr=""/>
          <p:cNvPicPr/>
          <p:nvPr/>
        </p:nvPicPr>
        <p:blipFill>
          <a:blip r:embed="rId2"/>
          <a:stretch/>
        </p:blipFill>
        <p:spPr>
          <a:xfrm>
            <a:off x="8388360" y="5661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457200" y="298440"/>
            <a:ext cx="7242120" cy="1420920"/>
          </a:xfrm>
          <a:prstGeom prst="rect">
            <a:avLst/>
          </a:prstGeom>
          <a:ln w="0">
            <a:noFill/>
          </a:ln>
        </p:spPr>
      </p:pic>
      <p:pic>
        <p:nvPicPr>
          <p:cNvPr id="246" name="Содержимое 3" descr="5-2.jpg"/>
          <p:cNvPicPr/>
          <p:nvPr/>
        </p:nvPicPr>
        <p:blipFill>
          <a:blip r:embed="rId2"/>
          <a:stretch/>
        </p:blipFill>
        <p:spPr>
          <a:xfrm>
            <a:off x="1357200" y="1428840"/>
            <a:ext cx="5857920" cy="5184720"/>
          </a:xfrm>
          <a:prstGeom prst="rect">
            <a:avLst/>
          </a:prstGeom>
          <a:ln w="0">
            <a:noFill/>
          </a:ln>
        </p:spPr>
      </p:pic>
      <p:pic>
        <p:nvPicPr>
          <p:cNvPr id="247" name="Григ-Танец Анитры-Н.mp3" descr=""/>
          <p:cNvPicPr/>
          <p:nvPr/>
        </p:nvPicPr>
        <p:blipFill>
          <a:blip r:embed="rId3"/>
          <a:stretch/>
        </p:blipFill>
        <p:spPr>
          <a:xfrm>
            <a:off x="8388360" y="580536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0" y="324000"/>
            <a:ext cx="8143920" cy="15541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356760" y="1857240"/>
            <a:ext cx="771516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204"/>
                </a:solidFill>
                <a:latin typeface="Trebuchet MS"/>
              </a:rPr>
              <a:t>  </a:t>
            </a:r>
            <a:r>
              <a:rPr b="0" lang="ru-RU" sz="6600" spc="-1" strike="noStrike">
                <a:solidFill>
                  <a:srgbClr val="984204"/>
                </a:solidFill>
                <a:latin typeface="Trebuchet MS"/>
              </a:rPr>
              <a:t>Описание         </a:t>
            </a: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984204"/>
                </a:solidFill>
                <a:latin typeface="Trebuchet MS"/>
              </a:rPr>
              <a:t>      </a:t>
            </a:r>
            <a:r>
              <a:rPr b="0" lang="ru-RU" sz="6600" spc="-1" strike="noStrike">
                <a:solidFill>
                  <a:srgbClr val="984204"/>
                </a:solidFill>
                <a:latin typeface="Trebuchet MS"/>
              </a:rPr>
              <a:t>музыки</a:t>
            </a: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0" y="762120"/>
            <a:ext cx="8143920" cy="15602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356760" y="1857240"/>
            <a:ext cx="771516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204"/>
                </a:solidFill>
                <a:latin typeface="Trebuchet MS"/>
              </a:rPr>
              <a:t>  </a:t>
            </a:r>
            <a:r>
              <a:rPr b="0" lang="ru-RU" sz="6600" spc="-1" strike="noStrike">
                <a:solidFill>
                  <a:srgbClr val="984204"/>
                </a:solidFill>
                <a:latin typeface="Trebuchet MS"/>
              </a:rPr>
              <a:t>Описание         </a:t>
            </a: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984204"/>
                </a:solidFill>
                <a:latin typeface="Trebuchet MS"/>
              </a:rPr>
              <a:t>      </a:t>
            </a:r>
            <a:r>
              <a:rPr b="0" lang="ru-RU" sz="6600" spc="-1" strike="noStrike">
                <a:solidFill>
                  <a:srgbClr val="984204"/>
                </a:solidFill>
                <a:latin typeface="Trebuchet MS"/>
              </a:rPr>
              <a:t>музыки</a:t>
            </a: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0" y="231840"/>
            <a:ext cx="8143920" cy="20541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356760" y="1857240"/>
            <a:ext cx="771516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204"/>
                </a:solidFill>
                <a:latin typeface="Trebuchet MS"/>
              </a:rPr>
              <a:t>  </a:t>
            </a:r>
            <a:r>
              <a:rPr b="0" lang="ru-RU" sz="6600" spc="-1" strike="noStrike">
                <a:solidFill>
                  <a:srgbClr val="984204"/>
                </a:solidFill>
                <a:latin typeface="Trebuchet MS"/>
              </a:rPr>
              <a:t>Описание         </a:t>
            </a: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984204"/>
                </a:solidFill>
                <a:latin typeface="Trebuchet MS"/>
              </a:rPr>
              <a:t>      </a:t>
            </a:r>
            <a:r>
              <a:rPr b="0" lang="ru-RU" sz="6600" spc="-1" strike="noStrike">
                <a:solidFill>
                  <a:srgbClr val="984204"/>
                </a:solidFill>
                <a:latin typeface="Trebuchet MS"/>
              </a:rPr>
              <a:t>музыки</a:t>
            </a: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4" name="Григ. Сюита «Пер Гюнт». В пещере горного короля.mp3" descr=""/>
          <p:cNvPicPr/>
          <p:nvPr/>
        </p:nvPicPr>
        <p:blipFill>
          <a:blip r:embed="rId2"/>
          <a:stretch/>
        </p:blipFill>
        <p:spPr>
          <a:xfrm>
            <a:off x="8317080" y="5805360"/>
            <a:ext cx="60948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Заголовок 1" descr=""/>
          <p:cNvPicPr/>
          <p:nvPr/>
        </p:nvPicPr>
        <p:blipFill>
          <a:blip r:embed="rId1"/>
          <a:stretch/>
        </p:blipFill>
        <p:spPr>
          <a:xfrm>
            <a:off x="324000" y="-12600"/>
            <a:ext cx="7240320" cy="24080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-3600" y="2491920"/>
            <a:ext cx="836316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204"/>
                </a:solidFill>
                <a:latin typeface="Trebuchet MS"/>
              </a:rPr>
              <a:t> </a:t>
            </a:r>
            <a:r>
              <a:rPr b="0" lang="ru-RU" sz="4400" spc="-1" strike="noStrike">
                <a:solidFill>
                  <a:srgbClr val="984204"/>
                </a:solidFill>
                <a:latin typeface="Trebuchet MS"/>
              </a:rPr>
              <a:t>Какая?(2 прилагательных)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204"/>
                </a:solidFill>
                <a:latin typeface="Trebuchet MS"/>
              </a:rPr>
              <a:t> </a:t>
            </a:r>
            <a:r>
              <a:rPr b="0" lang="ru-RU" sz="4400" spc="-1" strike="noStrike">
                <a:solidFill>
                  <a:srgbClr val="984204"/>
                </a:solidFill>
                <a:latin typeface="Trebuchet MS"/>
              </a:rPr>
              <a:t>Что делает? (3 глагола)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204"/>
                </a:solidFill>
                <a:latin typeface="Trebuchet MS"/>
              </a:rPr>
              <a:t> </a:t>
            </a:r>
            <a:r>
              <a:rPr b="0" lang="ru-RU" sz="4400" spc="-1" strike="noStrike">
                <a:solidFill>
                  <a:srgbClr val="984204"/>
                </a:solidFill>
                <a:latin typeface="Trebuchet MS"/>
              </a:rPr>
              <a:t>Ваше отношение (4 слова)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204"/>
                </a:solidFill>
                <a:latin typeface="Trebuchet MS"/>
              </a:rPr>
              <a:t> </a:t>
            </a:r>
            <a:r>
              <a:rPr b="0" lang="ru-RU" sz="4400" spc="-1" strike="noStrike">
                <a:solidFill>
                  <a:srgbClr val="984204"/>
                </a:solidFill>
                <a:latin typeface="Trebuchet MS"/>
              </a:rPr>
              <a:t>Синоним (основному понятию)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Содержимое 2"/>
          <p:cNvSpPr/>
          <p:nvPr/>
        </p:nvSpPr>
        <p:spPr>
          <a:xfrm>
            <a:off x="0" y="2492280"/>
            <a:ext cx="836280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204"/>
                </a:solidFill>
                <a:latin typeface="Trebuchet MS"/>
                <a:ea typeface="Arial"/>
              </a:rPr>
              <a:t> </a:t>
            </a:r>
            <a:r>
              <a:rPr b="0" lang="ru-RU" sz="4400" spc="-1" strike="noStrike">
                <a:solidFill>
                  <a:srgbClr val="984204"/>
                </a:solidFill>
                <a:latin typeface="Trebuchet MS"/>
                <a:ea typeface="Arial"/>
              </a:rPr>
              <a:t>Какая?(2 прилагательных)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204"/>
                </a:solidFill>
                <a:latin typeface="Trebuchet MS"/>
                <a:ea typeface="Arial"/>
              </a:rPr>
              <a:t> </a:t>
            </a:r>
            <a:r>
              <a:rPr b="0" lang="ru-RU" sz="4400" spc="-1" strike="noStrike">
                <a:solidFill>
                  <a:srgbClr val="984204"/>
                </a:solidFill>
                <a:latin typeface="Trebuchet MS"/>
                <a:ea typeface="Arial"/>
              </a:rPr>
              <a:t>Что делает? (3 глагола)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204"/>
                </a:solidFill>
                <a:latin typeface="Trebuchet MS"/>
                <a:ea typeface="Arial"/>
              </a:rPr>
              <a:t> </a:t>
            </a:r>
            <a:r>
              <a:rPr b="0" lang="ru-RU" sz="4400" spc="-1" strike="noStrike">
                <a:solidFill>
                  <a:srgbClr val="984204"/>
                </a:solidFill>
                <a:latin typeface="Trebuchet MS"/>
                <a:ea typeface="Arial"/>
              </a:rPr>
              <a:t>Ваше отношение (4 слова)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204"/>
                </a:solidFill>
                <a:latin typeface="Trebuchet MS"/>
                <a:ea typeface="Arial"/>
              </a:rPr>
              <a:t> </a:t>
            </a:r>
            <a:r>
              <a:rPr b="0" lang="ru-RU" sz="4400" spc="-1" strike="noStrike">
                <a:solidFill>
                  <a:srgbClr val="984204"/>
                </a:solidFill>
                <a:latin typeface="Trebuchet MS"/>
                <a:ea typeface="Arial"/>
              </a:rPr>
              <a:t>Синоним (основному понятию)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311040" y="347760"/>
            <a:ext cx="7613640" cy="24080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0" y="2420640"/>
            <a:ext cx="78580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прекрасная, удивительная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волнует, восхищает, возвышает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проникает в мою душу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счастье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500040" y="212760"/>
            <a:ext cx="7242120" cy="14400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428760" y="13568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«цветовая палитра»( к одному из прослушанных произведений)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написать синквейн к словам: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4400" spc="-1" strike="noStrike">
                <a:solidFill>
                  <a:srgbClr val="c00000"/>
                </a:solidFill>
                <a:latin typeface="Trebuchet MS"/>
              </a:rPr>
              <a:t>природа, жизнь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426960" y="0"/>
            <a:ext cx="7242120" cy="14382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-360" y="1285920"/>
            <a:ext cx="807228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c3600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6c3600"/>
                </a:solidFill>
                <a:latin typeface="Trebuchet MS"/>
              </a:rPr>
              <a:t>работал на уроке активно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c3600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6c3600"/>
                </a:solidFill>
                <a:latin typeface="Trebuchet MS"/>
              </a:rPr>
              <a:t>давал полные и правильные ответы на    вопросы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c3600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6c3600"/>
                </a:solidFill>
                <a:latin typeface="Trebuchet MS"/>
              </a:rPr>
              <a:t>не допускал ошибок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c3600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6c3600"/>
                </a:solidFill>
                <a:latin typeface="Trebuchet MS"/>
              </a:rPr>
              <a:t>помогал товарищу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c3600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6c3600"/>
                </a:solidFill>
                <a:latin typeface="Trebuchet MS"/>
              </a:rPr>
              <a:t>был внимателен и сосредоточен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c3600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6c3600"/>
                </a:solidFill>
                <a:latin typeface="Trebuchet MS"/>
              </a:rPr>
              <a:t>использовал для ответа знания, полученные на других уроках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C:\Users\Учитель\Desktop\чтение и музыка\4,1.jpg"/>
          <p:cNvPicPr/>
          <p:nvPr/>
        </p:nvPicPr>
        <p:blipFill>
          <a:blip r:embed="rId1"/>
          <a:stretch/>
        </p:blipFill>
        <p:spPr>
          <a:xfrm>
            <a:off x="200160" y="365040"/>
            <a:ext cx="4319280" cy="578016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1"/>
          <p:cNvSpPr/>
          <p:nvPr/>
        </p:nvSpPr>
        <p:spPr>
          <a:xfrm>
            <a:off x="4743360" y="7920"/>
            <a:ext cx="3357720" cy="64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rebuchet MS"/>
              </a:rPr>
              <a:t>Эдвард Хагеруп Григ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1" i="1" lang="ru-RU" sz="4000" spc="-1" strike="noStrike">
                <a:solidFill>
                  <a:srgbClr val="000000"/>
                </a:solidFill>
                <a:latin typeface="Trebuchet MS"/>
              </a:rPr>
              <a:t>1843 – 1907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Норвежский композитор периода романтизма,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музыкальный деятель, пианист, дирижёр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-36360" y="128520"/>
            <a:ext cx="8156520" cy="2657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0" y="2053800"/>
            <a:ext cx="81439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4400" spc="-1" strike="noStrike">
                <a:solidFill>
                  <a:srgbClr val="984204"/>
                </a:solidFill>
                <a:latin typeface="Trebuchet MS"/>
              </a:rPr>
              <a:t>« Я видел жизнь. Чтобы тебе 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204"/>
                </a:solidFill>
                <a:latin typeface="Trebuchet MS"/>
              </a:rPr>
              <a:t>    </a:t>
            </a:r>
            <a:r>
              <a:rPr b="0" lang="ru-RU" sz="4400" spc="-1" strike="noStrike">
                <a:solidFill>
                  <a:srgbClr val="984204"/>
                </a:solidFill>
                <a:latin typeface="Trebuchet MS"/>
              </a:rPr>
              <a:t>не говорили о ней,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204"/>
                </a:solidFill>
                <a:latin typeface="Trebuchet MS"/>
              </a:rPr>
              <a:t>    </a:t>
            </a:r>
            <a:r>
              <a:rPr b="0" lang="ru-RU" sz="4400" spc="-1" strike="noStrike">
                <a:solidFill>
                  <a:srgbClr val="984204"/>
                </a:solidFill>
                <a:latin typeface="Trebuchet MS"/>
              </a:rPr>
              <a:t>верь  всегда, что она    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204"/>
                </a:solidFill>
                <a:latin typeface="Trebuchet MS"/>
              </a:rPr>
              <a:t>    </a:t>
            </a:r>
            <a:r>
              <a:rPr b="0" lang="ru-RU" sz="4400" spc="-1" strike="noStrike">
                <a:solidFill>
                  <a:srgbClr val="984204"/>
                </a:solidFill>
                <a:latin typeface="Trebuchet MS"/>
              </a:rPr>
              <a:t>удивительна и  прекрасна»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TextBox 3"/>
          <p:cNvSpPr/>
          <p:nvPr/>
        </p:nvSpPr>
        <p:spPr>
          <a:xfrm>
            <a:off x="4624920" y="5286240"/>
            <a:ext cx="255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36406"/>
                </a:solidFill>
                <a:latin typeface="Trebuchet MS"/>
                <a:ea typeface="Aharoni"/>
              </a:rPr>
              <a:t>Э.Григ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2" descr="C:\Users\galina-muz\Desktop\Henrik_Ibsen_av_Eilif_Peterssen_1895.jpg"/>
          <p:cNvPicPr/>
          <p:nvPr/>
        </p:nvPicPr>
        <p:blipFill>
          <a:blip r:embed="rId1"/>
          <a:stretch/>
        </p:blipFill>
        <p:spPr>
          <a:xfrm>
            <a:off x="-34920" y="549360"/>
            <a:ext cx="4319640" cy="566100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4"/>
          <p:cNvSpPr/>
          <p:nvPr/>
        </p:nvSpPr>
        <p:spPr>
          <a:xfrm>
            <a:off x="4500720" y="0"/>
            <a:ext cx="3816360" cy="64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rebuchet MS"/>
              </a:rPr>
              <a:t>Генрик Юхан Ибсен  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rebuchet MS"/>
              </a:rPr>
              <a:t>1828 – 1906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rebuchet MS"/>
              </a:rPr>
              <a:t>Н</a:t>
            </a:r>
            <a:r>
              <a:rPr b="1" i="1" lang="ru-RU" sz="3600" spc="-1" strike="noStrike">
                <a:solidFill>
                  <a:srgbClr val="000000"/>
                </a:solidFill>
                <a:latin typeface="Trebuchet MS"/>
              </a:rPr>
              <a:t>орвежский драматург, основатель европейской «новой драмы»; поэт и публицист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0" y="285840"/>
            <a:ext cx="819144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0" y="285840"/>
            <a:ext cx="8278920" cy="62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628560" y="3316320"/>
            <a:ext cx="7236000" cy="3432240"/>
          </a:xfrm>
          <a:prstGeom prst="rect">
            <a:avLst/>
          </a:prstGeom>
          <a:ln w="0">
            <a:noFill/>
          </a:ln>
        </p:spPr>
      </p:pic>
      <p:pic>
        <p:nvPicPr>
          <p:cNvPr id="234" name="Заголовок 1" descr=""/>
          <p:cNvPicPr/>
          <p:nvPr/>
        </p:nvPicPr>
        <p:blipFill>
          <a:blip r:embed="rId2"/>
          <a:stretch/>
        </p:blipFill>
        <p:spPr>
          <a:xfrm>
            <a:off x="828720" y="79200"/>
            <a:ext cx="723564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298440" y="-360360"/>
            <a:ext cx="7486560" cy="13906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-360" y="1196640"/>
            <a:ext cx="8072280" cy="62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Автор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Жанр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Герои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Место действия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События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476280" y="-171360"/>
            <a:ext cx="7235640" cy="1562040"/>
          </a:xfrm>
          <a:prstGeom prst="rect">
            <a:avLst/>
          </a:prstGeom>
          <a:ln w="0">
            <a:noFill/>
          </a:ln>
        </p:spPr>
      </p:pic>
      <p:pic>
        <p:nvPicPr>
          <p:cNvPr id="238" name="Григ. Сюита «Пер Гюнт». Утро.mp3" descr=""/>
          <p:cNvPicPr/>
          <p:nvPr/>
        </p:nvPicPr>
        <p:blipFill>
          <a:blip r:embed="rId2"/>
          <a:stretch/>
        </p:blipFill>
        <p:spPr>
          <a:xfrm>
            <a:off x="8388360" y="59500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3" descr="оркестр.jpg"/>
          <p:cNvPicPr/>
          <p:nvPr/>
        </p:nvPicPr>
        <p:blipFill>
          <a:blip r:embed="rId3"/>
          <a:stretch/>
        </p:blipFill>
        <p:spPr>
          <a:xfrm>
            <a:off x="250920" y="985680"/>
            <a:ext cx="7634160" cy="58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8T17:22:52Z</dcterms:created>
  <dc:creator>Никита Миняев</dc:creator>
  <dc:description/>
  <dc:language>en-US</dc:language>
  <cp:lastModifiedBy>Никита Миняев</cp:lastModifiedBy>
  <dcterms:modified xsi:type="dcterms:W3CDTF">2015-04-18T17:26:24Z</dcterms:modified>
  <cp:revision>1</cp:revision>
  <dc:subject/>
  <dc:title>Урок музыки  «Путешествие в мир  музыки  Эдварда Грига»</dc:title>
</cp:coreProperties>
</file>