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1F5-8A82-4126-95DD-95670E73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5B2-EC9E-43C0-A537-EA5CC15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E56-5AF4-4269-9AD4-18DE5ADA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E03-FDDF-4924-8CED-59C4E048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8D2F-5049-42C2-AD7C-2E70AC72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2625-286C-45F1-88EE-7EEB24F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B25F-E9C7-4A5F-8232-922EAEBA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D4F3-F761-490D-AC23-AE9D16F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1236-2684-43CE-9E11-C06F5E14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21FA-D2C9-43B0-80E0-BBBC2BE1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D97-94ED-4DC4-9A40-7AA2387C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6A0-0921-47E9-8AB2-80357EE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ADAD-B4ED-4D10-B191-6E385088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23D-0133-497E-AB3C-6BA31F0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69C1-D2B0-4D00-96B8-ADAFB00B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A736-4C21-49D3-9E58-8192A58C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B6E-85D4-46A1-B347-B1CA5A72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4BD-66C3-4573-A49F-7FBCCDB5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91-754A-49F6-AF05-96C556F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ADB-04C2-412D-A65C-64D65B0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78A-4E5C-4F36-95E6-4F51C52B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4CE-E1EA-4211-B857-AA7D943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FD4-6267-4061-ABFE-3B165C9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15D-B49A-4B5F-8D22-73ACAAF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431-5067-4B12-8738-9882EE2A56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C16-0D61-48AF-BA02-3338F74976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yaznoy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tu.ru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lorist.r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«Голубь — чудесная птица!»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ab475"/>
                </a:solidFill>
                <a:latin typeface="Garamond"/>
              </a:rPr>
              <a:t>Программное содержание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обобщить знания детей о голубях, дать представление о породах голубей (сизый, почтовый, павлиний, развивать 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связную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 речь детей, совершенствовать грамматический строй речи, активизировать активный словарь (голубятня, воркование, сизари, голубеводы, воспитывать уважительное и бережное отношение к братья меньшим, желание помочь им в трудное время г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115160"/>
            <a:ext cx="393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 всех странах мира живё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дружбе народы зов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еснях нас воспеваю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мволом мира счит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зовут нас -Голуб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Исторические фак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240" y="1268280"/>
            <a:ext cx="73040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еловек приручил дикого голубя более 5000 </a:t>
            </a:r>
            <a:r>
              <a:rPr b="0" lang="en-US" sz="20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лет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 тому назад. С тех пор голубеводы вывели много пород домашних голубей, различных по цвету, форме тела и назначению. До настоящего времени ещё никто точно не подсчитал, сколько пород голубей содержат голубеводы во всех странах мира. Ориентировочно известно, что их более 800. В России имеется около 200 пород голубей отечественного происхожд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Ещё у древних людей голубь считался символом мира и дружбы. Птица редкая по окраске, очень легко приручается, быстро привязывается к человеку. Но у голубя есть и другие качества- он прекрасный почтальон. Человек давно заметил природную особенность голубей находить своё гнездо, свой дом даже на расстоя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3860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Голуби которые обитают в нашей област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565200"/>
            <a:ext cx="822960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авлин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авлиний голубь очень красивый. У него хвост похож на раскрытый вее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Голова -маленькая, узкая и аккуратная, без чуба или хохол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Клюв- тонкий, глаза- ясные, светлые, насторожен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Шея- тонкая, красиво изогнутая, плавно сужается к голове. Оперение чистое, аккуратно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Птица ходит на цыпочках, с легкостью, изящно запрокинув голову наза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Хвост носит  раскрытым. приподняты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очтовые голуб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Находят путь домой из любой точки мира – причем наука не знает, как именн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пособность «почтарей» вернуться в родную голубятню откуда угодно заметили еще древние греки.  Им ставили памятники. С тех пор голуби на службе человечества –  Почтовых голубей необходимо дрессировать: способность птиц возвращаться домой является следствием трениро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Чаще всего почтовые голуби бывают синего, красного и черного </a:t>
            </a:r>
            <a:r>
              <a:rPr b="0" lang="en-US" sz="16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цветов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. У синих разновидностей на крыльях и хвосте имеются черные пояса. У красных и черных голубей наблюдается выраженный синеватый налет, поэтому их следовало бы называть сизо-красными и сизо-черны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портивный голуб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- Крупная и сильная птица. Он быстро летает. Однажды спортивная голубка спасла людей. На борту погибающей подводной лодки была пара спортивных голубей. Моряки выпустили птиц на волю. Голубка долетела до дома и принесла весть об аварии, которая случилась далеко в море. Экипаж подводной лодки спасли. После этого в городе Лондоне поставили памятник спортивной голубк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икие голуб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Они занесены в «Красную книгу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охлатые голуб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Это самые распространённые  голуби нашего кра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Хохлатые голуби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Голубь и голуб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319280" cy="424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600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Почтов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032360" cy="3341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409572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174920" cy="372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416736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9767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48200" y="546588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35120" y="5105520"/>
            <a:ext cx="47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27480" y="465300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4568040"/>
            <a:ext cx="435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отянула я ладошк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ладони хлеба кро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летали голуб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мело брали хлеб с руки. М. Пиудун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6:10:30Z</dcterms:created>
  <dc:creator>Admin</dc:creator>
  <dc:description/>
  <dc:language>en-US</dc:language>
  <cp:lastModifiedBy>Admin</cp:lastModifiedBy>
  <dcterms:modified xsi:type="dcterms:W3CDTF">2015-04-18T17:16:56Z</dcterms:modified>
  <cp:revision>3</cp:revision>
  <dc:subject/>
  <dc:title>«Голубь — чудесная птица!» </dc:title>
</cp:coreProperties>
</file>