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24EE-9360-4F1C-8F90-5111644C4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FF51-6308-4B17-8089-13C0D024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D9E2-9A56-4AD8-A32F-E96430B1E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DD1C-EC21-4658-92D1-7244793B4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108B-FDEA-4131-9B15-F06CADB1C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47B7-4104-4831-BAFC-0D213406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288B-E353-4D66-B4DD-26B0BCF2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06A5-EB6A-4532-894C-FC880ED2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51F6-D362-4E1E-8B08-CB254B09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504F-DEBA-461C-B34B-AEDE1F83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CBBC-CB38-4746-A5ED-2B6ED9A4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6CD8-490A-4BE9-82D2-FE6CBC52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8EDD-FE96-4610-B936-C884C240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D2C1-719E-4284-AAD0-6C8A624B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DC1A-4450-4927-ABDA-F93E3DEB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DF04-FB29-40ED-B12C-C2F4E2256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0DA9-8707-41B2-981F-4E73DD9B5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F3B9-6CD3-4FF5-9E5C-F6031B83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4F3D-C2D4-4409-B109-2090532A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A04F-DE62-4137-A13C-2FE57BD3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F986-C96E-42A8-A1D2-B8270126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949F-B306-4321-915C-2125E97A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BAE8-709A-4FDD-8754-FB4C184B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BAE8-D99C-49D0-80A8-59087046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660C-A568-421A-A909-7DC17F03AC3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3262-6E95-41AA-864A-D70BADA7009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vyaznoy.ru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letu.ru/" TargetMode="External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lorist.ru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7991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Garamond"/>
              </a:rPr>
              <a:t>«Голубь — чудесная птица!»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ab475"/>
                </a:solidFill>
                <a:latin typeface="Garamond"/>
              </a:rPr>
              <a:t>Программное содержание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обобщить знания детей о голубях, дать представление о породах голубей (сизый, почтовый, павлиний, развивать </a:t>
            </a:r>
            <a:r>
              <a:rPr b="0" lang="en-US" sz="20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связную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 речь детей, совершенствовать грамматический строй речи, активизировать активный словарь (голубятня, воркование, сизари, голубеводы, воспитывать уважительное и бережное отношение к братья меньшим, желание помочь им в трудное время год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"/>
          <p:cNvSpPr/>
          <p:nvPr/>
        </p:nvSpPr>
        <p:spPr>
          <a:xfrm>
            <a:off x="2627280" y="4115160"/>
            <a:ext cx="3932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о всех странах мира живё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 дружбе народы зовё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песнях нас воспеваю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имволом мира считаю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 зовут нас -Голуб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Garamond"/>
              </a:rPr>
              <a:t>Исторические факт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240" y="1268280"/>
            <a:ext cx="730404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Человек приручил дикого голубя более 5000 </a:t>
            </a:r>
            <a:r>
              <a:rPr b="0" lang="en-US" sz="20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лет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 тому назад. С тех пор голубеводы вывели много пород домашних голубей, различных по цвету, форме тела и назначению. До настоящего времени ещё никто точно не подсчитал, сколько пород голубей содержат голубеводы во всех странах мира. Ориентировочно известно, что их более 800. В России имеется около 200 пород голубей отечественного происхожден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Ещё у древних людей голубь считался символом мира и дружбы. Птица редкая по окраске, очень легко приручается, быстро привязывается к человеку. Но у голубя есть и другие качества- он прекрасный почтальон. Человек давно заметил природную особенность голубей находить своё гнездо, свой дом даже на расстояни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3203640" y="3860640"/>
            <a:ext cx="489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Голуби которые обитают в нашей области.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565200"/>
            <a:ext cx="8229600" cy="62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Павлиний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Павлиний голубь очень красивый. У него хвост похож на раскрытый веер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Голова -маленькая, узкая и аккуратная, без чуба или хохолк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Клюв- тонкий, глаза- ясные, светлые, настороженны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Шея- тонкая, красиво изогнутая, плавно сужается к голове. Оперение чистое, аккуратно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Птица ходит на цыпочках, с легкостью, изящно запрокинув голову назад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Хвост носит  раскрытым. приподнятым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Почтовые голуб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Находят путь домой из любой точки мира – причем наука не знает, как именно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Способность «почтарей» вернуться в родную голубятню откуда угодно заметили еще древние греки.  Им ставили памятники. С тех пор голуби на службе человечества –  Почтовых голубей необходимо дрессировать: способность птиц возвращаться домой является следствием тренировк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Чаще всего почтовые голуби бывают синего, красного и черного </a:t>
            </a:r>
            <a:r>
              <a:rPr b="0" lang="en-US" sz="16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цветов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Garamond"/>
              </a:rPr>
              <a:t>. У синих разновидностей на крыльях и хвосте имеются черные пояса. У красных и черных голубей наблюдается выраженный синеватый налет, поэтому их следовало бы называть сизо-красными и сизо-черным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Спортивный голубь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- Крупная и сильная птица. Он быстро летает. Однажды спортивная голубка спасла людей. На борту погибающей подводной лодки была пара спортивных голубей. Моряки выпустили птиц на волю. Голубка долетела до дома и принесла весть об аварии, которая случилась далеко в море. Экипаж подводной лодки спасли. После этого в городе Лондоне поставили памятник спортивной голубке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Дикие голуб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Они занесены в «Красную книгу»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Хохлатые голуб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Это самые распространённые  голуби нашего кра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aramond"/>
              </a:rPr>
              <a:t>Хохлатые голуби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Garamond"/>
              </a:rPr>
              <a:t>Голубь и голубка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4319280" cy="4249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292720" y="1484280"/>
            <a:ext cx="360036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Garamond"/>
              </a:rPr>
              <a:t>Почтовы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4032360" cy="3341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716360" y="1628640"/>
            <a:ext cx="4095720" cy="32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4174920" cy="3721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572000" y="981000"/>
            <a:ext cx="4167360" cy="37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692360" y="333360"/>
            <a:ext cx="5976720" cy="3672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048200" y="5465880"/>
            <a:ext cx="311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35120" y="5105520"/>
            <a:ext cx="470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327480" y="4653000"/>
            <a:ext cx="44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92200" y="4568040"/>
            <a:ext cx="435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ротянула я ладошку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а ладони хлеба крош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рилетали голуб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мело брали хлеб с руки. М. Пиудун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8T16:10:30Z</dcterms:created>
  <dc:creator>Admin</dc:creator>
  <dc:description/>
  <dc:language>en-US</dc:language>
  <cp:lastModifiedBy>Admin</cp:lastModifiedBy>
  <dcterms:modified xsi:type="dcterms:W3CDTF">2015-04-18T17:16:56Z</dcterms:modified>
  <cp:revision>3</cp:revision>
  <dc:subject/>
  <dc:title>«Голубь — чудесная птица!» </dc:title>
</cp:coreProperties>
</file>