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6A4-3E0E-4A6E-AC86-94CEBBDAC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618D-7751-4DE3-ACF3-BD3F1DA57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9D6-A29E-4389-9558-8A88B733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B81-3A44-4D79-814A-79FF3BA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1B22B-DA5E-44CE-96EA-EB4D649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9090-919F-443A-807F-8D51AFE2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F55CB-6475-4543-B138-A7C2651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29EE8-B887-40E7-BE75-29D8E0E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ECE6B-C9A9-41B2-806B-7037872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B388D-9424-457B-8469-B5C0241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C59C3-9BE5-4D13-9A78-A1431BE7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91359-A3DD-4D55-96AF-90CF1BB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497F-A55E-42B1-BE19-4AB2C48F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9C8-1736-43A2-8BF7-AFD78CC7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E83-B3C9-4ED6-9118-B4744190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322E-552F-4EAF-B408-B6B7ED19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303-191B-45E3-A0FE-860DF59E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214-B9F5-44E5-86FD-AD304B7D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4B3-E3D7-411C-BCF9-91D5C0E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37CF-1CCE-4B59-AFAF-D1007AE8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46CF-7A0A-4BA5-BBDB-5AB1E7B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362E-C0AD-4323-A0B9-B549CC8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E2E-BA93-4DD3-B0FD-EF453BF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D62-538F-4EF7-A8F8-E8D50B1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E83-398B-41F6-8B7B-03305D7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B51-ED07-49D2-9E83-2459665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F75D-920D-48D0-A19F-17DEBA1F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2282-E2DB-444D-A3FE-89524B6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35FA-801D-4EB0-B86B-0F8FDBCA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C76C-943D-46B3-AB1E-A264ABA8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F00A-050D-4E9F-81C6-4A0AB954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0DAC-8771-4990-B0A1-00CFC34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57FC-6348-4263-BA61-8FD258A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648-F61A-4517-9914-6C8A49CA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A47B-5CA5-4E6C-8B09-D5FADA3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F5BC-003E-45AD-9606-5D1F8B7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696D-D338-484B-9094-565725B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C81A-5622-4098-8802-7799D1F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0ECF-8124-4D64-BCEF-CC3B302D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5279-0325-4E13-B385-B37DFB76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7464-614E-4227-B8A1-A828D815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16A8-FE7B-4AC1-9D8C-0A5419E5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1AD6-B76F-49A0-9736-E2CF4F9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CAEF-CC99-41B5-9D59-A2694E01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333-3F36-4A98-951C-7853E21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9EEA-2A4E-4139-9784-F06EA04D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8208-93A4-4256-8BCA-7FFB716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A6E6-B524-4ED0-B428-B1EF10E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29999-C695-4628-8B90-43FD6A6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A34B-C252-4BF1-A21E-C00FAE3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2D53-60F3-4967-A1A5-095C0259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526A-047F-4C78-9CEB-737B4400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D79B-4FA1-419D-AFF4-A7990392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6F1B-90CE-40BB-8ECC-67C0140A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3CBE-24AC-498E-B1F3-2E146EAB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2D9-3418-466D-9B6A-7A0587B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AC7D-72AC-4230-AD5C-870BF562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346E-CD1B-49C2-88FA-4EA802CE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89E2-1087-4BAD-9A43-4612BCBE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F858-102D-4CE9-B115-5FC593BF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7C393-EDB8-43BC-B948-3B47F753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14D3-873C-4A8F-BEE3-02E44D0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9316-2982-4390-A5F7-812AADE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50B57-F8D7-45E3-AEB9-D431E0B3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9D4C-3FBA-458A-BBB7-E1076DD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4694-03DC-45C0-BB44-93B5EDE4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290-EE0B-44DD-8347-5D7DA34F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2E56-A4D4-421D-AF48-65C3EF8D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4B48-2E7E-4365-BAEA-89B7E39D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DAE7-67C6-4072-909D-9382B825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3036-7A27-42D1-96B8-D2F308F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D699-AAB8-4B26-81A8-5C6EF89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FE71-0E04-44A8-9C1B-D1373EC1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E108-B457-46CC-A340-400BD47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F20B-2ED7-4A03-BF04-2F556F3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28BD-67D8-478F-B5C7-DEDB58B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3EEAF-B310-4F9E-B014-3884067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989-5A42-411B-AE54-D1D303A9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0533-3765-44A2-ACFE-FB7E55E6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A910-D11F-4A8D-835D-2B861BC9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EFDF-2083-48F9-9C2D-0D5CE471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18122-F0CD-4801-85FD-7ABF6EE6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DB5AB-0743-4EBB-B850-D7D83AB1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DBBB-7CF6-4E6A-8228-E0A6CA97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B359-2A55-4F0B-91A1-07E4FDA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A8EC-5F12-4272-B001-A2BA0AA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85222-3A9A-4627-81BA-116A9B0E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AE53-87D3-4CC3-8A3D-E77D745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423-3E32-42B7-A012-19A4598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4919-4619-4E8A-AAED-F9F1066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35634-FC75-4249-8B69-B319DB2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46EF5-D4F6-4E8C-82CA-0286EADD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1CE0-6E97-4392-A4FA-160E9CA6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6ABD-7C25-4A97-8049-A2BC3211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D9E4-BD1C-460C-83B5-A4B06809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8824F-0C64-45E6-978A-65B27B02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19EE-1169-4AD4-AF93-21A1C1A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C11D-19A3-47E4-857B-A93BE15C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FCE53-645B-4FDC-AC41-DADFC689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CBE-F322-4142-979A-57BC051A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E598A-04BB-4480-971C-E8B96D4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3D9A-9090-417D-836E-107FF4F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81C2-B964-443D-9868-F406FD8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AB411-F3C5-4005-BB33-48C1E1B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BD44-EF76-43EC-844B-B3C7F1B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DC36-8899-4402-91AC-D31D40CE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83CD-DD5B-499C-883C-43FD04BD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95CD-1A34-48BA-BAC9-9DF3536B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B3D78-74DA-48D8-89CC-0A53B43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1E557-CE03-43B9-B40D-649070F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3FA-CA1A-4134-AB0A-5AF4AC18B2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0F8-F086-4577-8A2F-D715E71DAD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70C-8064-4E58-A533-5AA4CEDFDE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498-03F0-4205-891A-23F213F332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4BC5-D018-4F14-B781-4EE1740509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E8E2-6EE9-4A50-AD49-712F1BF58A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64CC-0FE1-4004-9C2C-809A6B7CA9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E838-E31A-4A63-8A7B-66E52EAC8F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7938-AB43-4EFB-ADB7-5616C29676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#3. &#1057;&#1083;&#1072;&#1081;&#1076; 3" TargetMode="External"/><Relationship Id="rId2" Type="http://schemas.openxmlformats.org/officeDocument/2006/relationships/hyperlink" Target="file:///&#1055;&#1086;&#1088;&#1090;&#1092;&#1086;&#1083;&#1080;&#1086;.ppt#4. &#1057;&#1083;&#1072;&#1081;&#1076; 4" TargetMode="External"/><Relationship Id="rId3" Type="http://schemas.openxmlformats.org/officeDocument/2006/relationships/hyperlink" Target="file:///&#1055;&#1086;&#1088;&#1090;&#1092;&#1086;&#1083;&#1080;&#1086;.ppt#5. &#1057;&#1083;&#1072;&#1081;&#1076; 5" TargetMode="External"/><Relationship Id="rId4" Type="http://schemas.openxmlformats.org/officeDocument/2006/relationships/hyperlink" Target="file:///&#1055;&#1086;&#1088;&#1090;&#1092;&#1086;&#1083;&#1080;&#1086;.ppt#6. &#1057;&#1083;&#1072;&#1081;&#1076; 6" TargetMode="External"/><Relationship Id="rId5" Type="http://schemas.openxmlformats.org/officeDocument/2006/relationships/hyperlink" Target="file:///&#1055;&#1086;&#1088;&#1090;&#1092;&#1086;&#1083;&#1080;&#1086;.ppt#8. &#1057;&#1083;&#1072;&#1081;&#1076; 8" TargetMode="External"/><Relationship Id="rId6" Type="http://schemas.openxmlformats.org/officeDocument/2006/relationships/hyperlink" Target="file:///&#1055;&#1086;&#1088;&#1090;&#1092;&#1086;&#1083;&#1080;&#1086;.ppt#9. &#1057;&#1083;&#1072;&#1081;&#1076; 9" TargetMode="External"/><Relationship Id="rId7" Type="http://schemas.openxmlformats.org/officeDocument/2006/relationships/hyperlink" Target="file:///&#1055;&#1086;&#1088;&#1090;&#1092;&#1086;&#1083;&#1080;&#1086;.ppt#10. &#1057;&#1083;&#1072;&#1081;&#1076; 10" TargetMode="External"/><Relationship Id="rId8" Type="http://schemas.openxmlformats.org/officeDocument/2006/relationships/hyperlink" Target="file:///&#1055;&#1086;&#1088;&#1090;&#1092;&#1086;&#1083;&#1080;&#1086;.ppt#11. &#1057;&#1083;&#1072;&#1081;&#1076; 11" TargetMode="External"/><Relationship Id="rId9" Type="http://schemas.openxmlformats.org/officeDocument/2006/relationships/hyperlink" Target="file:///&#1055;&#1086;&#1088;&#1090;&#1092;&#1086;&#1083;&#1080;&#1086;.ppt#13. &#1057;&#1083;&#1072;&#1081;&#1076; 13" TargetMode="External"/><Relationship Id="rId10" Type="http://schemas.openxmlformats.org/officeDocument/2006/relationships/hyperlink" Target="file:///&#1055;&#1086;&#1088;&#1090;&#1092;&#1086;&#1083;&#1080;&#1086;.ppt#15. &#1057;&#1083;&#1072;&#1081;&#1076; 15" TargetMode="External"/><Relationship Id="rId11" Type="http://schemas.openxmlformats.org/officeDocument/2006/relationships/hyperlink" Target="file:///&#1055;&#1086;&#1088;&#1090;&#1092;&#1086;&#1083;&#1080;&#1086;.ppt#16. &#1057;&#1083;&#1072;&#1081;&#1076; 16" TargetMode="External"/><Relationship Id="rId12" Type="http://schemas.openxmlformats.org/officeDocument/2006/relationships/hyperlink" Target="file:///&#1055;&#1086;&#1088;&#1090;&#1092;&#1086;&#1083;&#1080;&#1086;.ppt#14. &#1057;&#1083;&#1072;&#1081;&#1076; 14" TargetMode="External"/><Relationship Id="rId13" Type="http://schemas.openxmlformats.org/officeDocument/2006/relationships/hyperlink" Target="file:///&#1055;&#1086;&#1088;&#1090;&#1092;&#1086;&#1083;&#1080;&#1086;.ppt#7. &#1057;&#1083;&#1072;&#1081;&#1076; 7" TargetMode="External"/><Relationship Id="rId14" Type="http://schemas.openxmlformats.org/officeDocument/2006/relationships/hyperlink" Target="file:///&#1055;&#1086;&#1088;&#1090;&#1092;&#1086;&#1083;&#1080;&#1086;.ppt#12. &#1057;&#1083;&#1072;&#1081;&#1076; 12" TargetMode="External"/><Relationship Id="rId15" Type="http://schemas.openxmlformats.org/officeDocument/2006/relationships/hyperlink" Target="file:///&#1055;&#1086;&#1088;&#1090;&#1092;&#1086;&#1083;&#1080;&#1086;.ppt#17. &#1057;&#1083;&#1072;&#1081;&#1076; 17" TargetMode="External"/><Relationship Id="rId1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92;&#1086;&#1083;&#1080;&#1086;.ppt" TargetMode="External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774720"/>
            <a:ext cx="8508960" cy="21398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4572000" y="407196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ыполнила ученица 11 клас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Крупская Екате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уководитель: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Крупская Светлана Анатольевна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2143080" y="592920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МКОУ Шелех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2"/>
          <p:cNvSpPr/>
          <p:nvPr/>
        </p:nvSpPr>
        <p:spPr>
          <a:xfrm>
            <a:off x="3571920" y="71424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Мета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357120" y="128592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Употребление слова в переносном значении на основе сходства в каком – либо отношении двух предметов или явлений. Метафора – один из наиболее распространенных тропов, так как сходство между предметами или явлениями может быть основано на самых различных чер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нос корабля, ножка стола, заря жизни, льется речь, стальное перо, стрелка часов, дверная ручка, лист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227640" y="544500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3143160" y="6429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571680" y="121428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состоящая в соединении двух понятий, противоречащих друг другу, логически исключающих одно другое, в результате которого возникает новое смысловое качество. Оксюморон всегда содержит элемент неожид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горькая радость, красноречивое молчание, сладкая скорбь, грустная радость. </a:t>
            </a: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На оксюмороне нередко строится заголовок произведения: </a:t>
            </a: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Л. Толстой «Живой труп», Ю. Бондарев «Горячий снег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5724360" y="580536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1"/>
          <p:cNvSpPr/>
          <p:nvPr/>
        </p:nvSpPr>
        <p:spPr>
          <a:xfrm>
            <a:off x="2928960" y="5716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"/>
          <p:cNvSpPr/>
          <p:nvPr/>
        </p:nvSpPr>
        <p:spPr>
          <a:xfrm>
            <a:off x="357120" y="121428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состоящий в том, что неодушевленному предмету, отвлеченному понятию, живому существу, не наделенному сознанием, приписываются качества или действия, присущие человеку, - дар речи, способность мыслить и чувств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О чем ты воешь, ветр ночной, о чем так сетуешь безумно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5508720" y="5373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3000240" y="6429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Парцелля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357120" y="1357200"/>
            <a:ext cx="8215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акое членение предложения, при котором содержание высказывания реализуется не в одной, а в двух или нескольких интонационно – смысловых речевых единицах, следующих одна за другой после разделительной па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с девушкой он вскоре поссорился. И вот из – за чего.                                        ( Гл. Успенск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5076720" y="508464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214800" y="6429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Умолч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285840" y="128592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Оборот речи, заключающийся в том, что автор должен, не до конца выражать мысль, представляя читателю самому догадаться, что именно осталось не высказа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Но слушай: если я должна тебе… кинжалом я владею, я вблизи, я близ Кавказа рождена.                  (Пушкин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4932360" y="5157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643200" y="6429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Эпи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428760" y="1285920"/>
            <a:ext cx="82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Художественное, образное определение, вид тропа. При расширенном толковании эпитетом называют не только прилагательное, определяющее существительное, но и существительное – приложение, а также наречие, метафорически определяющее гла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мороз – воевода, бродяга – ветер, старик – океан; гордо реет Буревестник.                     (Горь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5219640" y="5445000"/>
            <a:ext cx="93492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1"/>
          <p:cNvSpPr/>
          <p:nvPr/>
        </p:nvSpPr>
        <p:spPr>
          <a:xfrm>
            <a:off x="3357720" y="7142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Эпи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428760" y="142884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противоположная анафоре, заключающаяся в повторении одних и тех же элементов в конце каждого параллельного ряда ( стиха, строфы, предложения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Мне бы хотелось знать, отчего я титулярный советник? Почему именно титулярный советник?  (Гогол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5003640" y="551664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40560" y="1144440"/>
            <a:ext cx="486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меня  в душе ни одного седого вол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арческой нежности нет в 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 огромив мощью голоса, ид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ый двадцатидвухлет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.Мая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315080" y="3160800"/>
            <a:ext cx="22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r>
              <a:rPr b="0" lang="ru-RU" sz="1800" spc="-1" strike="noStrike">
                <a:solidFill>
                  <a:srgbClr val="1910c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2993760" y="537372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754560" y="765000"/>
            <a:ext cx="61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Пушкин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81620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1042920" y="3068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2909520" y="4987800"/>
            <a:ext cx="45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3115"/>
                </a:solidFill>
                <a:latin typeface="Arial"/>
              </a:rPr>
              <a:t>Правильный ответ: 4. Оксюм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403280" y="981000"/>
            <a:ext cx="4572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чар, как грозный час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- один во всей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.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971640" y="306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2489760" y="486900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    3.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571760" y="785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Segoe Print"/>
              </a:rPr>
              <a:t>Выразительные средст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395280" y="148428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"/>
              </a:rPr>
              <a:t>Алл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857160" y="1928880"/>
            <a:ext cx="250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2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619280" y="2565360"/>
            <a:ext cx="214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3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324000" y="2997360"/>
            <a:ext cx="207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4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1692360" y="4292640"/>
            <a:ext cx="207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5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539640" y="486900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6"/>
              </a:rPr>
              <a:t>Ли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6300720" y="14130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7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0"/>
          <p:cNvSpPr/>
          <p:nvPr/>
        </p:nvSpPr>
        <p:spPr>
          <a:xfrm>
            <a:off x="5651640" y="1989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8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5940360" y="321300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9"/>
              </a:rPr>
              <a:t>Парцел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6804000" y="4221000"/>
            <a:ext cx="16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0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4932360" y="486900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1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4859280" y="37162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Segoe Print"/>
                <a:hlinkClick r:id="rId12"/>
              </a:rPr>
              <a:t>Умол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015200" y="36450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3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4430880" y="26370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Arial"/>
                <a:hlinkClick r:id="rId14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2905200" y="56815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5"/>
              </a:rPr>
              <a:t>Практически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826920" y="105264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Какой троп используется в текс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ло всё кругом: устал и цвет неб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етер, и река, и месяц, что род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очь, и в зелени потусклой спящий л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жёлтый тот листок, что наконец свал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.Ф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104292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1.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2. 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0ce"/>
                </a:solidFill>
                <a:latin typeface="Arial"/>
              </a:rPr>
              <a:t>4. Оксюмо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778120" y="50846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3115"/>
                </a:solidFill>
                <a:latin typeface="Arial"/>
              </a:rPr>
              <a:t>Правильный ответ:     3. Олице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WordArt 2"/>
          <p:cNvSpPr txBox="1"/>
          <p:nvPr/>
        </p:nvSpPr>
        <p:spPr>
          <a:xfrm>
            <a:off x="971640" y="220500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успеха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3357720" y="285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db3115"/>
                </a:solidFill>
                <a:latin typeface="Segoe Print"/>
              </a:rPr>
              <a:t>Аллег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500040" y="135720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заключающийся в иносказательном изображении отвлеченного понятия при помощи конкретного, жизненного обр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в баснях и сказках хитрость показывается в образе лисы, жадность в обличии волка, коварство – в виде зме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">
            <a:hlinkClick r:id="rId1"/>
          </p:cNvPr>
          <p:cNvSpPr/>
          <p:nvPr/>
        </p:nvSpPr>
        <p:spPr>
          <a:xfrm>
            <a:off x="5076720" y="479736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3286080" y="6429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3115"/>
                </a:solidFill>
                <a:latin typeface="Segoe Print"/>
              </a:rPr>
              <a:t>Аллитер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428760" y="1285920"/>
            <a:ext cx="814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Повторение одинаковых согласных звуков или звукосочетаний как стилистический прием, придающее литературному тексту, обычно стиху, особую звуковую и интонационную вырази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Шипенье пенистых бокалов и пунша пламень голубой» (А.С. Пушкин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5">
            <a:hlinkClick r:id="rId1"/>
          </p:cNvPr>
          <p:cNvSpPr/>
          <p:nvPr/>
        </p:nvSpPr>
        <p:spPr>
          <a:xfrm>
            <a:off x="5076720" y="479736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3643200" y="5716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Ана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428760" y="1225440"/>
            <a:ext cx="828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Стилистическая фигура, заключающаяся в повторении одних и тех же элементов в начале каждого параллельного ряда. Анафора широко используется при построении периода, члены которого начинаются одними и теми же служебными сло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Segoe Print"/>
              </a:rPr>
              <a:t>Например: Мало того что осуждена я на такую страшную участь; мало того что перед концом своим должна видеть, как станут умирать в невыразимых муках отец и мать, для спасения которых двадцать раз готова была бы отдать жизнь свою, - мало всего этого: нужно, чтобы перед концом своим мне довелось увидеть и услышать слова и любовь, какой не видала я (Гого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>
            <a:hlinkClick r:id="rId1"/>
          </p:cNvPr>
          <p:cNvSpPr/>
          <p:nvPr/>
        </p:nvSpPr>
        <p:spPr>
          <a:xfrm>
            <a:off x="5364000" y="5805360"/>
            <a:ext cx="93528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3276720" y="5493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Гипер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500040" y="12142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Образное выражение, содержащее непомерное преувеличение размера, силы , значения и т.д. какого – либо предмета, явления. Средствами гиперболы автор усиливает нужное впечатление или подчеркивает, что он прославляет,  а что вспоминает. В художественной речи гипербола часто  переплетается с другими  средствами – метафорами, олицетворениями, сравн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В сто сорок солнц закат пылал»                         ( Маяковский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">
            <a:hlinkClick r:id="rId1"/>
          </p:cNvPr>
          <p:cNvSpPr/>
          <p:nvPr/>
        </p:nvSpPr>
        <p:spPr>
          <a:xfrm>
            <a:off x="5364000" y="573408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3429000" y="5716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Град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500040" y="1357200"/>
            <a:ext cx="814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тилистическая фигура, состоящая в таком расположении частей высказывания, при котором каждая последующая заключает в себе усиливающееся смысловое или эмоционально – экспрессивное значение, благодаря чему создается нарастание производимого ими впечат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Не жалею, не зову, не плачу…»                     ( С.А. Есени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>
            <a:hlinkClick r:id="rId1"/>
          </p:cNvPr>
          <p:cNvSpPr/>
          <p:nvPr/>
        </p:nvSpPr>
        <p:spPr>
          <a:xfrm>
            <a:off x="5076720" y="5589720"/>
            <a:ext cx="93528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3357720" y="57168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Инвер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500040" y="1357200"/>
            <a:ext cx="8072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Изменение обычного порядка слов и словосочетаний, составляющих предложение; используется обычно для выделения того или иного элемента предложения или придания предложению особого с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 Тут сгорел мой приятель со стыда»                      (Турген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148360" y="5373720"/>
            <a:ext cx="934920" cy="64764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857760" y="64296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3115"/>
                </a:solidFill>
                <a:latin typeface="Segoe Print"/>
              </a:rPr>
              <a:t>Лит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428760" y="128592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Троп, противоположный гиперболе. Литота – это образное выражение, оборот, в котором содержится художественное преуменьшение величины, силы, значения изображаемого предмета или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Segoe Print"/>
              </a:rPr>
              <a:t>Например: «Мальчик с пальчик, мужичок с ноготок», «Ниже тоненькой былиночки надо голову клонить»       (Некрасов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5148360" y="5084640"/>
            <a:ext cx="934920" cy="648000"/>
          </a:xfrm>
          <a:prstGeom prst="lightningBol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2:44Z</dcterms:created>
  <dc:creator>Пользователь</dc:creator>
  <dc:description/>
  <dc:language>en-US</dc:language>
  <cp:lastModifiedBy>Admin</cp:lastModifiedBy>
  <dcterms:modified xsi:type="dcterms:W3CDTF">2015-04-18T08:25:46Z</dcterms:modified>
  <cp:revision>32</cp:revision>
  <dc:subject/>
  <dc:title>Слайд 1</dc:title>
</cp:coreProperties>
</file>