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14FC-B349-4D78-96DF-7291FD53A1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9AB4-07AA-4356-A7F9-EF81E3BC54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C2A-B388-48BB-B030-F04F43D6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FF4-0D04-4426-9A79-8A656CE9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2DA1A-8AE5-4C01-B1A6-EDB194EC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EF33A-850D-4F3F-81C1-FDD71B18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ECBCA-9EF6-40E3-8B12-EE2924C0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9E3B1-42EA-44CB-82FD-BD005F74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7D7AE-3726-417C-9C13-6E5A2D42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71F14-B32E-4C53-8BF2-E306B832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D002A-4236-4653-BD9F-7BB175BD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2BEB5-8086-4EF5-900E-AFE33EBD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1767A-3462-4128-9B4E-C4142DEF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F0F-A3F8-47C6-A2B6-52598E3A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FE9-6260-4820-9193-8A81CF9A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D729-F07A-4BD4-8144-C1FBB607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D45C-2B34-4F07-92B0-30B5244A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6360-12C9-479B-8DE1-B01518D3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97C8-1D37-4F3D-95A6-FD1A0CBF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B2BC-6B66-4E7A-ABB7-E028E2BC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84FF-C51A-4DA1-B341-077CA2A1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F1B5-60D3-48F6-A8F4-B8BD0896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697-158C-4F9B-A3A8-B5EB490A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D37F-AEA6-47B3-B475-9705653C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7DD6-D605-48D6-BD33-A751F8C7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B1AF-DBEA-4789-B56C-23E49E84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54E8-0A08-407D-922E-CFB20A48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EC22-A618-4127-AE4D-19AD1C95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819FA-A688-41C9-9B55-5975B520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9600D-9713-4918-BE13-9E612649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C09BC-0FF9-4B07-B694-BA1D23D9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10913-0397-4915-9566-A1A494B7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0B7E9-C3FB-4128-9DEC-7C2C6A7E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EDC-8C30-4B50-B0D1-279B9D17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77516-4136-4946-8F64-B9FBE877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DE37-B5D9-4A48-9848-2F54804F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114AD-9268-4038-9889-8E457270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BAC00-B010-4B3E-8C74-9B79F190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8A272-6C85-423E-84E5-7DD37EE0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9CF7-FCA1-4C77-8DC8-4EE3982C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28A04-A091-475C-A15B-C00A4A68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F0F20-FDEB-4DB7-8AB1-FA7B4E12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21029-F736-4A79-AA27-5DE4EB54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2F45-4D33-465D-A322-3E0832AF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5F8-FCCC-4035-83C8-B90840AD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44C92-639E-4DD4-83E9-139F371E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E42AF-2718-477F-A608-1AD1A0D5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2598B-9AE8-4FEB-A1B2-BB620188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4DD58-CFDA-4AF7-8AAC-16DF0F7B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E33B2-51B7-48D4-B82B-40F06128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FB2FA-18B8-4C89-BEFA-8AC07304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FB2F5-ABE6-4275-AD0F-38C687AE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2FBBC-32D5-4CE6-8588-B63512F4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90670-5F52-4368-ACA7-78D63543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3C48B-85FF-4582-8867-C567216F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A49-FD26-4ADF-BF0B-8EC5446F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83B48-8F16-40EB-ACD1-606C0ABF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06B24-BB68-4E74-9230-E805C8D8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F83F4-7128-4DEA-88A4-B7B8FD04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8072F-C013-40F5-AE63-7574BCBB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D47B2-E9A2-4CD5-A1DB-B55BC107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789E2-F73C-4790-B245-04540E13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5C5A7-94DA-46B9-BCC8-0D0C241B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887F6-EEAD-486D-9255-E210E0B4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E71A8-0565-47B7-835D-4FCCB610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018F3-87F1-442E-AD4A-92D4EFC4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2A6-E97A-4952-B920-A5BFB1F8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00F31-387F-4CE6-AE19-98497EAD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C6EA1-F699-4997-9EEE-F9EC2FCB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0EBF9-0FB6-4BA9-9E1E-FC56FE88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C6A54-3E67-41F7-98A9-DB8078F7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86E50-8ACF-4118-AAF5-E7E977C2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6E6DB-6B1F-4E5C-9F0C-FC4CC22D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E2FF6-A187-4832-A181-92FB5373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5748D-26F5-4491-AA5B-FEC48B92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AE8E2-CA75-42F5-9FED-92107D6B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8DBE5-9E9D-44C3-8FDB-88D9E5DA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36A-D7AA-427C-ABA4-D19BE88C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EDCF7-462E-496B-9B8B-5A4F428D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22E2C-BF82-4130-8A0E-43B1FECC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D177B-FE3E-4C69-B565-964AC046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8870E-43D4-4BC0-AB35-151B22B2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0E830-8F7E-455E-9A07-9144A6A8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943B4-C950-4CAA-A3B7-8BF768C0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58A57-83DE-4CF8-A84B-6ED0C472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256B1-847E-4D02-8764-C0C3389B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10DDE-EA0A-4AF2-936C-73585E6E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53E2F-F432-4864-89C7-6E16E36C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C2F-E231-4275-9994-C79ABA5E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163AA-E179-4E6B-9D65-58705CC4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552DE-591C-4C3E-8F4E-9FDDBACC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74757-81CC-47A2-8A4E-E391E45F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66249-CAFD-4E50-81E9-10AC1495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0E4BA-8C45-41C4-B1DC-ED6DD6FC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76D1A-C4B7-413B-A3A5-6FA5631E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2C438-6F0A-4BE9-AE88-9DE3E4B4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498B6-D005-43EB-9976-73B5916C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A7179-4D1B-4D5C-847B-5BE27FAE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B9BED-C2A8-4C9C-A66E-D84B05C6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329-9FA8-4FE8-AA75-F10F7023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4166C-A632-462D-BB2E-CC5267F0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11B75-18BD-4DE0-B93D-9C84803E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E6236-05A7-4056-8F40-81FFCAE9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24E0E-2401-4E6C-96C5-4A4E19C9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62997-2A40-4FF0-B522-1BAC5708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BE190-D51F-4B8E-B75F-551DC1FC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C17A3-FD8D-4340-88BD-4C306991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87007-B047-4024-BD36-4A58AFF6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2F4EA-08E1-4B1F-B213-CE593B5D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76632-9DE0-47BC-8429-399330CE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DB17-4DD3-4321-9143-B774A037B07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5851-7EBA-426D-B8DE-18F9AFCFACD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DC0F-1890-4CD9-A145-F074A764627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8784-7454-41F6-8551-11525F0BF0B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6078-EE34-4807-8B17-29C9ADD8AD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687F-DD2F-4C08-9A96-2C2EE07F3FD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BAA2-1C5D-46AF-B26A-9AB354520AC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0D6F-CCCD-44B2-9E6E-2F7371D20D4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0CA2-19A7-4097-962A-9F369B22BE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5;&#1086;&#1088;&#1090;&#1092;&#1086;&#1083;&#1080;&#1086;.ppt#3. &#1057;&#1083;&#1072;&#1081;&#1076; 3" TargetMode="External"/><Relationship Id="rId2" Type="http://schemas.openxmlformats.org/officeDocument/2006/relationships/hyperlink" Target="file:///&#1055;&#1086;&#1088;&#1090;&#1092;&#1086;&#1083;&#1080;&#1086;.ppt#4. &#1057;&#1083;&#1072;&#1081;&#1076; 4" TargetMode="External"/><Relationship Id="rId3" Type="http://schemas.openxmlformats.org/officeDocument/2006/relationships/hyperlink" Target="file:///&#1055;&#1086;&#1088;&#1090;&#1092;&#1086;&#1083;&#1080;&#1086;.ppt#5. &#1057;&#1083;&#1072;&#1081;&#1076; 5" TargetMode="External"/><Relationship Id="rId4" Type="http://schemas.openxmlformats.org/officeDocument/2006/relationships/hyperlink" Target="file:///&#1055;&#1086;&#1088;&#1090;&#1092;&#1086;&#1083;&#1080;&#1086;.ppt#6. &#1057;&#1083;&#1072;&#1081;&#1076; 6" TargetMode="External"/><Relationship Id="rId5" Type="http://schemas.openxmlformats.org/officeDocument/2006/relationships/hyperlink" Target="file:///&#1055;&#1086;&#1088;&#1090;&#1092;&#1086;&#1083;&#1080;&#1086;.ppt#8. &#1057;&#1083;&#1072;&#1081;&#1076; 8" TargetMode="External"/><Relationship Id="rId6" Type="http://schemas.openxmlformats.org/officeDocument/2006/relationships/hyperlink" Target="file:///&#1055;&#1086;&#1088;&#1090;&#1092;&#1086;&#1083;&#1080;&#1086;.ppt#9. &#1057;&#1083;&#1072;&#1081;&#1076; 9" TargetMode="External"/><Relationship Id="rId7" Type="http://schemas.openxmlformats.org/officeDocument/2006/relationships/hyperlink" Target="file:///&#1055;&#1086;&#1088;&#1090;&#1092;&#1086;&#1083;&#1080;&#1086;.ppt#10. &#1057;&#1083;&#1072;&#1081;&#1076; 10" TargetMode="External"/><Relationship Id="rId8" Type="http://schemas.openxmlformats.org/officeDocument/2006/relationships/hyperlink" Target="file:///&#1055;&#1086;&#1088;&#1090;&#1092;&#1086;&#1083;&#1080;&#1086;.ppt#11. &#1057;&#1083;&#1072;&#1081;&#1076; 11" TargetMode="External"/><Relationship Id="rId9" Type="http://schemas.openxmlformats.org/officeDocument/2006/relationships/hyperlink" Target="file:///&#1055;&#1086;&#1088;&#1090;&#1092;&#1086;&#1083;&#1080;&#1086;.ppt#13. &#1057;&#1083;&#1072;&#1081;&#1076; 13" TargetMode="External"/><Relationship Id="rId10" Type="http://schemas.openxmlformats.org/officeDocument/2006/relationships/hyperlink" Target="file:///&#1055;&#1086;&#1088;&#1090;&#1092;&#1086;&#1083;&#1080;&#1086;.ppt#15. &#1057;&#1083;&#1072;&#1081;&#1076; 15" TargetMode="External"/><Relationship Id="rId11" Type="http://schemas.openxmlformats.org/officeDocument/2006/relationships/hyperlink" Target="file:///&#1055;&#1086;&#1088;&#1090;&#1092;&#1086;&#1083;&#1080;&#1086;.ppt#16. &#1057;&#1083;&#1072;&#1081;&#1076; 16" TargetMode="External"/><Relationship Id="rId12" Type="http://schemas.openxmlformats.org/officeDocument/2006/relationships/hyperlink" Target="file:///&#1055;&#1086;&#1088;&#1090;&#1092;&#1086;&#1083;&#1080;&#1086;.ppt#14. &#1057;&#1083;&#1072;&#1081;&#1076; 14" TargetMode="External"/><Relationship Id="rId13" Type="http://schemas.openxmlformats.org/officeDocument/2006/relationships/hyperlink" Target="file:///&#1055;&#1086;&#1088;&#1090;&#1092;&#1086;&#1083;&#1080;&#1086;.ppt#7. &#1057;&#1083;&#1072;&#1081;&#1076; 7" TargetMode="External"/><Relationship Id="rId14" Type="http://schemas.openxmlformats.org/officeDocument/2006/relationships/hyperlink" Target="file:///&#1055;&#1086;&#1088;&#1090;&#1092;&#1086;&#1083;&#1080;&#1086;.ppt#12. &#1057;&#1083;&#1072;&#1081;&#1076; 12" TargetMode="External"/><Relationship Id="rId15" Type="http://schemas.openxmlformats.org/officeDocument/2006/relationships/hyperlink" Target="file:///&#1055;&#1086;&#1088;&#1090;&#1092;&#1086;&#1083;&#1080;&#1086;.ppt#17. &#1057;&#1083;&#1072;&#1081;&#1076; 17" TargetMode="External"/><Relationship Id="rId16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6;&#1088;&#1090;&#1092;&#1086;&#1083;&#1080;&#1086;.ppt" TargetMode="External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5;&#1086;&#1088;&#1090;&#1092;&#1086;&#1083;&#1080;&#1086;.ppt" TargetMode="External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5;&#1086;&#1088;&#1090;&#1092;&#1086;&#1083;&#1080;&#1086;.ppt" TargetMode="External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5;&#1086;&#1088;&#1090;&#1092;&#1086;&#1083;&#1080;&#1086;.ppt" TargetMode="External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5;&#1086;&#1088;&#1090;&#1092;&#1086;&#1083;&#1080;&#1086;.ppt" TargetMode="External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774720"/>
            <a:ext cx="8508960" cy="2139840"/>
          </a:xfrm>
          <a:prstGeom prst="rect">
            <a:avLst/>
          </a:prstGeom>
          <a:ln w="0">
            <a:noFill/>
          </a:ln>
        </p:spPr>
      </p:pic>
      <p:sp>
        <p:nvSpPr>
          <p:cNvPr id="407" name="TextBox 2"/>
          <p:cNvSpPr/>
          <p:nvPr/>
        </p:nvSpPr>
        <p:spPr>
          <a:xfrm>
            <a:off x="4572000" y="4071960"/>
            <a:ext cx="421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Выполнила ученица 11 клас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Крупская Екатер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Руководитель: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Крупская Светлана Анатольевна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3"/>
          <p:cNvSpPr/>
          <p:nvPr/>
        </p:nvSpPr>
        <p:spPr>
          <a:xfrm>
            <a:off x="2143080" y="5929200"/>
            <a:ext cx="41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МКОУ Шелех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2"/>
          <p:cNvSpPr/>
          <p:nvPr/>
        </p:nvSpPr>
        <p:spPr>
          <a:xfrm>
            <a:off x="3571920" y="71424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Метаф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3"/>
          <p:cNvSpPr/>
          <p:nvPr/>
        </p:nvSpPr>
        <p:spPr>
          <a:xfrm>
            <a:off x="357120" y="1285920"/>
            <a:ext cx="8286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Употребление слова в переносном значении на основе сходства в каком – либо отношении двух предметов или явлений. Метафора – один из наиболее распространенных тропов, так как сходство между предметами или явлениями может быть основано на самых различных чер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нос корабля, ножка стола, заря жизни, льется речь, стальное перо, стрелка часов, дверная ручка, лист бум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6227640" y="5445000"/>
            <a:ext cx="935280" cy="64800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3143160" y="64296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Оксюмо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2"/>
          <p:cNvSpPr/>
          <p:nvPr/>
        </p:nvSpPr>
        <p:spPr>
          <a:xfrm>
            <a:off x="571680" y="1214280"/>
            <a:ext cx="8072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Стилистическая фигура, состоящая в соединении двух понятий, противоречащих друг другу, логически исключающих одно другое, в результате которого возникает новое смысловое качество. Оксюморон всегда содержит элемент неожида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горькая радость, красноречивое молчание, сладкая скорбь, грустная радость. </a:t>
            </a: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На оксюмороне нередко строится заголовок произведения: </a:t>
            </a: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Л. Толстой «Живой труп», Ю. Бондарев «Горячий снег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5"/>
          <p:cNvSpPr/>
          <p:nvPr/>
        </p:nvSpPr>
        <p:spPr>
          <a:xfrm>
            <a:off x="5724360" y="5805360"/>
            <a:ext cx="935280" cy="64800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1"/>
          <p:cNvSpPr/>
          <p:nvPr/>
        </p:nvSpPr>
        <p:spPr>
          <a:xfrm>
            <a:off x="2928960" y="57168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Олицетв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"/>
          <p:cNvSpPr/>
          <p:nvPr/>
        </p:nvSpPr>
        <p:spPr>
          <a:xfrm>
            <a:off x="357120" y="1214280"/>
            <a:ext cx="8286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Троп, состоящий в том, что неодушевленному предмету, отвлеченному понятию, живому существу, не наделенному сознанием, приписываются качества или действия, присущие человеку, - дар речи, способность мыслить и чувств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О чем ты воешь, ветр ночной, о чем так сетуешь безумно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5508720" y="5373720"/>
            <a:ext cx="934920" cy="64764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1"/>
          <p:cNvSpPr/>
          <p:nvPr/>
        </p:nvSpPr>
        <p:spPr>
          <a:xfrm>
            <a:off x="3000240" y="64296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Парцелля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2"/>
          <p:cNvSpPr/>
          <p:nvPr/>
        </p:nvSpPr>
        <p:spPr>
          <a:xfrm>
            <a:off x="357120" y="1357200"/>
            <a:ext cx="8215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Такое членение предложения, при котором содержание высказывания реализуется не в одной, а в двух или нескольких интонационно – смысловых речевых единицах, следующих одна за другой после разделительной па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с девушкой он вскоре поссорился. И вот из – за чего.                                        ( Гл. Успенски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5076720" y="5084640"/>
            <a:ext cx="935280" cy="64800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3214800" y="6429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Умолч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"/>
          <p:cNvSpPr/>
          <p:nvPr/>
        </p:nvSpPr>
        <p:spPr>
          <a:xfrm>
            <a:off x="285840" y="1285920"/>
            <a:ext cx="835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Оборот речи, заключающийся в том, что автор должен, не до конца выражать мысль, представляя читателю самому догадаться, что именно осталось не высказан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Но слушай: если я должна тебе… кинжалом я владею, я вблизи, я близ Кавказа рождена.                  (Пушкин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>
            <a:off x="4932360" y="5157720"/>
            <a:ext cx="934920" cy="64764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Box 1"/>
          <p:cNvSpPr/>
          <p:nvPr/>
        </p:nvSpPr>
        <p:spPr>
          <a:xfrm>
            <a:off x="3643200" y="6429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Эпит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3"/>
          <p:cNvSpPr/>
          <p:nvPr/>
        </p:nvSpPr>
        <p:spPr>
          <a:xfrm>
            <a:off x="428760" y="1285920"/>
            <a:ext cx="8286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Художественное, образное определение, вид тропа. При расширенном толковании эпитетом называют не только прилагательное, определяющее существительное, но и существительное – приложение, а также наречие, метафорически определяющее гла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мороз – воевода, бродяга – ветер, старик – океан; гордо реет Буревестник.                     (Горь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5"/>
          <p:cNvSpPr/>
          <p:nvPr/>
        </p:nvSpPr>
        <p:spPr>
          <a:xfrm>
            <a:off x="5219640" y="5445000"/>
            <a:ext cx="934920" cy="64800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1"/>
          <p:cNvSpPr/>
          <p:nvPr/>
        </p:nvSpPr>
        <p:spPr>
          <a:xfrm>
            <a:off x="3357720" y="71424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Эпиф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"/>
          <p:cNvSpPr/>
          <p:nvPr/>
        </p:nvSpPr>
        <p:spPr>
          <a:xfrm>
            <a:off x="428760" y="1428840"/>
            <a:ext cx="814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Стилистическая фигура, противоположная анафоре, заключающаяся в повторении одних и тех же элементов в конце каждого параллельного ряда ( стиха, строфы, предложения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Мне бы хотелось знать, отчего я титулярный советник? Почему именно титулярный советник?  (Гогол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5003640" y="5516640"/>
            <a:ext cx="935280" cy="64764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4"/>
          <p:cNvSpPr/>
          <p:nvPr/>
        </p:nvSpPr>
        <p:spPr>
          <a:xfrm>
            <a:off x="1240560" y="1144440"/>
            <a:ext cx="486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3115"/>
                </a:solidFill>
                <a:latin typeface="Arial"/>
              </a:rPr>
              <a:t>Какой троп используется в текс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меня  в душе ни одного седого воло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тарческой нежности нет в н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 огромив мощью голоса, иду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ивый двадцатидвухлет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.Маяк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315080" y="3160800"/>
            <a:ext cx="22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1. Эп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2. Мета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3. Олицетво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4. Оксюморон</a:t>
            </a:r>
            <a:r>
              <a:rPr b="0" lang="ru-RU" sz="1800" spc="-1" strike="noStrike">
                <a:solidFill>
                  <a:srgbClr val="1910c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2993760" y="5373720"/>
            <a:ext cx="39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3115"/>
                </a:solidFill>
                <a:latin typeface="Arial"/>
              </a:rPr>
              <a:t>Правильный ответ: 2. Мета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754560" y="765000"/>
            <a:ext cx="618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3115"/>
                </a:solidFill>
                <a:latin typeface="Arial"/>
              </a:rPr>
              <a:t>Какой троп используется в тек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лю я пышное природы увядань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А.Пушкин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816200" y="287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1042920" y="3068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0ce"/>
                </a:solidFill>
                <a:latin typeface="Arial"/>
              </a:rPr>
              <a:t>1. Эп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0ce"/>
                </a:solidFill>
                <a:latin typeface="Arial"/>
              </a:rPr>
              <a:t>2. Мета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0ce"/>
                </a:solidFill>
                <a:latin typeface="Arial"/>
              </a:rPr>
              <a:t>3. Олицетво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0ce"/>
                </a:solidFill>
                <a:latin typeface="Arial"/>
              </a:rPr>
              <a:t>4. Оксюмо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2909520" y="4987800"/>
            <a:ext cx="45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b3115"/>
                </a:solidFill>
                <a:latin typeface="Arial"/>
              </a:rPr>
              <a:t>Правильный ответ: 4. Оксюмо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1403280" y="981000"/>
            <a:ext cx="45720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3115"/>
                </a:solidFill>
                <a:latin typeface="Arial"/>
              </a:rPr>
              <a:t>Какой троп используется в текс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чар, как грозный часов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ит - один во всей всел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.Пуш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971640" y="3068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1. Эп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2. Мета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3. 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4. Оксюмо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2489760" y="486900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3115"/>
                </a:solidFill>
                <a:latin typeface="Arial"/>
              </a:rPr>
              <a:t>Правильный ответ:     3. 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"/>
          <p:cNvSpPr/>
          <p:nvPr/>
        </p:nvSpPr>
        <p:spPr>
          <a:xfrm>
            <a:off x="1571760" y="785880"/>
            <a:ext cx="5715000" cy="4597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Segoe Print"/>
              </a:rPr>
              <a:t>Выразительные средства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"/>
          <p:cNvSpPr/>
          <p:nvPr/>
        </p:nvSpPr>
        <p:spPr>
          <a:xfrm>
            <a:off x="395280" y="1484280"/>
            <a:ext cx="221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1"/>
              </a:rPr>
              <a:t>Аллег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857160" y="1928880"/>
            <a:ext cx="250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2"/>
              </a:rPr>
              <a:t>Аллит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1619280" y="2565360"/>
            <a:ext cx="214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3"/>
              </a:rPr>
              <a:t>Ан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324000" y="2997360"/>
            <a:ext cx="207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4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7"/>
          <p:cNvSpPr/>
          <p:nvPr/>
        </p:nvSpPr>
        <p:spPr>
          <a:xfrm>
            <a:off x="1692360" y="4292640"/>
            <a:ext cx="207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5"/>
              </a:rPr>
              <a:t>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8"/>
          <p:cNvSpPr/>
          <p:nvPr/>
        </p:nvSpPr>
        <p:spPr>
          <a:xfrm>
            <a:off x="539640" y="4869000"/>
            <a:ext cx="192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6"/>
              </a:rPr>
              <a:t>Лит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9"/>
          <p:cNvSpPr/>
          <p:nvPr/>
        </p:nvSpPr>
        <p:spPr>
          <a:xfrm>
            <a:off x="6300720" y="141300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7"/>
              </a:rPr>
              <a:t>Мет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0"/>
          <p:cNvSpPr/>
          <p:nvPr/>
        </p:nvSpPr>
        <p:spPr>
          <a:xfrm>
            <a:off x="5651640" y="1989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8"/>
              </a:rPr>
              <a:t>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5940360" y="3213000"/>
            <a:ext cx="257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9"/>
              </a:rPr>
              <a:t>Парцел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6804000" y="4221000"/>
            <a:ext cx="16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10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4932360" y="4869000"/>
            <a:ext cx="192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11"/>
              </a:rPr>
              <a:t>Эпи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4"/>
          <p:cNvSpPr/>
          <p:nvPr/>
        </p:nvSpPr>
        <p:spPr>
          <a:xfrm>
            <a:off x="4859280" y="37162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12"/>
              </a:rPr>
              <a:t>Умолч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1015200" y="36450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Arial"/>
                <a:hlinkClick r:id="rId13"/>
              </a:rPr>
              <a:t>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7"/>
          <p:cNvSpPr/>
          <p:nvPr/>
        </p:nvSpPr>
        <p:spPr>
          <a:xfrm>
            <a:off x="4430880" y="263700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Arial"/>
                <a:hlinkClick r:id="rId14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8"/>
          <p:cNvSpPr/>
          <p:nvPr/>
        </p:nvSpPr>
        <p:spPr>
          <a:xfrm>
            <a:off x="2905200" y="56815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15"/>
              </a:rPr>
              <a:t>Практически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826920" y="1052640"/>
            <a:ext cx="56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3115"/>
                </a:solidFill>
                <a:latin typeface="Arial"/>
              </a:rPr>
              <a:t>Какой троп используется в текс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ло всё кругом: устал и цвет небе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етер, и река, и месяц, что родил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очь, и в зелени потусклой спящий ле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жёлтый тот листок, что наконец свал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А.Ф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1042920" y="342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1. Эп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2. Мета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3. Олицетво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4. Оксюмо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2778120" y="5084640"/>
            <a:ext cx="47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3115"/>
                </a:solidFill>
                <a:latin typeface="Arial"/>
              </a:rPr>
              <a:t>Правильный ответ:     3. Олицетво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WordArt 2"/>
          <p:cNvSpPr txBox="1"/>
          <p:nvPr/>
        </p:nvSpPr>
        <p:spPr>
          <a:xfrm>
            <a:off x="971640" y="220500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ем успеха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1"/>
          <p:cNvSpPr/>
          <p:nvPr/>
        </p:nvSpPr>
        <p:spPr>
          <a:xfrm>
            <a:off x="3357720" y="2858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db3115"/>
                </a:solidFill>
                <a:latin typeface="Segoe Print"/>
              </a:rPr>
              <a:t>Аллего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2"/>
          <p:cNvSpPr/>
          <p:nvPr/>
        </p:nvSpPr>
        <p:spPr>
          <a:xfrm>
            <a:off x="500040" y="1357200"/>
            <a:ext cx="814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Троп, заключающийся в иносказательном изображении отвлеченного понятия при помощи конкретного, жизненного обра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в баснях и сказках хитрость показывается в образе лисы, жадность в обличии волка, коварство – в виде змеи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5">
            <a:hlinkClick r:id="rId1"/>
          </p:cNvPr>
          <p:cNvSpPr/>
          <p:nvPr/>
        </p:nvSpPr>
        <p:spPr>
          <a:xfrm>
            <a:off x="5076720" y="4797360"/>
            <a:ext cx="935280" cy="64764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1"/>
          <p:cNvSpPr/>
          <p:nvPr/>
        </p:nvSpPr>
        <p:spPr>
          <a:xfrm>
            <a:off x="3286080" y="64296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3115"/>
                </a:solidFill>
                <a:latin typeface="Segoe Print"/>
              </a:rPr>
              <a:t>Аллитер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"/>
          <p:cNvSpPr/>
          <p:nvPr/>
        </p:nvSpPr>
        <p:spPr>
          <a:xfrm>
            <a:off x="428760" y="1285920"/>
            <a:ext cx="814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Повторение одинаковых согласных звуков или звукосочетаний как стилистический прием, придающее литературному тексту, обычно стиху, особую звуковую и интонационную вырази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«Шипенье пенистых бокалов и пунша пламень голубой» (А.С. Пушкин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5">
            <a:hlinkClick r:id="rId1"/>
          </p:cNvPr>
          <p:cNvSpPr/>
          <p:nvPr/>
        </p:nvSpPr>
        <p:spPr>
          <a:xfrm>
            <a:off x="5076720" y="4797360"/>
            <a:ext cx="935280" cy="64764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1"/>
          <p:cNvSpPr/>
          <p:nvPr/>
        </p:nvSpPr>
        <p:spPr>
          <a:xfrm>
            <a:off x="3643200" y="57168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Анаф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428760" y="1225440"/>
            <a:ext cx="8286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Стилистическая фигура, заключающаяся в повторении одних и тех же элементов в начале каждого параллельного ряда. Анафора широко используется при построении периода, члены которого начинаются одними и теми же служебными сло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Segoe Print"/>
              </a:rPr>
              <a:t>Например: Мало того что осуждена я на такую страшную участь; мало того что перед концом своим должна видеть, как станут умирать в невыразимых муках отец и мать, для спасения которых двадцать раз готова была бы отдать жизнь свою, - мало всего этого: нужно, чтобы перед концом своим мне довелось увидеть и услышать слова и любовь, какой не видала я (Гогол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5">
            <a:hlinkClick r:id="rId1"/>
          </p:cNvPr>
          <p:cNvSpPr/>
          <p:nvPr/>
        </p:nvSpPr>
        <p:spPr>
          <a:xfrm>
            <a:off x="5364000" y="5805360"/>
            <a:ext cx="935280" cy="64800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1"/>
          <p:cNvSpPr/>
          <p:nvPr/>
        </p:nvSpPr>
        <p:spPr>
          <a:xfrm>
            <a:off x="3276720" y="54936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Гипер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"/>
          <p:cNvSpPr/>
          <p:nvPr/>
        </p:nvSpPr>
        <p:spPr>
          <a:xfrm>
            <a:off x="500040" y="1214280"/>
            <a:ext cx="8215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Образное выражение, содержащее непомерное преувеличение размера, силы , значения и т.д. какого – либо предмета, явления. Средствами гиперболы автор усиливает нужное впечатление или подчеркивает, что он прославляет,  а что вспоминает. В художественной речи гипербола часто  переплетается с другими  средствами – метафорами, олицетворениями, сравн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«В сто сорок солнц закат пылал»                         ( Маяковский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5">
            <a:hlinkClick r:id="rId1"/>
          </p:cNvPr>
          <p:cNvSpPr/>
          <p:nvPr/>
        </p:nvSpPr>
        <p:spPr>
          <a:xfrm>
            <a:off x="5364000" y="5734080"/>
            <a:ext cx="935280" cy="64764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1"/>
          <p:cNvSpPr/>
          <p:nvPr/>
        </p:nvSpPr>
        <p:spPr>
          <a:xfrm>
            <a:off x="3429000" y="5716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Град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2"/>
          <p:cNvSpPr/>
          <p:nvPr/>
        </p:nvSpPr>
        <p:spPr>
          <a:xfrm>
            <a:off x="500040" y="1357200"/>
            <a:ext cx="814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Стилистическая фигура, состоящая в таком расположении частей высказывания, при котором каждая последующая заключает в себе усиливающееся смысловое или эмоционально – экспрессивное значение, благодаря чему создается нарастание производимого ими впечат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«Не жалею, не зову, не плачу…»                     ( С.А. Есенин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">
            <a:hlinkClick r:id="rId1"/>
          </p:cNvPr>
          <p:cNvSpPr/>
          <p:nvPr/>
        </p:nvSpPr>
        <p:spPr>
          <a:xfrm>
            <a:off x="5076720" y="5589720"/>
            <a:ext cx="935280" cy="64764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1"/>
          <p:cNvSpPr/>
          <p:nvPr/>
        </p:nvSpPr>
        <p:spPr>
          <a:xfrm>
            <a:off x="3357720" y="571680"/>
            <a:ext cx="20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Инвер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500040" y="1357200"/>
            <a:ext cx="8072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Изменение обычного порядка слов и словосочетаний, составляющих предложение; используется обычно для выделения того или иного элемента предложения или придания предложению особого смы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« Тут сгорел мой приятель со стыда»                      (Тургене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5"/>
          <p:cNvSpPr/>
          <p:nvPr/>
        </p:nvSpPr>
        <p:spPr>
          <a:xfrm>
            <a:off x="5148360" y="5373720"/>
            <a:ext cx="934920" cy="64764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"/>
          <p:cNvSpPr/>
          <p:nvPr/>
        </p:nvSpPr>
        <p:spPr>
          <a:xfrm>
            <a:off x="3857760" y="64296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Лит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2"/>
          <p:cNvSpPr/>
          <p:nvPr/>
        </p:nvSpPr>
        <p:spPr>
          <a:xfrm>
            <a:off x="428760" y="128592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Троп, противоположный гиперболе. Литота – это образное выражение, оборот, в котором содержится художественное преуменьшение величины, силы, значения изображаемого предмета или я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«Мальчик с пальчик, мужичок с ноготок», «Ниже тоненькой былиночки надо голову клонить»       (Некрасов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5148360" y="5084640"/>
            <a:ext cx="934920" cy="64800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32:44Z</dcterms:created>
  <dc:creator>Пользователь</dc:creator>
  <dc:description/>
  <dc:language>en-US</dc:language>
  <cp:lastModifiedBy>Admin</cp:lastModifiedBy>
  <dcterms:modified xsi:type="dcterms:W3CDTF">2015-04-18T08:25:46Z</dcterms:modified>
  <cp:revision>32</cp:revision>
  <dc:subject/>
  <dc:title>Слайд 1</dc:title>
</cp:coreProperties>
</file>