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C900-B733-4E81-865F-47FBA2790B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EBD7-0F77-4D5E-8897-DD204B1A3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3DA-EE67-491A-A89B-7AA4A90D4A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F33C-99BF-44BC-BE02-86B295F42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88E-42F8-4805-B630-8988D1AC46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3C2-FC97-42C1-A583-1C98B71D6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F2E-DE20-4CC9-9851-DB90803F9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3CD8-B365-4E4B-A4F9-D735B1B7A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AB9-14FB-4344-9AF7-A681B7144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C30-D178-4C59-9DC2-1FF8B6383F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332-E17B-49CF-B799-A025ADE1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BE5-4CD5-4FBD-9801-6DB9BF1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490-CAF2-452F-BCEC-1E1493B4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9AE-E7D8-4593-BAD9-495BA2F7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833-D6F9-422F-A7FB-54CB06AD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DBC-AB18-4288-9A1E-9361191C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CA1-1153-4AE4-A0BA-BA2166A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966-5B1E-4BFD-A0B6-0D1F3B90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389-7D47-40AE-A250-82029AAD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B1D-2476-4E74-9986-E5B4B86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C87-EE3C-4106-BB09-0CD0C6C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1AB-721E-47A7-BFBF-2FB935F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627F-60AC-415C-A147-24094C90A15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nstantia"/>
              </a:rPr>
              <a:t>ПРЕЗЕНТАЦИЯ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родительскому собранию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на тему: </a:t>
            </a:r>
            <a:br>
              <a:rPr sz="4400"/>
            </a:br>
            <a:r>
              <a:rPr b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«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Жестокое обра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onstantia"/>
              </a:rPr>
              <a:t>с детьми»     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conferancie.ru/sites/default/files/content/soviet/b8906e27.jpg"/>
          <p:cNvPicPr/>
          <p:nvPr/>
        </p:nvPicPr>
        <p:blipFill>
          <a:blip r:embed="rId1"/>
          <a:stretch/>
        </p:blipFill>
        <p:spPr>
          <a:xfrm>
            <a:off x="395280" y="189000"/>
            <a:ext cx="4537080" cy="6335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148360" y="1413000"/>
            <a:ext cx="360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емейный кодекс РФ предусматривает, что родители не вправе причинять вред физическому и психическому здоровью детей, их нравственному развитию. Способы воспитания должны исключать пренебрежительное, жестокое, грубое, унижающее человеческое достоинство обращение с детьми, их оскорбление или эксплуа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5148360" y="189000"/>
            <a:ext cx="37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Дети должны жить в мире красоты, игры, сказки, музыки, рисунка, фантазии, творчества»                                    В.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Жестокое обращение – это, прежде всего, физическое или  психическо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насилие, применяемое в отношении несовершеннолетнего (нанесени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побоев, умышленное причинение легкого вреда здоровью, совершенно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без хулиганских побуждений, связывание, систематические угрозы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причинения вреда здоровью, сексуальные домогательства и т.п.),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издевательство над его личностью (лишение пищи, тепла, воды).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Рисунок 2" descr="&amp;Ncy;&amp;iecy; &amp;bcy;&amp;icy;&amp;tcy;&amp;softcy;, &amp;acy; &amp;lcy;&amp;yucy;&amp;bcy;&amp;icy;&amp;tcy;&amp;softcy; &quot; &amp;Gcy;&amp;acy;&amp;zcy;&amp;iecy;&amp;tcy;&amp;acy; &amp;Mcy;&amp;acy;&amp;gcy;&amp;ncy;&amp;ocy;&amp;lcy;&amp;icy;&amp;yacy;"/>
          <p:cNvPicPr/>
          <p:nvPr/>
        </p:nvPicPr>
        <p:blipFill>
          <a:blip r:embed="rId1"/>
          <a:srcRect l="0" t="19729" r="910" b="0"/>
          <a:stretch/>
        </p:blipFill>
        <p:spPr>
          <a:xfrm>
            <a:off x="1628640" y="981000"/>
            <a:ext cx="5823000" cy="2664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&amp;Mcy;&amp;Ycy; &amp;Pcy;&amp;Rcy;&amp;Ocy;&amp;Tcy;&amp;Icy;&amp;Vcy; &amp;ZHcy;&amp;IEcy;&amp;Scy;&amp;Tcy;&amp;Ocy;&amp;Kcy;&amp;Ocy;&amp;Gcy;&amp;Ocy; &amp;Ocy;&amp;Bcy;&amp;Rcy;&amp;Acy;&amp;SHCHcy;&amp;IEcy;&amp;Ncy;&amp;Icy;&amp;YAcy; &amp;Scy; &amp;Dcy;&amp;IEcy;&amp;Tcy;&amp;SOFTcy;&amp;Mcy;&amp;Icy;!!!!! . VK"/>
          <p:cNvPicPr/>
          <p:nvPr/>
        </p:nvPicPr>
        <p:blipFill>
          <a:blip r:embed="rId1"/>
          <a:stretch/>
        </p:blipFill>
        <p:spPr>
          <a:xfrm>
            <a:off x="3924360" y="404640"/>
            <a:ext cx="4968720" cy="5977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250920" y="549360"/>
            <a:ext cx="352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одумайте перед тем,  как нанести ребенку оскорбление  или физическое наказание.    Остановитесь и проанализируйте, почему ваш ребенок ведет себя так.  Может быть, вы требуете от него  слишком многого, может быть, поступок ребенка, за который  вы его наказываете - это сигнал тревоги о том, что ребенок    попал в трудную ситуацию.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      Вы можете помочь своему ребенку,   не прибегая к физическому наказани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963720"/>
            <a:ext cx="9156960" cy="1047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1627560"/>
            <a:ext cx="83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нвенция ООН о правах ребёнк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ёт определение понятия «жестокое обращение» и определяет меры защиты (ст.19), а также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от произвольного или незаконного вмешательства в личную жизнь ребёнка, от посягательств на его честь и репутацию (ст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еспечение мер по борьбе с болезнями и недоеданием (ст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еспечение в максимально возможной степени здорового развития личности (ст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изнание права каждого ребёнка на уровень жизни, необходимый для физического, умственного, духовного, нравственного и социального развития (ст.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ребёнка от сексуального посягательства (ст.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щиту ребёнка от других форм жестокого обращения (ст.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меры помощи ребёнку, явившемуся жертвой жестокого обращения (ст.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5292720" y="0"/>
            <a:ext cx="36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«Ребенок - зеркало семьи; как в капле воды отражается солнце, так в  детях отражается нравственная чистота матери и отц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                                          </a:t>
            </a:r>
            <a:r>
              <a:rPr b="1" i="1" lang="ru-RU" sz="14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r>
              <a:rPr b="1" i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2253240"/>
            <a:ext cx="849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аво ребёнка на уважение его челове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оинства (ст.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аво ребёнка на защиту и обязанности органа опеки и попечи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ь меры по защите ребёнка (ст.5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лишение родительских прав как меру защиты детей от жесток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щения с ними в семье (ст.6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немедленное отобрание ребёнка при непосредственной угрозе жизни и здоровью (ст.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https://im3-tub-ru.yandex.net/i?id=75c1a19013eebc70f9d3e948e702973e&amp;n=21"/>
          <p:cNvPicPr/>
          <p:nvPr/>
        </p:nvPicPr>
        <p:blipFill>
          <a:blip r:embed="rId1"/>
          <a:stretch/>
        </p:blipFill>
        <p:spPr>
          <a:xfrm>
            <a:off x="5724360" y="189000"/>
            <a:ext cx="3095640" cy="2663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79280" y="549360"/>
            <a:ext cx="56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емейный кодекс РФ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50920" y="1268280"/>
            <a:ext cx="50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антиру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50920" y="115920"/>
            <a:ext cx="496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Если люди говорят плохое о твоих детях — это значит, они говорят плохое о тебе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                                    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24000" y="852120"/>
            <a:ext cx="8496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кон РФ «Об образовании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верждает право детей, обучающихся во всех  образовательных учреждениях, на уважение их человеческого достоинства (ст.5) и предусматривает административное наказание педагогических работников за допущенное физическое или психическое насилие над личностью ребёнка (ст.5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http://festival.1september.ru/articles/589683/presentation/42.JPG"/>
          <p:cNvPicPr/>
          <p:nvPr/>
        </p:nvPicPr>
        <p:blipFill>
          <a:blip r:embed="rId1"/>
          <a:srcRect l="7538" t="13036" r="3149" b="7047"/>
          <a:stretch/>
        </p:blipFill>
        <p:spPr>
          <a:xfrm>
            <a:off x="395280" y="476280"/>
            <a:ext cx="4176720" cy="3097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003640" y="18900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«Учение — это лишь один из лепестков того цветка, который называется воспита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      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Constanti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345528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 совершение физического и сексу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илия, в том числе и в отнош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вершеннолетних (ст.106-1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 преступления против семь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вершеннолетних (ст.150-1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https://im2-tub-ru.yandex.net/i?id=6d34b2f089f9902d10686fd1ec83a941&amp;n=21"/>
          <p:cNvPicPr/>
          <p:nvPr/>
        </p:nvPicPr>
        <p:blipFill>
          <a:blip r:embed="rId1"/>
          <a:stretch/>
        </p:blipFill>
        <p:spPr>
          <a:xfrm>
            <a:off x="324000" y="260280"/>
            <a:ext cx="2590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987640" y="765000"/>
            <a:ext cx="59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головный кодекс РФ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усматривает ответств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http://upjobs.ru/img/.thumbs/d28823c480f78b29c5de11ca51517cff_500_0_0.jpg"/>
          <p:cNvPicPr/>
          <p:nvPr/>
        </p:nvPicPr>
        <p:blipFill>
          <a:blip r:embed="rId2"/>
          <a:srcRect l="15542" t="0" r="0" b="0"/>
          <a:stretch/>
        </p:blipFill>
        <p:spPr>
          <a:xfrm>
            <a:off x="6300720" y="3357720"/>
            <a:ext cx="252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4643280" y="2602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«Семья - это та первичная среда, где человек должен учиться творить добро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              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onstantia"/>
              </a:rPr>
              <a:t>В. 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&amp;IEcy;&amp;Gcy;&amp;Ecy; - &amp;kcy;&amp;acy;&amp;rcy;&amp;tcy;&amp;icy;&amp;ncy;&amp;kcy;&amp;icy; &amp;mcy;&amp;ocy;&amp;lcy;&amp;ocy;&amp;dcy;&amp;ycy;&amp;khcy; &amp;pcy;&amp;acy;&amp;rcy; &amp;scy; &amp;dcy;&amp;iecy;&amp;tcy;&amp;softcy;&amp;mcy;&amp;icy; . . 2014"/>
          <p:cNvPicPr/>
          <p:nvPr/>
        </p:nvPicPr>
        <p:blipFill>
          <a:blip r:embed="rId1"/>
          <a:srcRect l="0" t="0" r="0" b="9285"/>
          <a:stretch/>
        </p:blipFill>
        <p:spPr>
          <a:xfrm>
            <a:off x="324000" y="1773360"/>
            <a:ext cx="5616360" cy="2303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599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ш ребёнок не может быть плохим, потому что он ребёнок и он ва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бщении с ребёнком нет и не может быть запрещённых эмоций, и он не должен сомневаться в безусловности ваше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ёнка нужно не просто любить, этого мало. Его нужно уважать и видеть в нём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0:46:34Z</dcterms:created>
  <dc:creator>Acer</dc:creator>
  <dc:description/>
  <dc:language>en-US</dc:language>
  <cp:lastModifiedBy>Acer</cp:lastModifiedBy>
  <dcterms:modified xsi:type="dcterms:W3CDTF">2015-04-18T13:56:30Z</dcterms:modified>
  <cp:revision>41</cp:revision>
  <dc:subject/>
  <dc:title>ПРЕЗЕНТАЦИЮ к родительскому собранию                                         на тему:  «Жестокое обращение с детьми»     Выполнила социальный педагог ГБОУ школы № 596                                 Приморского района Санкт- Петербурга                                       Зеленина Елена Александровна</dc:title>
</cp:coreProperties>
</file>