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62E57-E84B-4F97-8AEB-F392AF78F5F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DFD17-F430-4A87-B27A-F782648CE61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29CFA-1613-4D52-A9AB-14843F551E5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55198-660F-4C95-8E2F-E86F275D99B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B8730-6969-434B-AB6B-63FC290419B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FF3AC-888C-4B58-95C0-DF2F3A2017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F9E27-0003-42DA-8D2B-80407BC2378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D0CFD-5CA4-46EB-BAB2-2A6BE546053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BE1A7-6FFE-49A6-B39F-F509C65BEEC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B0CDF-0E20-465B-8378-EB4C392FFD2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5677-4816-43C8-B561-FA078F32A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FE7F-9413-41E1-B61C-19E9D46AF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EEDD-2D47-436E-B862-975214B8F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C775-DBE6-4C70-92D1-21CEF464F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C315-7984-48BC-8E0D-F6982ED29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8A0F-BA90-4473-A0A6-7805B01CD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DEB8-94B3-48E7-B374-53E4077ED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1E7F-6EF4-4401-B44F-039E42E68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EDD2-A546-4972-832B-23A6498B7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E800-1B92-47A0-82E5-F31DE255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E1B9-F804-461E-9613-6E6344E0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9DA0-17EE-449C-9BBF-3CC170FC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3B962-EEB8-4730-85E7-CEDBA2200EA9}" type="slidenum">
              <a:rPr b="0" lang="ru-RU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Заголовок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eb4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onstantia"/>
              </a:rPr>
              <a:t>ПРЕЗЕНТАЦИЯ</a:t>
            </a: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к родительскому собранию                                         </a:t>
            </a: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на тему: </a:t>
            </a:r>
            <a:br>
              <a:rPr sz="4400"/>
            </a:br>
            <a:r>
              <a:rPr b="1" lang="ru-RU" sz="5400" spc="-1" strike="noStrike" u="sng">
                <a:solidFill>
                  <a:srgbClr val="002060"/>
                </a:solidFill>
                <a:uFillTx/>
                <a:latin typeface="Constantia"/>
              </a:rPr>
              <a:t>«</a:t>
            </a:r>
            <a:r>
              <a:rPr b="1" i="1" lang="ru-RU" sz="5400" spc="-1" strike="noStrike" u="sng">
                <a:solidFill>
                  <a:srgbClr val="002060"/>
                </a:solidFill>
                <a:uFillTx/>
                <a:latin typeface="Constantia"/>
              </a:rPr>
              <a:t>Жестокое обращ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002060"/>
                </a:solidFill>
                <a:uFillTx/>
                <a:latin typeface="Constantia"/>
              </a:rPr>
              <a:t>с детьми»      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>
            <a:alpha val="8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http://www.conferancie.ru/sites/default/files/content/soviet/b8906e27.jpg"/>
          <p:cNvPicPr/>
          <p:nvPr/>
        </p:nvPicPr>
        <p:blipFill>
          <a:blip r:embed="rId1"/>
          <a:stretch/>
        </p:blipFill>
        <p:spPr>
          <a:xfrm>
            <a:off x="395280" y="189000"/>
            <a:ext cx="4537080" cy="633564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3"/>
          <p:cNvSpPr/>
          <p:nvPr/>
        </p:nvSpPr>
        <p:spPr>
          <a:xfrm>
            <a:off x="5148360" y="1413000"/>
            <a:ext cx="36003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Семейный кодекс РФ предусматривает, что родители не вправе причинять вред физическому и психическому здоровью детей, их нравственному развитию. Способы воспитания должны исключать пренебрежительное, жестокое, грубое, унижающее человеческое достоинство обращение с детьми, их оскорбление или эксплуатац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5"/>
          <p:cNvSpPr/>
          <p:nvPr/>
        </p:nvSpPr>
        <p:spPr>
          <a:xfrm>
            <a:off x="5148360" y="189000"/>
            <a:ext cx="3744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Constantia"/>
              </a:rPr>
              <a:t>«Дети должны жить в мире красоты, игры, сказки, музыки, рисунка, фантазии, творчества»                                    В.А. Сухомлинс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eb4e3"/>
          </a:solidFill>
          <a:ln w="9360">
            <a:solidFill>
              <a:srgbClr val="eeece1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        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Жестокое обращение – это, прежде всего, физическое или  психическое 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     насилие, применяемое в отношении несовершеннолетнего (нанесение 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     побоев, умышленное причинение легкого вреда здоровью, совершенное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     без хулиганских побуждений, связывание, систематические угрозы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     причинения вреда здоровью, сексуальные домогательства и т.п.), 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     издевательство над его личностью (лишение пищи, тепла, воды).     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3" name="Рисунок 2" descr="&amp;Ncy;&amp;iecy; &amp;bcy;&amp;icy;&amp;tcy;&amp;softcy;, &amp;acy; &amp;lcy;&amp;yucy;&amp;bcy;&amp;icy;&amp;tcy;&amp;softcy; &quot; &amp;Gcy;&amp;acy;&amp;zcy;&amp;iecy;&amp;tcy;&amp;acy; &amp;Mcy;&amp;acy;&amp;gcy;&amp;ncy;&amp;ocy;&amp;lcy;&amp;icy;&amp;yacy;"/>
          <p:cNvPicPr/>
          <p:nvPr/>
        </p:nvPicPr>
        <p:blipFill>
          <a:blip r:embed="rId1"/>
          <a:srcRect l="0" t="19729" r="910" b="0"/>
          <a:stretch/>
        </p:blipFill>
        <p:spPr>
          <a:xfrm>
            <a:off x="1628640" y="981000"/>
            <a:ext cx="5823000" cy="266400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&amp;Mcy;&amp;Ycy; &amp;Pcy;&amp;Rcy;&amp;Ocy;&amp;Tcy;&amp;Icy;&amp;Vcy; &amp;ZHcy;&amp;IEcy;&amp;Scy;&amp;Tcy;&amp;Ocy;&amp;Kcy;&amp;Ocy;&amp;Gcy;&amp;Ocy; &amp;Ocy;&amp;Bcy;&amp;Rcy;&amp;Acy;&amp;SHCHcy;&amp;IEcy;&amp;Ncy;&amp;Icy;&amp;YAcy; &amp;Scy; &amp;Dcy;&amp;IEcy;&amp;Tcy;&amp;SOFTcy;&amp;Mcy;&amp;Icy;!!!!! . VK"/>
          <p:cNvPicPr/>
          <p:nvPr/>
        </p:nvPicPr>
        <p:blipFill>
          <a:blip r:embed="rId1"/>
          <a:stretch/>
        </p:blipFill>
        <p:spPr>
          <a:xfrm>
            <a:off x="3924360" y="404640"/>
            <a:ext cx="4968720" cy="597708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sp>
        <p:nvSpPr>
          <p:cNvPr id="55" name="Прямоугольник 2"/>
          <p:cNvSpPr/>
          <p:nvPr/>
        </p:nvSpPr>
        <p:spPr>
          <a:xfrm>
            <a:off x="250920" y="549360"/>
            <a:ext cx="3529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      </a:t>
            </a: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Подумайте перед тем,  как нанести ребенку оскорбление  или физическое наказание.    Остановитесь и проанализируйте, почему ваш ребенок ведет себя так.  Может быть, вы требуете от него  слишком многого, может быть, поступок ребенка, за который  вы его наказываете - это сигнал тревоги о том, что ребенок    попал в трудную ситуацию.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      Вы можете помочь своему ребенку,   не прибегая к физическому наказанию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Прямоугольник 2" descr=""/>
          <p:cNvPicPr/>
          <p:nvPr/>
        </p:nvPicPr>
        <p:blipFill>
          <a:blip r:embed="rId1"/>
          <a:stretch/>
        </p:blipFill>
        <p:spPr>
          <a:xfrm>
            <a:off x="-6480" y="963720"/>
            <a:ext cx="9156960" cy="10476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"/>
          <p:cNvSpPr/>
          <p:nvPr/>
        </p:nvSpPr>
        <p:spPr>
          <a:xfrm>
            <a:off x="395280" y="1627560"/>
            <a:ext cx="83534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Конвенция ООН о правах ребёнка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аёт определение понятия «жестокое обращение» и определяет меры защиты (ст.19), а также устанавлива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защиту от произвольного или незаконного вмешательства в личную жизнь ребёнка, от посягательств на его честь и репутацию (ст.1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обеспечение мер по борьбе с болезнями и недоеданием (ст.2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обеспечение в максимально возможной степени здорового развития личности (ст.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признание права каждого ребёнка на уровень жизни, необходимый для физического, умственного, духовного, нравственного и социального развития (ст.2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защиту ребёнка от сексуального посягательства (ст.3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защиту ребёнка от других форм жестокого обращения (ст.3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меры помощи ребёнку, явившемуся жертвой жестокого обращения (ст.3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4"/>
          <p:cNvSpPr/>
          <p:nvPr/>
        </p:nvSpPr>
        <p:spPr>
          <a:xfrm>
            <a:off x="5292720" y="0"/>
            <a:ext cx="3672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00000"/>
                </a:solidFill>
                <a:latin typeface="Constantia"/>
              </a:rPr>
              <a:t>«Ребенок - зеркало семьи; как в капле воды отражается солнце, так в  детях отражается нравственная чистота матери и отца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00000"/>
                </a:solidFill>
                <a:latin typeface="Constantia"/>
              </a:rPr>
              <a:t>                                          </a:t>
            </a:r>
            <a:r>
              <a:rPr b="1" i="1" lang="ru-RU" sz="1400" spc="-1" strike="noStrike">
                <a:solidFill>
                  <a:srgbClr val="c00000"/>
                </a:solidFill>
                <a:latin typeface="Constantia"/>
              </a:rPr>
              <a:t>В. А. Сухомлинский</a:t>
            </a:r>
            <a:r>
              <a:rPr b="1" i="1" lang="ru-RU" sz="1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"/>
          <p:cNvSpPr/>
          <p:nvPr/>
        </p:nvSpPr>
        <p:spPr>
          <a:xfrm>
            <a:off x="324000" y="2253240"/>
            <a:ext cx="8496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право ребёнка на уважение его человеческ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стоинства (ст.5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право ребёнка на защиту и обязанности органа опеки и попечитель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нять меры по защите ребёнка (ст.56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лишение родительских прав как меру защиты детей от жестокого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ращения с ними в семье (ст.69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немедленное отобрание ребёнка при непосредственной угрозе жизни и здоровью (ст.7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2" descr="https://im3-tub-ru.yandex.net/i?id=75c1a19013eebc70f9d3e948e702973e&amp;n=21"/>
          <p:cNvPicPr/>
          <p:nvPr/>
        </p:nvPicPr>
        <p:blipFill>
          <a:blip r:embed="rId1"/>
          <a:stretch/>
        </p:blipFill>
        <p:spPr>
          <a:xfrm>
            <a:off x="5724360" y="189000"/>
            <a:ext cx="3095640" cy="266364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3"/>
          <p:cNvSpPr/>
          <p:nvPr/>
        </p:nvSpPr>
        <p:spPr>
          <a:xfrm>
            <a:off x="179280" y="549360"/>
            <a:ext cx="563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Семейный кодекс РФ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"/>
          <p:cNvSpPr/>
          <p:nvPr/>
        </p:nvSpPr>
        <p:spPr>
          <a:xfrm>
            <a:off x="250920" y="1268280"/>
            <a:ext cx="504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арантиру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5"/>
          <p:cNvSpPr/>
          <p:nvPr/>
        </p:nvSpPr>
        <p:spPr>
          <a:xfrm>
            <a:off x="250920" y="115920"/>
            <a:ext cx="496872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Constantia"/>
              </a:rPr>
              <a:t>«Если люди говорят плохое о твоих детях — это значит, они говорят плохое о тебе»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Constantia"/>
              </a:rPr>
              <a:t>                                                            </a:t>
            </a:r>
            <a:r>
              <a:rPr b="1" i="1" lang="ru-RU" sz="1600" spc="-1" strike="noStrike">
                <a:solidFill>
                  <a:srgbClr val="c00000"/>
                </a:solidFill>
                <a:latin typeface="Constantia"/>
              </a:rPr>
              <a:t>В. А. Сухомлинский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"/>
          <p:cNvSpPr/>
          <p:nvPr/>
        </p:nvSpPr>
        <p:spPr>
          <a:xfrm>
            <a:off x="324000" y="852120"/>
            <a:ext cx="849600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Закон РФ «Об образовании»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тверждает право детей, обучающихся во всех  образовательных учреждениях, на уважение их человеческого достоинства (ст.5) и предусматривает административное наказание педагогических работников за допущенное физическое или психическое насилие над личностью ребёнка (ст.56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3" descr="http://festival.1september.ru/articles/589683/presentation/42.JPG"/>
          <p:cNvPicPr/>
          <p:nvPr/>
        </p:nvPicPr>
        <p:blipFill>
          <a:blip r:embed="rId1"/>
          <a:srcRect l="7538" t="13036" r="3149" b="7047"/>
          <a:stretch/>
        </p:blipFill>
        <p:spPr>
          <a:xfrm>
            <a:off x="395280" y="476280"/>
            <a:ext cx="4176720" cy="309708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4"/>
          <p:cNvSpPr/>
          <p:nvPr/>
        </p:nvSpPr>
        <p:spPr>
          <a:xfrm>
            <a:off x="5003640" y="189000"/>
            <a:ext cx="38163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Constantia"/>
              </a:rPr>
              <a:t>«Учение — это лишь один из лепестков того цветка, который называется воспитанием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Constantia"/>
              </a:rPr>
              <a:t>                          </a:t>
            </a:r>
            <a:r>
              <a:rPr b="1" i="1" lang="ru-RU" sz="1600" spc="-1" strike="noStrike">
                <a:solidFill>
                  <a:srgbClr val="c00000"/>
                </a:solidFill>
                <a:latin typeface="Constantia"/>
              </a:rPr>
              <a:t>В. А. Сухомлинс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00000"/>
                </a:solidFill>
                <a:latin typeface="Constantia"/>
              </a:rPr>
              <a:t>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395280" y="3455280"/>
            <a:ext cx="8280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за совершение физического и сексуаль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силия, в том числе и в отношен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совершеннолетних (ст.106-13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за преступления против семьи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совершеннолетних (ст.150-15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2" descr="https://im2-tub-ru.yandex.net/i?id=6d34b2f089f9902d10686fd1ec83a941&amp;n=21"/>
          <p:cNvPicPr/>
          <p:nvPr/>
        </p:nvPicPr>
        <p:blipFill>
          <a:blip r:embed="rId1"/>
          <a:stretch/>
        </p:blipFill>
        <p:spPr>
          <a:xfrm>
            <a:off x="324000" y="260280"/>
            <a:ext cx="2590560" cy="328608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4"/>
          <p:cNvSpPr/>
          <p:nvPr/>
        </p:nvSpPr>
        <p:spPr>
          <a:xfrm>
            <a:off x="2987640" y="765000"/>
            <a:ext cx="59770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Уголовный кодекс РФ</a:t>
            </a:r>
            <a:r>
              <a:rPr b="0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дусматривает ответственнос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5" descr="http://upjobs.ru/img/.thumbs/d28823c480f78b29c5de11ca51517cff_500_0_0.jpg"/>
          <p:cNvPicPr/>
          <p:nvPr/>
        </p:nvPicPr>
        <p:blipFill>
          <a:blip r:embed="rId2"/>
          <a:srcRect l="15542" t="0" r="0" b="0"/>
          <a:stretch/>
        </p:blipFill>
        <p:spPr>
          <a:xfrm>
            <a:off x="6300720" y="3357720"/>
            <a:ext cx="25243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2"/>
          <p:cNvSpPr/>
          <p:nvPr/>
        </p:nvSpPr>
        <p:spPr>
          <a:xfrm>
            <a:off x="4643280" y="260280"/>
            <a:ext cx="417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onstantia"/>
              </a:rPr>
              <a:t>«Семья - это та первичная среда, где человек должен учиться творить добро»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onstantia"/>
              </a:rPr>
              <a:t>                                  </a:t>
            </a:r>
            <a:r>
              <a:rPr b="1" i="1" lang="ru-RU" sz="1800" spc="-1" strike="noStrike">
                <a:solidFill>
                  <a:srgbClr val="c00000"/>
                </a:solidFill>
                <a:latin typeface="Constantia"/>
              </a:rPr>
              <a:t>В. А. Сухомлин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3" descr="&amp;IEcy;&amp;Gcy;&amp;Ecy; - &amp;kcy;&amp;acy;&amp;rcy;&amp;tcy;&amp;icy;&amp;ncy;&amp;kcy;&amp;icy; &amp;mcy;&amp;ocy;&amp;lcy;&amp;ocy;&amp;dcy;&amp;ycy;&amp;khcy; &amp;pcy;&amp;acy;&amp;rcy; &amp;scy; &amp;dcy;&amp;iecy;&amp;tcy;&amp;softcy;&amp;mcy;&amp;icy; . . 2014"/>
          <p:cNvPicPr/>
          <p:nvPr/>
        </p:nvPicPr>
        <p:blipFill>
          <a:blip r:embed="rId1"/>
          <a:srcRect l="0" t="0" r="0" b="9285"/>
          <a:stretch/>
        </p:blipFill>
        <p:spPr>
          <a:xfrm>
            <a:off x="324000" y="1773360"/>
            <a:ext cx="5616360" cy="230328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2"/>
          <p:cNvSpPr/>
          <p:nvPr/>
        </p:nvSpPr>
        <p:spPr>
          <a:xfrm>
            <a:off x="250920" y="4599360"/>
            <a:ext cx="856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аш ребёнок не может быть плохим, потому что он ребёнок и он ваш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общении с ребёнком нет и не может быть запрещённых эмоций, и он не должен сомневаться в безусловности вашей люб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бёнка нужно не просто любить, этого мало. Его нужно уважать и видеть в нём лич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2T10:46:34Z</dcterms:created>
  <dc:creator>Acer</dc:creator>
  <dc:description/>
  <dc:language>en-US</dc:language>
  <cp:lastModifiedBy>Acer</cp:lastModifiedBy>
  <dcterms:modified xsi:type="dcterms:W3CDTF">2015-04-18T13:56:30Z</dcterms:modified>
  <cp:revision>41</cp:revision>
  <dc:subject/>
  <dc:title>ПРЕЗЕНТАЦИЮ к родительскому собранию                                         на тему:  «Жестокое обращение с детьми»     Выполнила социальный педагог ГБОУ школы № 596                                 Приморского района Санкт- Петербурга                                       Зеленина Елена Александровна</dc:title>
</cp:coreProperties>
</file>