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24A-85EC-44DF-A14D-D497DCE5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3BA-E653-462D-9D90-9A86AC6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FEB-9402-49EC-84F4-7BDFBBAF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913-8CB4-4964-9DB0-6D26EEFF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B9F5-F23F-446E-9080-A0F67858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F14-AE7C-4ADA-A393-7B533F8D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5A3-B9CA-4A3A-8058-AC48AA67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3970-CA71-4B2C-BB0B-F7D1A76C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C3B2-DACE-42C6-95ED-454580F2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EFEB-CC1F-46EA-870E-F180F300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BFAA-D7B0-4AA7-BA38-820AB0F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643-8467-43F0-AFFF-266FB7D6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6F2D-7614-4CA2-8DCE-D71DDA3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D969-3D96-49E6-89FE-AF11F97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49A1-D6BC-416A-90C7-1F5B9F7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FF3-7ACD-4B66-991D-CE7D8476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2F3-AEFD-4363-B7EF-A0732ECE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1AD-66DA-4C05-A988-CA88999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46F-51B3-4F09-8FFE-6DFE6814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CCD-10D3-44A3-99FA-2688DBD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4A7-4F2E-4CAB-836E-60BE267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B8E-3478-4986-A35D-B62A4B0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A78-5B75-42AF-9335-4EF016F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73B-D710-4C1C-9C99-ACDF072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AA6-3FB6-44D2-A52D-4C51A8554B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5ADB-F1D6-4998-9BCF-E5462F8018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manwiki.ru/w/&#1060;&#1072;&#1081;&#1083;:Karman6.jpg" TargetMode="External"/><Relationship Id="rId3" Type="http://schemas.openxmlformats.org/officeDocument/2006/relationships/hyperlink" Target="http://womanwiki.ru/w/&#1060;&#1072;&#1081;&#1083;:Karman6.jpg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Обработка накладного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32480" y="2924280"/>
            <a:ext cx="451152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полнила Ипатова Ирин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читель технологии ГБОУ СОШ №6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г. Санкт-Петерб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Прорезные карманы</a:t>
            </a:r>
            <a:r>
              <a:rPr b="1" i="1" lang="en-US" sz="5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857320" cy="2523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556000" y="414972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Формы накладного карма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2809800" cy="268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3024360" cy="235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28004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Обработка накладного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пуск на обработку верхнего среза кар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пуск на обработку бокового и нижнего среза кар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3743640" cy="372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2843280" y="2637000"/>
            <a:ext cx="25207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42920" y="4797360"/>
            <a:ext cx="2160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067280" y="4437000"/>
            <a:ext cx="1009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гнуть верхний припуск кармана и закрепить булав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4752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Технология изготовления накладного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метать припуск на подгибку верхнего среза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3600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тогнуть 1 см припуска верхнего среза кармана и зам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7327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метать на изнаночную сторону припуски боковых и нижней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95640" y="1922400"/>
            <a:ext cx="4608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риколоть карман к фартуку по намеченным линиям и приметат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строчить карман на фарт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49165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Требования к обработке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)Карманы должны быть одинакового размера и фор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2)Верхний срез и углы должны быть аккуратно обработа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3)Строчки должны быть ровными, ширина шва - равномерн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4)В начале и в конце машинной строчки должны быть закреп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-316080"/>
            <a:ext cx="77724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История карм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42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вым предметом гардероба, обладающим карманами, стал камзол Людовика XIV, до этого момента монеты и необходимые мелочи носили в подвесных карманах - мешочках. Они не вшивались в одежду, а носились в основном попарно на тонком пояске у женщин под юбкой, а у мужчин поверх шт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2592720" cy="2781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2122560" cy="289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19640" y="3860640"/>
            <a:ext cx="215892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Обработка накладного кармана и соединение с нижней частью фарту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Я УЗНАЛ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инквейн по теме карм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дно 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Два прилагательных к существительно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Три глагола, характеризующие его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Фраза из четырех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дно слово, синоним существительному из первой стр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XV-XVI веках карманы были самостоятельным аксессуаром женского костюма. Их обычно шили из белого льна, как и все остальное белье. Они  украшались вышивкой разноцветным шелком или декоративной стежкой. Иногда для карманов использовали не только лен или хлопок, но и более дорогие ткани - бархат, атл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2611440" cy="338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367164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Женщины носили небольшие сумочки-мешочки, предназначенные для хранения мелких предметов. Уже тогда эти сумки-ридикюли изготавливались из различных материалов, имели разные формы и богато украшались бисером и стеклярусо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2806560" cy="371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43192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46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начале XIX века карманы повсеместно начали вшивать в одежду. Навесные карманы сохранились в обиходе как деталь детского или рабочего платья. Также навесными карманами продолжили пользоваться дамы почтенного возраста, предпочитающие не менять свои привы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578400" cy="526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4402080" cy="58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начале XX века главной любительницей карманов считалась Коко Шанель. Она считала, что женщинам недостает карманов, этой мужской детали костюма. И привнесла их не только в одежду, но и в аксессуар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33591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Виды кармано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630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способу обработки карманы бывают четырех вид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та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кла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резные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рорезные (расположены в складках, швах или рельефах одежд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месту расположения на верхней одежде карманы подразделяются на две групп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кладные карманы могут быть различной формы и величины. Такой вид карманов служит не только для хранения мелких предметов, но и для украшения одежды, поэтому они могут быть декорированы защипами, аппликациями, кружевом, вышивкой, рюшами, оборками, стразами и другими элементами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810240" cy="2962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9625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тачные карма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600280" cy="347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2035080" cy="290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80000" y="22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9:15:22Z</dcterms:created>
  <dc:creator>irina</dc:creator>
  <dc:description/>
  <dc:language>en-US</dc:language>
  <cp:lastModifiedBy>irina</cp:lastModifiedBy>
  <dcterms:modified xsi:type="dcterms:W3CDTF">2015-04-18T20:03:04Z</dcterms:modified>
  <cp:revision>3</cp:revision>
  <dc:subject/>
  <dc:title>Слайд 1</dc:title>
</cp:coreProperties>
</file>