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1A8-3BAE-4BD5-8F06-A41384D6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439D-3DFA-41FB-9D4D-3B04B45A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BFB-6663-4917-8D99-8AC8BE96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80F-EE5B-420D-A50D-A8402562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C499-95D8-4124-BE51-FCFE096D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B169-E0C9-4A7C-86EA-8FF5A710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119C-9EA2-4A9D-A26C-CCC81B6A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7637-DD5B-4749-AE6B-5A027AF8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522C-71BF-4E0C-9F17-1BC4E22C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35A0-1D74-43B2-BAAC-81C4830C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990F-42F9-4A7C-A3D3-FECEC321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AA4-3AC3-4313-AA70-17AB2894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E4D6-6243-45F2-A197-B6277CE7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4916-9D6D-493B-9B4A-964BD282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4937-0AF5-4334-A5AA-2AC31F30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F946-F20F-4472-A451-78C26ED8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E8D4-71F5-4C68-89A2-12658A87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C04F-CB7E-47A4-9645-E15F3E4C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7B5-0FC4-47EA-B6AA-BE2898C2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7C5-19F0-4699-AF40-FFE642E2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375-661D-42DC-BAB1-F7D919F4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0BC-6E3F-4377-AE9A-0B1DEC61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275-90FC-4F85-BE80-025BABAF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6D38-0995-4ADA-96DD-DD508269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8398-0844-478D-A92D-8D0C22A928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4CAA-B8F2-410C-A432-0752750882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omanwiki.ru/w/&#1060;&#1072;&#1081;&#1083;:Karman6.jpg" TargetMode="External"/><Relationship Id="rId3" Type="http://schemas.openxmlformats.org/officeDocument/2006/relationships/hyperlink" Target="http://womanwiki.ru/w/&#1060;&#1072;&#1081;&#1083;:Karman6.jpg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Обработка накладного карма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32480" y="2924280"/>
            <a:ext cx="451152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ыполнила Ипатова Ирина Владими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Учитель технологии ГБОУ СОШ №6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г. Санкт-Петербур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Прорезные карманы</a:t>
            </a:r>
            <a:r>
              <a:rPr b="1" i="1" lang="en-US" sz="5400" spc="-1" strike="noStrike">
                <a:solidFill>
                  <a:srgbClr val="e5ffff"/>
                </a:solidFill>
                <a:latin typeface="Tahoma"/>
              </a:rPr>
              <a:t> 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857320" cy="2523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80000" y="14842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556000" y="4149720"/>
            <a:ext cx="42861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Формы накладного карман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3600360" cy="2701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580000" y="1197000"/>
            <a:ext cx="2809800" cy="2684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580000" y="4149720"/>
            <a:ext cx="3024360" cy="2359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28004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Обработка накладного карма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0552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рипуск на обработку верхнего среза карм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рипуск на обработку бокового и нижнего среза карм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3743640" cy="372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H="1">
            <a:off x="2843280" y="2637000"/>
            <a:ext cx="252072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42920" y="4797360"/>
            <a:ext cx="216036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067280" y="4437000"/>
            <a:ext cx="10094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Загнуть верхний припуск кармана и закрепить булав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195640" y="1844640"/>
            <a:ext cx="475272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Технология изготовления накладного карма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Заметать припуск на подгибку верхнего среза карм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56000" y="3141720"/>
            <a:ext cx="36003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Отогнуть 1 см припуска верхнего среза кармана и замет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673272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Заметать на изнаночную сторону припуски боковых и нижней стор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195640" y="1922400"/>
            <a:ext cx="46083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риколоть карман к фартуку по намеченным линиям и приметать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496872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Настрочить карман на фарту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24000" y="1484280"/>
            <a:ext cx="491652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Требования к обработке карма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1)Карманы должны быть одинакового размера и фор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2)Верхний срез и углы должны быть аккуратно обработа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3)Строчки должны быть ровными, ширина шва - равномерно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4)В начале и в конце машинной строчки должны быть закреп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-316080"/>
            <a:ext cx="77724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История карма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836640"/>
            <a:ext cx="8424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ервым предметом гардероба, обладающим карманами, стал камзол Людовика XIV, до этого момента монеты и необходимые мелочи носили в подвесных карманах - мешочках. Они не вшивались в одежду, а носились в основном попарно на тонком пояске у женщин под юбкой, а у мужчин поверх шт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24360" y="3860640"/>
            <a:ext cx="2592720" cy="2781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116000" y="3789360"/>
            <a:ext cx="2122560" cy="2892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419640" y="3860640"/>
            <a:ext cx="2158920" cy="27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Обработка накладного кармана и соединение с нижней частью фарту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Я УЗНАЛА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Синквейн по теме карм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Одно существите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Два прилагательных к существительном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Три глагола, характеризующие его дей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Фраза из четырех с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Одно слово, синоним существительному из первой стро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 XV-XVI веках карманы были самостоятельным аксессуаром женского костюма. Их обычно шили из белого льна, как и все остальное белье. Они  украшались вышивкой разноцветным шелком или декоративной стежкой. Иногда для карманов использовали не только лен или хлопок, но и более дорогие ткани - бархат, атла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651640" y="3141720"/>
            <a:ext cx="2611440" cy="3382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3671640" cy="32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Женщины носили небольшие сумочки-мешочки, предназначенные для хранения мелких предметов. Уже тогда эти сумки-ридикюли изготавливались из различных материалов, имели разные формы и богато украшались бисером и стеклярусо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2806560" cy="3713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40360" y="2852640"/>
            <a:ext cx="4319280" cy="36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4464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 начале XIX века карманы повсеместно начали вшивать в одежду. Навесные карманы сохранились в обиходе как деталь детского или рабочего платья. Также навесными карманами продолжили пользоваться дамы почтенного возраста, предпочитающие не менять свои привыч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19640" y="765000"/>
            <a:ext cx="3578400" cy="526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4402080" cy="58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начале XX века главной любительницей карманов считалась Коко Шанель. Она считала, что женщинам недостает карманов, этой мужской детали костюма. И привнесла их не только в одежду, но и в аксессуары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435640" y="765000"/>
            <a:ext cx="33591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Виды карманов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630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 способу обработки карманы бывают четырех вид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тач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аклад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орезные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епрорезные (расположены в складках, швах или рельефах одежды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 месту расположения на верхней одежде карманы подразделяются на две групп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нутрен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неш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Накладные карманы могут быть различной формы и величины. Такой вид карманов служит не только для хранения мелких предметов, но и для украшения одежды, поэтому они могут быть декорированы защипами, аппликациями, кружевом, вышивкой, рюшами, оборками, стразами и другими элементами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3810240" cy="2962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859280" y="3141720"/>
            <a:ext cx="39625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Втачные карма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2600280" cy="3476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203640" y="3357720"/>
            <a:ext cx="2035080" cy="2908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80000" y="227664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9:15:22Z</dcterms:created>
  <dc:creator>irina</dc:creator>
  <dc:description/>
  <dc:language>en-US</dc:language>
  <cp:lastModifiedBy>irina</cp:lastModifiedBy>
  <dcterms:modified xsi:type="dcterms:W3CDTF">2015-04-18T20:03:04Z</dcterms:modified>
  <cp:revision>3</cp:revision>
  <dc:subject/>
  <dc:title>Слайд 1</dc:title>
</cp:coreProperties>
</file>