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B23-182D-4C10-B7EF-0F2DB8AE9B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7F7-9075-4521-B137-F23BDD01E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3EA-F45F-48A8-A7BA-CD0E25C4D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33A-C089-4497-A4F1-1353BF7B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AA8-A11C-4A13-BD7C-60C35C8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394-8611-49EC-8791-19324216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13E-FF17-48DB-B2A1-E65E36C2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30F-B794-4474-9437-8F69D5F2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44F-3DBF-455C-98F3-F6A7E1C9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C7C-340D-43B1-A349-8ED24BBD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0124-3025-466D-BEB6-21CD8D44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372-6E17-4D99-A350-CB82A1D3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7E2C-0A05-4D79-A888-4AB7B0D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C460-1B76-436F-AD76-B4C0893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71A-D5B0-473C-91D7-85E9AB20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63C-7DF9-48AD-865B-1D8BD22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95C8-465B-4E6F-BC1F-8901D1C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4A59-7619-4ED3-82FF-D8788F8D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D3D7-D4C8-48E8-9F1C-8DB746EC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D25E-4FF4-46BC-975E-0DDF7715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F10B1-029A-40EA-97B1-5B2EF0CF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D2BAB-B062-4031-BDB8-159DA38F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3AD51-A245-4CCB-8B31-D30B67C1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3AA64-95B0-45FE-9D2C-E48C5AC0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E966E-D8BD-4263-9140-E3C3DAB6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C87-A19D-4580-9F4F-5D7CFDF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92927-4F0C-441D-B0DA-6A8EE68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43545-F272-4352-8D48-BEBDB18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9AD1F-674E-4113-B886-33CF542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0F807-E611-4FA6-8309-19C869D4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70042-F3CC-46CA-9430-048507F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5EFA2-4D7E-44C2-9316-C71D6C52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7F6B2-B4A5-4820-9A83-D4195D83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5CAE-1F73-4162-8F11-5F45C8ED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E3FD-9BC0-4B94-B932-D4099F5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1BB0-B10C-464C-A970-45819FF0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937-D8D2-4257-8437-813AEC6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7AD2-FA56-4741-8575-3DE69BBD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6ADA-09AE-4D93-ADE0-CF3F3FDA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2C3A-E900-4043-A47B-B23BD40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3E43-E3BD-4313-A40E-4344FCA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D4DF-93E7-449B-8D6C-6747231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6783-9235-4902-B447-A5FDEB1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0941-7B64-4294-AE02-506F185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587F4-D566-461D-A8AC-6DE4EC2D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1A8D-7082-43C1-A4E4-A68D1F9E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B08-A39A-41B4-97BD-2E9B9FF4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112-44B7-49FE-B3FB-A754B80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6FE-7C13-4E35-A7A3-68007F8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20C-75E6-410E-9A49-BDBE7BB9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88F-D3DA-45C2-8A19-ED00624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6A9F-F2F9-4B05-9642-89F3997B2E5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C7AC-430A-4E35-80FE-81E72535260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C52F-99DA-4F00-9BC1-9B235B7D6F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0665-112A-4D23-9D7D-6FFF45BBF0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rebuchet MS"/>
              </a:rPr>
              <a:t>Окислительно-восстановительные реакции</a:t>
            </a: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+2                                      0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g + 2 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H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восстановлении степень окисл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а понижается, а элемент являет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ислител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85840" y="35712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ahoma"/>
              </a:rPr>
              <a:t>Восстановление –процесс присоединения  электрон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7093080" y="5661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Алгоритм расстановки </a:t>
            </a: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коэффициентов в ОВР методом электронного баланс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пишите схему реакци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 + 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NO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).Определите степень окисления каждого химического элемент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⁰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+ H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⁵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 C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⁴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H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).Найдите элементы, у которых изменилась степень окисления,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одчеркните и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eorgia"/>
              </a:rPr>
              <a:t>C⁰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+ H⁺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N⁺⁵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Georgia"/>
              </a:rPr>
              <a:t>C⁺⁴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N⁺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 + H⁺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).Напишите схемы процессов окисления и восстановления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⁰−4e → C⁺⁴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(ок-ние, в-ль) </a:t>
            </a:r>
            <a:r>
              <a:rPr b="1" lang="en-US" sz="2000" spc="-1" strike="noStrike">
                <a:solidFill>
                  <a:srgbClr val="3333cc"/>
                </a:solidFill>
                <a:latin typeface="Georgia"/>
              </a:rPr>
              <a:t>N⁺⁵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+3</a:t>
            </a:r>
            <a:r>
              <a:rPr b="1" lang="en-US" sz="2000" spc="-1" strike="noStrike">
                <a:solidFill>
                  <a:srgbClr val="3333cc"/>
                </a:solidFill>
                <a:latin typeface="Georgia"/>
              </a:rPr>
              <a:t>e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→</a:t>
            </a:r>
            <a:r>
              <a:rPr b="1" lang="en-US" sz="2000" spc="-1" strike="noStrike">
                <a:solidFill>
                  <a:srgbClr val="3333cc"/>
                </a:solidFill>
                <a:latin typeface="Georgia"/>
              </a:rPr>
              <a:t>N⁺²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  (в-ние, ок-ль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).Найдите коэффициен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⁰−4e → C⁺⁴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(ок-ние, в-ль)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N⁺⁵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N⁺²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(в-ние, ок-ль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). Проставьте найденные коэффициенты в схему реакци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Georgia"/>
              </a:rPr>
              <a:t>3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⁰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N⁺⁵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⁺⁴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4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N⁺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 +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⁺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).Убедитесь в правильности проставленных коэффициентов, сделав проверку по кислород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Georgia"/>
              </a:rPr>
              <a:t>12 атомов «О»=12 атомов «О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Расставьте коэффициенты методом электронного баланс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571840" y="2071800"/>
            <a:ext cx="6572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). 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→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N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1143000" y="3749760"/>
            <a:ext cx="707220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⁻³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O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⁺²O⁻ ²+ 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⁻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     N⁻³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→N⁺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(ок-ние, в-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     O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e→2O⁻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-ние, ок-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N⁻³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5O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N⁺²O⁻ ²+ 6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⁻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-ль          ок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928800" y="285768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оль ОВР в современном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мир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11280" y="213372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059280" y="141300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5651640" y="2060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жизне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476360" y="292428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ыхание, усв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фотосинт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4643280" y="2924280"/>
            <a:ext cx="259272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горание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1116000" y="371628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мен веще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живых организ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5003640" y="3716280"/>
            <a:ext cx="259272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ектролиз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лавка мет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826920" y="4508640"/>
            <a:ext cx="259272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р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292720" y="4508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альваниче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плив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395280" y="5300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рожение и гни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914400" y="220680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5867280" y="5300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ие кисло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щело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H="1">
            <a:off x="1835280" y="177336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5651640" y="170028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140328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1042920" y="27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684360" y="2781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730872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8101080" y="2708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4"/>
          <p:cNvSpPr/>
          <p:nvPr/>
        </p:nvSpPr>
        <p:spPr>
          <a:xfrm>
            <a:off x="7667640" y="270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5"/>
          <p:cNvSpPr/>
          <p:nvPr/>
        </p:nvSpPr>
        <p:spPr>
          <a:xfrm>
            <a:off x="1835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6"/>
          <p:cNvSpPr/>
          <p:nvPr/>
        </p:nvSpPr>
        <p:spPr>
          <a:xfrm>
            <a:off x="68770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счет степени окисления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ледует запомнить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      Степени окисления атом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в просты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еществах равны нулю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Na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      Алгебраическая сумма степеней окисления всех атомов, входящих в состав молекулы, всегда равна нулю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     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остоянную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епень окисления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в сложны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еществах имеют атомы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щелочных металлов (+1)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I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щелочноземельных металлов (+2)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водорода (+1)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кислорода (-2)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0" lang="en-US" sz="2400" spc="-1" strike="noStrike" baseline="30000">
                <a:solidFill>
                  <a:srgbClr val="ff0066"/>
                </a:solidFill>
                <a:latin typeface="Georgia"/>
              </a:rPr>
              <a:t>-2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кислительно-восстановительные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ции, протекающие с изменени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тепени окисл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называются окислительно-восстановительными реакциям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116000" y="4653000"/>
            <a:ext cx="8675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24456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424456"/>
                </a:solidFill>
                <a:latin typeface="Tahoma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 + H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Hg + Cu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7596360" y="6021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епень окисления (СО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5" name="Picture 3" descr="Картинка 52 из 203"/>
          <p:cNvPicPr/>
          <p:nvPr/>
        </p:nvPicPr>
        <p:blipFill>
          <a:blip r:embed="rId1"/>
          <a:stretch/>
        </p:blipFill>
        <p:spPr>
          <a:xfrm>
            <a:off x="5500800" y="478620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214200" y="18561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епень окисления – это условный заряд атома в соединении, вычисленный исходя из предположения, что соединение состоит только из ион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900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кислит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Частица (атом, ион), которая в ходе окислительно-восстановительного процес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нимает  электро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зывается окислите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900000" y="3147120"/>
            <a:ext cx="64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Простые вещества - неметаллы обладают большими окислительными свойствами, чем мет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26920" y="52329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Типичные окисл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745164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сстановит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астица (атом, ион), которая в ходе окислительно-восстановительного процес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дает электро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называется восстановите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ипичные восстановите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7596360" y="5734080"/>
            <a:ext cx="936360" cy="5745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5193" h="21600">
                <a:moveTo>
                  <a:pt x="0" y="0"/>
                </a:moveTo>
                <a:lnTo>
                  <a:pt x="35193" y="0"/>
                </a:lnTo>
                <a:lnTo>
                  <a:pt x="35193" y="21600"/>
                </a:lnTo>
                <a:lnTo>
                  <a:pt x="0" y="21600"/>
                </a:lnTo>
                <a:close/>
              </a:path>
              <a:path fill="lightenLess" w="35193" h="21600">
                <a:moveTo>
                  <a:pt x="0" y="0"/>
                </a:moveTo>
                <a:lnTo>
                  <a:pt x="35193" y="0"/>
                </a:lnTo>
                <a:lnTo>
                  <a:pt x="33793" y="1400"/>
                </a:lnTo>
                <a:lnTo>
                  <a:pt x="1400" y="1400"/>
                </a:lnTo>
                <a:close/>
              </a:path>
              <a:path fill="darken" w="35193" h="21600">
                <a:moveTo>
                  <a:pt x="35193" y="0"/>
                </a:moveTo>
                <a:lnTo>
                  <a:pt x="35193" y="21600"/>
                </a:lnTo>
                <a:lnTo>
                  <a:pt x="33793" y="20200"/>
                </a:lnTo>
                <a:lnTo>
                  <a:pt x="33793" y="1400"/>
                </a:lnTo>
                <a:close/>
              </a:path>
              <a:path fill="darkenLess" w="35193" h="21600">
                <a:moveTo>
                  <a:pt x="35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3" y="20200"/>
                </a:lnTo>
                <a:close/>
              </a:path>
              <a:path fill="lighten" w="35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кисление-восстановл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3" descr="Картинка 23 из 203"/>
          <p:cNvPicPr/>
          <p:nvPr/>
        </p:nvPicPr>
        <p:blipFill>
          <a:blip r:embed="rId1"/>
          <a:stretch/>
        </p:blipFill>
        <p:spPr>
          <a:xfrm>
            <a:off x="5643720" y="3643200"/>
            <a:ext cx="2314440" cy="1733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5867280" y="3141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ис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50920" y="1700280"/>
            <a:ext cx="4572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кисле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ывается процесс отдачи атомом, молекулой или ионом электронов. Степень окисления при этом повышает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11280" y="3777120"/>
            <a:ext cx="4429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Восстановле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ывается    процесс присоединения электронов атомом, молекулой или ионом. Степень окисления при этом пониж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6156360" y="5883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стано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258920" y="587700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кисление-процесс отдачи электронов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0                          +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 – 2 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C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окислении степень окисле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а повышается,а элемент являетс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становите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8:48:17Z</dcterms:created>
  <dc:creator>Ави</dc:creator>
  <dc:description/>
  <dc:language>en-US</dc:language>
  <cp:lastModifiedBy>Юлия</cp:lastModifiedBy>
  <dcterms:modified xsi:type="dcterms:W3CDTF">2015-04-16T15:44:56Z</dcterms:modified>
  <cp:revision>29</cp:revision>
  <dc:subject/>
  <dc:title>Окислительно-восстановительные реакции</dc:title>
</cp:coreProperties>
</file>