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6629-2B4B-4612-B125-4E6A76BE68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114E-672F-4130-AEB2-967E9C7825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46B7-06DA-462A-A7AF-4EAC3CC0F6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B5D0-4FC1-4BF8-A3FD-6D89BE47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2E4F-1BC0-454B-AE61-908333FB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9A0-2B9C-48A5-9060-720895CC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DB41-DF91-4420-B89B-7C0C47BB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F24C-3D1B-4137-8A90-21A90B2A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87E2-7470-41E7-9726-A6E5769D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7A6B-565F-4DE3-88C3-BEC5FD4E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F602-F59B-4D86-901D-E4BD7275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CA33-31B0-41C8-B695-411892D8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B4B5-C6BC-4876-B333-00C9C250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1F8D-DDB1-435E-A729-C4485040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116F-5270-4B49-B0BB-4910D178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98DB-6A7F-405D-A623-DBD106D8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A23C-C193-411E-B547-3D8B49FC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E1CC-3A09-4408-ACEF-0B4F624A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22AB-9586-4441-92A0-59C965A7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8239-D7BB-462B-A39D-E0822ADF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60174-FBCD-4730-A846-081D5C85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CC291-4945-40D9-AC9F-5DC09462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324CE-35B7-46D0-82C3-F4822FD5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D2A353-CD9D-4900-85FE-FCEC44F1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DAFB0E-2059-47AE-9C5A-5F84F2CC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A51B-6CB8-48B4-9A81-6CED815C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2E2479-AA94-4DB6-B95A-F23B9C38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7E44C-67BD-4D68-8D95-241351CF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CDD2D9-5A8E-41D0-9811-38E53FE6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88ED11-9CA3-4502-876E-29157097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41031C-6A6B-4576-90D7-8DD340B2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CF5B4-5495-46E4-9A70-21C757DBD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0E4C65-5B71-4344-84D8-E9117A22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590A5-999F-4054-932F-3BDCF73E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89409-2EF7-4AC0-BB2C-B935C6DE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F729C-55DD-4F62-AF1F-C1F4AD61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6A31-2B44-426B-AFBE-26E116F5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CA230-73B8-4322-8887-7F5A2132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E7531-A60A-498E-B046-72CE8A4A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A44E5-D6CE-4B6A-B95D-1CEF7CFE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0FFA5-2211-4393-BFF4-2E074E95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B21F5-D655-44AD-9EBC-CD425783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CE2C8-E95B-4FA3-AD48-E95846D6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2EA91-4C23-443B-899A-76AF6A25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CFD7C-7CF7-4E85-B8B0-927A8D8C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6067E-8EC8-4918-8A9D-7BC829FF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15AF-63FA-4A6C-9393-A10CF6E6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CF05-45ED-440E-AD2B-B08CA5F8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F1EC-3C64-440F-A6DA-E2F13C74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0CCA-73FA-4B17-8BC1-5FB38F50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E45A-4C0A-4AEC-8A27-8F6239CB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0693-BA2C-4E69-851A-FC54B83415E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5771-65E5-497B-80BD-2048B3D5C2F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BF6E-1F8E-4084-AA3A-E12684B0B2A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5544-7B3D-492D-B1FA-1146D816734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rebuchet MS"/>
              </a:rPr>
              <a:t>Окислительно-восстановительные реакции</a:t>
            </a:r>
            <a:endParaRPr b="0" lang="en-US" sz="43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5892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+2                                      0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g + 2 e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H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 восстановлении степень окисл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лемента понижается, а элемент являетс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кислителе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285840" y="357120"/>
            <a:ext cx="7812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4456"/>
                </a:solidFill>
                <a:latin typeface="Tahoma"/>
              </a:rPr>
              <a:t>Восстановление –процесс присоединения  электронов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"/>
          <p:cNvSpPr/>
          <p:nvPr/>
        </p:nvSpPr>
        <p:spPr>
          <a:xfrm>
            <a:off x="7093080" y="5661000"/>
            <a:ext cx="1008000" cy="6476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12" h="21600">
                <a:moveTo>
                  <a:pt x="0" y="0"/>
                </a:moveTo>
                <a:lnTo>
                  <a:pt x="33612" y="0"/>
                </a:lnTo>
                <a:lnTo>
                  <a:pt x="33612" y="21600"/>
                </a:lnTo>
                <a:lnTo>
                  <a:pt x="0" y="21600"/>
                </a:lnTo>
                <a:close/>
              </a:path>
              <a:path fill="lightenLess" w="33612" h="21600">
                <a:moveTo>
                  <a:pt x="0" y="0"/>
                </a:moveTo>
                <a:lnTo>
                  <a:pt x="33612" y="0"/>
                </a:lnTo>
                <a:lnTo>
                  <a:pt x="32212" y="1400"/>
                </a:lnTo>
                <a:lnTo>
                  <a:pt x="1400" y="1400"/>
                </a:lnTo>
                <a:close/>
              </a:path>
              <a:path fill="darken" w="33612" h="21600">
                <a:moveTo>
                  <a:pt x="33612" y="0"/>
                </a:moveTo>
                <a:lnTo>
                  <a:pt x="33612" y="21600"/>
                </a:lnTo>
                <a:lnTo>
                  <a:pt x="32212" y="20200"/>
                </a:lnTo>
                <a:lnTo>
                  <a:pt x="32212" y="1400"/>
                </a:lnTo>
                <a:close/>
              </a:path>
              <a:path fill="darkenLess" w="33612" h="21600">
                <a:moveTo>
                  <a:pt x="3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12" y="20200"/>
                </a:lnTo>
                <a:close/>
              </a:path>
              <a:path fill="lighten" w="3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28760" y="-21420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Алгоритм расстановки </a:t>
            </a:r>
            <a:r>
              <a:rPr b="1" i="1" lang="ru-RU" sz="3200" spc="-1" strike="noStrike">
                <a:solidFill>
                  <a:srgbClr val="424456"/>
                </a:solidFill>
                <a:latin typeface="Trebuchet MS"/>
              </a:rPr>
              <a:t>коэффициентов в ОВР методом электронного баланса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Запишите схему реакции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C + HN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→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+ NO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).Определите степень окисления каждого химического элемент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1" lang="en-US" sz="2000" spc="-1" strike="noStrike">
                <a:solidFill>
                  <a:srgbClr val="00b050"/>
                </a:solidFill>
                <a:latin typeface="Georgia"/>
              </a:rPr>
              <a:t>⁰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+ H</a:t>
            </a:r>
            <a:r>
              <a:rPr b="1" lang="en-US" sz="2000" spc="-1" strike="noStrike">
                <a:solidFill>
                  <a:srgbClr val="00b050"/>
                </a:solidFill>
                <a:latin typeface="Georgia"/>
              </a:rPr>
              <a:t>⁺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1" lang="en-US" sz="2000" spc="-1" strike="noStrike">
                <a:solidFill>
                  <a:srgbClr val="00b050"/>
                </a:solidFill>
                <a:latin typeface="Georgia"/>
              </a:rPr>
              <a:t>⁺⁵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O</a:t>
            </a:r>
            <a:r>
              <a:rPr b="1" lang="en-US" sz="2000" spc="-1" strike="noStrike">
                <a:solidFill>
                  <a:srgbClr val="00b050"/>
                </a:solidFill>
                <a:latin typeface="Georgia"/>
              </a:rPr>
              <a:t>⁻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→ C</a:t>
            </a:r>
            <a:r>
              <a:rPr b="1" lang="en-US" sz="2000" spc="-1" strike="noStrike">
                <a:solidFill>
                  <a:srgbClr val="00b050"/>
                </a:solidFill>
                <a:latin typeface="Georgia"/>
              </a:rPr>
              <a:t>⁺⁴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O</a:t>
            </a:r>
            <a:r>
              <a:rPr b="1" lang="en-US" sz="2000" spc="-1" strike="noStrike">
                <a:solidFill>
                  <a:srgbClr val="00b050"/>
                </a:solidFill>
                <a:latin typeface="Georgia"/>
              </a:rPr>
              <a:t>⁻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+ N</a:t>
            </a:r>
            <a:r>
              <a:rPr b="1" lang="en-US" sz="2000" spc="-1" strike="noStrike">
                <a:solidFill>
                  <a:srgbClr val="00b050"/>
                </a:solidFill>
                <a:latin typeface="Georgia"/>
              </a:rPr>
              <a:t>⁺²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O</a:t>
            </a:r>
            <a:r>
              <a:rPr b="1" lang="en-US" sz="2000" spc="-1" strike="noStrike">
                <a:solidFill>
                  <a:srgbClr val="00b050"/>
                </a:solidFill>
                <a:latin typeface="Georgia"/>
              </a:rPr>
              <a:t>⁻²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+ H</a:t>
            </a:r>
            <a:r>
              <a:rPr b="1" lang="en-US" sz="2000" spc="-1" strike="noStrike">
                <a:solidFill>
                  <a:srgbClr val="00b050"/>
                </a:solidFill>
                <a:latin typeface="Georgia"/>
              </a:rPr>
              <a:t>⁺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O</a:t>
            </a:r>
            <a:r>
              <a:rPr b="1" lang="en-US" sz="2000" spc="-1" strike="noStrike">
                <a:solidFill>
                  <a:srgbClr val="00b050"/>
                </a:solidFill>
                <a:latin typeface="Georgia"/>
              </a:rPr>
              <a:t>⁻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).Найдите элементы, у которых изменилась степень окисления,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одчеркните их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Georgia"/>
              </a:rPr>
              <a:t>C⁰</a:t>
            </a:r>
            <a:r>
              <a:rPr b="1" i="1" lang="en-US" sz="2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+ H⁺</a:t>
            </a: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Georgia"/>
              </a:rPr>
              <a:t>N⁺⁵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⁻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→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Georgia"/>
              </a:rPr>
              <a:t>C⁺⁴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O⁻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+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Georgia"/>
              </a:rPr>
              <a:t>N⁺²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O⁻² + H⁺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O⁻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3).Напишите схемы процессов окисления и восстановления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⁰−4e → C⁺⁴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 (ок-ние, в-ль) </a:t>
            </a:r>
            <a:r>
              <a:rPr b="1" lang="en-US" sz="2000" spc="-1" strike="noStrike">
                <a:solidFill>
                  <a:srgbClr val="3333cc"/>
                </a:solidFill>
                <a:latin typeface="Georgia"/>
              </a:rPr>
              <a:t>N⁺⁵</a:t>
            </a:r>
            <a:r>
              <a:rPr b="1" lang="ru-RU" sz="2000" spc="-1" strike="noStrike">
                <a:solidFill>
                  <a:srgbClr val="3333cc"/>
                </a:solidFill>
                <a:latin typeface="Georgia"/>
              </a:rPr>
              <a:t>+3</a:t>
            </a:r>
            <a:r>
              <a:rPr b="1" lang="en-US" sz="2000" spc="-1" strike="noStrike">
                <a:solidFill>
                  <a:srgbClr val="3333cc"/>
                </a:solidFill>
                <a:latin typeface="Georgia"/>
              </a:rPr>
              <a:t>e</a:t>
            </a:r>
            <a:r>
              <a:rPr b="1" lang="ru-RU" sz="2000" spc="-1" strike="noStrike">
                <a:solidFill>
                  <a:srgbClr val="3333cc"/>
                </a:solidFill>
                <a:latin typeface="Georgia"/>
              </a:rPr>
              <a:t>→</a:t>
            </a:r>
            <a:r>
              <a:rPr b="1" lang="en-US" sz="2000" spc="-1" strike="noStrike">
                <a:solidFill>
                  <a:srgbClr val="3333cc"/>
                </a:solidFill>
                <a:latin typeface="Georgia"/>
              </a:rPr>
              <a:t>N⁺²</a:t>
            </a:r>
            <a:r>
              <a:rPr b="1" lang="ru-RU" sz="2000" spc="-1" strike="noStrike">
                <a:solidFill>
                  <a:srgbClr val="3333cc"/>
                </a:solidFill>
                <a:latin typeface="Georgia"/>
              </a:rPr>
              <a:t>  (в-ние, ок-ль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4).Найдите коэффициент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C⁰−4e → C⁺⁴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(ок-ние, в-ль)</a:t>
            </a:r>
            <a:r>
              <a:rPr b="1" lang="ru-RU" sz="2000" spc="-1" strike="noStrike">
                <a:solidFill>
                  <a:srgbClr val="3333cc"/>
                </a:solidFill>
                <a:latin typeface="Georgia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N⁺⁵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+3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N⁺²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(в-ние, ок-ль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5). Проставьте найденные коэффициенты в схему реакции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     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Georgia"/>
              </a:rPr>
              <a:t>3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C⁰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+ </a:t>
            </a:r>
            <a:r>
              <a:rPr b="1" lang="ru-RU" sz="2000" spc="-1" strike="noStrike">
                <a:solidFill>
                  <a:srgbClr val="3333cc"/>
                </a:solidFill>
                <a:latin typeface="Georgia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H⁺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N⁺⁵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O⁻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→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C⁺⁴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O⁻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+ </a:t>
            </a:r>
            <a:r>
              <a:rPr b="1" lang="ru-RU" sz="2000" spc="-1" strike="noStrike">
                <a:solidFill>
                  <a:srgbClr val="3333cc"/>
                </a:solidFill>
                <a:latin typeface="Georgia"/>
              </a:rPr>
              <a:t>4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N⁺²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O⁻² +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H⁺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O⁻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6).Убедитесь в правильности проставленных коэффициентов, сделав проверку по кислороду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Georgia"/>
              </a:rPr>
              <a:t>12 атомов «О»=12 атомов «О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2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4456"/>
                </a:solidFill>
                <a:latin typeface="Trebuchet MS"/>
              </a:rPr>
              <a:t>Расставьте коэффициенты методом электронного баланс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2571840" y="2071800"/>
            <a:ext cx="65721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). 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→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NO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Прямоугольник 3"/>
          <p:cNvSpPr/>
          <p:nvPr/>
        </p:nvSpPr>
        <p:spPr>
          <a:xfrm>
            <a:off x="1143000" y="3749760"/>
            <a:ext cx="7072200" cy="32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⁻³H⁺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 O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→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⁺²O⁻ ²+ H⁺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⁻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      N⁻³−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→N⁺²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(ок-ние, в-л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     O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e→2O⁻²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-ние, ок-л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 N⁻³H⁺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 5O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→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N⁺²O⁻ ²+ 6H⁺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⁻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-ль          ок-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4"/>
          <p:cNvSpPr/>
          <p:nvPr/>
        </p:nvSpPr>
        <p:spPr>
          <a:xfrm>
            <a:off x="928800" y="2857680"/>
            <a:ext cx="58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ове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Роль ОВР в современном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мир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611280" y="2133720"/>
            <a:ext cx="2592360" cy="6476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3059280" y="1413000"/>
            <a:ext cx="2592360" cy="6476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5651640" y="2060640"/>
            <a:ext cx="2592360" cy="6476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жизне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1476360" y="2924280"/>
            <a:ext cx="2592360" cy="6476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ыхание, усво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фотосинте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8"/>
          <p:cNvSpPr/>
          <p:nvPr/>
        </p:nvSpPr>
        <p:spPr>
          <a:xfrm>
            <a:off x="4643280" y="2924280"/>
            <a:ext cx="2592720" cy="6476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горание топл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1116000" y="3716280"/>
            <a:ext cx="2592360" cy="6476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мен вещест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живых организм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0"/>
          <p:cNvSpPr/>
          <p:nvPr/>
        </p:nvSpPr>
        <p:spPr>
          <a:xfrm>
            <a:off x="5003640" y="3716280"/>
            <a:ext cx="2592720" cy="6476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лектролиз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плавка мет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826920" y="4508640"/>
            <a:ext cx="2592720" cy="6476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рро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5292720" y="4508640"/>
            <a:ext cx="2592360" cy="6476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альванически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пливные эле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3"/>
          <p:cNvSpPr/>
          <p:nvPr/>
        </p:nvSpPr>
        <p:spPr>
          <a:xfrm>
            <a:off x="395280" y="5300640"/>
            <a:ext cx="2592360" cy="6476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рожение и гни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914400" y="2206800"/>
            <a:ext cx="822960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6"/>
          <p:cNvSpPr/>
          <p:nvPr/>
        </p:nvSpPr>
        <p:spPr>
          <a:xfrm>
            <a:off x="5867280" y="5300640"/>
            <a:ext cx="2592360" cy="6476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учение кисло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щелоч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 flipH="1">
            <a:off x="1835280" y="177336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5651640" y="1700280"/>
            <a:ext cx="1368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9"/>
          <p:cNvSpPr/>
          <p:nvPr/>
        </p:nvSpPr>
        <p:spPr>
          <a:xfrm>
            <a:off x="1403280" y="27813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0"/>
          <p:cNvSpPr/>
          <p:nvPr/>
        </p:nvSpPr>
        <p:spPr>
          <a:xfrm>
            <a:off x="1042920" y="278136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1"/>
          <p:cNvSpPr/>
          <p:nvPr/>
        </p:nvSpPr>
        <p:spPr>
          <a:xfrm>
            <a:off x="684360" y="2781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2"/>
          <p:cNvSpPr/>
          <p:nvPr/>
        </p:nvSpPr>
        <p:spPr>
          <a:xfrm>
            <a:off x="7308720" y="2708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3"/>
          <p:cNvSpPr/>
          <p:nvPr/>
        </p:nvSpPr>
        <p:spPr>
          <a:xfrm>
            <a:off x="8101080" y="270828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4"/>
          <p:cNvSpPr/>
          <p:nvPr/>
        </p:nvSpPr>
        <p:spPr>
          <a:xfrm>
            <a:off x="7667640" y="270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5"/>
          <p:cNvSpPr/>
          <p:nvPr/>
        </p:nvSpPr>
        <p:spPr>
          <a:xfrm>
            <a:off x="1835280" y="27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6"/>
          <p:cNvSpPr/>
          <p:nvPr/>
        </p:nvSpPr>
        <p:spPr>
          <a:xfrm>
            <a:off x="6877080" y="270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Расчет степени окисления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Следует запомнить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.      Степени окисления атомов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в простых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еществах равны нулю: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                    Na</a:t>
            </a:r>
            <a:r>
              <a:rPr b="0" lang="ru-RU" sz="2400" spc="-1" strike="noStrike" baseline="30000">
                <a:solidFill>
                  <a:srgbClr val="ff0066"/>
                </a:solidFill>
                <a:latin typeface="Georgi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ru-RU" sz="2400" spc="-1" strike="noStrike" baseline="30000">
                <a:solidFill>
                  <a:srgbClr val="ff0066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2.      Алгебраическая сумма степеней окисления всех атомов, входящих в состав молекулы, всегда равна нулю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3.     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остоянную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тепень окисления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в сложных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еществах имеют атомы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щелочных металлов (+1)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K</a:t>
            </a:r>
            <a:r>
              <a:rPr b="0" lang="ru-RU" sz="2400" spc="-1" strike="noStrike" baseline="30000">
                <a:solidFill>
                  <a:srgbClr val="ff0066"/>
                </a:solidFill>
                <a:latin typeface="Georgi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I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i</a:t>
            </a:r>
            <a:r>
              <a:rPr b="0" lang="ru-RU" sz="2400" spc="-1" strike="noStrike" baseline="30000">
                <a:solidFill>
                  <a:srgbClr val="ff0066"/>
                </a:solidFill>
                <a:latin typeface="Georgi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щелочноземельных металлов (+2)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</a:t>
            </a:r>
            <a:r>
              <a:rPr b="0" lang="ru-RU" sz="2400" spc="-1" strike="noStrike" baseline="30000">
                <a:solidFill>
                  <a:srgbClr val="ff0066"/>
                </a:solidFill>
                <a:latin typeface="Georgia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водорода (+1)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ru-RU" sz="2400" spc="-1" strike="noStrike" baseline="30000">
                <a:solidFill>
                  <a:srgbClr val="ff0066"/>
                </a:solidFill>
                <a:latin typeface="Georgi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4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кислорода (-2)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</a:t>
            </a:r>
            <a:r>
              <a:rPr b="0" lang="en-US" sz="2400" spc="-1" strike="noStrike" baseline="30000">
                <a:solidFill>
                  <a:srgbClr val="ff0066"/>
                </a:solidFill>
                <a:latin typeface="Georgia"/>
              </a:rPr>
              <a:t>-2</a:t>
            </a:r>
            <a:r>
              <a:rPr b="0" lang="ru-RU" sz="2400" spc="-1" strike="noStrike" baseline="30000">
                <a:solidFill>
                  <a:srgbClr val="ff0066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Окислительно-восстановительные реакци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акции, протекающие с изменением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степени окислени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называются окислительно-восстановительными реакциям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1116000" y="4653000"/>
            <a:ext cx="86756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424456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424456"/>
                </a:solidFill>
                <a:latin typeface="Tahoma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 + Hg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Hg + Cu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7596360" y="6021360"/>
            <a:ext cx="1008000" cy="5763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тепень окисления (СО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5" name="Picture 3" descr="Картинка 52 из 203"/>
          <p:cNvPicPr/>
          <p:nvPr/>
        </p:nvPicPr>
        <p:blipFill>
          <a:blip r:embed="rId1"/>
          <a:stretch/>
        </p:blipFill>
        <p:spPr>
          <a:xfrm>
            <a:off x="5500800" y="4786200"/>
            <a:ext cx="2381040" cy="13906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4"/>
          <p:cNvSpPr/>
          <p:nvPr/>
        </p:nvSpPr>
        <p:spPr>
          <a:xfrm>
            <a:off x="214200" y="1856160"/>
            <a:ext cx="856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епень окисления – это условный заряд атома в соединении, вычисленный исходя из предположения, что соединение состоит только из ионов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900000" y="6021360"/>
            <a:ext cx="1008000" cy="6476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12" h="21600">
                <a:moveTo>
                  <a:pt x="0" y="0"/>
                </a:moveTo>
                <a:lnTo>
                  <a:pt x="33612" y="0"/>
                </a:lnTo>
                <a:lnTo>
                  <a:pt x="33612" y="21600"/>
                </a:lnTo>
                <a:lnTo>
                  <a:pt x="0" y="21600"/>
                </a:lnTo>
                <a:close/>
              </a:path>
              <a:path fill="lightenLess" w="33612" h="21600">
                <a:moveTo>
                  <a:pt x="0" y="0"/>
                </a:moveTo>
                <a:lnTo>
                  <a:pt x="33612" y="0"/>
                </a:lnTo>
                <a:lnTo>
                  <a:pt x="32212" y="1400"/>
                </a:lnTo>
                <a:lnTo>
                  <a:pt x="1400" y="1400"/>
                </a:lnTo>
                <a:close/>
              </a:path>
              <a:path fill="darken" w="33612" h="21600">
                <a:moveTo>
                  <a:pt x="33612" y="0"/>
                </a:moveTo>
                <a:lnTo>
                  <a:pt x="33612" y="21600"/>
                </a:lnTo>
                <a:lnTo>
                  <a:pt x="32212" y="20200"/>
                </a:lnTo>
                <a:lnTo>
                  <a:pt x="32212" y="1400"/>
                </a:lnTo>
                <a:close/>
              </a:path>
              <a:path fill="darkenLess" w="33612" h="21600">
                <a:moveTo>
                  <a:pt x="3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12" y="20200"/>
                </a:lnTo>
                <a:close/>
              </a:path>
              <a:path fill="lighten" w="3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кислител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360" y="9075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Частица (атом, ион), которая в ходе окислительно-восстановительного процесс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ринимает  электроны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называется окислителе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900000" y="3147120"/>
            <a:ext cx="6480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Простые вещества - неметаллы обладают большими окислительными свойствами, чем метал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826920" y="523296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Типичные окислите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6"/>
          <p:cNvSpPr/>
          <p:nvPr/>
        </p:nvSpPr>
        <p:spPr>
          <a:xfrm>
            <a:off x="7451640" y="6237360"/>
            <a:ext cx="1079640" cy="620640"/>
          </a:xfrm>
          <a:custGeom>
            <a:avLst/>
            <a:gdLst>
              <a:gd name="textAreaLeft" fmla="*/ 39960 w 1079640"/>
              <a:gd name="textAreaRight" fmla="*/ 1039680 w 1079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7565" h="21600">
                <a:moveTo>
                  <a:pt x="0" y="0"/>
                </a:moveTo>
                <a:lnTo>
                  <a:pt x="37565" y="0"/>
                </a:lnTo>
                <a:lnTo>
                  <a:pt x="37565" y="21600"/>
                </a:lnTo>
                <a:lnTo>
                  <a:pt x="0" y="21600"/>
                </a:lnTo>
                <a:close/>
              </a:path>
              <a:path fill="lightenLess" w="37565" h="21600">
                <a:moveTo>
                  <a:pt x="0" y="0"/>
                </a:moveTo>
                <a:lnTo>
                  <a:pt x="37565" y="0"/>
                </a:lnTo>
                <a:lnTo>
                  <a:pt x="36165" y="1400"/>
                </a:lnTo>
                <a:lnTo>
                  <a:pt x="1400" y="1400"/>
                </a:lnTo>
                <a:close/>
              </a:path>
              <a:path fill="darken" w="37565" h="21600">
                <a:moveTo>
                  <a:pt x="37565" y="0"/>
                </a:moveTo>
                <a:lnTo>
                  <a:pt x="37565" y="21600"/>
                </a:lnTo>
                <a:lnTo>
                  <a:pt x="36165" y="20200"/>
                </a:lnTo>
                <a:lnTo>
                  <a:pt x="36165" y="1400"/>
                </a:lnTo>
                <a:close/>
              </a:path>
              <a:path fill="darkenLess" w="37565" h="21600">
                <a:moveTo>
                  <a:pt x="3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65" y="20200"/>
                </a:lnTo>
                <a:close/>
              </a:path>
              <a:path fill="lighten" w="3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осстановител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Частица (атом, ион), которая в ходе окислительно-восстановительного процесс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отдает электроны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называется восстановителе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ипичные восстановител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7596360" y="5734080"/>
            <a:ext cx="936360" cy="574560"/>
          </a:xfrm>
          <a:custGeom>
            <a:avLst/>
            <a:gdLst>
              <a:gd name="textAreaLeft" fmla="*/ 37080 w 936360"/>
              <a:gd name="textAreaRight" fmla="*/ 899280 w 9363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5193" h="21600">
                <a:moveTo>
                  <a:pt x="0" y="0"/>
                </a:moveTo>
                <a:lnTo>
                  <a:pt x="35193" y="0"/>
                </a:lnTo>
                <a:lnTo>
                  <a:pt x="35193" y="21600"/>
                </a:lnTo>
                <a:lnTo>
                  <a:pt x="0" y="21600"/>
                </a:lnTo>
                <a:close/>
              </a:path>
              <a:path fill="lightenLess" w="35193" h="21600">
                <a:moveTo>
                  <a:pt x="0" y="0"/>
                </a:moveTo>
                <a:lnTo>
                  <a:pt x="35193" y="0"/>
                </a:lnTo>
                <a:lnTo>
                  <a:pt x="33793" y="1400"/>
                </a:lnTo>
                <a:lnTo>
                  <a:pt x="1400" y="1400"/>
                </a:lnTo>
                <a:close/>
              </a:path>
              <a:path fill="darken" w="35193" h="21600">
                <a:moveTo>
                  <a:pt x="35193" y="0"/>
                </a:moveTo>
                <a:lnTo>
                  <a:pt x="35193" y="21600"/>
                </a:lnTo>
                <a:lnTo>
                  <a:pt x="33793" y="20200"/>
                </a:lnTo>
                <a:lnTo>
                  <a:pt x="33793" y="1400"/>
                </a:lnTo>
                <a:close/>
              </a:path>
              <a:path fill="darkenLess" w="35193" h="21600">
                <a:moveTo>
                  <a:pt x="35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3" y="20200"/>
                </a:lnTo>
                <a:close/>
              </a:path>
              <a:path fill="lighten" w="35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кисление-восстановле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7" name="Picture 3" descr="Картинка 23 из 203"/>
          <p:cNvPicPr/>
          <p:nvPr/>
        </p:nvPicPr>
        <p:blipFill>
          <a:blip r:embed="rId1"/>
          <a:stretch/>
        </p:blipFill>
        <p:spPr>
          <a:xfrm>
            <a:off x="5643720" y="3643200"/>
            <a:ext cx="2314440" cy="17337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4"/>
          <p:cNvSpPr/>
          <p:nvPr/>
        </p:nvSpPr>
        <p:spPr>
          <a:xfrm>
            <a:off x="5867280" y="3141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кис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250920" y="1700280"/>
            <a:ext cx="457200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Окислением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называется процесс отдачи атомом, молекулой или ионом электронов. Степень окисления при этом повышается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611280" y="3777120"/>
            <a:ext cx="442908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Восстановлением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называется    процесс присоединения электронов атомом, молекулой или ионом. Степень окисления при этом пониж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6156360" y="58834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сстано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8"/>
          <p:cNvSpPr/>
          <p:nvPr/>
        </p:nvSpPr>
        <p:spPr>
          <a:xfrm>
            <a:off x="1258920" y="5877000"/>
            <a:ext cx="1008000" cy="620640"/>
          </a:xfrm>
          <a:custGeom>
            <a:avLst/>
            <a:gdLst>
              <a:gd name="textAreaLeft" fmla="*/ 39960 w 1008000"/>
              <a:gd name="textAreaRight" fmla="*/ 968040 w 1008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5073" h="21600">
                <a:moveTo>
                  <a:pt x="0" y="0"/>
                </a:moveTo>
                <a:lnTo>
                  <a:pt x="35073" y="0"/>
                </a:lnTo>
                <a:lnTo>
                  <a:pt x="35073" y="21600"/>
                </a:lnTo>
                <a:lnTo>
                  <a:pt x="0" y="21600"/>
                </a:lnTo>
                <a:close/>
              </a:path>
              <a:path fill="lightenLess" w="35073" h="21600">
                <a:moveTo>
                  <a:pt x="0" y="0"/>
                </a:moveTo>
                <a:lnTo>
                  <a:pt x="35073" y="0"/>
                </a:lnTo>
                <a:lnTo>
                  <a:pt x="33673" y="1400"/>
                </a:lnTo>
                <a:lnTo>
                  <a:pt x="1400" y="1400"/>
                </a:lnTo>
                <a:close/>
              </a:path>
              <a:path fill="darken" w="35073" h="21600">
                <a:moveTo>
                  <a:pt x="35073" y="0"/>
                </a:moveTo>
                <a:lnTo>
                  <a:pt x="35073" y="21600"/>
                </a:lnTo>
                <a:lnTo>
                  <a:pt x="33673" y="20200"/>
                </a:lnTo>
                <a:lnTo>
                  <a:pt x="33673" y="1400"/>
                </a:lnTo>
                <a:close/>
              </a:path>
              <a:path fill="darkenLess" w="35073" h="21600">
                <a:moveTo>
                  <a:pt x="35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73" y="20200"/>
                </a:lnTo>
                <a:close/>
              </a:path>
              <a:path fill="lighten" w="35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Окисление-процесс отдачи электронов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0                          +2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u – 2 e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Cu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 окислении степень окисления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лемента повышается,а элемент является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сстановителе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18:48:17Z</dcterms:created>
  <dc:creator>Ави</dc:creator>
  <dc:description/>
  <dc:language>en-US</dc:language>
  <cp:lastModifiedBy>Юлия</cp:lastModifiedBy>
  <dcterms:modified xsi:type="dcterms:W3CDTF">2015-04-16T15:44:56Z</dcterms:modified>
  <cp:revision>29</cp:revision>
  <dc:subject/>
  <dc:title>Окислительно-восстановительные реакции</dc:title>
</cp:coreProperties>
</file>