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1F35-FB6A-4B31-8294-380DD0A0B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D767-5BF4-4120-8B71-303A89DB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24AC-8569-4341-84C1-5AFC9F28C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1CA0-86FB-4B8A-B36D-9D5E64BC8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F40C-CCFA-460C-8AB8-5507B5FB0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F298-D32A-4E4C-A91F-5D3715C1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ED9C-C911-4F35-AC08-626BDA48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CB87-2D94-4C7B-92D6-52D87EC1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DC69-6AD4-4842-A8BB-91297A4D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9C40-56ED-40BC-A854-3061BA24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4C9E-BF80-4AA3-B564-B9CC1E59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62AA-300B-42DF-AFA9-B20D3CD5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AB34-E7B0-45AD-84EC-CD4C2CD7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2B50-0440-4AE2-800F-D07D25B0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6DAB-0853-44CD-8EFD-A4EF9C11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C334-BCEE-4D02-B872-3783D97EE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74E9-E6E3-4C45-99D2-66273EC4A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08DF0-5AB5-46B0-900B-BA883FA8D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0C727-8431-4B8B-8EB5-48C860FB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6B221-DE4D-4CE2-A9C1-A85C5857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79095-FA73-4032-A778-66675684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C1FF6-73E9-4A03-8ADE-6E0C3E45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FCDE-0A69-4272-87E9-DE20BE0D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7C8B9-5F65-405C-B444-DD2BF536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83AA5-0D95-4E06-8402-8250B039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7F0E2-75B1-4C24-A357-D377DC17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C14E9-0375-4ABF-B7B9-B827FB37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0FD10-C88E-4795-B81C-B5EDF3E4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A4E87-CC5E-4766-A368-D20FF9AF7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59BD0-AADC-4161-ABE2-22D7DAE05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FA97B-1A7E-4BF5-8837-8BF45FBCF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29570-ED1F-46E9-B651-32F05C29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52B2A-C14B-426E-945C-AB2223B4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79D0-CE26-4E48-B423-A9C0A0B4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0AF4D-3581-46A8-9662-59786745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EFF3B-703E-4AEF-9DE0-5B8D95C4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00BB8-29CD-42F2-A670-50A4B06D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14562-C018-460E-A3CC-4734B701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448F1-1229-40F7-B498-E2C65E93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3CE52-916B-46A5-B610-EFD0A3CC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17F9B-01A1-4731-A14B-5DAD9D3D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1E279-9B8C-4514-96DD-998BF5F6C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7BD65-CE37-407E-9F92-D22A27034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CB7C-FDAC-48FE-9F88-587422A5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4BD2-37BF-4466-8294-87007FEF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7AE8-6649-4C48-B845-7FD45693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B162-4BD7-43C1-B360-2231B4A0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23BB-9669-445F-8128-E25B533A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D9FB-7915-41F3-82E2-F527BBDAF57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10C4-DB8A-43C0-8CBB-B8E2CADE815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DE82-147F-4A42-AB98-915E83A7F3D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2427-18E7-4145-9BA8-087ECA42F48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Внеклассное мероприятие по русскому языку и литературе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«Знаем русский!»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11 класс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7" name="Picture 4" descr="BS00554_"/>
          <p:cNvPicPr/>
          <p:nvPr/>
        </p:nvPicPr>
        <p:blipFill>
          <a:blip r:embed="rId1"/>
          <a:stretch/>
        </p:blipFill>
        <p:spPr>
          <a:xfrm>
            <a:off x="6500880" y="4643280"/>
            <a:ext cx="2643120" cy="2214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BS00554_"/>
          <p:cNvPicPr/>
          <p:nvPr/>
        </p:nvPicPr>
        <p:blipFill>
          <a:blip r:embed="rId2"/>
          <a:stretch/>
        </p:blipFill>
        <p:spPr>
          <a:xfrm>
            <a:off x="0" y="4643280"/>
            <a:ext cx="26352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еленый сектор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...Был в некотором отношении исторический человек. Ни на одном собрании, где он был, не обходилось без истории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Славный был малый, смею вас заверить; только не­множко странен. Ведь, например, в дождик, в холод целый день, на охоте; все иззябнут, устанут - а ему ничего. А другой раз си­дит у себя в комнате, ветер пахнет, уверяет, что простудился»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Его наружность была из тех, которые с первого взгляда поражают неприятно, но которые нравятся впоследствии, когда глаз выучится читать в неправильных чертах отпечаток душ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спытанной и высокой»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..Она среднего роста, блондинка, с правильными черта­ми, цвет лица чахоточный, а на правой щеке черная родинка. Вер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Он был среднего роста; стройный, тонкий стан его и широкие плечи доказывали крепкое сложение, способное пере­носить все трудности кочевой жизни и перемены климатов...»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Желтый сектор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1. …Лет сорока от роду, росту среднего, худощав и широкоплеч. В черной бороде его показалась проседь; живые большие глаза у него так и бегали. Лицо его имело выражение довольно приятное, но плутовское…».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2. «… На другое утро он раньше всех проснулся и вышел из дома. В несколько минут обегал все дорожки сада , зашел на скотный двор, на конюшню, отыскал двух дворовых мальчишек, с которыми тотчас свел знакомство, и отправился с ними в небольшое болотце, с версту от усадьбы,  за лягушками….»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3. «…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озвольте,  попросить вас осчастливить нас! Спойте нам какой-нибудь романс или песенку! Я вас целый год не слыхал да, вероятно, и не услышу уж более. …»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4. «Оставалось очень немного наследства, именно: пучок гусиных перьев, десть белой казенной бу­маги, три пары носков, две-три пуговицы, ото­рвавшиеся от панталон, и... капот»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15. Провожая его в жизнь, отец завещал ему: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"Во-первых, угождать всем людям без изъятья: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Хозяину, где поведется жить,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Начальнику, с кем буду я служить,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Слуге его, который чистит платье,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Швейцару, дворнику для избежанья зла,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Собаке дворника, чтоб ласкова была" 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onstantia"/>
              </a:rPr>
              <a:t>5.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"Вошь ли я, как все, или человек? Смогу ли я переступить или не смогу? Осмелюсь ли нагнуться и взять или нет?"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4 тур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6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nstantia"/>
              </a:rPr>
              <a:t>«Мастерская слова»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9" descr="j0301252"/>
          <p:cNvPicPr/>
          <p:nvPr/>
        </p:nvPicPr>
        <p:blipFill>
          <a:blip r:embed="rId1"/>
          <a:stretch/>
        </p:blipFill>
        <p:spPr>
          <a:xfrm>
            <a:off x="4357800" y="3071880"/>
            <a:ext cx="43574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6"/>
          <p:cNvSpPr txBox="1"/>
          <p:nvPr/>
        </p:nvSpPr>
        <p:spPr>
          <a:xfrm>
            <a:off x="395280" y="642960"/>
            <a:ext cx="8105760" cy="228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СПАСИБ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ЗА УЧАСТ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228" name="Picture 5" descr="Дидакт_1"/>
          <p:cNvPicPr/>
          <p:nvPr/>
        </p:nvPicPr>
        <p:blipFill>
          <a:blip r:embed="rId1"/>
          <a:stretch/>
        </p:blipFill>
        <p:spPr>
          <a:xfrm>
            <a:off x="2143080" y="3071880"/>
            <a:ext cx="4191120" cy="35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        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Ф.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Васильев «Слово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Когда ты хочешь молвить слово,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Мой друг, подумай, не спеши: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но бывает то свинцово,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То рождено теплом души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но то жаворонком в выси,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То медью траурной поет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Покуда слово сам не взвесил,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Не выпускай его в полет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Им можно радости прибавить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И радость ядом отравить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Им можно лед зимой расплавить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И камень в крошку раздробить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но ограбит иль одарит,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Пусть ненароком, пусть любя,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Подумай, как бы не ударить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Того, кто слушает тебя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4"/>
          <p:cNvSpPr/>
          <p:nvPr/>
        </p:nvSpPr>
        <p:spPr>
          <a:xfrm>
            <a:off x="65160" y="135000"/>
            <a:ext cx="907884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eeskneesCTT"/>
              </a:rPr>
              <a:t>ИНТЕРЕСНЫЕ ЧИС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1800" spc="-1" strike="noStrike">
                <a:solidFill>
                  <a:srgbClr val="000099"/>
                </a:solidFill>
                <a:latin typeface="Comic Sans MS"/>
              </a:rPr>
              <a:t>17-томный Словарь современного русского литературного язык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120 480 сл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3333cc"/>
                </a:solidFill>
                <a:latin typeface="Comic Sans MS"/>
              </a:rPr>
              <a:t>Словарь произведений А.С. Пушк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21 000 сл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3333cc"/>
                </a:solidFill>
                <a:latin typeface="Comic Sans MS"/>
              </a:rPr>
              <a:t>Словарь взрослого человека, имеющего высшее образ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12 000 сл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3333cc"/>
                </a:solidFill>
                <a:latin typeface="Comic Sans MS"/>
              </a:rPr>
              <a:t>Словарь школьника старших классов, студен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5 000 сл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3333cc"/>
                </a:solidFill>
                <a:latin typeface="Comic Sans MS"/>
              </a:rPr>
              <a:t>Словарь младшего школьника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3 600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1 тур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6600" spc="-1" strike="noStrike">
                <a:solidFill>
                  <a:srgbClr val="000000"/>
                </a:solidFill>
                <a:latin typeface="Constantia"/>
              </a:rPr>
              <a:t>Блиц- поединок капитанов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9" descr="j0301252"/>
          <p:cNvPicPr/>
          <p:nvPr/>
        </p:nvPicPr>
        <p:blipFill>
          <a:blip r:embed="rId1"/>
          <a:stretch/>
        </p:blipFill>
        <p:spPr>
          <a:xfrm>
            <a:off x="5500800" y="4000680"/>
            <a:ext cx="321444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2 тур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6600" spc="-1" strike="noStrike">
                <a:solidFill>
                  <a:srgbClr val="000000"/>
                </a:solidFill>
                <a:latin typeface="Constantia"/>
              </a:rPr>
              <a:t>История русского языка. 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6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9" descr="j0301252"/>
          <p:cNvPicPr/>
          <p:nvPr/>
        </p:nvPicPr>
        <p:blipFill>
          <a:blip r:embed="rId1"/>
          <a:stretch/>
        </p:blipFill>
        <p:spPr>
          <a:xfrm>
            <a:off x="5500800" y="4000680"/>
            <a:ext cx="321444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Водяные лил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5"/>
          <p:cNvSpPr/>
          <p:nvPr/>
        </p:nvSpPr>
        <p:spPr>
          <a:xfrm>
            <a:off x="324000" y="2133360"/>
            <a:ext cx="85690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По словарной статье фразеологического словар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Constantia"/>
              </a:rPr>
              <a:t>определить фразеологизм</a:t>
            </a: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ыражение зародилось в те далекие времена, когда русские носили одежду с очень длинными рукавами: у мужчин они достигали 95 см, у женщин были длиннее на 40 см. Попробуйте поработать в одежде с такими рукавами: будет неудобно, получится плохо. Чтобы дело спорилось, рукава надо было закатать. Народ приметил это и стал говорить об умелом работнике, что он работает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6"/>
          <p:cNvSpPr/>
          <p:nvPr/>
        </p:nvSpPr>
        <p:spPr>
          <a:xfrm>
            <a:off x="1619280" y="620640"/>
            <a:ext cx="5904000" cy="1152720"/>
          </a:xfrm>
          <a:custGeom>
            <a:avLst/>
            <a:gdLst>
              <a:gd name="textAreaLeft" fmla="*/ 1476000 w 5904000"/>
              <a:gd name="textAreaRight" fmla="*/ 4428000 w 5904000"/>
              <a:gd name="textAreaTop" fmla="*/ 33840 h 1152720"/>
              <a:gd name="textAreaBottom" fmla="*/ 8647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00ffff"/>
              </a:gs>
              <a:gs pos="50000">
                <a:srgbClr val="0f6fc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3492360" y="836640"/>
            <a:ext cx="21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enguiatGothicCTT"/>
              </a:rPr>
              <a:t>Игра со зрител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3 тур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6600" spc="-1" strike="noStrike">
                <a:solidFill>
                  <a:srgbClr val="000000"/>
                </a:solidFill>
                <a:latin typeface="Constantia"/>
              </a:rPr>
              <a:t>Блиц-эрудит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9" descr="j0301252"/>
          <p:cNvPicPr/>
          <p:nvPr/>
        </p:nvPicPr>
        <p:blipFill>
          <a:blip r:embed="rId1"/>
          <a:stretch/>
        </p:blipFill>
        <p:spPr>
          <a:xfrm>
            <a:off x="4857840" y="3214800"/>
            <a:ext cx="385740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4 Тур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7856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i="1" lang="ru-RU" sz="6000" spc="-1" strike="noStrike">
                <a:solidFill>
                  <a:srgbClr val="000000"/>
                </a:solidFill>
                <a:latin typeface="Constantia"/>
              </a:rPr>
              <a:t>Язык художественной литературы</a:t>
            </a:r>
            <a:r>
              <a:rPr b="1" i="1" lang="ru-RU" sz="6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6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9" descr="j0301252"/>
          <p:cNvPicPr/>
          <p:nvPr/>
        </p:nvPicPr>
        <p:blipFill>
          <a:blip r:embed="rId1"/>
          <a:stretch/>
        </p:blipFill>
        <p:spPr>
          <a:xfrm>
            <a:off x="5786280" y="4714920"/>
            <a:ext cx="33577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иний сектор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. «Это был среднего роста, очень недурно сложённый мо­лодец с полными румяными щеками, с белыми, как снег, зубами и чёрными, как смоль, бакенбардами. Свеж он был, как кровь с молоком; здоровье, казалось, так и прыскало с лица его»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. «...Герой наш уже был средних лет и осмотрительно-охлаждённого характера»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...Маленькие глазки ещё не потухнули и бегали из-под высоко выросших бровей, как мыши, когда, высунувши из тём­ных нор острые морды, настороже уши и моргая усом, они вы­сматривают, не затаился ли где кот или шалун мальчишка, и нюхают подозрительно самый воздух»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Цвет лица имел калёный, горячий, какой бывает на мед­ном пятаке... самый крепкий и на диво стачечный образ...». 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...Человеческие чувства, которые и без того не были в нём глубоки, мелели ежеминутно, и каждый день что-нибудь утрачивалось в этой изношенной развалине»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15:39:23Z</dcterms:created>
  <dc:creator>WWW</dc:creator>
  <dc:description/>
  <dc:language>en-US</dc:language>
  <cp:lastModifiedBy>WWW</cp:lastModifiedBy>
  <dcterms:modified xsi:type="dcterms:W3CDTF">2011-12-07T16:27:15Z</dcterms:modified>
  <cp:revision>7</cp:revision>
  <dc:subject/>
  <dc:title>Слайд 1</dc:title>
</cp:coreProperties>
</file>