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39C-F560-440D-8001-5C994C5C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811-C20A-489B-8F2D-7E515C6C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8A7-E176-4C32-AC1A-3E92713B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64D-B093-4C11-9CB0-6BD0C303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EE64-705E-4940-A0A8-FB71DF3F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4926-1B6C-4EE0-B37E-B57BD54C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D8D-B8E9-410D-BA62-9D743F7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1918-7E4D-49D1-9DD4-810EE3A4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6B2C-CD95-4C01-9994-5F8384A1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4EA-13A9-4167-A21B-27F894E4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856C-558E-431C-AC15-D8AE7D7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04E-F653-4009-A6AC-DD34E932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BA97-A1F6-4737-9055-3CDA255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20D2-AE74-471E-9ABB-67473D1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B51-6B34-4408-A76D-183C2BCD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C53-DAA5-44D6-BD66-41EB1627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D694-77E2-4C44-A7F9-4BE827E2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F2A5-25CF-485A-8FE2-FCCE0C05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3F2C-9D7C-40E5-A2E5-5569FFCD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6EE4-010F-4C19-8029-46F2EFC1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BD6E-362F-490F-B55F-5F4F002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3EF7-26E8-4132-B075-1F52C84C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682-77E0-43B2-9E91-FC0245D1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A131-CCFF-4B85-B944-3E1A4672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BE22-D153-4C3B-A081-01F95DE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1E49-C70C-46E6-876B-1D33121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CA2C-DCB1-4D3A-BC49-8471501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1091-B0B0-4F0B-938D-D4D83EC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787C-B746-4993-BA3C-DB83DAF2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6763-D1B1-4998-9450-B86BF789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0E56-E1C6-4FE1-B980-C09A3BB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17EB-7982-4EB3-B477-DC02D68C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C48A-A8A8-4D3E-9CA7-A20BF5A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956-0F72-4C09-8CD7-095237DE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9741-30B6-4F75-8EEC-64D19E5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32FA-012C-4D9D-A126-E46ED89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E0FF-7F93-4F56-A3DC-5260281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9B03D-E998-47C4-A33D-AC326D1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3272-080D-4CB3-A67D-55B62CED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DA84C-D97E-4F94-BF35-4A33467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61A0-9468-48B8-8FA3-8E9D23A3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4792-B685-4FEA-99A6-2331A7A7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AEFB-9F5C-4642-8D11-A829E265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11F-98E8-45A2-A283-5EDE627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BA1-EE28-41FB-8EF3-2EEE7DF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DB9-1067-433F-B987-73B934F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2D7-6B43-48A5-B36C-DEC14DA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C5D-A7DE-4D9D-87C4-A8CF645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719F-D665-4447-9F8C-EB11F8CCE4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8CB-04A2-47CE-A0DC-DF4B3B84A2F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C2AC-BE30-458A-BB4F-DF94473B213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E85-D42C-4100-BF56-FEDBAE9198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неклассное мероприятие по русскому языку и литератур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Знаем русский!»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1 кла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4" descr="BS00554_"/>
          <p:cNvPicPr/>
          <p:nvPr/>
        </p:nvPicPr>
        <p:blipFill>
          <a:blip r:embed="rId1"/>
          <a:stretch/>
        </p:blipFill>
        <p:spPr>
          <a:xfrm>
            <a:off x="6500880" y="464328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BS00554_"/>
          <p:cNvPicPr/>
          <p:nvPr/>
        </p:nvPicPr>
        <p:blipFill>
          <a:blip r:embed="rId2"/>
          <a:stretch/>
        </p:blipFill>
        <p:spPr>
          <a:xfrm>
            <a:off x="0" y="4643280"/>
            <a:ext cx="2635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еленый се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...Был в некотором отношении исторический человек. Ни на одном собрании, где он был, не обходилось без истории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лавный был малый, смею вас заверить; только не­множко странен. Ведь, например, в дождик, в холод целый день, на охоте; все иззябнут, устанут - а ему ничего. А другой раз си­дит у себя в комнате, ветер пахнет, уверяет, что простудился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Его наружность была из тех, которые с первого взгляда поражают неприятно, но которые нравятся впоследствии, когда глаз выучится читать в неправильных чертах отпечаток душ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ытанной и высокой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..Она среднего роста, блондинка, с правильными черта­ми, цвет лица чахоточный, а на правой щеке черная родинка. Ве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Он был среднего роста; стройный, тонкий стан его и широкие плечи доказывали крепкое сложение, способное пере­носить все трудности кочевой жизни и перемены климатов...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елтый се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. …Лет сорока от роду, росту среднего, худощав и широкоплеч. В черной бороде его показалась проседь; живые большие глаза у него так и бегали. Лицо его имело выражение довольно приятное, но плутовское…»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. «… На другое утро он раньше всех проснулся и вышел из дома. В несколько минут обегал все дорожки сада , зашел на скотный двор, на конюшню, отыскал двух дворовых мальчишек, с которыми тотчас свел знакомство, и отправился с ними в небольшое болотце, с версту от усадьбы,  за лягушками….»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«…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звольте,  попросить вас осчастливить нас! Спойте нам какой-нибудь романс или песенку! Я вас целый год не слыхал да, вероятно, и не услышу уж более.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4. «Оставалось очень немного наследства, именно: пучок гусиных перьев, десть белой казенной бу­маги, три пары носков, две-три пуговицы, ото­рвавшиеся от панталон, и... капот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5. Провожая его в жизнь, отец завещал ему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"Во-первых, угождать всем людям без изъятья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Хозяину, где поведется жи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чальнику, с кем буду я служить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луге его, который чистит платье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Швейцару, дворнику для избежанья зл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баке дворника, чтоб ласкова была" 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"Вошь ли я, как все, или человек? Смогу ли я переступить или не смогу? Осмелюсь ли нагнуться и взять или нет?"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4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«Мастерская слова»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9" descr="j0301252"/>
          <p:cNvPicPr/>
          <p:nvPr/>
        </p:nvPicPr>
        <p:blipFill>
          <a:blip r:embed="rId1"/>
          <a:stretch/>
        </p:blipFill>
        <p:spPr>
          <a:xfrm>
            <a:off x="4357800" y="3071880"/>
            <a:ext cx="43574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6"/>
          <p:cNvSpPr txBox="1"/>
          <p:nvPr/>
        </p:nvSpPr>
        <p:spPr>
          <a:xfrm>
            <a:off x="395280" y="642960"/>
            <a:ext cx="8105760" cy="22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ЗА УЧАСТ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28" name="Picture 5" descr="Дидакт_1"/>
          <p:cNvPicPr/>
          <p:nvPr/>
        </p:nvPicPr>
        <p:blipFill>
          <a:blip r:embed="rId1"/>
          <a:stretch/>
        </p:blipFill>
        <p:spPr>
          <a:xfrm>
            <a:off x="2143080" y="3071880"/>
            <a:ext cx="41911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Ф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асильев «Слово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да ты хочешь молвить слово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ой друг, подумай, не спеши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о бывает то свинцово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 рождено теплом душ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о то жаворонком в выси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 медью траурной по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куда слово сам не взвесил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выпускай его в пол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м можно радости прибавить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радость ядом отравить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м можно лед зимой расплавить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камень в крошку раздробить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но ограбит иль одарит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усть ненароком, пусть любя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думай, как бы не ударить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го, кто слушает теб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65160" y="135000"/>
            <a:ext cx="90788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eeskneesCTT"/>
              </a:rPr>
              <a:t>ИНТЕРЕС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17-томный Словарь современного русского литературного язы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120 48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произведений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21 00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взрослого человека, имеющего высшее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12 00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школьника старших классов, сту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5 000 с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Comic Sans MS"/>
              </a:rPr>
              <a:t>Словарь младшего школьник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3 60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1 тур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Блиц- поединок капитанов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9" descr="j0301252"/>
          <p:cNvPicPr/>
          <p:nvPr/>
        </p:nvPicPr>
        <p:blipFill>
          <a:blip r:embed="rId1"/>
          <a:stretch/>
        </p:blipFill>
        <p:spPr>
          <a:xfrm>
            <a:off x="5500800" y="4000680"/>
            <a:ext cx="3214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2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История русского языка.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9" descr="j0301252"/>
          <p:cNvPicPr/>
          <p:nvPr/>
        </p:nvPicPr>
        <p:blipFill>
          <a:blip r:embed="rId1"/>
          <a:stretch/>
        </p:blipFill>
        <p:spPr>
          <a:xfrm>
            <a:off x="5500800" y="4000680"/>
            <a:ext cx="3214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24000" y="2133360"/>
            <a:ext cx="856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По словарной статье фразеологического слов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nstantia"/>
              </a:rPr>
              <a:t>определить фразеологизм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ражение зародилось в те далекие времена, когда русские носили одежду с очень длинными рукавами: у мужчин они достигали 95 см, у женщин были длиннее на 40 см. Попробуйте поработать в одежде с такими рукавами: будет неудобно, получится плохо. Чтобы дело спорилось, рукава надо было закатать. Народ приметил это и стал говорить об умелом работнике, что он работае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619280" y="620640"/>
            <a:ext cx="5904000" cy="1152720"/>
          </a:xfrm>
          <a:custGeom>
            <a:avLst/>
            <a:gdLst>
              <a:gd name="textAreaLeft" fmla="*/ 1476000 w 5904000"/>
              <a:gd name="textAreaRight" fmla="*/ 4428000 w 5904000"/>
              <a:gd name="textAreaTop" fmla="*/ 3384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f6fc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492360" y="836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nguiatGothicCTT"/>
              </a:rPr>
              <a:t>Игра со зр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3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Блиц-эрудит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9" descr="j0301252"/>
          <p:cNvPicPr/>
          <p:nvPr/>
        </p:nvPicPr>
        <p:blipFill>
          <a:blip r:embed="rId1"/>
          <a:stretch/>
        </p:blipFill>
        <p:spPr>
          <a:xfrm>
            <a:off x="4857840" y="3214800"/>
            <a:ext cx="3857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4 Т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Язык художественной литературы</a:t>
            </a:r>
            <a:r>
              <a:rPr b="1" i="1" lang="ru-RU" sz="6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9" descr="j0301252"/>
          <p:cNvPicPr/>
          <p:nvPr/>
        </p:nvPicPr>
        <p:blipFill>
          <a:blip r:embed="rId1"/>
          <a:stretch/>
        </p:blipFill>
        <p:spPr>
          <a:xfrm>
            <a:off x="5786280" y="471492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ний се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«Это был среднего роста, очень недурно сложённый мо­лодец с полными румяными щеками, с белыми, как снег, зубами и чёрными, как смоль, бакенбардами. Свеж он был, как кровь с молоком; здоровье, казалось, так и прыскало с лица его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«...Герой наш уже был средних лет и осмотрительно-охлаждённого характера»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...Маленькие глазки ещё не потухнули и бегали из-под высоко выросших бровей, как мыши, когда, высунувши из тём­ных нор острые морды, настороже уши и моргая усом, они вы­сматривают, не затаился ли где кот или шалун мальчишка, и нюхают подозрительно самый воздух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Цвет лица имел калёный, горячий, какой бывает на мед­ном пятаке... самый крепкий и на диво стачечный образ...»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...Человеческие чувства, которые и без того не были в нём глубоки, мелели ежеминутно, и каждый день что-нибудь утрачивалось в этой изношенной развалине»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5:39:23Z</dcterms:created>
  <dc:creator>WWW</dc:creator>
  <dc:description/>
  <dc:language>en-US</dc:language>
  <cp:lastModifiedBy>WWW</cp:lastModifiedBy>
  <dcterms:modified xsi:type="dcterms:W3CDTF">2011-12-07T16:27:15Z</dcterms:modified>
  <cp:revision>7</cp:revision>
  <dc:subject/>
  <dc:title>Слайд 1</dc:title>
</cp:coreProperties>
</file>