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947-0360-40C2-AF8A-7BD80EB8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EBF-EFEA-4852-A12C-CA33BAE5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E61-4AE7-4F23-BD69-5C933F18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579-6BC2-4A49-A66D-5E40B5E5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433F-FBD7-47D8-82FB-1B3C65C7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96DF-7EF7-443B-B305-C046E9B7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84DF-032D-4059-84C2-3575F332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F294-CD35-4571-9C8E-9FE14129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3643-8623-4648-ABAA-7B0B6C09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8B39-F93E-43C0-BCD7-C86D2245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781B-D153-4BF6-82E4-2ABDD9A3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F96-05EA-41FD-9A3C-EA542603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AF80-31D1-4F2C-9375-8E808CE4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1F82-EE09-42F7-837C-F3FB5C72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52FF-0EA7-4E7B-B713-C4ED4DFC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44DB-5648-4EA2-A28B-D121E395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BD76-9EE5-4A83-AFB5-E9490ECF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F32-305F-4951-BBFB-DD46C0B2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D59-2633-4A0A-ADA9-A531B7C4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555-A251-4929-ACCB-D0D265FB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300-7E07-4718-9627-119E5C91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4D3-34BF-441E-AE1F-1E459747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A5E-9DF4-4366-AE56-7892ED8A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52C-E2DD-49A1-828D-8A6BBD67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5BCD-9064-4A57-A372-BA6A2C51CAD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AEE8-DE16-43E8-A69D-F546E21C9A7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hyperlink" Target="file:///&#1054;&#1088;&#1092;&#1086;&#1075;&#1088;&#1072;&#1092;&#1080;&#1095;&#1077;&#1089;&#1082;&#1080;&#1077;%20&#1084;&#1080;&#1085;&#1091;&#1090;&#1082;&#1080;/1&#1052;&#1077;&#1085;&#1102;.ppt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7200" y="-19080"/>
            <a:ext cx="8229600" cy="1573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езентация практических достижений профессиональной деятельности  учителя начальных клас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БОУ СОШ  №11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Ашмариной Галины Алексеев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9"/>
          <p:cNvSpPr/>
          <p:nvPr/>
        </p:nvSpPr>
        <p:spPr>
          <a:xfrm>
            <a:off x="2743200" y="2362320"/>
            <a:ext cx="3733920" cy="2590560"/>
          </a:xfrm>
          <a:prstGeom prst="ellipse">
            <a:avLst/>
          </a:prstGeom>
          <a:solidFill>
            <a:srgbClr val="f2f2f2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Факторы 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орфографическ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Comic Sans MS"/>
              </a:rPr>
              <a:t>зоркости</a:t>
            </a:r>
            <a:r>
              <a:rPr b="1" lang="ru-RU" sz="28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, ка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шаг к грамотно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пись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7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276360" cy="68580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pic>
        <p:nvPicPr>
          <p:cNvPr id="141" name="Picture 19" descr=""/>
          <p:cNvPicPr/>
          <p:nvPr/>
        </p:nvPicPr>
        <p:blipFill>
          <a:blip r:embed="rId2"/>
          <a:stretch/>
        </p:blipFill>
        <p:spPr>
          <a:xfrm>
            <a:off x="228600" y="5486400"/>
            <a:ext cx="4191120" cy="68580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pic>
        <p:nvPicPr>
          <p:cNvPr id="142" name="Picture 20" descr=""/>
          <p:cNvPicPr/>
          <p:nvPr/>
        </p:nvPicPr>
        <p:blipFill>
          <a:blip r:embed="rId3"/>
          <a:stretch/>
        </p:blipFill>
        <p:spPr>
          <a:xfrm>
            <a:off x="5867280" y="4724280"/>
            <a:ext cx="3276720" cy="68580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143" name="Rectangle 21"/>
          <p:cNvSpPr/>
          <p:nvPr/>
        </p:nvSpPr>
        <p:spPr>
          <a:xfrm>
            <a:off x="161640" y="5486400"/>
            <a:ext cx="42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Comic Sans MS"/>
              </a:rPr>
              <a:t>3. </a:t>
            </a:r>
            <a:r>
              <a:rPr b="1" lang="ru-RU" sz="2800" spc="-1" strike="noStrike">
                <a:solidFill>
                  <a:srgbClr val="993366"/>
                </a:solidFill>
                <a:latin typeface="Constantia"/>
              </a:rPr>
              <a:t>Рукодвига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5871240" y="472428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Comic Sans MS"/>
              </a:rPr>
              <a:t>4. </a:t>
            </a:r>
            <a:r>
              <a:rPr b="1" lang="ru-RU" sz="2800" spc="-1" strike="noStrike">
                <a:solidFill>
                  <a:srgbClr val="993366"/>
                </a:solidFill>
                <a:latin typeface="Constantia"/>
              </a:rPr>
              <a:t>Артикуля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6" descr=""/>
          <p:cNvPicPr/>
          <p:nvPr/>
        </p:nvPicPr>
        <p:blipFill>
          <a:blip r:embed="rId4"/>
          <a:stretch/>
        </p:blipFill>
        <p:spPr>
          <a:xfrm>
            <a:off x="5791320" y="1219320"/>
            <a:ext cx="2743200" cy="1189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146" name="Rectangle 27"/>
          <p:cNvSpPr/>
          <p:nvPr/>
        </p:nvSpPr>
        <p:spPr>
          <a:xfrm>
            <a:off x="5791320" y="1219320"/>
            <a:ext cx="2743200" cy="120276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борочны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дупредит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иктан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5"/>
          <a:stretch/>
        </p:blipFill>
        <p:spPr>
          <a:xfrm>
            <a:off x="6172200" y="5715000"/>
            <a:ext cx="2819520" cy="96048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  <p:sp>
        <p:nvSpPr>
          <p:cNvPr id="148" name="Rectangle 29"/>
          <p:cNvSpPr/>
          <p:nvPr/>
        </p:nvSpPr>
        <p:spPr>
          <a:xfrm>
            <a:off x="6324480" y="5791320"/>
            <a:ext cx="2667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рфограф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оговар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1" descr=""/>
          <p:cNvPicPr/>
          <p:nvPr/>
        </p:nvPicPr>
        <p:blipFill>
          <a:blip r:embed="rId6"/>
          <a:stretch/>
        </p:blipFill>
        <p:spPr>
          <a:xfrm>
            <a:off x="228600" y="6248520"/>
            <a:ext cx="4267080" cy="457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2"/>
          <p:cNvSpPr/>
          <p:nvPr/>
        </p:nvSpPr>
        <p:spPr>
          <a:xfrm>
            <a:off x="270360" y="6248520"/>
            <a:ext cx="4132440" cy="36828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 выполнении всех упражн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9" descr=""/>
          <p:cNvPicPr/>
          <p:nvPr/>
        </p:nvPicPr>
        <p:blipFill>
          <a:blip r:embed="rId7"/>
          <a:stretch/>
        </p:blipFill>
        <p:spPr>
          <a:xfrm>
            <a:off x="228600" y="304920"/>
            <a:ext cx="3276720" cy="68580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152" name="Rectangle 40"/>
          <p:cNvSpPr/>
          <p:nvPr/>
        </p:nvSpPr>
        <p:spPr>
          <a:xfrm>
            <a:off x="457200" y="3808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Constantia"/>
              </a:rPr>
              <a:t>1. Зри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1" descr=""/>
          <p:cNvPicPr/>
          <p:nvPr/>
        </p:nvPicPr>
        <p:blipFill>
          <a:blip r:embed="rId8"/>
          <a:stretch/>
        </p:blipFill>
        <p:spPr>
          <a:xfrm>
            <a:off x="228600" y="1143000"/>
            <a:ext cx="2362320" cy="31240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3"/>
          <p:cNvSpPr/>
          <p:nvPr/>
        </p:nvSpPr>
        <p:spPr>
          <a:xfrm>
            <a:off x="228600" y="1066680"/>
            <a:ext cx="2514600" cy="311148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рительны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яснительный диктан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исьмо по памят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ыборочное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исыв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графическое выде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рфограм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исьмо с «окошкам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5105520" y="38088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Comic Sans MS"/>
              </a:rPr>
              <a:t>2. </a:t>
            </a:r>
            <a:r>
              <a:rPr b="1" lang="ru-RU" sz="2800" spc="-1" strike="noStrike">
                <a:solidFill>
                  <a:srgbClr val="993366"/>
                </a:solidFill>
                <a:latin typeface="Constantia"/>
              </a:rPr>
              <a:t>Слух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4"/>
          <p:cNvSpPr/>
          <p:nvPr/>
        </p:nvSpPr>
        <p:spPr>
          <a:xfrm>
            <a:off x="3132000" y="2057400"/>
            <a:ext cx="2895840" cy="2666880"/>
          </a:xfrm>
          <a:prstGeom prst="ellipse">
            <a:avLst/>
          </a:prstGeom>
          <a:solidFill>
            <a:srgbClr val="ff33cc"/>
          </a:solidFill>
          <a:ln w="7632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842920" y="2286000"/>
            <a:ext cx="34052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Приём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формирован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  <a:ea typeface="Arial Unicode MS"/>
              </a:rPr>
              <a:t>орфографического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навык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3581280" y="4724280"/>
            <a:ext cx="2057400" cy="213372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3581280" y="0"/>
            <a:ext cx="2133720" cy="205740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9">
            <a:hlinkClick r:id="rId1" action="ppaction://hlinksldjump"/>
          </p:cNvPr>
          <p:cNvSpPr/>
          <p:nvPr/>
        </p:nvSpPr>
        <p:spPr>
          <a:xfrm>
            <a:off x="0" y="2590920"/>
            <a:ext cx="3124080" cy="160020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6019920" y="2590920"/>
            <a:ext cx="3124080" cy="160020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 rot="2023800">
            <a:off x="456840" y="609480"/>
            <a:ext cx="3429000" cy="160020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 rot="2379000">
            <a:off x="5333760" y="4495680"/>
            <a:ext cx="3352680" cy="160020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3"/>
          <p:cNvSpPr/>
          <p:nvPr/>
        </p:nvSpPr>
        <p:spPr>
          <a:xfrm rot="19608600">
            <a:off x="474480" y="4481280"/>
            <a:ext cx="3352680" cy="160020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4"/>
          <p:cNvSpPr/>
          <p:nvPr/>
        </p:nvSpPr>
        <p:spPr>
          <a:xfrm rot="19608600">
            <a:off x="5238360" y="622080"/>
            <a:ext cx="3352680" cy="160020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50532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Списы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 rot="19673400">
            <a:off x="5385240" y="1014120"/>
            <a:ext cx="325764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Комментированное письм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791320" y="2819520"/>
            <a:ext cx="312408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              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Письм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          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с пропуском              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орф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 rot="2355000">
            <a:off x="5405760" y="5172480"/>
            <a:ext cx="30178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Какографические</a:t>
            </a: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3786120" y="5072040"/>
            <a:ext cx="215748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Пои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орф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в текс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 rot="19497600">
            <a:off x="1303200" y="4766760"/>
            <a:ext cx="2057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Письмо</a:t>
            </a: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по 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памя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762120" y="3124080"/>
            <a:ext cx="19810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Дикта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3">
            <a:hlinkClick r:id="rId2"/>
          </p:cNvPr>
          <p:cNvSpPr/>
          <p:nvPr/>
        </p:nvSpPr>
        <p:spPr>
          <a:xfrm rot="2065800">
            <a:off x="424080" y="1011240"/>
            <a:ext cx="30546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Орфографические</a:t>
            </a: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мину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Шестиугольник 1"/>
          <p:cNvSpPr/>
          <p:nvPr/>
        </p:nvSpPr>
        <p:spPr>
          <a:xfrm>
            <a:off x="10764720" y="4056120"/>
            <a:ext cx="1060560" cy="9144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Oval 5"/>
          <p:cNvSpPr/>
          <p:nvPr/>
        </p:nvSpPr>
        <p:spPr>
          <a:xfrm>
            <a:off x="3048120" y="2666880"/>
            <a:ext cx="3124080" cy="1600200"/>
          </a:xfrm>
          <a:prstGeom prst="ellipse">
            <a:avLst/>
          </a:prstGeom>
          <a:solidFill>
            <a:srgbClr val="ff99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657600" y="3200400"/>
            <a:ext cx="1981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Дикта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943600" y="2133720"/>
            <a:ext cx="3200400" cy="1523880"/>
          </a:xfrm>
          <a:prstGeom prst="wedgeEllipseCallout">
            <a:avLst>
              <a:gd name="adj1" fmla="val -62648"/>
              <a:gd name="adj2" fmla="val -5935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715000" y="2666880"/>
            <a:ext cx="36576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Предупредительный дикт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6095880" y="4114800"/>
            <a:ext cx="3048120" cy="1219320"/>
          </a:xfrm>
          <a:prstGeom prst="wedgeEllipseCallout">
            <a:avLst>
              <a:gd name="adj1" fmla="val -61773"/>
              <a:gd name="adj2" fmla="val -56379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172200" y="4419720"/>
            <a:ext cx="29718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Объяснительный дикт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2"/>
          <p:cNvSpPr/>
          <p:nvPr/>
        </p:nvSpPr>
        <p:spPr>
          <a:xfrm>
            <a:off x="5181480" y="5410080"/>
            <a:ext cx="3048120" cy="1219320"/>
          </a:xfrm>
          <a:prstGeom prst="wedgeEllipseCallout">
            <a:avLst>
              <a:gd name="adj1" fmla="val -55731"/>
              <a:gd name="adj2" fmla="val -136328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5562720" y="5634000"/>
            <a:ext cx="25146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Выборочный дикт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1752480" y="5486400"/>
            <a:ext cx="3048120" cy="1219320"/>
          </a:xfrm>
          <a:prstGeom prst="wedgeEllipseCallout">
            <a:avLst>
              <a:gd name="adj1" fmla="val 32240"/>
              <a:gd name="adj2" fmla="val -146222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2362320" y="5634000"/>
            <a:ext cx="1981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вободный дикт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0" y="4191120"/>
            <a:ext cx="3048120" cy="1218960"/>
          </a:xfrm>
          <a:prstGeom prst="wedgeEllipseCallout">
            <a:avLst>
              <a:gd name="adj1" fmla="val 55675"/>
              <a:gd name="adj2" fmla="val -77606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0" y="4572000"/>
            <a:ext cx="259092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амодикт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8"/>
          <p:cNvSpPr/>
          <p:nvPr/>
        </p:nvSpPr>
        <p:spPr>
          <a:xfrm>
            <a:off x="0" y="762120"/>
            <a:ext cx="3048120" cy="1218960"/>
          </a:xfrm>
          <a:prstGeom prst="wedgeEllipseCallout">
            <a:avLst>
              <a:gd name="adj1" fmla="val 75259"/>
              <a:gd name="adj2" fmla="val 89972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57200" y="914400"/>
            <a:ext cx="2362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Зрительно-слуховые дикта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20"/>
          <p:cNvSpPr/>
          <p:nvPr/>
        </p:nvSpPr>
        <p:spPr>
          <a:xfrm>
            <a:off x="0" y="2286000"/>
            <a:ext cx="3048120" cy="1219320"/>
          </a:xfrm>
          <a:prstGeom prst="wedgeEllipseCallout">
            <a:avLst>
              <a:gd name="adj1" fmla="val 69166"/>
              <a:gd name="adj2" fmla="val -9893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21"/>
          <p:cNvSpPr/>
          <p:nvPr/>
        </p:nvSpPr>
        <p:spPr>
          <a:xfrm>
            <a:off x="2819520" y="0"/>
            <a:ext cx="3047760" cy="1219320"/>
          </a:xfrm>
          <a:prstGeom prst="wedgeEllipseCallout">
            <a:avLst>
              <a:gd name="adj1" fmla="val 6250"/>
              <a:gd name="adj2" fmla="val 147527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22"/>
          <p:cNvSpPr/>
          <p:nvPr/>
        </p:nvSpPr>
        <p:spPr>
          <a:xfrm>
            <a:off x="6095880" y="609480"/>
            <a:ext cx="3048120" cy="1219320"/>
          </a:xfrm>
          <a:prstGeom prst="wedgeEllipseCallout">
            <a:avLst>
              <a:gd name="adj1" fmla="val -71773"/>
              <a:gd name="adj2" fmla="val 107550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6248520" y="838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ловарный дикт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3048120" y="304920"/>
            <a:ext cx="22096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«Проверяю себ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228600" y="2514600"/>
            <a:ext cx="28954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Диктант с постукива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6">
            <a:hlinkClick r:id="rId1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имательно прочитай предложени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тори его не заглядывая в текс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черкни в предложении все орфограмм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читай   предложение орфографичес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тори еще раз предложение, орфографически проговаривая все зву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иши, диктуя себе орфографически, не смотря в книгу, подчеркивай орфограмм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рь по книге, обрати внимание на орфограм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85040" cy="1249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1895400" y="1600200"/>
            <a:ext cx="53532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483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картинного словар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исание слов на кальке по трафаре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ём ассоциац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немотех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вукоподраж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борочные слова-вывес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од «волшебное стекло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6" descr="C:\Documents and Settings\Admin\Рабочий стол\cj cnjkf 4 zydfhz\словарь волшебный\untitled2.bmp"/>
          <p:cNvPicPr/>
          <p:nvPr/>
        </p:nvPicPr>
        <p:blipFill>
          <a:blip r:embed="rId2"/>
          <a:stretch/>
        </p:blipFill>
        <p:spPr>
          <a:xfrm>
            <a:off x="5500800" y="171468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C:\Documents and Settings\Admin\Рабочий стол\devochka-na-uroke-russkogo-yazyka-0001045502-preview.jpg"/>
          <p:cNvPicPr/>
          <p:nvPr/>
        </p:nvPicPr>
        <p:blipFill>
          <a:blip r:embed="rId3"/>
          <a:stretch/>
        </p:blipFill>
        <p:spPr>
          <a:xfrm>
            <a:off x="5857920" y="3922560"/>
            <a:ext cx="2428920" cy="26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33440" y="-963720"/>
            <a:ext cx="8272440" cy="3194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55280" y="2133720"/>
            <a:ext cx="777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379bb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a379bb"/>
                </a:solidFill>
                <a:latin typeface="Times New Roman"/>
              </a:rPr>
              <a:t>ктуальн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анной  работы определяется необходимостью поиска условий, при которых изучение морфологии в начальной школе будет максимально соответствовать возрастным закономерностям развития учащихся, способствовать формированию универсальных учебных действий и положительной мотивации к учен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785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379bb"/>
                </a:solidFill>
                <a:latin typeface="Times New Roman"/>
              </a:rPr>
              <a:t>Цель исследова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пределить принципы обучения, обосновать методы, привести их в систему,  использовать в своей работе научные основы конструирования  уроков, современных технологий обучения, форм обратной связи.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468360" y="2492280"/>
            <a:ext cx="799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379bb"/>
                </a:solidFill>
                <a:latin typeface="Arial"/>
              </a:rPr>
              <a:t>Задачи</a:t>
            </a:r>
            <a:r>
              <a:rPr b="0" lang="ru-RU" sz="1800" spc="-1" strike="noStrike">
                <a:solidFill>
                  <a:srgbClr val="a379bb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основе анализа лингвистической и психолого-педагогической литературы по проблеме определить степень изученности данной  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пределить методическую обеспеченность обучения орфографии, проанализировав программы по русскому языку и учебные пособия для учащихся начальных клас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разработать методическую систему формирования орфографической зоркости и проверить эффективность предложенной методики посредством экспериментальной работы в школ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6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Увидеть орфограмму в слове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457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79280" y="1420560"/>
            <a:ext cx="89647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ение эффективных современных педагогических технологий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активной практической деятельно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умений оценивать, анализировать, применять зна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ффективное использование различных приёмов  и  метод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познавательных способностей, учебной  мотив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1547640" y="3573360"/>
            <a:ext cx="6861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99"/>
                </a:solidFill>
                <a:latin typeface="Arial"/>
              </a:rPr>
              <a:t>Технологи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4100" spc="-1" strike="noStrike">
                <a:solidFill>
                  <a:srgbClr val="000099"/>
                </a:solidFill>
                <a:latin typeface="Arial"/>
              </a:rPr>
              <a:t>опыта: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28760" y="4419720"/>
            <a:ext cx="84247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ых методи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ое обуч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развития критического мыш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е в сотрудничестве(командная, групповая, парная работа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ьесберегающие технолог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3" descr=""/>
          <p:cNvPicPr/>
          <p:nvPr/>
        </p:nvPicPr>
        <p:blipFill>
          <a:blip r:embed="rId1"/>
          <a:stretch/>
        </p:blipFill>
        <p:spPr>
          <a:xfrm>
            <a:off x="-96840" y="0"/>
            <a:ext cx="9131400" cy="1573200"/>
          </a:xfrm>
          <a:prstGeom prst="rect">
            <a:avLst/>
          </a:prstGeom>
          <a:ln w="0">
            <a:noFill/>
          </a:ln>
        </p:spPr>
      </p:pic>
      <p:sp>
        <p:nvSpPr>
          <p:cNvPr id="96" name="Line 15"/>
          <p:cNvSpPr/>
          <p:nvPr/>
        </p:nvSpPr>
        <p:spPr>
          <a:xfrm flipH="1" flipV="1">
            <a:off x="3809880" y="1904760"/>
            <a:ext cx="60984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6"/>
          <p:cNvSpPr/>
          <p:nvPr/>
        </p:nvSpPr>
        <p:spPr>
          <a:xfrm flipH="1">
            <a:off x="3657240" y="4191120"/>
            <a:ext cx="60948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7"/>
          <p:cNvSpPr/>
          <p:nvPr/>
        </p:nvSpPr>
        <p:spPr>
          <a:xfrm>
            <a:off x="5334120" y="4191120"/>
            <a:ext cx="609480" cy="5331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5257800" y="1904760"/>
            <a:ext cx="60948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2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2819520" cy="9604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101" name="Rectangle 23"/>
          <p:cNvSpPr/>
          <p:nvPr/>
        </p:nvSpPr>
        <p:spPr>
          <a:xfrm>
            <a:off x="1066680" y="15238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Constantia"/>
              </a:rPr>
              <a:t>ставить орфографические зад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4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2286000" cy="7797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103" name="Rectangle 26"/>
          <p:cNvSpPr/>
          <p:nvPr/>
        </p:nvSpPr>
        <p:spPr>
          <a:xfrm>
            <a:off x="6248520" y="15238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Constantia"/>
              </a:rPr>
              <a:t>применять прави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8" descr=""/>
          <p:cNvPicPr/>
          <p:nvPr/>
        </p:nvPicPr>
        <p:blipFill>
          <a:blip r:embed="rId4"/>
          <a:stretch/>
        </p:blipFill>
        <p:spPr>
          <a:xfrm>
            <a:off x="685800" y="3962520"/>
            <a:ext cx="2819520" cy="14475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105" name="Rectangle 29"/>
          <p:cNvSpPr/>
          <p:nvPr/>
        </p:nvSpPr>
        <p:spPr>
          <a:xfrm>
            <a:off x="457200" y="3962520"/>
            <a:ext cx="299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Constantia"/>
              </a:rPr>
              <a:t>устанавливать тип орфограммы, соотносить ее            с определенным правил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0" descr=""/>
          <p:cNvPicPr/>
          <p:nvPr/>
        </p:nvPicPr>
        <p:blipFill>
          <a:blip r:embed="rId5"/>
          <a:stretch/>
        </p:blipFill>
        <p:spPr>
          <a:xfrm>
            <a:off x="6019920" y="4495680"/>
            <a:ext cx="2286000" cy="7797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107" name="Rectangle 31"/>
          <p:cNvSpPr/>
          <p:nvPr/>
        </p:nvSpPr>
        <p:spPr>
          <a:xfrm>
            <a:off x="5954760" y="4572000"/>
            <a:ext cx="23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Constantia"/>
              </a:rPr>
              <a:t>проверять написа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2" descr=""/>
          <p:cNvPicPr/>
          <p:nvPr/>
        </p:nvPicPr>
        <p:blipFill>
          <a:blip r:embed="rId6"/>
          <a:stretch/>
        </p:blipFill>
        <p:spPr>
          <a:xfrm>
            <a:off x="380880" y="5562720"/>
            <a:ext cx="3962520" cy="1066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09" name="Rectangle 33"/>
          <p:cNvSpPr/>
          <p:nvPr/>
        </p:nvSpPr>
        <p:spPr>
          <a:xfrm>
            <a:off x="533520" y="56386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ыбирать способ решения задачи, чаще всего – орфографическое прави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4" descr=""/>
          <p:cNvPicPr/>
          <p:nvPr/>
        </p:nvPicPr>
        <p:blipFill>
          <a:blip r:embed="rId7"/>
          <a:stretch/>
        </p:blipFill>
        <p:spPr>
          <a:xfrm>
            <a:off x="5562720" y="2438280"/>
            <a:ext cx="3581280" cy="1219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11" name="Rectangle 35"/>
          <p:cNvSpPr/>
          <p:nvPr/>
        </p:nvSpPr>
        <p:spPr>
          <a:xfrm>
            <a:off x="5638680" y="24382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ерно выполнять предписываемый им способ решения поставленной зад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6" descr=""/>
          <p:cNvPicPr/>
          <p:nvPr/>
        </p:nvPicPr>
        <p:blipFill>
          <a:blip r:embed="rId8"/>
          <a:stretch/>
        </p:blipFill>
        <p:spPr>
          <a:xfrm>
            <a:off x="6019920" y="5486400"/>
            <a:ext cx="2819160" cy="1066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13" name="Rectangle 38"/>
          <p:cNvSpPr/>
          <p:nvPr/>
        </p:nvSpPr>
        <p:spPr>
          <a:xfrm>
            <a:off x="6019920" y="55627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существлять орфографический самоконтр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39" descr=""/>
          <p:cNvPicPr/>
          <p:nvPr/>
        </p:nvPicPr>
        <p:blipFill>
          <a:blip r:embed="rId9"/>
          <a:stretch/>
        </p:blipFill>
        <p:spPr>
          <a:xfrm>
            <a:off x="304920" y="2590920"/>
            <a:ext cx="3581280" cy="1066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15" name="Rectangle 40"/>
          <p:cNvSpPr/>
          <p:nvPr/>
        </p:nvSpPr>
        <p:spPr>
          <a:xfrm>
            <a:off x="380880" y="25146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есть обнаруживать орфограм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(обладать орфографической зоркостью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41"/>
          <p:cNvSpPr/>
          <p:nvPr/>
        </p:nvSpPr>
        <p:spPr>
          <a:xfrm rot="779400">
            <a:off x="0" y="4876920"/>
            <a:ext cx="609480" cy="761760"/>
          </a:xfrm>
          <a:custGeom>
            <a:avLst/>
            <a:gdLst>
              <a:gd name="textAreaLeft" fmla="*/ 81360 w 609480"/>
              <a:gd name="textAreaRight" fmla="*/ 528120 w 60948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2"/>
          <p:cNvSpPr/>
          <p:nvPr/>
        </p:nvSpPr>
        <p:spPr>
          <a:xfrm rot="850800">
            <a:off x="151920" y="1752480"/>
            <a:ext cx="609840" cy="762120"/>
          </a:xfrm>
          <a:custGeom>
            <a:avLst/>
            <a:gdLst>
              <a:gd name="textAreaLeft" fmla="*/ 81720 w 609840"/>
              <a:gd name="textAreaRight" fmla="*/ 528120 w 6098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43"/>
          <p:cNvSpPr/>
          <p:nvPr/>
        </p:nvSpPr>
        <p:spPr>
          <a:xfrm>
            <a:off x="8229600" y="1752480"/>
            <a:ext cx="533520" cy="83844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44"/>
          <p:cNvSpPr/>
          <p:nvPr/>
        </p:nvSpPr>
        <p:spPr>
          <a:xfrm>
            <a:off x="8305920" y="4800600"/>
            <a:ext cx="533160" cy="838080"/>
          </a:xfrm>
          <a:custGeom>
            <a:avLst/>
            <a:gdLst>
              <a:gd name="textAreaLeft" fmla="*/ 71280 w 533160"/>
              <a:gd name="textAreaRight" fmla="*/ 461880 w 53316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6" descr="j0232133"/>
          <p:cNvPicPr/>
          <p:nvPr/>
        </p:nvPicPr>
        <p:blipFill>
          <a:blip r:embed="rId10"/>
          <a:stretch/>
        </p:blipFill>
        <p:spPr>
          <a:xfrm>
            <a:off x="3886200" y="2286000"/>
            <a:ext cx="2068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6840" y="1428480"/>
            <a:ext cx="825804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хнология игровых методи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блемное обучени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хнология развития критического мыш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учение в сотрудничестве(командная, групповая, парная работа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доровьесберегающие технолог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ение эффективных современных педагогических технологий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активной практической деятель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умений оценивать, анализировать, применять зна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ффективное использование различных приёмов  и  метод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познавательных способностей, учебной  мотив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4"/>
          <p:cNvSpPr/>
          <p:nvPr/>
        </p:nvSpPr>
        <p:spPr>
          <a:xfrm>
            <a:off x="0" y="620640"/>
            <a:ext cx="2832120" cy="2664000"/>
          </a:xfrm>
          <a:prstGeom prst="verticalScroll">
            <a:avLst>
              <a:gd name="adj" fmla="val 12500"/>
            </a:avLst>
          </a:prstGeom>
          <a:solidFill>
            <a:srgbClr val="a6d0d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 эт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предел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в слов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ударени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прави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бознач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на письм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ударных зву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0" y="3645000"/>
            <a:ext cx="3098880" cy="3009960"/>
          </a:xfrm>
          <a:prstGeom prst="verticalScroll">
            <a:avLst>
              <a:gd name="adj" fmla="val 12500"/>
            </a:avLst>
          </a:prstGeom>
          <a:solidFill>
            <a:srgbClr val="a6d0d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4 эт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тработка ум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пределя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какой звук указыва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на букву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а какой может бы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бозначе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разными буква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при том же звучани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знакомство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рфограмм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2933640" y="3573360"/>
            <a:ext cx="3073320" cy="2979720"/>
          </a:xfrm>
          <a:prstGeom prst="verticalScroll">
            <a:avLst>
              <a:gd name="adj" fmla="val 12500"/>
            </a:avLst>
          </a:prstGeom>
          <a:solidFill>
            <a:srgbClr val="a6d0d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Восприят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рфограм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на слу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987640" y="620640"/>
            <a:ext cx="3009960" cy="2664000"/>
          </a:xfrm>
          <a:prstGeom prst="verticalScroll">
            <a:avLst>
              <a:gd name="adj" fmla="val 12500"/>
            </a:avLst>
          </a:prstGeom>
          <a:solidFill>
            <a:srgbClr val="a6d0d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 эт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тработка умен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це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гласных звук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(сильна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слабая позиции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095880" y="765000"/>
            <a:ext cx="2857680" cy="2592720"/>
          </a:xfrm>
          <a:prstGeom prst="verticalScroll">
            <a:avLst>
              <a:gd name="adj" fmla="val 12500"/>
            </a:avLst>
          </a:prstGeom>
          <a:solidFill>
            <a:srgbClr val="a6d0d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З эт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82971"/>
                </a:solidFill>
                <a:latin typeface="Arial"/>
                <a:ea typeface="Arial"/>
              </a:rPr>
              <a:t>Запись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 сл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с пропуска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букв в слаб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позиции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5931000" y="3645000"/>
            <a:ext cx="2984400" cy="2857320"/>
          </a:xfrm>
          <a:prstGeom prst="verticalScroll">
            <a:avLst>
              <a:gd name="adj" fmla="val 12500"/>
            </a:avLst>
          </a:prstGeom>
          <a:solidFill>
            <a:srgbClr val="a6d0d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6 эт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Выбо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Правиль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вариа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из имеющего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набо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2603520" y="2108160"/>
            <a:ext cx="6476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5778360" y="2146320"/>
            <a:ext cx="5590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 flipH="1">
            <a:off x="3132000" y="3213000"/>
            <a:ext cx="3314880" cy="576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2771640" y="5229360"/>
            <a:ext cx="5209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V="1">
            <a:off x="5689440" y="5346360"/>
            <a:ext cx="584280" cy="126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0" y="122760"/>
            <a:ext cx="893124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Этапы работы по развитию орфографической зорк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3851280" y="4005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 эт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1:22:15Z</dcterms:created>
  <dc:creator>Tolik</dc:creator>
  <dc:description/>
  <dc:language>en-US</dc:language>
  <cp:lastModifiedBy>1</cp:lastModifiedBy>
  <dcterms:modified xsi:type="dcterms:W3CDTF">2015-04-19T13:56:44Z</dcterms:modified>
  <cp:revision>81</cp:revision>
  <dc:subject/>
  <dc:title>ФОРМИРОВАНИЕ  ЯЗЫКОВОЙ  КОМПЕТЕНЦИИ   МЛАДШИХ ШКОЛЬНИКОВ   НА  УРОКАХ   РУССКОГО  ЯЗЫКА</dc:title>
</cp:coreProperties>
</file>