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A67E-6C87-4664-A904-FFE11863C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C100-5999-4ACE-930D-36213CCDD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C81C-61FD-4B8E-B4FE-3296FFCCEF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B213D-62AD-4ABB-8339-91B6CFB6D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B5EE9-C574-4397-8070-6F165B731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50981-8A2E-4834-9495-B26C920F4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13020-FD8A-495E-A83E-5A4EB5087C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87E6-4790-4467-A5FE-FCB9997B70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AA87-1A1D-4E63-9BBE-307E736CF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2838F-8CA4-4EE4-82CF-9823D6A66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B9ADF-B5FE-443B-9117-4A8ABFD8A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44D1D-13B8-4E0A-8C37-AF69DE2D87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BFFA4-0769-4319-A4AF-CCF8888B0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2F22C-B616-4931-B1F4-91220B94DB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445B-DF4E-4175-9AA0-FA058C742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040C4-C979-439B-815D-B0AA466703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01186-6E54-4BA7-AC0C-E4AACE0B8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164A4-14D9-4BE2-917F-3F85F1A32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5F26-CC73-4591-8D84-C0C7BB9B67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E7A7-A189-49EA-B6E7-39F7125EC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C011E-8944-4158-88AA-BE29AE3E3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BB3F-BCF3-4709-BAAD-3D724FD168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155E-7838-4861-952A-3BE46E0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8521-5875-42CA-9041-6955980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FBF5-153D-4436-A134-F4F77FF18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3294-0132-47D8-8E2C-9EFA1B6A5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CFE89-570B-452E-BA82-9E0D5F1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B69B-7EE1-498B-BE37-91521598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803E-2CBB-49F7-9A8E-58DA3F6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A6281-397C-428D-BAE2-14EED161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6EB4F-6E80-40E6-8D62-C1EBF5E3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0D53B-542E-40B0-B4F9-7E805FB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1128-B447-4402-8A01-EC05548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A555C-2474-4EA8-BFB1-F5657B6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8D3F-5893-4F04-A204-92422D0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D4FC-A880-49FC-BC6B-FD12766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4870F-F028-46EA-8AB3-23E9FA3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736D-A7D0-4007-9C53-C6D601F89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8A07-EDCB-4746-A174-7C807657F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C488-D7D9-47E8-81B2-B0B932D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EA3C-D879-4C95-8E80-3B026E7E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EE4-4E02-47B0-BBF5-674A2FD2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F31E-2892-4AF1-BAD1-9FDA56C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C63E-5C80-43A8-8526-99F2345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BEA2-4F53-4748-AAD6-3C94A2D6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C31-6E1C-4379-8210-5186D9C6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61C-B01D-43DC-ADD8-33EDF1B7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4B75-EF19-4D98-A008-6AE0A11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6D2F-7B93-4A7F-9B8C-C061EB1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CCD4-01FB-45AC-A7F1-B55FCA4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B90-F100-408D-ABB1-9F0C4421E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83D2-1058-47EA-9D3C-35E99246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4533-1D68-44DA-951C-354E5E11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0F07-F591-4041-AAD3-428FD650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29A2-BDE8-4228-B5B2-460B72BF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40B8-4959-4F15-ACA7-8762B5B2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30F6-E60E-4F76-8C1D-E19CD75B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90E769-1E3B-4B83-B804-32A3D2768B12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9C6442-5D36-4555-9273-C57059BA4A74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7A0678-3486-439E-8A74-0E5B8A193E8E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k.com/myopros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866920" y="4076280"/>
            <a:ext cx="3111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Подготовила студентка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группы БД 3-1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Матвиенко Оксана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85920" y="285840"/>
            <a:ext cx="7215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"/>
              </a:rPr>
              <a:t>ГБОУ СПО Московский колледж управления и нов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1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76ec"/>
                </a:solidFill>
                <a:latin typeface="Arial Black"/>
              </a:rPr>
              <a:t>Банковские операции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76ec"/>
                </a:solidFill>
                <a:latin typeface="Arial Black"/>
              </a:rPr>
              <a:t>взгляд из-за кул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Списание денежных средств со счета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осуществляется кредитной организацией на основании распоряжения клиента.</a:t>
            </a: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Без распоряжения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- допускается по решению суда, а также в случаях, установленных зако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73080" y="2674800"/>
            <a:ext cx="7199280" cy="3849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1187280" y="620640"/>
            <a:ext cx="7344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68360" y="1390680"/>
            <a:ext cx="324000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ьзование сч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708360" y="2060640"/>
            <a:ext cx="1368360" cy="863640"/>
          </a:xfrm>
          <a:prstGeom prst="rightArrow">
            <a:avLst>
              <a:gd name="adj1" fmla="val 50000"/>
              <a:gd name="adj2" fmla="val 3961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048280" y="1379520"/>
            <a:ext cx="331164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требность снятия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6235560" y="3500280"/>
            <a:ext cx="935280" cy="1008360"/>
          </a:xfrm>
          <a:prstGeom prst="downArrow">
            <a:avLst>
              <a:gd name="adj1" fmla="val 50000"/>
              <a:gd name="adj2" fmla="val 2695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5048280" y="4508640"/>
            <a:ext cx="324000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озврат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722760" y="5132520"/>
            <a:ext cx="1339920" cy="863640"/>
          </a:xfrm>
          <a:prstGeom prst="leftArrow">
            <a:avLst>
              <a:gd name="adj1" fmla="val 50000"/>
              <a:gd name="adj2" fmla="val 38787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84360" y="4149720"/>
            <a:ext cx="3024000" cy="25923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нятие «невидимых»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Начисление пени за полностью погашенный кредит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Lucida Sans"/>
              </a:rPr>
              <a:t>Пеня</a:t>
            </a:r>
            <a:r>
              <a:rPr b="1" lang="ru-RU" sz="2800" spc="-1" strike="noStrike">
                <a:solidFill>
                  <a:srgbClr val="000000"/>
                </a:solidFill>
                <a:latin typeface="Lucida Sans"/>
              </a:rPr>
              <a:t> - это денежная сумма, которую налогоплательщик должен выплатить в случае уплаты причитающихся сумм налогов или сборов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704000" cy="4248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1187280" y="549360"/>
            <a:ext cx="7128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84120" y="148428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учение кре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768840" y="2276640"/>
            <a:ext cx="1162080" cy="792000"/>
          </a:xfrm>
          <a:prstGeom prst="rightArrow">
            <a:avLst>
              <a:gd name="adj1" fmla="val 50000"/>
              <a:gd name="adj2" fmla="val 36682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4932360" y="1484280"/>
            <a:ext cx="3527280" cy="201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ы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6264360" y="3500280"/>
            <a:ext cx="86364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932360" y="4282920"/>
            <a:ext cx="3527280" cy="201636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ное погашение кре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3765600" y="4876920"/>
            <a:ext cx="1162080" cy="826920"/>
          </a:xfrm>
          <a:prstGeom prst="leftArrow">
            <a:avLst>
              <a:gd name="adj1" fmla="val 50000"/>
              <a:gd name="adj2" fmla="val 3513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4360" y="3940200"/>
            <a:ext cx="3081240" cy="27003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числение п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Решение проблемы??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2643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Несколько простых советов:</a:t>
            </a:r>
            <a:br>
              <a:rPr sz="4100"/>
            </a:br>
            <a:br>
              <a:rPr sz="4100"/>
            </a:b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1386000"/>
            <a:ext cx="7993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читать внимательно договоры с банком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2405160"/>
            <a:ext cx="777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спрашивать все интересующие вопросы при подписании догов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24000" y="3645000"/>
            <a:ext cx="77752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проверять сроки действия кар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85840" y="4572000"/>
            <a:ext cx="835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при выплате кредита брать справку о его погаш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21540000">
            <a:off x="122040" y="91800"/>
            <a:ext cx="887724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Результаты опроса: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«На что вы обращаете внимание при выборе банка?»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0" y="5826240"/>
            <a:ext cx="9144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vk.com/myopr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кол-во респондентов — 243; возраст от 21 до 42 ле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503280" y="1844640"/>
            <a:ext cx="8351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31680"/>
            <a:ext cx="8640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Lucida Sans"/>
              </a:rPr>
              <a:t>Рейтинг надежности банко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0" y="5940360"/>
            <a:ext cx="87138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http://www.banki.ru/banks/ratings/?utm_source=google&amp;utm_medium=cpc&amp;utm_campaign=Reitingi_Bankov&amp;source=google_cpc_reitingi_ba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34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Рейтинг банков-аферистов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6093000"/>
            <a:ext cx="8964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http://www.banki.ru/services/responses/bank/?responseID=64485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611280" y="731880"/>
            <a:ext cx="7632720" cy="536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8440"/>
            <a:ext cx="8856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Данные оценки слогана и логотипа банков в г. Москве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08000" y="6488280"/>
            <a:ext cx="9036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 http://www.shadrinsk-cit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775280" cy="53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Данные о соответствии желаний клиентов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79280" y="6165720"/>
            <a:ext cx="87854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 http://www.ba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33480" y="1125360"/>
            <a:ext cx="90025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4427640" y="4427640"/>
            <a:ext cx="47149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103640" cy="2693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Махинация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14680" y="1123920"/>
            <a:ext cx="57862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сновные сх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71680" y="2857680"/>
            <a:ext cx="857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Махинация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– совокупность действий, направленная на получение выгоды нечестным способом, нелег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14240" y="1857240"/>
            <a:ext cx="78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 Black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786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Рейтинг стран по выявленным банковским махинация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1. Украи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2. Прибалти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3. СШ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4. Россия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784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Основные схемы банковских махинаций с:</a:t>
            </a:r>
            <a:br>
              <a:rPr sz="3200"/>
            </a:br>
            <a:br>
              <a:rPr sz="3200"/>
            </a:br>
            <a:br>
              <a:rPr sz="3100"/>
            </a:br>
            <a:br>
              <a:rPr sz="31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1400" y="1716120"/>
            <a:ext cx="8280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Зарплатными картами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5160" y="2492280"/>
            <a:ext cx="80643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Кредитными картами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5160" y="3317760"/>
            <a:ext cx="770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Списанием средств с карточек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560" y="4156200"/>
            <a:ext cx="770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Начислением за счёт неосведомленности клиентов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560" y="5364000"/>
            <a:ext cx="7559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5.Оплатой чужого кред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Зарплатные карты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Зарплатная карта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 - банковская карта, предназначенная для выплаты заработной платы и других денежных начислений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09800" y="1542960"/>
            <a:ext cx="6852960" cy="4535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468360" y="1494000"/>
            <a:ext cx="2817720" cy="1719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лиент получает ка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286080" y="1928880"/>
            <a:ext cx="2214720" cy="714240"/>
          </a:xfrm>
          <a:prstGeom prst="rightArrow">
            <a:avLst>
              <a:gd name="adj1" fmla="val 50000"/>
              <a:gd name="adj2" fmla="val 7752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5435640" y="1494000"/>
            <a:ext cx="2921040" cy="1719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спользование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588000" y="3213000"/>
            <a:ext cx="863640" cy="1573200"/>
          </a:xfrm>
          <a:prstGeom prst="downArrow">
            <a:avLst>
              <a:gd name="adj1" fmla="val 50000"/>
              <a:gd name="adj2" fmla="val 4554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4772160" y="4786200"/>
            <a:ext cx="3857400" cy="171468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ставляем карту без внимания; перестаём польз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14800" y="5286240"/>
            <a:ext cx="1571400" cy="857520"/>
          </a:xfrm>
          <a:prstGeom prst="leftArrow">
            <a:avLst>
              <a:gd name="adj1" fmla="val 50000"/>
              <a:gd name="adj2" fmla="val 45812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84360" y="4365720"/>
            <a:ext cx="2530440" cy="21351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числение задолженности ба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428840" y="549360"/>
            <a:ext cx="6429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Кредитные карты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27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Кредитная карт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Lucida Sans"/>
              </a:rPr>
              <a:t>разг.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Lucida Sans"/>
              </a:rPr>
              <a:t>креди́тка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) — банковская платежная карта, расчёты по которым осуществляются за счёт денежных средств, предоставленных банком клиенту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44000" cy="4560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900000" y="692280"/>
            <a:ext cx="720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79280" y="1628640"/>
            <a:ext cx="2664000" cy="165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льзование кар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843280" y="2097000"/>
            <a:ext cx="1150920" cy="719280"/>
          </a:xfrm>
          <a:prstGeom prst="rightArrow">
            <a:avLst>
              <a:gd name="adj1" fmla="val 50000"/>
              <a:gd name="adj2" fmla="val 4000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995640" y="1735200"/>
            <a:ext cx="3095640" cy="172872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год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rot="5400000">
            <a:off x="7049160" y="2412000"/>
            <a:ext cx="1655640" cy="1565280"/>
          </a:xfrm>
          <a:prstGeom prst="pie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093080" y="4022640"/>
            <a:ext cx="2050920" cy="185436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глашени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6012000" y="4876920"/>
            <a:ext cx="1079280" cy="718920"/>
          </a:xfrm>
          <a:prstGeom prst="leftArrow">
            <a:avLst>
              <a:gd name="adj1" fmla="val 50000"/>
              <a:gd name="adj2" fmla="val 37531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419640" y="4370400"/>
            <a:ext cx="2592360" cy="187164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матический овердраф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620800" y="5237280"/>
            <a:ext cx="792360" cy="639720"/>
          </a:xfrm>
          <a:prstGeom prst="leftArrow">
            <a:avLst>
              <a:gd name="adj1" fmla="val 50000"/>
              <a:gd name="adj2" fmla="val 30965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36440" y="4149720"/>
            <a:ext cx="2482920" cy="244800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числение задолженности ба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Списание денежных средств с карточек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43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ashonok.i</cp:lastModifiedBy>
  <dcterms:modified xsi:type="dcterms:W3CDTF">2015-03-18T08:39:14Z</dcterms:modified>
  <cp:revision>7</cp:revision>
  <dc:subject/>
  <dc:title>Презентация PowerPoint</dc:title>
</cp:coreProperties>
</file>