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86C7-87A4-4391-9B49-3C3398FDF9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900B-4FCD-47FD-8027-3B83A6815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A206A-85F3-4BE9-A682-5AD24349FD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D4AB9-B6AD-40B5-9FC5-14B169CE91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913F-FF4D-4DC5-9E54-1F8B98D35D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FEE5-44BD-403E-9B64-55B3F42AA0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7B38C-56E4-491B-992E-62976E6FF4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A636-567E-4140-A4F3-6B06463B1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FFEF-E590-4970-9599-B896799D6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8F66-9F82-46EC-8690-D84394FF8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34A11-7B20-4E6C-9A49-C2C7171CEE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5C82-8B2E-46E1-A7BC-0B1B59755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3E3E5-263E-4EF3-96A6-E0557F140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74B44-B7BF-4A05-ADCC-86DEDBEEFB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97C02-26AB-483C-B56F-2E986294B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52A2-9DEE-4191-9139-8DE67E1099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B13B4-D4A1-423E-8396-C2DDBDDA6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57193-C2B3-4EDF-85C3-4BD96F3CE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C6659-058E-475F-BBAB-E0619EA04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7BA90-6BD8-446A-AFE4-BE0F4627E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588AF-FEE3-4A1A-93FD-1CF1DA98FF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6F1E-C0E2-4FFB-A2C7-55A532067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BE6D-58F9-48B7-AE84-18FC6C11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2D89-4AC1-4A22-9599-8A947BC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6B1D-B259-4608-8954-CFC6DD8FD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C35C9-A3C3-45CB-B19A-A4B722683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70D8B-0220-462A-9E8E-0A987B6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EFC0-E8BE-44C0-81EF-01FD631B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17AEB-69C9-4215-8650-F90A1F2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30324-05EB-4134-B99E-AA0336BD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EB4FA-0E8D-45E0-8E63-82E9B1AB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969FF-801A-4B5E-A938-48DE94F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4B15-E665-4102-A382-C5CB52C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A7DD-E01B-44EF-8D47-D56FD80C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A65BB-DF60-481B-B768-E3748C5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B6202-A5D3-4F8A-9ECD-EAF5162F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57E3F-38DF-4B86-8194-65CE9A5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198B6-D56E-4193-B378-89840D87A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6000-31EF-459D-BCEF-AB269741E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5076-8646-467C-9E6B-C0AE9A6B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BF1-0172-4864-889B-AF6C0A21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65B-E237-4C07-B080-E89E0391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71BB-0368-4B1D-999F-9914344F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393F-340B-4925-8DE6-97CA1080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E8B-D5AA-4806-AB2C-9FE66E59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1476-6D60-45B5-B807-2CCCDB5D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92A7-28C7-41DB-9FA5-97EC474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AE8-FFB1-4DDF-9EA1-DAD039C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4CBD-6162-4CD1-8F09-2C20DC0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4C91-5C4C-4B99-8920-C852F263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A3F-F012-4C9C-A0A9-5A275AD063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98FD-AE4B-4E7F-81C7-D5BB0DC7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D925-65A8-4BF3-9271-66CA45A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C91C-BD4A-49B8-A89E-60F8E82F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CDD7-82EC-4AF1-85D7-68370955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C7A1-5C43-4C71-945C-021DE51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1082-C705-4F04-8AEE-15F40B77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0DB24A-1A2F-4C9F-8EB4-E361ECBD83C3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35F6C1-9C06-4849-AFC6-8257E963A6E7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1.4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5329E4-18C5-4314-883A-A5B737109B96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k.com/myopros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866920" y="4076280"/>
            <a:ext cx="3111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Подготовила студентка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группы БД 3-1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Матвиенко Оксана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85920" y="285840"/>
            <a:ext cx="7215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"/>
              </a:rPr>
              <a:t>ГБОУ СПО Московский колледж управления и нов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1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76ec"/>
                </a:solidFill>
                <a:latin typeface="Arial Black"/>
              </a:rPr>
              <a:t>Банковские операции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76ec"/>
                </a:solidFill>
                <a:latin typeface="Arial Black"/>
              </a:rPr>
              <a:t>взгляд из-за кул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Списание денежных средств со счета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осуществляется кредитной организацией на основании распоряжения клиента.</a:t>
            </a: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Без распоряжения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- допускается по решению суда, а также в случаях, установленных зако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73080" y="2674800"/>
            <a:ext cx="7199280" cy="3849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1187280" y="620640"/>
            <a:ext cx="7344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68360" y="1390680"/>
            <a:ext cx="324000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ьзование сч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708360" y="2060640"/>
            <a:ext cx="1368360" cy="863640"/>
          </a:xfrm>
          <a:prstGeom prst="rightArrow">
            <a:avLst>
              <a:gd name="adj1" fmla="val 50000"/>
              <a:gd name="adj2" fmla="val 3961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048280" y="1379520"/>
            <a:ext cx="331164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требность снятия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6235560" y="3500280"/>
            <a:ext cx="935280" cy="1008360"/>
          </a:xfrm>
          <a:prstGeom prst="downArrow">
            <a:avLst>
              <a:gd name="adj1" fmla="val 50000"/>
              <a:gd name="adj2" fmla="val 2695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5048280" y="4508640"/>
            <a:ext cx="3240000" cy="21114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озврат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722760" y="5132520"/>
            <a:ext cx="1339920" cy="863640"/>
          </a:xfrm>
          <a:prstGeom prst="leftArrow">
            <a:avLst>
              <a:gd name="adj1" fmla="val 50000"/>
              <a:gd name="adj2" fmla="val 38787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84360" y="4149720"/>
            <a:ext cx="3024000" cy="25923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нятие «невидимых»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Начисление пени за полностью погашенный кредит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Lucida Sans"/>
              </a:rPr>
              <a:t>Пеня</a:t>
            </a:r>
            <a:r>
              <a:rPr b="1" lang="ru-RU" sz="2800" spc="-1" strike="noStrike">
                <a:solidFill>
                  <a:srgbClr val="000000"/>
                </a:solidFill>
                <a:latin typeface="Lucida Sans"/>
              </a:rPr>
              <a:t> - это денежная сумма, которую налогоплательщик должен выплатить в случае уплаты причитающихся сумм налогов или сборов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704000" cy="4248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1187280" y="549360"/>
            <a:ext cx="7128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84120" y="148428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учение кре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768840" y="2276640"/>
            <a:ext cx="1162080" cy="792000"/>
          </a:xfrm>
          <a:prstGeom prst="rightArrow">
            <a:avLst>
              <a:gd name="adj1" fmla="val 50000"/>
              <a:gd name="adj2" fmla="val 36682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4932360" y="1484280"/>
            <a:ext cx="3527280" cy="201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ы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6264360" y="3500280"/>
            <a:ext cx="86364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932360" y="4282920"/>
            <a:ext cx="3527280" cy="201636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лное погашение кред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3765600" y="4876920"/>
            <a:ext cx="1162080" cy="826920"/>
          </a:xfrm>
          <a:prstGeom prst="leftArrow">
            <a:avLst>
              <a:gd name="adj1" fmla="val 50000"/>
              <a:gd name="adj2" fmla="val 3513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4360" y="3940200"/>
            <a:ext cx="3081240" cy="27003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числение п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Решение проблемы??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2643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 Black"/>
              </a:rPr>
              <a:t>Несколько простых советов:</a:t>
            </a:r>
            <a:br>
              <a:rPr sz="4100"/>
            </a:br>
            <a:br>
              <a:rPr sz="4100"/>
            </a:b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1386000"/>
            <a:ext cx="7993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читать внимательно договоры с банком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2405160"/>
            <a:ext cx="777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спрашивать все интересующие вопросы при подписании догов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24000" y="3645000"/>
            <a:ext cx="77752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проверять сроки действия кар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85840" y="4572000"/>
            <a:ext cx="835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при выплате кредита брать справку о его погаш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21540000">
            <a:off x="122040" y="91800"/>
            <a:ext cx="887724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Результаты опроса: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«На что вы обращаете внимание при выборе банка?»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0" y="5826240"/>
            <a:ext cx="9144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vk.com/myopr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кол-во респондентов — 243; возраст от 21 до 42 ле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503280" y="1844640"/>
            <a:ext cx="8351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31680"/>
            <a:ext cx="8640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Lucida Sans"/>
              </a:rPr>
              <a:t>Рейтинг надежности банков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0" y="5940360"/>
            <a:ext cx="87138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http://www.banki.ru/banks/ratings/?utm_source=google&amp;utm_medium=cpc&amp;utm_campaign=Reitingi_Bankov&amp;source=google_cpc_reitingi_ba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34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Рейтинг банков-аферистов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6093000"/>
            <a:ext cx="8964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http://www.banki.ru/services/responses/bank/?responseID=64485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611280" y="731880"/>
            <a:ext cx="7632720" cy="536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8440"/>
            <a:ext cx="8856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Данные оценки слогана и логотипа банков в г. Москве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08000" y="6488280"/>
            <a:ext cx="9036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 http://www.shadrinsk-cit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775280" cy="53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Данные о соответствии желаний клиентов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79280" y="6165720"/>
            <a:ext cx="87854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сточник информации: http://www.bank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33480" y="1125360"/>
            <a:ext cx="90025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4427640" y="4427640"/>
            <a:ext cx="47149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103640" cy="2693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Махинация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14680" y="1123920"/>
            <a:ext cx="57862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сновные сх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71680" y="2857680"/>
            <a:ext cx="857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Махинация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– совокупность действий, направленная на получение выгоды нечестным способом, нелег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14240" y="1857240"/>
            <a:ext cx="78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 Black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786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Рейтинг стран по выявленным банковским махинациям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1. Украи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2. Прибалти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3. СШ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"/>
              </a:rPr>
              <a:t>4. Россия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784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Основные схемы банковских махинаций с:</a:t>
            </a:r>
            <a:br>
              <a:rPr sz="3200"/>
            </a:br>
            <a:br>
              <a:rPr sz="3200"/>
            </a:br>
            <a:br>
              <a:rPr sz="3100"/>
            </a:br>
            <a:br>
              <a:rPr sz="31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1400" y="1716120"/>
            <a:ext cx="8280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Зарплатными картами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5160" y="2492280"/>
            <a:ext cx="806436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Кредитными картами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5160" y="3317760"/>
            <a:ext cx="77040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Списанием средств с карточек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560" y="4156200"/>
            <a:ext cx="770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Начислением за счёт неосведомленности клиентов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560" y="5364000"/>
            <a:ext cx="7559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5.Оплатой чужого кред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Зарплатные карты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Зарплатная карта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 - банковская карта, предназначенная для выплаты заработной платы и других денежных начислений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09800" y="1542960"/>
            <a:ext cx="6852960" cy="4535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468360" y="1494000"/>
            <a:ext cx="2817720" cy="1719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лиент получает ка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3286080" y="1928880"/>
            <a:ext cx="2214720" cy="714240"/>
          </a:xfrm>
          <a:prstGeom prst="rightArrow">
            <a:avLst>
              <a:gd name="adj1" fmla="val 50000"/>
              <a:gd name="adj2" fmla="val 7752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5435640" y="1494000"/>
            <a:ext cx="2921040" cy="1719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спользование 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588000" y="3213000"/>
            <a:ext cx="863640" cy="1573200"/>
          </a:xfrm>
          <a:prstGeom prst="downArrow">
            <a:avLst>
              <a:gd name="adj1" fmla="val 50000"/>
              <a:gd name="adj2" fmla="val 45540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4772160" y="4786200"/>
            <a:ext cx="3857400" cy="171468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ставляем карту без внимания; перестаём польз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14800" y="5286240"/>
            <a:ext cx="1571400" cy="857520"/>
          </a:xfrm>
          <a:prstGeom prst="leftArrow">
            <a:avLst>
              <a:gd name="adj1" fmla="val 50000"/>
              <a:gd name="adj2" fmla="val 45812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84360" y="4365720"/>
            <a:ext cx="2530440" cy="213516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ачисление задолженности ба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428840" y="549360"/>
            <a:ext cx="6429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Кредитные карты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2764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Кредитная карт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Lucida Sans"/>
              </a:rPr>
              <a:t>разг.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Lucida Sans"/>
              </a:rPr>
              <a:t>креди́тка</a:t>
            </a:r>
            <a:r>
              <a:rPr b="1" lang="ru-RU" sz="2400" spc="-1" strike="noStrike">
                <a:solidFill>
                  <a:srgbClr val="000000"/>
                </a:solidFill>
                <a:latin typeface="Lucida Sans"/>
              </a:rPr>
              <a:t>) — банковская платежная карта, расчёты по которым осуществляются за счёт денежных средств, предоставленных банком клиенту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44000" cy="4560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900000" y="692280"/>
            <a:ext cx="72072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СТАНДАРТ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79280" y="1628640"/>
            <a:ext cx="2664000" cy="165600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льзование кар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843280" y="2097000"/>
            <a:ext cx="1150920" cy="719280"/>
          </a:xfrm>
          <a:prstGeom prst="rightArrow">
            <a:avLst>
              <a:gd name="adj1" fmla="val 50000"/>
              <a:gd name="adj2" fmla="val 40003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995640" y="1735200"/>
            <a:ext cx="3095640" cy="172872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год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rot="5400000">
            <a:off x="7049160" y="2412000"/>
            <a:ext cx="1655640" cy="1565280"/>
          </a:xfrm>
          <a:prstGeom prst="pie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093080" y="4022640"/>
            <a:ext cx="2050920" cy="185436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глашени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6012000" y="4876920"/>
            <a:ext cx="1079280" cy="718920"/>
          </a:xfrm>
          <a:prstGeom prst="leftArrow">
            <a:avLst>
              <a:gd name="adj1" fmla="val 50000"/>
              <a:gd name="adj2" fmla="val 37531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419640" y="4370400"/>
            <a:ext cx="2592360" cy="1871640"/>
          </a:xfrm>
          <a:prstGeom prst="roundRect">
            <a:avLst>
              <a:gd name="adj" fmla="val 16667"/>
            </a:avLst>
          </a:prstGeom>
          <a:solidFill>
            <a:srgbClr val="629dd1"/>
          </a:solidFill>
          <a:ln w="25560">
            <a:solidFill>
              <a:srgbClr val="487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матический овердраф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620800" y="5237280"/>
            <a:ext cx="792360" cy="639720"/>
          </a:xfrm>
          <a:prstGeom prst="leftArrow">
            <a:avLst>
              <a:gd name="adj1" fmla="val 50000"/>
              <a:gd name="adj2" fmla="val 30965"/>
            </a:avLst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36440" y="4149720"/>
            <a:ext cx="2482920" cy="2448000"/>
          </a:xfrm>
          <a:prstGeom prst="rect">
            <a:avLst/>
          </a:prstGeom>
          <a:solidFill>
            <a:srgbClr val="629dd1"/>
          </a:solidFill>
          <a:ln w="25560">
            <a:solidFill>
              <a:srgbClr val="487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числение задолженности ба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 u="sng">
                <a:solidFill>
                  <a:srgbClr val="000000"/>
                </a:solidFill>
                <a:uFillTx/>
                <a:latin typeface="Arial Black"/>
              </a:rPr>
              <a:t>Списание денежных средств с карточек: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436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ashonok.i</cp:lastModifiedBy>
  <dcterms:modified xsi:type="dcterms:W3CDTF">2015-03-18T08:39:14Z</dcterms:modified>
  <cp:revision>7</cp:revision>
  <dc:subject/>
  <dc:title>Презентация PowerPoint</dc:title>
</cp:coreProperties>
</file>