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7FA-B580-43B0-B4C2-5ECDF452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22A-01EF-4303-8E09-4FE871E7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F62-B08B-47F0-BA26-A67E5AF4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2A3-531D-4B5E-8DA2-DA27D1B3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7BB9-9C83-4576-9333-BEAD6C5A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1D97-4242-449A-9C50-88B9186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9166-81A3-4D13-A841-84484DA1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5BC7-EB43-415B-B1E9-77D164B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F5B1-4C25-44F0-A5FB-49F3C41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470-D533-454A-9504-B9294097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0ABC-8380-4FF9-B74B-735BA29A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22E-C3AF-4280-886A-A523C1C1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9E5A-5C13-46DE-8BEC-5CFFEBDA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4542-131A-489C-B583-1271383C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962F-A399-4D18-BC26-50943CAB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060B-8192-4233-A40A-12215036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BF0A-CC1E-47C0-9485-01125301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2154-7D25-4547-AF37-87373F5B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F00C-09F4-4D6A-99DF-6D0D6139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2BC0-68E6-41CF-A4D1-4C891CB3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30A1-4C00-409D-80D1-87F3FC4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4020-C641-49A5-8F2C-3CAA7D86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FBB-88B9-4C59-B421-E562B082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DA9F-3238-4B02-B146-1F08286B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0635-55E9-4B2B-994B-E4412CC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8275-10F0-4A37-8069-053BF2F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1EE5-7170-4CAC-8C11-BB1F040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2944-9989-495A-B4F1-379AB032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1E19-20BA-458F-A724-32121C3B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8062-22BB-4D03-954A-5A84CF7E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0AF-D729-4924-9A26-35DBCAE7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0DC-699D-4FA3-BCB6-8346CBB4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2EF-6310-4A3B-A8A0-3819376B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60F-9867-428F-8897-53AF70A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088-3904-4EBD-AAD9-1861F49C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8AB-D837-4AC4-B54E-95D3C896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1275-A17D-4386-8A37-EEBD430ACCA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37ED-EED4-4EC6-8239-85AC024A796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61AA-4CA0-4123-9DFE-A40C328A20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684360" y="1052640"/>
            <a:ext cx="7993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збежать опасной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иминогенной ситуаци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2" descr="Картинки по запросу не садись в машину незнакомца картинка"/>
          <p:cNvPicPr/>
          <p:nvPr/>
        </p:nvPicPr>
        <p:blipFill>
          <a:blip r:embed="rId1"/>
          <a:stretch/>
        </p:blipFill>
        <p:spPr>
          <a:xfrm>
            <a:off x="755640" y="4762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17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39092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бегайте прогулок в одиночестве в вечернее время и малолюдных мест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ля передвижения выбирайте оживлённые и хорошо освещённые ул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1" descr="Безымянный"/>
          <p:cNvPicPr/>
          <p:nvPr/>
        </p:nvPicPr>
        <p:blipFill>
          <a:blip r:embed="rId2"/>
          <a:stretch/>
        </p:blipFill>
        <p:spPr>
          <a:xfrm>
            <a:off x="5072040" y="1600200"/>
            <a:ext cx="31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арайтесь не привлекать к себе внимание дорогими украшени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е держите в руках мобильные телефоны, если в этом нет необходим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бирайте маршрут не короткий, а безопас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baby23"/>
          <p:cNvPicPr/>
          <p:nvPr/>
        </p:nvPicPr>
        <p:blipFill>
          <a:blip r:embed="rId1"/>
          <a:stretch/>
        </p:blipFill>
        <p:spPr>
          <a:xfrm>
            <a:off x="6086520" y="1484280"/>
            <a:ext cx="231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528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икогда и ни при каких обстоятельствах не садитесь в машину к незнакомым и малознакомым людям и не заходите в чужие дома и квартиры, даже если вас об этом будут убедительно прос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ходя к подъезду или дому будь максимально внимател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Картинки по запросу не садись в машину незнакомца картинка"/>
          <p:cNvPicPr/>
          <p:nvPr/>
        </p:nvPicPr>
        <p:blipFill>
          <a:blip r:embed="rId1"/>
          <a:stretch/>
        </p:blipFill>
        <p:spPr>
          <a:xfrm>
            <a:off x="4579920" y="2205000"/>
            <a:ext cx="38322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тарайтесь запомнить его словесный портрет: во что одет, цвет глаз, шра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первому требованию грабителя отдать деньги, ц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е вступать в пререкания, не отвечать на вызывающее повед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Говорить спокойно и медленно, уверенно в себ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Times New Roman"/>
              </a:rPr>
              <a:t>Жизнь и здоровье дороже любой вещ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Times New Roman"/>
              </a:rPr>
              <a:t>Цель – выпутаться из неприятностей, а не победить в схватк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45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353880" y="122400"/>
            <a:ext cx="8656920" cy="14079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видеть опасность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возможности избегать её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 необходимости – действовать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6" descr="Рисунок6"/>
          <p:cNvPicPr/>
          <p:nvPr/>
        </p:nvPicPr>
        <p:blipFill>
          <a:blip r:embed="rId2"/>
          <a:srcRect l="0" t="0" r="0" b="-22"/>
          <a:stretch/>
        </p:blipFill>
        <p:spPr>
          <a:xfrm>
            <a:off x="3929040" y="2000160"/>
            <a:ext cx="48974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6:20:56Z</dcterms:created>
  <dc:creator>User</dc:creator>
  <dc:description/>
  <dc:language>en-US</dc:language>
  <cp:lastModifiedBy>User</cp:lastModifiedBy>
  <dcterms:modified xsi:type="dcterms:W3CDTF">2015-04-19T16:39:48Z</dcterms:modified>
  <cp:revision>2</cp:revision>
  <dc:subject/>
  <dc:title>Слайд 1</dc:title>
</cp:coreProperties>
</file>