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gif" ContentType="image/gif"/>
  <Override PartName="/ppt/media/image9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7826-0F4B-4DFB-9163-1130D2862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8BB9-CEDF-4282-AF38-D19B12B6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CAC0-871F-415A-B594-F04D40D80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963E-0CDE-401A-92A1-EA10B9D8B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9F7D-E29C-4E3B-AA3C-83379F883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AA17-D6C1-42E4-BA0F-8DA6F6A9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A2BF2-F99D-4E5C-9825-98945076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F46A-FEC7-4998-83BB-943B667C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CFBA-1A5F-47C0-9113-D51C79D8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F881-ADDF-44F5-8AF8-E0440CCC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E0E5-33DB-47F9-988F-92F77BBC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5726-7BA0-4A53-BB49-2AE38AF1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3E49-CB66-4F78-BA53-2B932688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430B-A58F-4496-A0A0-F1084EDC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F088-25AC-4BE5-B28F-BCBDDFAF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F886-2CA9-4552-93FE-A266DFF2B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DDBC-6256-432F-900C-C4E1AC31D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53B47-F735-4BCB-A1CB-0BB0DE8D2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B0DBC-7C45-4CEF-AEB8-112D6E86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FF45D-EE77-4412-9EC6-A2E96859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00EE8-13BF-4A07-B50F-924CC3DD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626F1-AADD-42C7-8717-2A5215CD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6C6B-631F-45F4-B958-DF73B5F5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DB1CC-2F9A-4BA8-8CD2-93DF58BA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60715-E978-4DF2-9361-C686A0DA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68E7E-2F84-4EFF-8A99-38F3CDDC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E3BF9-D52D-474E-8EF4-16601921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421C5-5493-467C-AA8A-3E40C702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FC259-A974-4AF6-B78A-AA40E8DDF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4CCBB-3E6E-4870-91A8-82CACFDF2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EB58-D3D3-4CC3-A347-9A4E0C7E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4ED1-29FD-411E-8134-74404EA6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4C32-0669-418A-A887-1AA76111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C02D-84D3-4D88-B4CE-ED99FE49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DDC5-E530-45CA-9EA7-B9C10E84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8E81-348A-4C0F-A18A-0DF45A97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E5F8-B58F-42D3-9AC2-7536B978E428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96AA-B9E9-44D7-8459-817749E61D91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6364-B39A-42BE-94C2-8A2F1495C642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6"/>
          <p:cNvSpPr txBox="1"/>
          <p:nvPr/>
        </p:nvSpPr>
        <p:spPr>
          <a:xfrm>
            <a:off x="684360" y="1052640"/>
            <a:ext cx="7993080" cy="43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к избежать опасной 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риминогенной ситуации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4" name="Picture 2" descr="Картинки по запросу не садись в машину незнакомца картинка"/>
          <p:cNvPicPr/>
          <p:nvPr/>
        </p:nvPicPr>
        <p:blipFill>
          <a:blip r:embed="rId1"/>
          <a:stretch/>
        </p:blipFill>
        <p:spPr>
          <a:xfrm>
            <a:off x="755640" y="476280"/>
            <a:ext cx="23623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Rectangle 17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439092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Избегайте прогулок в одиночестве в вечернее время и малолюдных места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Для передвижения выбирайте оживлённые и хорошо освещённые улиц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21" descr="Безымянный"/>
          <p:cNvPicPr/>
          <p:nvPr/>
        </p:nvPicPr>
        <p:blipFill>
          <a:blip r:embed="rId2"/>
          <a:stretch/>
        </p:blipFill>
        <p:spPr>
          <a:xfrm>
            <a:off x="5072040" y="1600200"/>
            <a:ext cx="3191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9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9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11280" y="1484280"/>
            <a:ext cx="518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Старайтесь не привлекать к себе внимание дорогими украшения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Не держите в руках мобильные телефоны, если в этом нет необходим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Выбирайте маршрут не короткий, а безопасны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4" descr="baby23"/>
          <p:cNvPicPr/>
          <p:nvPr/>
        </p:nvPicPr>
        <p:blipFill>
          <a:blip r:embed="rId1"/>
          <a:stretch/>
        </p:blipFill>
        <p:spPr>
          <a:xfrm>
            <a:off x="6086520" y="1484280"/>
            <a:ext cx="23176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95280" y="40464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Никогда и ни при каких обстоятельствах не садитесь в машину к незнакомым и малознакомым людям и не заходите в чужие дома и квартиры, даже если вас об этом будут убедительно проси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одходя к подъезду или дому будь максимально внимателе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2" descr="Картинки по запросу не садись в машину незнакомца картинка"/>
          <p:cNvPicPr/>
          <p:nvPr/>
        </p:nvPicPr>
        <p:blipFill>
          <a:blip r:embed="rId1"/>
          <a:stretch/>
        </p:blipFill>
        <p:spPr>
          <a:xfrm>
            <a:off x="4579920" y="2205000"/>
            <a:ext cx="383220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Rectangle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остарайтесь запомнить его словесный портрет: во что одет, цвет глаз, шрам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о первому требованию грабителя отдать деньги, цен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Не вступать в пререкания, не отвечать на вызывающее поведение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Говорить спокойно и медленно, уверенно в себ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3d75"/>
                </a:solidFill>
                <a:latin typeface="Times New Roman"/>
              </a:rPr>
              <a:t>Жизнь и здоровье дороже любой вещи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3d75"/>
                </a:solidFill>
                <a:latin typeface="Times New Roman"/>
              </a:rPr>
              <a:t>Цель – выпутаться из неприятностей, а не победить в схватке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450"/>
                            </p:stCondLst>
                            <p:childTnLst>
                              <p:par>
                                <p:cTn id="11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Rectangle 2" descr=""/>
          <p:cNvPicPr/>
          <p:nvPr/>
        </p:nvPicPr>
        <p:blipFill>
          <a:blip r:embed="rId1"/>
          <a:stretch/>
        </p:blipFill>
        <p:spPr>
          <a:xfrm>
            <a:off x="353880" y="122400"/>
            <a:ext cx="8656920" cy="14079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редвидеть опасность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о возможности избегать её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ри необходимости – действовать!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6" descr="Рисунок6"/>
          <p:cNvPicPr/>
          <p:nvPr/>
        </p:nvPicPr>
        <p:blipFill>
          <a:blip r:embed="rId2"/>
          <a:srcRect l="0" t="0" r="0" b="-22"/>
          <a:stretch/>
        </p:blipFill>
        <p:spPr>
          <a:xfrm>
            <a:off x="3929040" y="2000160"/>
            <a:ext cx="489744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9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16:20:56Z</dcterms:created>
  <dc:creator>User</dc:creator>
  <dc:description/>
  <dc:language>en-US</dc:language>
  <cp:lastModifiedBy>User</cp:lastModifiedBy>
  <dcterms:modified xsi:type="dcterms:W3CDTF">2015-04-19T16:39:48Z</dcterms:modified>
  <cp:revision>2</cp:revision>
  <dc:subject/>
  <dc:title>Слайд 1</dc:title>
</cp:coreProperties>
</file>