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1F2A-3F02-4FAE-AE2F-623BFB2F47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AB5D-C41D-44EA-ACD4-F954E361B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FD1C-E9BB-4DB4-9BF7-4B8523579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985-BBFF-4D46-8CC2-9C379C27E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E0C1-9625-4F9C-BD77-359B6D026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204-DCF4-426A-B1B3-C6AFB1C5C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1F2A-2217-4416-8A39-EC9E4717B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EC40-D2C0-4730-981F-F2BCB7A241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B15F-6FF0-430E-9076-CD65FE41C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5B34-5287-416E-A047-00CF2296E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F4C6-048A-47FA-8840-F4BEC7E70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38BB-B877-4D0B-AFA8-FAB6D43F1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2D8B-8653-4BD2-956B-483549CCE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2278-B18E-47D6-B7B0-0169FBE12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E16D-FC5D-4B83-8EC2-11D70F44A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599E-B776-4FD7-92D9-793B9FBF29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690-FC20-468C-96C7-BEE6D94E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58C-7D1C-4DE9-8522-22691010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B18-B80B-490F-BE65-670CE78F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181-AFCC-4BA8-AECC-498C5ECE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DC2F-4EA4-4209-A624-269EF858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CB3A-8526-474B-A8DF-D884529B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7E2C-7FED-4B6C-BA36-BB36E078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C5A8-1939-4634-89D1-07E1472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8919-1371-4608-9086-86E84884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0A11-3579-4066-B25C-2AB130A1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9A19-9043-43A1-89BC-785A53F0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1F4-E64B-4F51-AAD6-EAB60566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C4FC-CBD9-406A-B132-A6B3197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E10E-123C-46E9-84E3-20F14CE2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8B5E-17D7-4FAA-A341-49B8692B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A7CB-613B-41AA-9E85-94CE06DF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B9A2-B643-48FE-9020-C43261B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3D2-A138-4306-A6D1-1060EF3C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427-0B0F-4722-B277-1DC69793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E8A-4D8B-45C1-9357-22C4C283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F14-F0D1-4BF7-9563-C401E4B2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0E9-F8D8-428D-8E2E-4496492F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E14-6DD3-4B16-A602-988FA997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6DB-9481-4D92-9085-813FAAB2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E5B4-89DE-4CFD-A85D-58BD2CA7B5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3A9B-0209-44A5-ACBE-FCD995B297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74200" cy="208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МУЗЕЙ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НАРОДНОГО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БЫТА </a:t>
            </a: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Руководитель: ОХАПКИНА Надежда Николаевна, </a:t>
            </a:r>
            <a:br>
              <a:rPr sz="14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учитель изобразительного искусства </a:t>
            </a:r>
            <a:br>
              <a:rPr sz="14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Адрес:606015 Нижегородская область</a:t>
            </a:r>
            <a:br>
              <a:rPr sz="14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 г.Дзержинск ул.Буденного д.10 а</a:t>
            </a:r>
            <a:br>
              <a:rPr sz="14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МБОУ «Средняя школа № 35»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3357720"/>
            <a:ext cx="59040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Городской костюм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Конец 19 века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108360" y="1904760"/>
            <a:ext cx="38163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19 столетия для сельских модниц образцом на долгие годы становится провинциальный костю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музее находятся костюмы из темно – зеленой тафты и  атл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в некоторых старообрядческих селах Арзамасского уезда еще в начале 20 века носили сарафаны, рубахи и передники из пестряди, кумача, китай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Users\germanich-o\Desktop\Рисунок15.jpg"/>
          <p:cNvPicPr/>
          <p:nvPr/>
        </p:nvPicPr>
        <p:blipFill>
          <a:blip r:embed="rId1"/>
          <a:stretch/>
        </p:blipFill>
        <p:spPr>
          <a:xfrm>
            <a:off x="3419640" y="1916280"/>
            <a:ext cx="2741400" cy="378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germanich-o\Desktop\Рисунок16.jpg"/>
          <p:cNvPicPr/>
          <p:nvPr/>
        </p:nvPicPr>
        <p:blipFill>
          <a:blip r:embed="rId2"/>
          <a:stretch/>
        </p:blipFill>
        <p:spPr>
          <a:xfrm>
            <a:off x="6300720" y="2060640"/>
            <a:ext cx="2544840" cy="349560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Шелковые пояса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37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3960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женскому и мужскому костюму обязательно полагался яркий пояс. В конце 19 – начале 20 века в Семеновском уезде, Арзамасском и в селе Бор женщины занимались изготовлением поясов из шелка, гаруса и шерсти. Они дорого ценились, до трех рублей за ар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музее хранятся два пояса. На одном из них по средней полосе вытканы слова: « Еси поясъ Прасковьи Григорьевны Полушкин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Копия fot 011"/>
          <p:cNvPicPr/>
          <p:nvPr/>
        </p:nvPicPr>
        <p:blipFill>
          <a:blip r:embed="rId1"/>
          <a:stretch/>
        </p:blipFill>
        <p:spPr>
          <a:xfrm>
            <a:off x="4788000" y="1844640"/>
            <a:ext cx="3600360" cy="202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fot 028"/>
          <p:cNvPicPr/>
          <p:nvPr/>
        </p:nvPicPr>
        <p:blipFill>
          <a:blip r:embed="rId2"/>
          <a:stretch/>
        </p:blipFill>
        <p:spPr>
          <a:xfrm>
            <a:off x="4859280" y="4064040"/>
            <a:ext cx="3600360" cy="188604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Полотенце </a:t>
            </a:r>
            <a:br>
              <a:rPr sz="3200"/>
            </a:b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Ручное ткачество. Набойка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2349000"/>
            <a:ext cx="3771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 была развит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бой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нанесение цветного рисунка на готовую тк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 набивки узора с резной деревянной  доски позволял произвольно располагать различные формы орнаментов на свободном пространстве хол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Users\germanich-o\Desktop\Рисунок19.jpg"/>
          <p:cNvPicPr/>
          <p:nvPr/>
        </p:nvPicPr>
        <p:blipFill>
          <a:blip r:embed="rId1"/>
          <a:stretch/>
        </p:blipFill>
        <p:spPr>
          <a:xfrm>
            <a:off x="4788000" y="1989000"/>
            <a:ext cx="3387600" cy="406584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и кружевоплетени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ивка и кружевоплетение в крестьянском быту больше, чем другие виды украшения тканей, выражали художественные вкусы народа, формировали жилую среду и облик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одную вышивку по технике исполнения можно разделить на две очень большие группы – счетные вышивки и вышивки, выполняемые по рис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C:\Users\germanich-o\Desktop\Рисунок20.jpg"/>
          <p:cNvPicPr/>
          <p:nvPr/>
        </p:nvPicPr>
        <p:blipFill>
          <a:blip r:embed="rId1"/>
          <a:stretch/>
        </p:blipFill>
        <p:spPr>
          <a:xfrm>
            <a:off x="900000" y="3573360"/>
            <a:ext cx="3267360" cy="2481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germanich-o\Desktop\Рисунок21.jpg"/>
          <p:cNvPicPr/>
          <p:nvPr/>
        </p:nvPicPr>
        <p:blipFill>
          <a:blip r:embed="rId2"/>
          <a:stretch/>
        </p:blipFill>
        <p:spPr>
          <a:xfrm>
            <a:off x="4788000" y="3573360"/>
            <a:ext cx="3485880" cy="259236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Счетные вышивки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шивка счетными швами у русских является наиболее дре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ные вышивки делятся на строчевые, для которых ткань должна быть предварительно разрежена, и вышивки, украшающие ткань по поверхности («крест», «роспись», глад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94 году вышивкой занимались более 4 тысяч строчей, проживающих более чем в 100 селениях. Центрами являлись села Василево, Городец, Лыс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крестом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38163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19 века было повсеместное увлечение новым счетным швом — крес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шивка на этой подушке представляет узор геометрического характера. В колорите вышивки главную роль играют глубокий красный, изумрудный, и черный цвета. В этом орнаменте есть и декоративная сила,  и насыщенность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Users\germanich-o\Desktop\Рисунок22.jpg"/>
          <p:cNvPicPr/>
          <p:nvPr/>
        </p:nvPicPr>
        <p:blipFill>
          <a:blip r:embed="rId1"/>
          <a:stretch/>
        </p:blipFill>
        <p:spPr>
          <a:xfrm>
            <a:off x="4284720" y="2205000"/>
            <a:ext cx="4390920" cy="352908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крестом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374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часто на предметах домашнего обихода встречаются вышивки с растительным орнамен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удничных полотенцах был один ряд вышивки и кружевной край, на праздничных цветная вышивка и белое кружево перемежались в несколько рядов и по краю оканчивались вышитой надписью, исполненной для жени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C:\Users\germanich-o\Desktop\Рисунок27.jpg"/>
          <p:cNvPicPr/>
          <p:nvPr/>
        </p:nvPicPr>
        <p:blipFill>
          <a:blip r:embed="rId1"/>
          <a:stretch/>
        </p:blipFill>
        <p:spPr>
          <a:xfrm>
            <a:off x="4211640" y="1844640"/>
            <a:ext cx="1895400" cy="1965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Users\germanich-o\Desktop\Рисунок28.jpg"/>
          <p:cNvPicPr/>
          <p:nvPr/>
        </p:nvPicPr>
        <p:blipFill>
          <a:blip r:embed="rId2"/>
          <a:stretch/>
        </p:blipFill>
        <p:spPr>
          <a:xfrm>
            <a:off x="6516720" y="1700280"/>
            <a:ext cx="2039760" cy="2208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Users\germanich-o\Desktop\Рисунок29.jpg"/>
          <p:cNvPicPr/>
          <p:nvPr/>
        </p:nvPicPr>
        <p:blipFill>
          <a:blip r:embed="rId3"/>
          <a:stretch/>
        </p:blipFill>
        <p:spPr>
          <a:xfrm>
            <a:off x="4067280" y="3933720"/>
            <a:ext cx="2112840" cy="2382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C:\Users\germanich-o\Desktop\Рисунок30.jpg"/>
          <p:cNvPicPr/>
          <p:nvPr/>
        </p:nvPicPr>
        <p:blipFill>
          <a:blip r:embed="rId4"/>
          <a:stretch/>
        </p:blipFill>
        <p:spPr>
          <a:xfrm>
            <a:off x="6588000" y="4005360"/>
            <a:ext cx="1968480" cy="22446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крестом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2204640"/>
            <a:ext cx="352764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дном из полотенец читаем: «Люби меня милой, люби не забывай. Цвети цветочек алый, цвети не опада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слова написаны с ошибками, буквы  перевернуты. Вероятно, вышивались они неграмотной деревенской дев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C:\Users\germanich-o\Desktop\Рисунок31.jpg"/>
          <p:cNvPicPr/>
          <p:nvPr/>
        </p:nvPicPr>
        <p:blipFill>
          <a:blip r:embed="rId1"/>
          <a:stretch/>
        </p:blipFill>
        <p:spPr>
          <a:xfrm>
            <a:off x="3708360" y="1773360"/>
            <a:ext cx="2594160" cy="437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Users\germanich-o\Desktop\Рисунок32.jpg"/>
          <p:cNvPicPr/>
          <p:nvPr/>
        </p:nvPicPr>
        <p:blipFill>
          <a:blip r:embed="rId2"/>
          <a:stretch/>
        </p:blipFill>
        <p:spPr>
          <a:xfrm>
            <a:off x="6372360" y="1844640"/>
            <a:ext cx="2504880" cy="417672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4600" y="530280"/>
            <a:ext cx="727416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Белая строчка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68360" y="1773360"/>
            <a:ext cx="3743280" cy="62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 использовался и другой вид древней счетной вышивки — стро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19 века в строчевые разделки начинает проникать высокий настил из толстых белых ниток, который не встречался у мастериц других губер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buClr>
                <a:srgbClr val="33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Users\germanich-o\Desktop\Рисунок26.jpg"/>
          <p:cNvPicPr/>
          <p:nvPr/>
        </p:nvPicPr>
        <p:blipFill>
          <a:blip r:embed="rId1"/>
          <a:stretch/>
        </p:blipFill>
        <p:spPr>
          <a:xfrm>
            <a:off x="4932360" y="1916280"/>
            <a:ext cx="3395520" cy="427356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Вышивка по рисовке</a:t>
            </a:r>
            <a:br>
              <a:rPr sz="2400"/>
            </a:br>
            <a:r>
              <a:rPr b="1" i="1" lang="ru-RU" sz="2400" spc="-1" strike="noStrike">
                <a:solidFill>
                  <a:srgbClr val="336666"/>
                </a:solidFill>
                <a:latin typeface="Arial Black"/>
              </a:rPr>
              <a:t>Тамбур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</a:t>
            </a:r>
            <a:r>
              <a:rPr b="0" i="1" lang="ru-RU" sz="1800" spc="-1" strike="noStrike">
                <a:solidFill>
                  <a:srgbClr val="336666"/>
                </a:solidFill>
                <a:latin typeface="Arial Black"/>
              </a:rPr>
              <a:t>ВЕК.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88000" y="2565360"/>
            <a:ext cx="4032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ой тамбур выполнялся иглой или крючком. Это совершенно свободная техника, которая  допускает любые направления, изгибы и повор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fot 027"/>
          <p:cNvPicPr/>
          <p:nvPr/>
        </p:nvPicPr>
        <p:blipFill>
          <a:blip r:embed="rId1"/>
          <a:stretch/>
        </p:blipFill>
        <p:spPr>
          <a:xfrm>
            <a:off x="971640" y="1844640"/>
            <a:ext cx="3529080" cy="42483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696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Тема экскурсии: «Художественно-прикладные элементы в одежде и предметах быта Нижегородского края»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781360"/>
            <a:ext cx="377172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курсово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очко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Рубаха из красной пестряди"/>
          <p:cNvPicPr/>
          <p:nvPr/>
        </p:nvPicPr>
        <p:blipFill>
          <a:blip r:embed="rId1"/>
          <a:stretch/>
        </p:blipFill>
        <p:spPr>
          <a:xfrm>
            <a:off x="4788000" y="1916280"/>
            <a:ext cx="3133800" cy="41767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по рисовке</a:t>
            </a:r>
            <a:br>
              <a:rPr sz="2400"/>
            </a:br>
            <a:r>
              <a:rPr b="0" i="1" lang="ru-RU" sz="2400" spc="-1" strike="noStrike">
                <a:solidFill>
                  <a:srgbClr val="336666"/>
                </a:solidFill>
                <a:latin typeface="Arial Black"/>
              </a:rPr>
              <a:t>Белая гладь. 19 век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ом белой глади считается Балахнинский уезд, особенно села Городец, Пурех, Кату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лотенце из нашей коллекции белая гладь выполнена некручеными нитками, настил которых дает ровную блестящую поверх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:\Users\germanich-o\Desktop\Рисунок24.jpg"/>
          <p:cNvPicPr/>
          <p:nvPr/>
        </p:nvPicPr>
        <p:blipFill>
          <a:blip r:embed="rId1"/>
          <a:stretch/>
        </p:blipFill>
        <p:spPr>
          <a:xfrm>
            <a:off x="4572000" y="1773360"/>
            <a:ext cx="3767040" cy="442584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696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нчивая нашу экскурсию, я хочу отметить, что  нет такой техники в ткачестве, набойке, кружевоплетении, вышивке, которая не была бы известна нижегородским масте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ядя на экспонаты, понимаешь, что теперь у нас иной уклад жизни. Потому многие из предметов, которыми пользовались наши прабабушки каждый день, сегодня  находятся в школьном муз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5" descr=""/>
          <p:cNvPicPr/>
          <p:nvPr/>
        </p:nvPicPr>
        <p:blipFill>
          <a:blip r:embed="rId1"/>
          <a:stretch/>
        </p:blipFill>
        <p:spPr>
          <a:xfrm>
            <a:off x="5381640" y="404640"/>
            <a:ext cx="1458720" cy="194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C:\Users\germanich-o\Desktop\Рисунок37.jpg"/>
          <p:cNvPicPr/>
          <p:nvPr/>
        </p:nvPicPr>
        <p:blipFill>
          <a:blip r:embed="rId2"/>
          <a:stretch/>
        </p:blipFill>
        <p:spPr>
          <a:xfrm>
            <a:off x="7093080" y="404640"/>
            <a:ext cx="1751040" cy="196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germanich-o\Desktop\Рисунок35.jpg"/>
          <p:cNvPicPr/>
          <p:nvPr/>
        </p:nvPicPr>
        <p:blipFill>
          <a:blip r:embed="rId3"/>
          <a:stretch/>
        </p:blipFill>
        <p:spPr>
          <a:xfrm>
            <a:off x="3840120" y="476280"/>
            <a:ext cx="1501920" cy="187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C:\Users\germanich-o\Desktop\Рисунок34.jpg"/>
          <p:cNvPicPr/>
          <p:nvPr/>
        </p:nvPicPr>
        <p:blipFill>
          <a:blip r:embed="rId4"/>
          <a:stretch/>
        </p:blipFill>
        <p:spPr>
          <a:xfrm>
            <a:off x="2411280" y="476280"/>
            <a:ext cx="1471680" cy="180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:\Users\germanich-o\Desktop\Рисунок33.jpg"/>
          <p:cNvPicPr/>
          <p:nvPr/>
        </p:nvPicPr>
        <p:blipFill>
          <a:blip r:embed="rId5"/>
          <a:stretch/>
        </p:blipFill>
        <p:spPr>
          <a:xfrm>
            <a:off x="395280" y="476280"/>
            <a:ext cx="1919160" cy="234936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Добро пожаловать в музей!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0" name="Picture 20" descr="музей 26"/>
          <p:cNvPicPr/>
          <p:nvPr/>
        </p:nvPicPr>
        <p:blipFill>
          <a:blip r:embed="rId1"/>
          <a:stretch/>
        </p:blipFill>
        <p:spPr>
          <a:xfrm>
            <a:off x="1763640" y="1557360"/>
            <a:ext cx="5708880" cy="428148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Не то дорог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красного золо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 то дорог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мастера добр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Музей народного бы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388944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равствуйте! Приглашаю вас на экскурсию в музей народного быта Нижегородского края, где находятся  предметы старины, красивая и нужная в хозяйстве утварь, вещи, которые были необходимы нашим предкам в праздники и буд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4427640" y="2133720"/>
            <a:ext cx="4370400" cy="329544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0256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В музее имеется несколько экспозиций: 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ьер крестьянской избы                             Предметы труда и бы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качество, вышивка, кружевоплетение                     Народная одеж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Users\germanich-o\Desktop\Рисунок2.jpg"/>
          <p:cNvPicPr/>
          <p:nvPr/>
        </p:nvPicPr>
        <p:blipFill>
          <a:blip r:embed="rId1"/>
          <a:stretch/>
        </p:blipFill>
        <p:spPr>
          <a:xfrm>
            <a:off x="971640" y="1765440"/>
            <a:ext cx="2876400" cy="199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Users\germanich-o\Desktop\Рисунок3.jpg"/>
          <p:cNvPicPr/>
          <p:nvPr/>
        </p:nvPicPr>
        <p:blipFill>
          <a:blip r:embed="rId2"/>
          <a:stretch/>
        </p:blipFill>
        <p:spPr>
          <a:xfrm>
            <a:off x="5148360" y="1905120"/>
            <a:ext cx="2593800" cy="1922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Users\germanich-o\Desktop\Рисунок4.jpg"/>
          <p:cNvPicPr/>
          <p:nvPr/>
        </p:nvPicPr>
        <p:blipFill>
          <a:blip r:embed="rId3"/>
          <a:stretch/>
        </p:blipFill>
        <p:spPr>
          <a:xfrm>
            <a:off x="896760" y="4365720"/>
            <a:ext cx="3387960" cy="22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C:\Users\germanich-o\Desktop\Рисунок5.jpg"/>
          <p:cNvPicPr/>
          <p:nvPr/>
        </p:nvPicPr>
        <p:blipFill>
          <a:blip r:embed="rId4"/>
          <a:stretch/>
        </p:blipFill>
        <p:spPr>
          <a:xfrm>
            <a:off x="5076720" y="4437000"/>
            <a:ext cx="2959200" cy="2154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69644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ий интерес у посетителей музея вызывает экспозиция народной одежды, а также предметы ткачества, вышивки и кружевоплетени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ядением нитей, изготовлением тканей и их окраской занимались в каждой семье. К работе приступали осенью, после окончания уборки урожая. Наши прапрабабушки трудились буквально не разгибая спины: например, для того, чтобы спрясть нитки из одного пуда (то есть 16,3 кг) подготовленного волокна, требовалось девятьсот пятьдесят пять часов усердной работы.</a:t>
            </a:r>
            <a:br>
              <a:rPr sz="1800"/>
            </a:b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1" name="Picture 7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6875640" y="620640"/>
            <a:ext cx="1923840" cy="272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:\Users\germanich-o\Desktop\Рисунок7.png"/>
          <p:cNvPicPr/>
          <p:nvPr/>
        </p:nvPicPr>
        <p:blipFill>
          <a:blip r:embed="rId2"/>
          <a:stretch/>
        </p:blipFill>
        <p:spPr>
          <a:xfrm>
            <a:off x="4859280" y="549360"/>
            <a:ext cx="1905120" cy="279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C:\Users\germanich-o\Desktop\Рисунок8.jpg"/>
          <p:cNvPicPr/>
          <p:nvPr/>
        </p:nvPicPr>
        <p:blipFill>
          <a:blip r:embed="rId3"/>
          <a:stretch/>
        </p:blipFill>
        <p:spPr>
          <a:xfrm>
            <a:off x="2719440" y="476280"/>
            <a:ext cx="2028600" cy="297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4"/>
          <a:stretch/>
        </p:blipFill>
        <p:spPr>
          <a:xfrm>
            <a:off x="468360" y="549360"/>
            <a:ext cx="2160720" cy="2952720"/>
          </a:xfrm>
          <a:prstGeom prst="rect">
            <a:avLst/>
          </a:prstGeom>
          <a:ln w="0">
            <a:noFill/>
          </a:ln>
        </p:spPr>
      </p:pic>
    </p:spTree>
  </p:cSld>
  <p:transition advTm="1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Ткачество и набойка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96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ижегородской губернии ткачество и набойка издревле являлись широко распространенным видом женского народного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о узорного ткачества дольше всех сохранялось в Заволжье и у мастериц приветлужских дерев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ом в губернии изготовляли льняной холст, полотенца, столешники и «шосту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езапамятных времен у русских для одежды использовалась пестрядь и набойка. Лучшие портные жили в селах Ардатовского у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Женская рубаха</a:t>
            </a:r>
            <a:br>
              <a:rPr sz="2900"/>
            </a:br>
            <a:r>
              <a:rPr b="1" lang="ru-RU" sz="2000" spc="-1" strike="noStrike">
                <a:solidFill>
                  <a:srgbClr val="336666"/>
                </a:solidFill>
                <a:latin typeface="Arial Black"/>
              </a:rPr>
              <a:t>Красная пестрядь, набойка. </a:t>
            </a:r>
            <a:r>
              <a:rPr b="1" i="1" lang="ru-RU" sz="2000" spc="-1" strike="noStrike">
                <a:solidFill>
                  <a:srgbClr val="336666"/>
                </a:solidFill>
                <a:latin typeface="Arial Black"/>
              </a:rPr>
              <a:t>Конец 19 века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940000" y="2636640"/>
            <a:ext cx="280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музее хранятся две женские рубахи, привезенные из Арзамасского района. Низ рубах сшит из красной пестряди, а верх - из ткани, на которую нанесена набойка. Поверх рубахи надевали юбку-поне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:\Users\germanich-o\Desktop\Рисунок10.jpg"/>
          <p:cNvPicPr/>
          <p:nvPr/>
        </p:nvPicPr>
        <p:blipFill>
          <a:blip r:embed="rId1"/>
          <a:stretch/>
        </p:blipFill>
        <p:spPr>
          <a:xfrm>
            <a:off x="539640" y="2205000"/>
            <a:ext cx="2714760" cy="374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Users\germanich-o\Desktop\Рисунок11.jpg"/>
          <p:cNvPicPr/>
          <p:nvPr/>
        </p:nvPicPr>
        <p:blipFill>
          <a:blip r:embed="rId2"/>
          <a:stretch/>
        </p:blipFill>
        <p:spPr>
          <a:xfrm>
            <a:off x="3492360" y="2060640"/>
            <a:ext cx="2563920" cy="3816360"/>
          </a:xfrm>
          <a:prstGeom prst="rect">
            <a:avLst/>
          </a:prstGeom>
          <a:ln w="0">
            <a:noFill/>
          </a:ln>
        </p:spPr>
      </p:pic>
    </p:spTree>
  </p:cSld>
  <p:transition advTm="12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Сарафан распашной.</a:t>
            </a:r>
            <a:r>
              <a:rPr b="0" lang="ru-RU" sz="27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36003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от косоклинный распашной сарафан, на узеньких лямках сшит из фабричной ткани (китайки). Подкладка выполнена из синей пестряди. Привлекают внимание отлично сохранившиеся  круглые пуговицы-«жемчужины» на медной ножке, покрытые перламутро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C:\Users\germanich-o\Desktop\Рисунок12.jpg"/>
          <p:cNvPicPr/>
          <p:nvPr/>
        </p:nvPicPr>
        <p:blipFill>
          <a:blip r:embed="rId1"/>
          <a:stretch/>
        </p:blipFill>
        <p:spPr>
          <a:xfrm>
            <a:off x="5003640" y="1844640"/>
            <a:ext cx="2846520" cy="410544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8:58Z</dcterms:created>
  <dc:creator>Viktor</dc:creator>
  <dc:description/>
  <dc:language>en-US</dc:language>
  <cp:lastModifiedBy>germanich-o</cp:lastModifiedBy>
  <dcterms:modified xsi:type="dcterms:W3CDTF">2015-04-19T07:54:03Z</dcterms:modified>
  <cp:revision>55</cp:revision>
  <dc:subject/>
  <dc:title>Свадьба</dc:title>
</cp:coreProperties>
</file>