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7.png" ContentType="image/png"/>
  <Override PartName="/ppt/media/image34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9AB7-FD75-4CFF-B95E-06966C8821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9E3F-ACB2-45B2-B07F-AD672B8FB0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1941-FDCA-40F2-8347-1535EA25DB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7495-2FE4-40A0-A306-7E8436F388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2FC1-FFE6-482C-A985-9BCADA7F8D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00F6-D47E-4493-9FF8-CDCCE0E2C7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6336-6F8F-4FCC-9121-FAB3A37771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9166-FBA0-4036-87F5-C9F7C4F2DE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C1DA-3D12-4CF5-AA60-9F812239D3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5BC2-5AD7-44B2-B07F-3A2DD357B7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500E-6ECB-4CA4-B876-CCA3AC1D99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0149-79DA-4199-9357-296AC1EC16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DD03-1DE6-40D6-A7E3-F61C824E4D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E24D-CE48-45D1-ADF4-7BC8837C71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5797-CA81-4BB0-9856-B662949930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4A6D-90AE-458B-AC3B-49284251F7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2E48-4EE7-4B6E-A792-743BA1B4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BA60-7C85-49CB-A117-67BDAD59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C51F-35AF-4785-8D7B-717DC39CC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2459-62D2-4731-8374-3E4D2CE0E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E6F1-BD36-4915-9020-4A8CE52A5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194D-9FE9-4B75-8269-84642B76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AE33-9B6E-4E45-8805-83A20331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A204-D2C0-4C0B-8033-B093D2CC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DA93-31F0-43A6-8F46-605392C1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94CE-4E2F-4F1E-B2EA-FB1ACA98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AD81-87C1-483B-81D5-AB86A7D4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3DFD-1462-4B5D-9312-677278FD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F0E5-0568-4767-BA46-6F1528AE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0F52-D885-4105-8483-17A316D0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BEF2-B022-4BC0-8507-80139E53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64A7-411B-419F-A57F-6976FEA7E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1B80-2F7F-4BE5-9B70-75B809DF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EC3C-D839-4449-89D0-5F37C8B4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DD24-FE6A-4B08-A907-88C9998B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6611-F592-4ED5-9981-3DEDE5DE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A055-8953-4894-A895-4B060C0F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7B72-922B-4FB8-A3BB-6710220F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9CD6-2B30-4D3A-A37A-FA4CCBD8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957D-A9E5-4F21-BF61-254397FB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C6CD-92F3-4E90-A4EE-BA79620C58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5591-4A11-4945-B944-389542F337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74200" cy="208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r>
              <a:rPr b="0" i="1" lang="ru-RU" sz="37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c00000"/>
                </a:solidFill>
                <a:latin typeface="Arial Black"/>
              </a:rPr>
              <a:t>МУЗЕЙ 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Arial Black"/>
              </a:rPr>
              <a:t>НАРОДНОГО 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Arial Black"/>
              </a:rPr>
              <a:t>БЫТА </a:t>
            </a: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r>
              <a:rPr b="0" i="1" lang="ru-RU" sz="1400" spc="-1" strike="noStrike">
                <a:solidFill>
                  <a:srgbClr val="336666"/>
                </a:solidFill>
                <a:latin typeface="Arial Black"/>
              </a:rPr>
              <a:t>Руководитель: ОХАПКИНА Надежда Николаевна, </a:t>
            </a:r>
            <a:br>
              <a:rPr sz="1400"/>
            </a:br>
            <a:r>
              <a:rPr b="0" i="1" lang="ru-RU" sz="1400" spc="-1" strike="noStrike">
                <a:solidFill>
                  <a:srgbClr val="336666"/>
                </a:solidFill>
                <a:latin typeface="Arial Black"/>
              </a:rPr>
              <a:t>учитель изобразительного искусства </a:t>
            </a:r>
            <a:br>
              <a:rPr sz="1400"/>
            </a:br>
            <a:r>
              <a:rPr b="0" i="1" lang="ru-RU" sz="1400" spc="-1" strike="noStrike">
                <a:solidFill>
                  <a:srgbClr val="336666"/>
                </a:solidFill>
                <a:latin typeface="Arial Black"/>
              </a:rPr>
              <a:t>Адрес:606015 Нижегородская область</a:t>
            </a:r>
            <a:br>
              <a:rPr sz="1400"/>
            </a:br>
            <a:r>
              <a:rPr b="0" i="1" lang="ru-RU" sz="1400" spc="-1" strike="noStrike">
                <a:solidFill>
                  <a:srgbClr val="336666"/>
                </a:solidFill>
                <a:latin typeface="Arial Black"/>
              </a:rPr>
              <a:t> г.Дзержинск ул.Буденного д.10 а</a:t>
            </a:r>
            <a:br>
              <a:rPr sz="1400"/>
            </a:br>
            <a:r>
              <a:rPr b="0" i="1" lang="ru-RU" sz="1400" spc="-1" strike="noStrike">
                <a:solidFill>
                  <a:srgbClr val="336666"/>
                </a:solidFill>
                <a:latin typeface="Arial Black"/>
              </a:rPr>
              <a:t>МБОУ «Средняя школа № 35» </a:t>
            </a: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76360" y="3357720"/>
            <a:ext cx="5904000" cy="20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Городской костюм. </a:t>
            </a:r>
            <a:r>
              <a:rPr b="0" i="1" lang="ru-RU" sz="2000" spc="-1" strike="noStrike">
                <a:solidFill>
                  <a:srgbClr val="336666"/>
                </a:solidFill>
                <a:latin typeface="Arial Black"/>
              </a:rPr>
              <a:t>Конец 19 века.</a:t>
            </a:r>
            <a:br>
              <a:rPr sz="2000"/>
            </a:b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108360" y="1904760"/>
            <a:ext cx="381636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ередине 19 столетия для сельских модниц образцом на долгие годы становится провинциальный костю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ем музее находятся костюмы из темно – зеленой тафты и  атла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ко в некоторых старообрядческих селах Арзамасского уезда еще в начале 20 века носили сарафаны, рубахи и передники из пестряди, кумача, китай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C:\Users\germanich-o\Desktop\Рисунок15.jpg"/>
          <p:cNvPicPr/>
          <p:nvPr/>
        </p:nvPicPr>
        <p:blipFill>
          <a:blip r:embed="rId1"/>
          <a:stretch/>
        </p:blipFill>
        <p:spPr>
          <a:xfrm>
            <a:off x="3419640" y="1916280"/>
            <a:ext cx="2741400" cy="3781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C:\Users\germanich-o\Desktop\Рисунок16.jpg"/>
          <p:cNvPicPr/>
          <p:nvPr/>
        </p:nvPicPr>
        <p:blipFill>
          <a:blip r:embed="rId2"/>
          <a:stretch/>
        </p:blipFill>
        <p:spPr>
          <a:xfrm>
            <a:off x="6300720" y="2060640"/>
            <a:ext cx="2544840" cy="3495600"/>
          </a:xfrm>
          <a:prstGeom prst="rect">
            <a:avLst/>
          </a:prstGeom>
          <a:ln w="0">
            <a:noFill/>
          </a:ln>
        </p:spPr>
      </p:pic>
    </p:spTree>
  </p:cSld>
  <p:transition advTm="17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Шелковые пояса. </a:t>
            </a:r>
            <a:r>
              <a:rPr b="0" i="1" lang="ru-RU" sz="2000" spc="-1" strike="noStrike">
                <a:solidFill>
                  <a:srgbClr val="336666"/>
                </a:solidFill>
                <a:latin typeface="Arial Black"/>
              </a:rPr>
              <a:t>19 век.</a:t>
            </a:r>
            <a:br>
              <a:rPr sz="3700"/>
            </a:b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39607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женскому и мужскому костюму обязательно полагался яркий пояс. В конце 19 – начале 20 века в Семеновском уезде, Арзамасском и в селе Бор женщины занимались изготовлением поясов из шелка, гаруса и шерсти. Они дорого ценились, до трех рублей за арш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ем музее хранятся два пояса. На одном из них по средней полосе вытканы слова: « Еси поясъ Прасковьи Григорьевны Полушкино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Копия fot 011"/>
          <p:cNvPicPr/>
          <p:nvPr/>
        </p:nvPicPr>
        <p:blipFill>
          <a:blip r:embed="rId1"/>
          <a:stretch/>
        </p:blipFill>
        <p:spPr>
          <a:xfrm>
            <a:off x="4788000" y="1844640"/>
            <a:ext cx="3600360" cy="2028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fot 028"/>
          <p:cNvPicPr/>
          <p:nvPr/>
        </p:nvPicPr>
        <p:blipFill>
          <a:blip r:embed="rId2"/>
          <a:stretch/>
        </p:blipFill>
        <p:spPr>
          <a:xfrm>
            <a:off x="4859280" y="4064040"/>
            <a:ext cx="3600360" cy="1886040"/>
          </a:xfrm>
          <a:prstGeom prst="rect">
            <a:avLst/>
          </a:prstGeom>
          <a:ln w="0">
            <a:noFill/>
          </a:ln>
        </p:spPr>
      </p:pic>
    </p:spTree>
  </p:cSld>
  <p:transition advTm="1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Полотенце </a:t>
            </a:r>
            <a:br>
              <a:rPr sz="3200"/>
            </a:br>
            <a:r>
              <a:rPr b="0" lang="ru-RU" sz="2000" spc="-1" strike="noStrike">
                <a:solidFill>
                  <a:srgbClr val="336666"/>
                </a:solidFill>
                <a:latin typeface="Arial Black"/>
              </a:rPr>
              <a:t>Ручное ткачество. Набойка. </a:t>
            </a:r>
            <a:r>
              <a:rPr b="0" i="1" lang="ru-RU" sz="2000" spc="-1" strike="noStrike">
                <a:solidFill>
                  <a:srgbClr val="336666"/>
                </a:solidFill>
                <a:latin typeface="Arial Black"/>
              </a:rPr>
              <a:t>19 век.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1760" y="2349000"/>
            <a:ext cx="3771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ироко была развит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бойк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нанесение цветного рисунка на готовую тка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ем набивки узора с резной деревянной  доски позволял произвольно располагать различные формы орнаментов на свободном пространстве хол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C:\Users\germanich-o\Desktop\Рисунок19.jpg"/>
          <p:cNvPicPr/>
          <p:nvPr/>
        </p:nvPicPr>
        <p:blipFill>
          <a:blip r:embed="rId1"/>
          <a:stretch/>
        </p:blipFill>
        <p:spPr>
          <a:xfrm>
            <a:off x="4788000" y="1989000"/>
            <a:ext cx="3387600" cy="4065840"/>
          </a:xfrm>
          <a:prstGeom prst="rect">
            <a:avLst/>
          </a:prstGeom>
          <a:ln w="0">
            <a:noFill/>
          </a:ln>
        </p:spPr>
      </p:pic>
    </p:spTree>
  </p:cSld>
  <p:transition advTm="14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Вышивка и кружевоплетение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шивка и кружевоплетение в крестьянском быту больше, чем другие виды украшения тканей, выражали художественные вкусы народа, формировали жилую среду и облик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родную вышивку по технике исполнения можно разделить на две очень большие группы – счетные вышивки и вышивки, выполняемые по рисов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C:\Users\germanich-o\Desktop\Рисунок20.jpg"/>
          <p:cNvPicPr/>
          <p:nvPr/>
        </p:nvPicPr>
        <p:blipFill>
          <a:blip r:embed="rId1"/>
          <a:stretch/>
        </p:blipFill>
        <p:spPr>
          <a:xfrm>
            <a:off x="900000" y="3573360"/>
            <a:ext cx="3267360" cy="2481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C:\Users\germanich-o\Desktop\Рисунок21.jpg"/>
          <p:cNvPicPr/>
          <p:nvPr/>
        </p:nvPicPr>
        <p:blipFill>
          <a:blip r:embed="rId2"/>
          <a:stretch/>
        </p:blipFill>
        <p:spPr>
          <a:xfrm>
            <a:off x="4788000" y="3573360"/>
            <a:ext cx="3485880" cy="2592360"/>
          </a:xfrm>
          <a:prstGeom prst="rect">
            <a:avLst/>
          </a:prstGeom>
          <a:ln w="0">
            <a:noFill/>
          </a:ln>
        </p:spPr>
      </p:pic>
    </p:spTree>
  </p:cSld>
  <p:transition advTm="14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Счетные вышивки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шивка счетными швами у русских является наиболее древ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етные вышивки делятся на строчевые, для которых ткань должна быть предварительно разрежена, и вышивки, украшающие ткань по поверхности («крест», «роспись», глад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894 году вышивкой занимались более 4 тысяч строчей, проживающих более чем в 100 селениях. Центрами являлись села Василево, Городец, Лыс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Вышивка крестом. </a:t>
            </a:r>
            <a:r>
              <a:rPr b="0" i="1" lang="ru-RU" sz="2000" spc="-1" strike="noStrike">
                <a:solidFill>
                  <a:srgbClr val="336666"/>
                </a:solidFill>
                <a:latin typeface="Arial Black"/>
              </a:rPr>
              <a:t>19 век.</a:t>
            </a:r>
            <a:br>
              <a:rPr sz="2000"/>
            </a:b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381636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це 19 века было повсеместное увлечение новым счетным швом — крес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шивка на этой подушке представляет узор геометрического характера. В колорите вышивки главную роль играют глубокий красный, изумрудный, и черный цвета. В этом орнаменте есть и декоративная сила,  и насыщенность цве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C:\Users\germanich-o\Desktop\Рисунок22.jpg"/>
          <p:cNvPicPr/>
          <p:nvPr/>
        </p:nvPicPr>
        <p:blipFill>
          <a:blip r:embed="rId1"/>
          <a:stretch/>
        </p:blipFill>
        <p:spPr>
          <a:xfrm>
            <a:off x="4284720" y="2205000"/>
            <a:ext cx="4390920" cy="3529080"/>
          </a:xfrm>
          <a:prstGeom prst="rect">
            <a:avLst/>
          </a:prstGeom>
          <a:ln w="0">
            <a:noFill/>
          </a:ln>
        </p:spPr>
      </p:pic>
    </p:spTree>
  </p:cSld>
  <p:transition advTm="14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Вышивка крестом. </a:t>
            </a:r>
            <a:r>
              <a:rPr b="0" i="1" lang="ru-RU" sz="2000" spc="-1" strike="noStrike">
                <a:solidFill>
                  <a:srgbClr val="336666"/>
                </a:solidFill>
                <a:latin typeface="Arial Black"/>
              </a:rPr>
              <a:t>19 век.</a:t>
            </a:r>
            <a:br>
              <a:rPr sz="2000"/>
            </a:b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905120"/>
            <a:ext cx="374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ень часто на предметах домашнего обихода встречаются вышивки с растительным орнамен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будничных полотенцах был один ряд вышивки и кружевной край, на праздничных цветная вышивка и белое кружево перемежались в несколько рядов и по краю оканчивались вышитой надписью, исполненной для жених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C:\Users\germanich-o\Desktop\Рисунок27.jpg"/>
          <p:cNvPicPr/>
          <p:nvPr/>
        </p:nvPicPr>
        <p:blipFill>
          <a:blip r:embed="rId1"/>
          <a:stretch/>
        </p:blipFill>
        <p:spPr>
          <a:xfrm>
            <a:off x="4211640" y="1844640"/>
            <a:ext cx="1895400" cy="19652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C:\Users\germanich-o\Desktop\Рисунок28.jpg"/>
          <p:cNvPicPr/>
          <p:nvPr/>
        </p:nvPicPr>
        <p:blipFill>
          <a:blip r:embed="rId2"/>
          <a:stretch/>
        </p:blipFill>
        <p:spPr>
          <a:xfrm>
            <a:off x="6516720" y="1700280"/>
            <a:ext cx="2039760" cy="2208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C:\Users\germanich-o\Desktop\Рисунок29.jpg"/>
          <p:cNvPicPr/>
          <p:nvPr/>
        </p:nvPicPr>
        <p:blipFill>
          <a:blip r:embed="rId3"/>
          <a:stretch/>
        </p:blipFill>
        <p:spPr>
          <a:xfrm>
            <a:off x="4067280" y="3933720"/>
            <a:ext cx="2112840" cy="2382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C:\Users\germanich-o\Desktop\Рисунок30.jpg"/>
          <p:cNvPicPr/>
          <p:nvPr/>
        </p:nvPicPr>
        <p:blipFill>
          <a:blip r:embed="rId4"/>
          <a:stretch/>
        </p:blipFill>
        <p:spPr>
          <a:xfrm>
            <a:off x="6588000" y="4005360"/>
            <a:ext cx="1968480" cy="22446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Вышивка крестом. </a:t>
            </a:r>
            <a:r>
              <a:rPr b="0" i="1" lang="ru-RU" sz="2000" spc="-1" strike="noStrike">
                <a:solidFill>
                  <a:srgbClr val="336666"/>
                </a:solidFill>
                <a:latin typeface="Arial Black"/>
              </a:rPr>
              <a:t>19 век.</a:t>
            </a:r>
            <a:br>
              <a:rPr sz="2000"/>
            </a:b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920" y="2204640"/>
            <a:ext cx="3527640" cy="37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дном из полотенец читаем: «Люби меня милой, люби не забывай. Цвети цветочек алый, цвети не опада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торые слова написаны с ошибками, буквы  перевернуты. Вероятно, вышивались они неграмотной деревенской девуш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C:\Users\germanich-o\Desktop\Рисунок31.jpg"/>
          <p:cNvPicPr/>
          <p:nvPr/>
        </p:nvPicPr>
        <p:blipFill>
          <a:blip r:embed="rId1"/>
          <a:stretch/>
        </p:blipFill>
        <p:spPr>
          <a:xfrm>
            <a:off x="3708360" y="1773360"/>
            <a:ext cx="2594160" cy="4370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C:\Users\germanich-o\Desktop\Рисунок32.jpg"/>
          <p:cNvPicPr/>
          <p:nvPr/>
        </p:nvPicPr>
        <p:blipFill>
          <a:blip r:embed="rId2"/>
          <a:stretch/>
        </p:blipFill>
        <p:spPr>
          <a:xfrm>
            <a:off x="6372360" y="1844640"/>
            <a:ext cx="2504880" cy="4176720"/>
          </a:xfrm>
          <a:prstGeom prst="rect">
            <a:avLst/>
          </a:prstGeom>
          <a:ln w="0">
            <a:noFill/>
          </a:ln>
        </p:spPr>
      </p:pic>
    </p:spTree>
  </p:cSld>
  <p:transition advTm="14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4600" y="530280"/>
            <a:ext cx="727416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Белая строчка. </a:t>
            </a:r>
            <a:r>
              <a:rPr b="0" i="1" lang="ru-RU" sz="2000" spc="-1" strike="noStrike">
                <a:solidFill>
                  <a:srgbClr val="336666"/>
                </a:solidFill>
                <a:latin typeface="Arial Black"/>
              </a:rPr>
              <a:t>19 век.</a:t>
            </a:r>
            <a:br>
              <a:rPr sz="2000"/>
            </a:b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468360" y="1773360"/>
            <a:ext cx="3743280" cy="62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ироко использовался и другой вид древней счетной вышивки — строч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це 19 века в строчевые разделки начинает проникать высокий настил из толстых белых ниток, который не встречался у мастериц других губер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125"/>
              </a:spcBef>
              <a:buClr>
                <a:srgbClr val="336666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C:\Users\germanich-o\Desktop\Рисунок26.jpg"/>
          <p:cNvPicPr/>
          <p:nvPr/>
        </p:nvPicPr>
        <p:blipFill>
          <a:blip r:embed="rId1"/>
          <a:stretch/>
        </p:blipFill>
        <p:spPr>
          <a:xfrm>
            <a:off x="4932360" y="1916280"/>
            <a:ext cx="3395520" cy="4273560"/>
          </a:xfrm>
          <a:prstGeom prst="rect">
            <a:avLst/>
          </a:prstGeom>
          <a:ln w="0">
            <a:noFill/>
          </a:ln>
        </p:spPr>
      </p:pic>
    </p:spTree>
  </p:cSld>
  <p:transition advTm="13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 Black"/>
              </a:rPr>
              <a:t>Вышивка по рисовке</a:t>
            </a:r>
            <a:br>
              <a:rPr sz="2400"/>
            </a:br>
            <a:r>
              <a:rPr b="1" i="1" lang="ru-RU" sz="2400" spc="-1" strike="noStrike">
                <a:solidFill>
                  <a:srgbClr val="336666"/>
                </a:solidFill>
                <a:latin typeface="Arial Black"/>
              </a:rPr>
              <a:t>Тамбур. </a:t>
            </a:r>
            <a:r>
              <a:rPr b="0" i="1" lang="ru-RU" sz="2000" spc="-1" strike="noStrike">
                <a:solidFill>
                  <a:srgbClr val="336666"/>
                </a:solidFill>
                <a:latin typeface="Arial Black"/>
              </a:rPr>
              <a:t>19 </a:t>
            </a:r>
            <a:r>
              <a:rPr b="0" i="1" lang="ru-RU" sz="1800" spc="-1" strike="noStrike">
                <a:solidFill>
                  <a:srgbClr val="336666"/>
                </a:solidFill>
                <a:latin typeface="Arial Black"/>
              </a:rPr>
              <a:t>ВЕК.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788000" y="2565360"/>
            <a:ext cx="40320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чной тамбур выполнялся иглой или крючком. Это совершенно свободная техника, которая  допускает любые направления, изгибы и поворо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2" descr="fot 027"/>
          <p:cNvPicPr/>
          <p:nvPr/>
        </p:nvPicPr>
        <p:blipFill>
          <a:blip r:embed="rId1"/>
          <a:stretch/>
        </p:blipFill>
        <p:spPr>
          <a:xfrm>
            <a:off x="971640" y="1844640"/>
            <a:ext cx="3529080" cy="424836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69608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Тема экскурсии: «Художественно-прикладные элементы в одежде и предметах быта Нижегородского края»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781360"/>
            <a:ext cx="3771720" cy="31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кскурсовод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очкова М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Рубаха из красной пестряди"/>
          <p:cNvPicPr/>
          <p:nvPr/>
        </p:nvPicPr>
        <p:blipFill>
          <a:blip r:embed="rId1"/>
          <a:stretch/>
        </p:blipFill>
        <p:spPr>
          <a:xfrm>
            <a:off x="4788000" y="1916280"/>
            <a:ext cx="3133800" cy="417672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Вышивка по рисовке</a:t>
            </a:r>
            <a:br>
              <a:rPr sz="2400"/>
            </a:br>
            <a:r>
              <a:rPr b="0" i="1" lang="ru-RU" sz="2400" spc="-1" strike="noStrike">
                <a:solidFill>
                  <a:srgbClr val="336666"/>
                </a:solidFill>
                <a:latin typeface="Arial Black"/>
              </a:rPr>
              <a:t>Белая гладь. 19 век.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тром белой глади считается Балахнинский уезд, особенно села Городец, Пурех, Катун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олотенце из нашей коллекции белая гладь выполнена некручеными нитками, настил которых дает ровную блестящую поверх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C:\Users\germanich-o\Desktop\Рисунок24.jpg"/>
          <p:cNvPicPr/>
          <p:nvPr/>
        </p:nvPicPr>
        <p:blipFill>
          <a:blip r:embed="rId1"/>
          <a:stretch/>
        </p:blipFill>
        <p:spPr>
          <a:xfrm>
            <a:off x="4572000" y="1773360"/>
            <a:ext cx="3767040" cy="4425840"/>
          </a:xfrm>
          <a:prstGeom prst="rect">
            <a:avLst/>
          </a:prstGeom>
          <a:ln w="0">
            <a:noFill/>
          </a:ln>
        </p:spPr>
      </p:pic>
    </p:spTree>
  </p:cSld>
  <p:transition advTm="14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755640" y="2924280"/>
            <a:ext cx="76960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анчивая нашу экскурсию, я хочу отметить, что  нет такой техники в ткачестве, набойке, кружевоплетении, вышивке, которая не была бы известна нижегородским мастер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ядя на экспонаты, понимаешь, что теперь у нас иной уклад жизни. Потому многие из предметов, которыми пользовались наши прабабушки каждый день, сегодня  находятся в школьном музе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5" descr=""/>
          <p:cNvPicPr/>
          <p:nvPr/>
        </p:nvPicPr>
        <p:blipFill>
          <a:blip r:embed="rId1"/>
          <a:stretch/>
        </p:blipFill>
        <p:spPr>
          <a:xfrm>
            <a:off x="5381640" y="404640"/>
            <a:ext cx="1458720" cy="1944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C:\Users\germanich-o\Desktop\Рисунок37.jpg"/>
          <p:cNvPicPr/>
          <p:nvPr/>
        </p:nvPicPr>
        <p:blipFill>
          <a:blip r:embed="rId2"/>
          <a:stretch/>
        </p:blipFill>
        <p:spPr>
          <a:xfrm>
            <a:off x="7093080" y="404640"/>
            <a:ext cx="1751040" cy="1962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C:\Users\germanich-o\Desktop\Рисунок35.jpg"/>
          <p:cNvPicPr/>
          <p:nvPr/>
        </p:nvPicPr>
        <p:blipFill>
          <a:blip r:embed="rId3"/>
          <a:stretch/>
        </p:blipFill>
        <p:spPr>
          <a:xfrm>
            <a:off x="3840120" y="476280"/>
            <a:ext cx="1501920" cy="1873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C:\Users\germanich-o\Desktop\Рисунок34.jpg"/>
          <p:cNvPicPr/>
          <p:nvPr/>
        </p:nvPicPr>
        <p:blipFill>
          <a:blip r:embed="rId4"/>
          <a:stretch/>
        </p:blipFill>
        <p:spPr>
          <a:xfrm>
            <a:off x="2411280" y="476280"/>
            <a:ext cx="1471680" cy="1800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:\Users\germanich-o\Desktop\Рисунок33.jpg"/>
          <p:cNvPicPr/>
          <p:nvPr/>
        </p:nvPicPr>
        <p:blipFill>
          <a:blip r:embed="rId5"/>
          <a:stretch/>
        </p:blipFill>
        <p:spPr>
          <a:xfrm>
            <a:off x="395280" y="476280"/>
            <a:ext cx="1919160" cy="2349360"/>
          </a:xfrm>
          <a:prstGeom prst="rect">
            <a:avLst/>
          </a:prstGeom>
          <a:ln w="0">
            <a:noFill/>
          </a:ln>
        </p:spPr>
      </p:pic>
    </p:spTree>
  </p:cSld>
  <p:transition advTm="22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59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Добро пожаловать в музей!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70" name="Picture 20" descr="музей 26"/>
          <p:cNvPicPr/>
          <p:nvPr/>
        </p:nvPicPr>
        <p:blipFill>
          <a:blip r:embed="rId1"/>
          <a:stretch/>
        </p:blipFill>
        <p:spPr>
          <a:xfrm>
            <a:off x="1763640" y="1557360"/>
            <a:ext cx="5708880" cy="428148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Не то дорого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то красного золот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а то дорого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то мастера доброг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59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Музей народного быта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3889440" cy="37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равствуйте! Приглашаю вас на экскурсию в музей народного быта Нижегородского края, где находятся  предметы старины, красивая и нужная в хозяйстве утварь, вещи, которые были необходимы нашим предкам в праздники и буд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C:\Users\germanich-o\Desktop\Рисунок1.jpg"/>
          <p:cNvPicPr/>
          <p:nvPr/>
        </p:nvPicPr>
        <p:blipFill>
          <a:blip r:embed="rId1"/>
          <a:stretch/>
        </p:blipFill>
        <p:spPr>
          <a:xfrm>
            <a:off x="4427640" y="2133720"/>
            <a:ext cx="4370400" cy="3295440"/>
          </a:xfrm>
          <a:prstGeom prst="rect">
            <a:avLst/>
          </a:prstGeom>
          <a:ln w="0">
            <a:noFill/>
          </a:ln>
        </p:spPr>
      </p:pic>
    </p:spTree>
  </p:cSld>
  <p:transition advTm="13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02560" cy="66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336666"/>
                </a:solidFill>
                <a:latin typeface="Arial Black"/>
              </a:rPr>
              <a:t>В музее имеется несколько экспозиций: </a:t>
            </a:r>
            <a:br>
              <a:rPr sz="2000"/>
            </a:b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7696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терьер крестьянской избы                             Предметы труда и бы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качество, вышивка, кружевоплетение                     Народная одеж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C:\Users\germanich-o\Desktop\Рисунок2.jpg"/>
          <p:cNvPicPr/>
          <p:nvPr/>
        </p:nvPicPr>
        <p:blipFill>
          <a:blip r:embed="rId1"/>
          <a:stretch/>
        </p:blipFill>
        <p:spPr>
          <a:xfrm>
            <a:off x="971640" y="1765440"/>
            <a:ext cx="2876400" cy="1998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C:\Users\germanich-o\Desktop\Рисунок3.jpg"/>
          <p:cNvPicPr/>
          <p:nvPr/>
        </p:nvPicPr>
        <p:blipFill>
          <a:blip r:embed="rId2"/>
          <a:stretch/>
        </p:blipFill>
        <p:spPr>
          <a:xfrm>
            <a:off x="5148360" y="1905120"/>
            <a:ext cx="2593800" cy="1922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C:\Users\germanich-o\Desktop\Рисунок4.jpg"/>
          <p:cNvPicPr/>
          <p:nvPr/>
        </p:nvPicPr>
        <p:blipFill>
          <a:blip r:embed="rId3"/>
          <a:stretch/>
        </p:blipFill>
        <p:spPr>
          <a:xfrm>
            <a:off x="896760" y="4365720"/>
            <a:ext cx="3387960" cy="2232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C:\Users\germanich-o\Desktop\Рисунок5.jpg"/>
          <p:cNvPicPr/>
          <p:nvPr/>
        </p:nvPicPr>
        <p:blipFill>
          <a:blip r:embed="rId4"/>
          <a:stretch/>
        </p:blipFill>
        <p:spPr>
          <a:xfrm>
            <a:off x="5076720" y="4437000"/>
            <a:ext cx="2959200" cy="215424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560" y="1989000"/>
            <a:ext cx="7696440" cy="460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ьший интерес у посетителей музея вызывает экспозиция народной одежды, а также предметы ткачества, вышивки и кружевоплетения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Прядением нитей, изготовлением тканей и их окраской занимались в каждой семье. К работе приступали осенью, после окончания уборки урожая. Наши прапрабабушки трудились буквально не разгибая спины: например, для того, чтобы спрясть нитки из одного пуда (то есть 16,3 кг) подготовленного волокна, требовалось девятьсот пятьдесят пять часов усердной работы.</a:t>
            </a:r>
            <a:br>
              <a:rPr sz="1800"/>
            </a:b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1" name="Picture 7" descr="C:\Users\germanich-o\Desktop\Рисунок6.png"/>
          <p:cNvPicPr/>
          <p:nvPr/>
        </p:nvPicPr>
        <p:blipFill>
          <a:blip r:embed="rId1"/>
          <a:stretch/>
        </p:blipFill>
        <p:spPr>
          <a:xfrm>
            <a:off x="6875640" y="620640"/>
            <a:ext cx="1923840" cy="2724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C:\Users\germanich-o\Desktop\Рисунок7.png"/>
          <p:cNvPicPr/>
          <p:nvPr/>
        </p:nvPicPr>
        <p:blipFill>
          <a:blip r:embed="rId2"/>
          <a:stretch/>
        </p:blipFill>
        <p:spPr>
          <a:xfrm>
            <a:off x="4859280" y="549360"/>
            <a:ext cx="1905120" cy="2795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C:\Users\germanich-o\Desktop\Рисунок8.jpg"/>
          <p:cNvPicPr/>
          <p:nvPr/>
        </p:nvPicPr>
        <p:blipFill>
          <a:blip r:embed="rId3"/>
          <a:stretch/>
        </p:blipFill>
        <p:spPr>
          <a:xfrm>
            <a:off x="2719440" y="476280"/>
            <a:ext cx="2028600" cy="2979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"/>
          <p:cNvPicPr/>
          <p:nvPr/>
        </p:nvPicPr>
        <p:blipFill>
          <a:blip r:embed="rId4"/>
          <a:stretch/>
        </p:blipFill>
        <p:spPr>
          <a:xfrm>
            <a:off x="468360" y="549360"/>
            <a:ext cx="2160720" cy="2952720"/>
          </a:xfrm>
          <a:prstGeom prst="rect">
            <a:avLst/>
          </a:prstGeom>
          <a:ln w="0">
            <a:noFill/>
          </a:ln>
        </p:spPr>
      </p:pic>
    </p:spTree>
  </p:cSld>
  <p:transition advTm="19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Ткачество и набойка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76960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ижегородской губернии ткачество и набойка издревле являлись широко распространенным видом женского народного творч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усство узорного ткачества дольше всех сохранялось в Заволжье и у мастериц приветлужских дерев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новном в губернии изготовляли льняной холст, полотенца, столешники и «шосту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незапамятных времен у русских для одежды использовалась пестрядь и набойка. Лучшие портные жили в селах Ардатовского уез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Женская рубаха</a:t>
            </a:r>
            <a:br>
              <a:rPr sz="2900"/>
            </a:br>
            <a:r>
              <a:rPr b="1" lang="ru-RU" sz="2000" spc="-1" strike="noStrike">
                <a:solidFill>
                  <a:srgbClr val="336666"/>
                </a:solidFill>
                <a:latin typeface="Arial Black"/>
              </a:rPr>
              <a:t>Красная пестрядь, набойка. </a:t>
            </a:r>
            <a:r>
              <a:rPr b="1" i="1" lang="ru-RU" sz="2000" spc="-1" strike="noStrike">
                <a:solidFill>
                  <a:srgbClr val="336666"/>
                </a:solidFill>
                <a:latin typeface="Arial Black"/>
              </a:rPr>
              <a:t>Конец 19 века.</a:t>
            </a:r>
            <a:br>
              <a:rPr sz="2000"/>
            </a:b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940000" y="2636640"/>
            <a:ext cx="280836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ем музее хранятся две женские рубахи, привезенные из Арзамасского района. Низ рубах сшит из красной пестряди, а верх - из ткани, на которую нанесена набойка. Поверх рубахи надевали юбку-понев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C:\Users\germanich-o\Desktop\Рисунок10.jpg"/>
          <p:cNvPicPr/>
          <p:nvPr/>
        </p:nvPicPr>
        <p:blipFill>
          <a:blip r:embed="rId1"/>
          <a:stretch/>
        </p:blipFill>
        <p:spPr>
          <a:xfrm>
            <a:off x="539640" y="2205000"/>
            <a:ext cx="2714760" cy="3745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C:\Users\germanich-o\Desktop\Рисунок11.jpg"/>
          <p:cNvPicPr/>
          <p:nvPr/>
        </p:nvPicPr>
        <p:blipFill>
          <a:blip r:embed="rId2"/>
          <a:stretch/>
        </p:blipFill>
        <p:spPr>
          <a:xfrm>
            <a:off x="3492360" y="2060640"/>
            <a:ext cx="2563920" cy="3816360"/>
          </a:xfrm>
          <a:prstGeom prst="rect">
            <a:avLst/>
          </a:prstGeom>
          <a:ln w="0">
            <a:noFill/>
          </a:ln>
        </p:spPr>
      </p:pic>
    </p:spTree>
  </p:cSld>
  <p:transition advTm="12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Сарафан распашной.</a:t>
            </a:r>
            <a:r>
              <a:rPr b="0" lang="ru-RU" sz="27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i="1" lang="ru-RU" sz="2000" spc="-1" strike="noStrike">
                <a:solidFill>
                  <a:srgbClr val="336666"/>
                </a:solidFill>
                <a:latin typeface="Arial Black"/>
              </a:rPr>
              <a:t>19 век.</a:t>
            </a:r>
            <a:br>
              <a:rPr sz="2000"/>
            </a:b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4920" y="1904760"/>
            <a:ext cx="360036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Этот косоклинный распашной сарафан, на узеньких лямках сшит из фабричной ткани (китайки). Подкладка выполнена из синей пестряди. Привлекают внимание отлично сохранившиеся  круглые пуговицы-«жемчужины» на медной ножке, покрытые перламутром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C:\Users\germanich-o\Desktop\Рисунок12.jpg"/>
          <p:cNvPicPr/>
          <p:nvPr/>
        </p:nvPicPr>
        <p:blipFill>
          <a:blip r:embed="rId1"/>
          <a:stretch/>
        </p:blipFill>
        <p:spPr>
          <a:xfrm>
            <a:off x="5003640" y="1844640"/>
            <a:ext cx="2846520" cy="4105440"/>
          </a:xfrm>
          <a:prstGeom prst="rect">
            <a:avLst/>
          </a:prstGeom>
          <a:ln w="0">
            <a:noFill/>
          </a:ln>
        </p:spPr>
      </p:pic>
    </p:spTree>
  </p:cSld>
  <p:transition advTm="14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6:18:58Z</dcterms:created>
  <dc:creator>Viktor</dc:creator>
  <dc:description/>
  <dc:language>en-US</dc:language>
  <cp:lastModifiedBy>germanich-o</cp:lastModifiedBy>
  <dcterms:modified xsi:type="dcterms:W3CDTF">2015-04-19T07:54:03Z</dcterms:modified>
  <cp:revision>55</cp:revision>
  <dc:subject/>
  <dc:title>Свадьба</dc:title>
</cp:coreProperties>
</file>