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0703-0A97-408D-A9A9-92DE5771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FE88-760A-40D6-9EF3-1B146AB9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2C6E-644C-42B0-ACA6-CB8BDF81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5759-F348-4424-8ADD-70A59A0C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0F1C-7F55-4ACA-9B00-1A329321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6A9D-EA26-4540-A8A4-5D366526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D3BB-7202-4900-AC27-5A625C62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08AF-CC10-4D51-80E7-E6CB3143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C79D-ACC6-419F-AE84-2C95B0A9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22D5-43ED-47E2-87D1-A0FBF755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5939-2461-4B4F-B13E-2D1B7E84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FA4D-44C0-49B7-BE9A-C2335CA6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95DC-56E7-49E6-A30C-334C4974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86B3-1C4F-4D7C-9AC3-83A2C870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2CB9-1D54-4556-A0E2-77FF2031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3620-7589-45F1-9A16-D8FBB421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EAD5-B4A7-45D1-9892-064FB5B5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11639-DD3A-4B8D-BB3E-499EC6BD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4148A-2DF7-47F9-B32D-AB7D791A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397C2-DBE8-4AA3-9F05-AE18A947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FF53C-474C-4BFC-9224-8744A510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CF5DE-A446-4DD1-9E9A-BA4CA034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83A7-D559-4FC4-A3E3-799C7617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97BAE-0B3F-4E2F-8A48-93690104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914F1-FB94-4AC1-994B-C595AF2E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439EB-2799-4546-98D0-842BC1D9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CFB4E-EAE0-4FEA-864B-9789F635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EA747-B433-43E9-9D8A-DA750C46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4EEE8-8273-470D-B6CE-E491108F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731EC-A540-43AD-848E-363052EF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3C47D-34FC-4E0D-A3E2-617C01CB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DC664-4224-45B8-931E-9031FB13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FAD60-580F-4C07-8674-3A560CAF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CF53-FF8A-40ED-9451-D26AFC6A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8FACD-15EE-44E5-8BAF-EAA2E8B0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192E1-392D-49E3-88EE-91E37BDA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A4AED-53AB-40A9-A474-00BC30FB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CBD68-497E-4385-A09D-6C500838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83E2D-2545-423D-B4E5-4D3AE0C2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1C1E5-CA0E-4B91-BAD9-BCB4116E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7F9E8-59D8-4700-8A97-B4B6C9C4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AA6D5-F4A1-4CEB-940D-78F419A2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535A0-FCD2-42BD-AFA9-91E15D1D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DAA59-0079-43AD-82F6-103CFC8B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4ADA-A2D1-4074-99B2-141D91E2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48221-DE5D-4C42-B655-F75AD3EE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3D0DD-7A63-4BF2-B182-5F556203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7D8BE-4D1B-454B-A604-4E5DB357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8EE1A-1355-47C9-A0A0-4B5ABA6A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50355-212C-4C90-B86B-AAADE3F5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23433-7AFE-462A-9E57-E445541A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441E6-B99B-419E-9FF8-2106B49D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9E26D-D1C4-45C6-B1A9-ACF2ADC5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AB3D4-D3CD-42CA-980D-5C9281E6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D07CD-B2DA-4FDA-BCC6-D05A9673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6474-BBDE-4792-BA66-77396BB3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9BD18-0136-42CC-92F4-AB85A309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8372C-37D3-4496-8220-27E1734E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9C389-B469-41EC-93B8-BC8C0E57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8DB34-029C-41BC-A109-BFA1EDFA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BC0B7-63BE-4668-BC61-8CE63179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4A535-2F17-4281-91EC-97155948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4F399-8AAB-4593-A1B2-74EAD6B1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0CD9D-29F7-4271-833E-C4A38B92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6BDA8-E248-43B4-9AB3-0363BA95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8FC6D-A97E-4A5D-AEC5-D9B2D61B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F584-7C32-4114-8739-D21554AA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F787B-4A02-453B-9881-466BDD60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33E9E-9522-45E7-8E0F-3045D40D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7D66A-367D-4449-BB36-A397057B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B11F5-043C-4A91-8C67-A54699CC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511AF-CB88-49F8-A99C-C0AA8A63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3695D-42CC-4B96-92C2-73A85B0A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380C3-78D9-4369-9522-770D9F48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C9438-CD66-4190-B642-8B5EDC67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8B784-9049-4671-8602-E9C14514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1C725-5BBB-4C35-A939-64AC5AF5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696D-A169-490C-9E87-02832216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5E88A-76C0-4595-982A-0A212AC6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A37ED-F371-46AC-81A0-0DEFC5FB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7FDDB-E5E0-4DE8-8D73-41A85D51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E1C1E-99B1-49F8-8CE1-317B0945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084FD-F56B-4C0A-941F-6C12C8A9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382B-0D3D-4309-A157-EF474BBF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B0DD-201D-4EA4-99E4-8C6A6D84F8A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333A-1CF2-4E6B-BFA1-C8197CA139E0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DFDF-3C4D-4542-A0CC-40D1C06FF84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3369-5054-4AE1-B58B-4B14ECBBA126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A0E2-12C1-4605-ADBD-98DBECFAFE9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018A-D37B-4F31-ACAB-EF3414A75BA4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0A36-0AE9-4CE2-84DF-110698AB8432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4"/>
          <p:cNvSpPr/>
          <p:nvPr/>
        </p:nvSpPr>
        <p:spPr>
          <a:xfrm flipV="1">
            <a:off x="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3400" spc="-1" strike="noStrike">
                <a:solidFill>
                  <a:srgbClr val="ffffff"/>
                </a:solidFill>
                <a:latin typeface="Century Gothic"/>
              </a:rPr>
              <a:t>Информационно-коммуникационные технологии на уроках русского языка и литературы как средство активизации познавательной деятельности учащихся</a:t>
            </a:r>
            <a:endParaRPr b="0" lang="en-US" sz="3400" spc="-1" strike="noStrike">
              <a:solidFill>
                <a:srgbClr val="99f1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646280"/>
          </a:xfrm>
          <a:prstGeom prst="rect">
            <a:avLst/>
          </a:prstGeom>
          <a:ln w="0">
            <a:noFill/>
          </a:ln>
        </p:spPr>
      </p:pic>
      <p:pic>
        <p:nvPicPr>
          <p:cNvPr id="319" name="Содержимое 3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859040"/>
          </a:xfrm>
          <a:prstGeom prst="rect">
            <a:avLst/>
          </a:prstGeom>
          <a:ln w="0">
            <a:noFill/>
          </a:ln>
        </p:spPr>
      </p:pic>
      <p:pic>
        <p:nvPicPr>
          <p:cNvPr id="321" name="Содержимое 3" descr=""/>
          <p:cNvPicPr/>
          <p:nvPr/>
        </p:nvPicPr>
        <p:blipFill>
          <a:blip r:embed="rId2"/>
          <a:stretch/>
        </p:blipFill>
        <p:spPr>
          <a:xfrm>
            <a:off x="457200" y="2071800"/>
            <a:ext cx="82296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Тезисность (для выступающего);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Наглядность (для слушающего)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500040" y="334800"/>
            <a:ext cx="8229600" cy="15861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235728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концентрация внимания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ключение всех видов памяти: зрительной, слуховой, моторной, ассоциативной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овышение интереса к изучению предмета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озрастание мотивации к учебе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f166"/>
                </a:solidFill>
                <a:latin typeface="Arial"/>
              </a:rPr>
              <a:t>Результаты диагностики: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лучшили результаты – 80%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твердили – 20%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чество обучения в работе над ошибками – 65%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чество обучения в коррекции знаний – 74%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37476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интенсифицировать деятельность учителя и школьника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овысить качество обучения предмету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отразить существенные стороны филологических объектов, зримо воплотив в жизнь принцип наглядности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ывести на передний план наиболее важные ( с точки зрения учебных целей и задач) характеристики изучаемых объектов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6462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увеличение скорости и объема подачи материала в рамках одного урока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расширение возможностей в выборе материалов и форм учебной деятельности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урок становится ярким и увлекательным, информационно и эмоционально насыщенным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119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 Gothic"/>
              </a:rPr>
              <a:t>Современный урок – событие для ребенка в цепочке познания, исследования окружающего мира.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ооружение учащихся глубокими и осознанными знаниями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обучение учащихся самостоятельной деятельности по овладению знаниями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формирование прочных мотивов учения, самосовершенствования, самообучения, самовоспитания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формирование нравственных основ личности, ориентированных на общечеловеческие ценности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f166"/>
                </a:solidFill>
                <a:latin typeface="Arial"/>
              </a:rPr>
              <a:t>Цель: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2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вышение мотивации обучения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звитие познавательной активности учащихся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имулирование самостоятельности учащихся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f166"/>
                </a:solidFill>
                <a:latin typeface="Arial"/>
              </a:rPr>
              <a:t>Задачи: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звивать у учащихся познавательную активность, умение работать                     с дополнительной литературой, используя возможности компьютера, Интернета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ырабатывать умение самостоятельно анализировать, отбирать главное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вышать эффективность урока, развивая мотивацию через использование ИКТ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0" y="212760"/>
            <a:ext cx="9144000" cy="16714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242856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разнообразить формы работы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активизировать внимание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овысить творческий потенциал личности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пособ самоорганизации труда и самообразования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озможность личностно-ориентированного подхода для учителя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пособ расширения зоны индивидуальной активности каждого ученик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f166"/>
                </a:solidFill>
                <a:latin typeface="Century Gothic"/>
              </a:rPr>
              <a:t>Мультимедиа-ресурсы: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Электронная библиотека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Аудиокниги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Электронные словари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идеофильмы (художественные, научно-популярные)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Электронные энциклопедии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Репродукции картин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Классические музыкальные произведения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17" name="Содержимое 3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09:16:52Z</dcterms:created>
  <dc:creator>Д</dc:creator>
  <dc:description/>
  <dc:language>en-US</dc:language>
  <cp:lastModifiedBy>Дом</cp:lastModifiedBy>
  <dcterms:modified xsi:type="dcterms:W3CDTF">2015-04-04T19:59:54Z</dcterms:modified>
  <cp:revision>37</cp:revision>
  <dc:subject/>
  <dc:title>Использование ИКТ на уроках русского языка и литературы</dc:title>
</cp:coreProperties>
</file>