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F7-6314-4695-BF89-8F8D22E1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647-92A4-4297-9765-A3AA1B21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F49-59F3-4C92-A60C-93DE70C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AB0-D167-4090-B2C3-6C2DF358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485-9D8B-4A2F-9E58-C07C25F2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94A-A0E7-48CC-825F-CFF20DE6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2C3-5D77-443B-9A97-93BF0BB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D9E0-BA88-47BB-BB04-576E45F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3E22-518E-4951-A96C-5299E24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E0E-5D15-498A-97EF-F627C32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1CBD-6992-40E3-A7C2-3BCF77E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B08-A9C3-469D-BD50-384111E6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553A-7508-433F-8647-A811303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FF65-4ED0-4E68-ADF2-CA8EC30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FBA1-B7FA-47B0-BD51-3911E49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4F4-B884-4632-9CDD-388CBB95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BD03-196D-40C2-B9C1-6830E6EC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7D84-B9A5-4717-923E-302A3261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C13C-3F52-40B3-852B-89D4A638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5E90-9410-4555-A6AA-0A73FADD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EA81B-18F4-4CE2-AFA5-463B0829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0C77-BFAF-4F63-8823-F9767E5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AEB-EA2E-4016-99A3-B3DFAD5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A365-40D9-4CEC-A5D6-05313AF0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64ED-C774-4A11-9DA4-83FFC84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FEF8-5E98-4A21-8EC1-5D11AC5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D413-FF80-4037-9393-8597466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0219-180B-41CE-B83C-8705201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48D0-3879-4627-89FE-36F618C6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7E47-ADD7-4862-A929-5862DAA4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C1CA-64D2-405D-AA73-84F9A5F6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3A93-DD8E-45B9-80A0-43CA955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FC60-D4BF-4FA6-9142-D88E30DD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138-7C45-463B-A8F7-CA0AB024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1847-17DA-458B-B19E-AB44E2F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BE85-064E-44E9-852F-C5E5FAD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0CD7-BD4C-4361-9D36-2A73CB3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0752-E92F-4EC0-BE11-D7C6D17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4D0E-AE6B-4BA2-8E24-B74772A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DA5A-B6E8-4203-B2E8-A696335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8A1E-7EDC-46BD-9246-10678952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A844-BEE4-4A67-B71D-FB7EA070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D7A9-61F7-4377-9CC3-38CD5179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40E9-E2E6-4200-896F-B0CF8340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7C2-56CC-4B61-9D7B-85A6E4F0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F8C6-2A95-49A3-AE84-9020F33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FECC-5C2B-40E7-A5C8-7C2262A9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986C-5480-4DEF-9E94-4DBBBE8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6A52-4FAB-4C1F-8396-7437E60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3A76-29BD-4FE1-BFD4-63711A6E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0403-8042-4A26-82D2-3B555D35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851B-C471-4884-B881-62845B3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D11E-B2EF-4E81-B04A-F7D3DE1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0A31-1222-48F6-84C3-E520F7B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73BD-AB55-4495-AC39-C3399CB0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E48-6FD5-47CD-9A63-5B398F3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D185-CA9D-4C6D-B355-60445A97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48C1-D4D9-4BEE-9F4F-6EA3A545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33EB-E8FE-45F7-9A28-FFDED637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F8426-74FF-4E15-B766-C2F9C91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1454-341C-4894-BEFD-5AD2164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E254-7223-45C8-B96D-B289154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C8BE-45FF-4F8B-A5B2-B4746E40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31A1-167A-452B-8AFA-1EDEE0F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0769-76B5-469A-8D4D-25E6CBEE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2863-D2B1-4C62-B674-D2DE6EB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24F-BC56-44EF-B9B7-09DC697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83A9-B371-40CC-93A1-0957D8EC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1455-4D0D-43FD-B522-00F7313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E8263-7F9F-4B90-9887-5AD05E25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4CB4-6623-4286-B214-376F2229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CE67A-79EF-4E8E-BC67-A83A5E59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1166-CD98-47BF-8AAC-4F64855C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5E53-EF2B-4E97-9864-460AA8FC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45B0-0951-45AF-9243-F99178C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B641-0966-4237-8A6A-8366C2AF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00C7A-78CB-454D-8084-F2E5753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4B7-30B9-4B26-B428-EB0A4B3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2B7F-269B-4048-8DA3-15E345F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D353-6E34-4FFF-A824-042B9C5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3B54-DBAB-4897-AAC2-8794A313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683F5-430A-4278-8688-49FE8E5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4299-D3DF-4B1F-8CFB-623BBF34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0EF-931D-4723-944D-C578329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819-F964-4BBD-A77C-9BE3B870094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DE5F-1C12-4B50-B68E-FA8139CE996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D28-1FE9-49FA-95C1-77CDC5348B7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054-4109-4542-84C6-F6EABD7F20F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77CC-DEA3-42DF-86B3-81DDB3E5562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4F2-9F1C-4971-A3DE-4EF403BF99F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84A-E577-41F8-874A-3FF8DF9EB70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 flipV="1">
            <a:off x="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3400" spc="-1" strike="noStrike">
                <a:solidFill>
                  <a:srgbClr val="ffffff"/>
                </a:solidFill>
                <a:latin typeface="Century Gothic"/>
              </a:rPr>
              <a:t>Информационно-коммуникационные технологии на уроках русского языка и литературы как средство активизации познавательной деятельности учащихся</a:t>
            </a:r>
            <a:endParaRPr b="0" lang="en-US" sz="3400" spc="-1" strike="noStrike">
              <a:solidFill>
                <a:srgbClr val="99f1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646280"/>
          </a:xfrm>
          <a:prstGeom prst="rect">
            <a:avLst/>
          </a:prstGeom>
          <a:ln w="0">
            <a:noFill/>
          </a:ln>
        </p:spPr>
      </p:pic>
      <p:pic>
        <p:nvPicPr>
          <p:cNvPr id="31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85904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"/>
          <p:cNvPicPr/>
          <p:nvPr/>
        </p:nvPicPr>
        <p:blipFill>
          <a:blip r:embed="rId2"/>
          <a:stretch/>
        </p:blipFill>
        <p:spPr>
          <a:xfrm>
            <a:off x="457200" y="2071800"/>
            <a:ext cx="82296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Тезисность (для выступающего)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глядность (для слушающего)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500040" y="334800"/>
            <a:ext cx="8229600" cy="1586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нцентрация вним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ключение всех видов памяти: зрительной, слуховой, моторной, ассоциативной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шение интереса к изучению предмет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растание мотивации к учеб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Результаты диагностики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лучшили результаты – 8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твердили – 2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чество обучения в работе над ошибками – 65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чество обучения в коррекции знаний – 74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нтенсифицировать деятельность учителя и школьни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сить качество обучения предмету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разить существенные стороны филологических объектов, зримо воплотив в жизнь принцип наглядност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ывести на передний план наиболее важные ( с точки зрения учебных целей и задач) характеристики изучаемых объект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646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величение скорости и объема подачи материала в рамках одного уро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сширение возможностей в выборе материалов и форм учебной деятельност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рок становится ярким и увлекательным, информационно и эмоционально насыщенны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1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Современный урок – событие для ребенка в цепочке познания, исследования окружающего мира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оружение учащихся глубокими и осознанными знаниям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бучение учащихся самостоятельной деятельности по овладению знаниям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ормирование прочных мотивов учения, самосовершенствования, самообучения, самовоспит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ормирование нравственных основ личности, ориентированных на общечеловеческие цен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Цель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ение мотивации обуче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тие познавательной активности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имулирование самостоятельности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f166"/>
                </a:solidFill>
                <a:latin typeface="Arial"/>
              </a:rPr>
              <a:t>Задачи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вать у учащихся познавательную активность, умение работать                     с дополнительной литературой, используя возможности компьютера, Интернет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рабатывать умение самостоятельно анализировать, отбирать главное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ать эффективность урока, развивая мотивацию через использование ИК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1671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242856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знообразить формы работы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изировать внимание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ысить творческий потенциал лич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соб самоорганизации труда и самообразовани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можность личностно-ориентированного подхода для учителя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соб расширения зоны индивидуальной активности каждого учени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f166"/>
                </a:solidFill>
                <a:latin typeface="Century Gothic"/>
              </a:rPr>
              <a:t>Мультимедиа-ресурсы: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ая библиотека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удиокниг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ые словар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идеофильмы (художественные, научно-популярные)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Электронные энциклопедии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епродукции картин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лассические музыкальные произведе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9:16:52Z</dcterms:created>
  <dc:creator>Д</dc:creator>
  <dc:description/>
  <dc:language>en-US</dc:language>
  <cp:lastModifiedBy>Дом</cp:lastModifiedBy>
  <dcterms:modified xsi:type="dcterms:W3CDTF">2015-04-04T19:59:54Z</dcterms:modified>
  <cp:revision>37</cp:revision>
  <dc:subject/>
  <dc:title>Использование ИКТ на уроках русского языка и литературы</dc:title>
</cp:coreProperties>
</file>