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754A-17DA-42A1-BC47-E3AA21EC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883A-B9B3-4B7F-A3B7-BDEA1A0F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2C49-CAA4-4B78-A798-683711AA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560E-D643-4B8C-BFA1-94D7011E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29D5-88E1-4B29-B85E-9973E79D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12A6-FAAC-4E57-978C-CD499689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0CE7-4CED-4C71-865A-26D10046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CB64-26CD-4B65-964B-919A7081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4E5A-BBBD-4893-A2C5-EBFB51E1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B4A4-A088-449E-AB11-3E56FD94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C49F-BBF3-4D25-B7D1-1762F928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BE6E-0E80-443D-9CE4-553CDEFE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9877-CD19-43A2-9ECB-C7CF16D1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2F4B-749A-4D79-9A75-C05E16EC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46D6-0D72-4A6F-9E65-FB46D879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91E6-B4BB-4AF6-B78E-FC090CD6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E4AE-54C4-49B7-99CD-12C6C232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AAF-55C7-4FEB-9038-4C23A9D7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0EAA-7503-4FC4-85CB-37AD2751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CFEF-D2AB-4EB1-8304-01D71607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3602-4A95-441C-A527-013D49AB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307D-4982-44D4-97D7-A9EB63CA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725-6A41-4494-BC94-5A35DF1B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3176-0E61-4DC4-9636-AB7C4078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EC28-B902-44FF-89F1-312D2565F6C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ED78-F350-4120-B7F6-DB9295D3BC7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Рисунок 4" descr="http://worldcup2018.name/fifaworldcup2018/img/krasnod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DSC00517"/>
          <p:cNvPicPr/>
          <p:nvPr/>
        </p:nvPicPr>
        <p:blipFill>
          <a:blip r:embed="rId2"/>
          <a:stretch/>
        </p:blipFill>
        <p:spPr>
          <a:xfrm>
            <a:off x="-396720" y="8325000"/>
            <a:ext cx="9144000" cy="7272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77280" cy="4969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00"/>
                </a:solidFill>
                <a:latin typeface="Tahoma"/>
              </a:rPr>
              <a:t>Бытовой мусор  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Рисунок 3" descr="http://fonday.ru/images/tmp/9/0/original/9043Lg7y3W0jGxT9wKn72t7HqigL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 rot="10800000">
            <a:off x="301680" y="182160"/>
            <a:ext cx="854064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01680" y="259920"/>
            <a:ext cx="85406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Для определения среднего количества бытовых отходов приходящихся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на одного человека за месяц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и год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, м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0.4 кг ( количество бытовых отходов, приходящихся на одного человека за 1 день) умножили на 30 и 365 дн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В результате, мы получил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месяц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0,4 кг Х 30дней =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12 к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год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0.4кг Х 365дней =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146 к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Рисунок 3" descr="http://fonday.ru/images/tmp/9/0/original/9043Lg7y3W0jGxT9wKn72t7HqigL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 rot="10800000">
            <a:off x="301680" y="-720"/>
            <a:ext cx="854064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50560" y="0"/>
            <a:ext cx="8613720" cy="71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Для определения среднего количества бытовых отходов в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г. Краснодаре за день, месяц и год,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мы с помощью интернета выяснили число жителей в г. Краснодаре , а затем умножили на предыдущие полученные дан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о данным Российской статистики на 1 января 2013 года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 Краснодаре проживает 784048 человек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 результате, мы получил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День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0.4 кг Х 784048 чел =313619кг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или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314тон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Месяц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12кг Х 784048чел=9408576кг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или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9409 тон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Год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146кг Х 784048чел=114471008кг или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114471 тонна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Рисунок 6" descr="Город Киров: Сортировка мусора – 10 «бумажек» на целый бак!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6" name="Picture 5" descr="DSC00520"/>
          <p:cNvPicPr/>
          <p:nvPr/>
        </p:nvPicPr>
        <p:blipFill>
          <a:blip r:embed="rId2"/>
          <a:stretch/>
        </p:blipFill>
        <p:spPr>
          <a:xfrm>
            <a:off x="0" y="7245360"/>
            <a:ext cx="9144000" cy="7128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Анализ исследов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50920" y="167328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33"/>
                </a:solidFill>
                <a:latin typeface="Tahoma"/>
              </a:rPr>
              <a:t>      </a:t>
            </a:r>
            <a:r>
              <a:rPr b="1" i="1" lang="ru-RU" sz="2800" spc="-1" strike="noStrike">
                <a:solidFill>
                  <a:srgbClr val="ffff59"/>
                </a:solidFill>
                <a:latin typeface="Tahoma"/>
              </a:rPr>
              <a:t>В результате исследования  я  выяснила, что на одного человека приходится бытовых отход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59"/>
                </a:solidFill>
                <a:latin typeface="Tahoma"/>
              </a:rPr>
              <a:t>в день  0,4 к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59"/>
                </a:solidFill>
                <a:latin typeface="Tahoma"/>
              </a:rPr>
              <a:t>за месяц 12к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59"/>
                </a:solidFill>
                <a:latin typeface="Tahoma"/>
              </a:rPr>
              <a:t>за год  146к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59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59"/>
                </a:solidFill>
                <a:latin typeface="Tahoma"/>
              </a:rPr>
              <a:t>По городу Краснодар  мы выяснили, что всеми жителями города выбрасывается  бытовых отходов примерно 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5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59"/>
                </a:solidFill>
                <a:latin typeface="Tahoma"/>
              </a:rPr>
              <a:t>в день 314 тон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59"/>
                </a:solidFill>
                <a:latin typeface="Tahoma"/>
              </a:rPr>
              <a:t>за месяц 9409 тон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59"/>
                </a:solidFill>
                <a:latin typeface="Tahoma"/>
              </a:rPr>
              <a:t>за год 114471 тон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5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3787560" y="3357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3635280" y="4291920"/>
            <a:ext cx="34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6" descr="DSC00554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4" descr="http://bataysk-gorod.ru/Image/users/1385751805.jpg"/>
          <p:cNvPicPr/>
          <p:nvPr/>
        </p:nvPicPr>
        <p:blipFill>
          <a:blip r:embed="rId2"/>
          <a:stretch/>
        </p:blipFill>
        <p:spPr>
          <a:xfrm>
            <a:off x="0" y="0"/>
            <a:ext cx="9252000" cy="68403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ahoma"/>
              </a:rPr>
              <a:t>Выводы 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287280" y="836640"/>
            <a:ext cx="8856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На основании  выше изложенных результатов,    я хочу сказать, что проблема бытового мусора   приобретает  глобальный  характер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Если только по нашему городу за год собирается 114471 тонна бытового мусора, то какое количество мусора накапливается в масштабе  нашей страны и мира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Несомненно необходимо решать проблему переработки и вторичного использования бытового мусора!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4" descr="DSC005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6" descr="свалки свалки мусора росприроднадзор охрана окружающей среды"/>
          <p:cNvPicPr/>
          <p:nvPr/>
        </p:nvPicPr>
        <p:blipFill>
          <a:blip r:embed="rId2"/>
          <a:stretch/>
        </p:blipFill>
        <p:spPr>
          <a:xfrm>
            <a:off x="0" y="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Пред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631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В результате своего исследования, предлагаю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- уменьшая объем мусора, мы можем существенно снизить количество выбрасываемого мус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-  сортировать  бытовой мусор по категориям и сдавать его в пункты переработки и утилизации сыр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-  не весь бытовой мусор достоин мусорного ведра, путем переработки  ему можно дать вторую жиз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Рисунок 4" descr="http://uld9.mycdn.me/getImage?photoId=517826311303&amp;photoType=3"/>
          <p:cNvPicPr/>
          <p:nvPr/>
        </p:nvPicPr>
        <p:blipFill>
          <a:blip r:embed="rId1"/>
          <a:stretch/>
        </p:blipFill>
        <p:spPr>
          <a:xfrm>
            <a:off x="0" y="-819000"/>
            <a:ext cx="9360000" cy="806436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3" descr="c:\documents and settings\пользователь\рабочий стол\смешарики\мусор.jpg"/>
          <p:cNvPicPr/>
          <p:nvPr/>
        </p:nvPicPr>
        <p:blipFill>
          <a:blip r:embed="rId2"/>
          <a:stretch/>
        </p:blipFill>
        <p:spPr>
          <a:xfrm>
            <a:off x="0" y="7029360"/>
            <a:ext cx="9144000" cy="586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DSC00553"/>
          <p:cNvPicPr/>
          <p:nvPr/>
        </p:nvPicPr>
        <p:blipFill>
          <a:blip r:embed="rId3"/>
          <a:stretch/>
        </p:blipFill>
        <p:spPr>
          <a:xfrm>
            <a:off x="0" y="810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178920" y="259920"/>
            <a:ext cx="8775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1" i="1" lang="ru-RU" sz="5400" spc="-1" strike="noStrike">
                <a:solidFill>
                  <a:srgbClr val="ffff00"/>
                </a:solidFill>
                <a:latin typeface="Tahoma"/>
              </a:rPr>
              <a:t>С П А С И Б О   З А 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1" i="1" lang="ru-RU" sz="5400" spc="-1" strike="noStrike">
                <a:solidFill>
                  <a:srgbClr val="ffff00"/>
                </a:solidFill>
                <a:latin typeface="Tahoma"/>
              </a:rPr>
              <a:t>В Н И М А Н И 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Рисунок 4" descr="http://fonday.ru/images/tmp/9/0/original/9043Lg7y3W0jGxT9wKn72t7HqigL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 rot="10800000">
            <a:off x="301680" y="182160"/>
            <a:ext cx="854064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1680" y="0"/>
            <a:ext cx="8540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веде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В каждом доме собирается огромное количество ненужных материалов и изделий, начиная со старых газет и журналов, пустых консервных банок, бутылок, пищевых отходов, оберточной бумаги и кончая изношенной одеждой, разбитой посудой и вышедшей из строя бытовой техник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Мы на гране кризиса: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оличество мусора  постоянно растет, а места на свалках становится все меньш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Рисунок 5" descr="http://www.mmusor.ru/store/9/ab/p_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4" descr="http://fonday.ru/images/tmp/9/0/original/9043Lg7y3W0jGxT9wKn72t7HqigLH.jpg"/>
          <p:cNvPicPr/>
          <p:nvPr/>
        </p:nvPicPr>
        <p:blipFill>
          <a:blip r:embed="rId2"/>
          <a:stretch/>
        </p:blipFill>
        <p:spPr>
          <a:xfrm>
            <a:off x="0" y="7029360"/>
            <a:ext cx="9144000" cy="716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-316080"/>
            <a:ext cx="8540640" cy="16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24000" y="404640"/>
            <a:ext cx="854064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Наиболее рациональный путь уничтожения мусора это строительство заводов по переработке мусора полного цикла. Но в нашей стране действует всег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243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мусороперерабатывающих зав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10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мусоросжигательных заво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50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мусоросортировочных комплек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Нет  ни одного завода по переработке мусора полного цикл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Рисунок 4" descr="c:\documents and settings\пользователь\рабочий стол\смешарики\мусо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5" descr="http://fonday.ru/images/tmp/9/0/original/9043Lg7y3W0jGxT9wKn72t7HqigLH.jpg"/>
          <p:cNvPicPr/>
          <p:nvPr/>
        </p:nvPicPr>
        <p:blipFill>
          <a:blip r:embed="rId2"/>
          <a:stretch/>
        </p:blipFill>
        <p:spPr>
          <a:xfrm>
            <a:off x="-252360" y="7128000"/>
            <a:ext cx="9864720" cy="460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Актуальность исследов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01680" y="1599840"/>
            <a:ext cx="854064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Данное исследование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актуально,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так как проблемы загрязнения окружающей среды бытовым мусором глобаль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Специалисты подсчитали, что если мусор не уничтожать, то через каких-нибудь 10-15 лет он покроет нашу планету слоем в 5 мет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Объектом исследования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является            бытовой мусор в доме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Рисунок 9" descr="Игрушки из пластиковых бутыло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4" descr="http://fonday.ru/images/tmp/9/0/original/9043Lg7y3W0jGxT9wKn72t7HqigLH.jpg"/>
          <p:cNvPicPr/>
          <p:nvPr/>
        </p:nvPicPr>
        <p:blipFill>
          <a:blip r:embed="rId2"/>
          <a:stretch/>
        </p:blipFill>
        <p:spPr>
          <a:xfrm>
            <a:off x="0" y="7029360"/>
            <a:ext cx="9144000" cy="14472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4" descr="картинки мусор"/>
          <p:cNvPicPr/>
          <p:nvPr/>
        </p:nvPicPr>
        <p:blipFill>
          <a:blip r:embed="rId3"/>
          <a:stretch/>
        </p:blipFill>
        <p:spPr>
          <a:xfrm>
            <a:off x="0" y="7461360"/>
            <a:ext cx="9613800" cy="7128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Практическая  значимост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1680" y="1599840"/>
            <a:ext cx="8842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работы заключается в том, что полученные результаты будут доведены до сведения взрослых и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Полученный результат научит бережно относится  к материальным  ценностя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(не весь мусор достоин мусорного ведра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и решать проблемы утилизации  и рационального  применения бытовых отходов у себя до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5" descr="Вывоз мусора контейнером в Подмосковье и Московской Области"/>
          <p:cNvPicPr/>
          <p:nvPr/>
        </p:nvPicPr>
        <p:blipFill>
          <a:blip r:embed="rId1"/>
          <a:stretch/>
        </p:blipFill>
        <p:spPr>
          <a:xfrm>
            <a:off x="-252360" y="-171360"/>
            <a:ext cx="9577440" cy="702936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4" descr="картинки мусор"/>
          <p:cNvPicPr/>
          <p:nvPr/>
        </p:nvPicPr>
        <p:blipFill>
          <a:blip r:embed="rId2"/>
          <a:stretch/>
        </p:blipFill>
        <p:spPr>
          <a:xfrm>
            <a:off x="-369720" y="8423280"/>
            <a:ext cx="9540720" cy="46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DSC00525"/>
          <p:cNvPicPr/>
          <p:nvPr/>
        </p:nvPicPr>
        <p:blipFill>
          <a:blip r:embed="rId3"/>
          <a:stretch/>
        </p:blipFill>
        <p:spPr>
          <a:xfrm>
            <a:off x="-181080" y="7389720"/>
            <a:ext cx="9506160" cy="8892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Tahoma"/>
              </a:rPr>
              <a:t>Цель и задачи: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250920" y="1412640"/>
            <a:ext cx="8704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ffff00"/>
                </a:solidFill>
                <a:latin typeface="Tahoma"/>
              </a:rPr>
              <a:t>Цель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– определить среднее количество бытовых отходов  и подсчитать сколько  их собирается в нашем гор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ffff00"/>
                </a:solidFill>
                <a:latin typeface="Tahoma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1.  Взвесить бытовые отходы у себя дома и  у родственн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2.  Найти среднее значение бытовых отходов приходящихся на одного человека за день, месяц,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3. Определить на основании полученных данных примерное количество бытовых отходов в г.Краснодаре за день, месяц,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3" descr="http://eko-jizn.ru/wp-content/uploads/2011/04/bytovye_othody_i_musor.jpe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i="1" lang="ru-RU" sz="4800" spc="-1" strike="noStrike">
                <a:solidFill>
                  <a:srgbClr val="ffff00"/>
                </a:solidFill>
                <a:latin typeface="Tahoma"/>
              </a:rPr>
              <a:t>Методика исследования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68000" y="1052280"/>
            <a:ext cx="828036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Исследования проводились по следующей схем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е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-  взвешивание  бытовых отход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- определение среднего количества  бытовых отходов приходящихся на одного человека за один де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-  определение среднего количества бытовых отходов приходящихся на одного человека за месяц и 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- определение  количества бытовых отходов в   городе Краснодар за день, месяц, 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4" descr="http://fonday.ru/images/tmp/9/0/original/9043Lg7y3W0jGxT9wKn72t7HqigL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-171360"/>
            <a:ext cx="8540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Результат исследов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24000" y="764640"/>
            <a:ext cx="8540640" cy="52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Взвешивание бытового мусора производилось ежедневно в 3 семьях в 20 часов бытовыми весами в течение недели. Результаты взвешивания записывались в специальную таблиц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395280" y="2205000"/>
          <a:ext cx="7991640" cy="4210200"/>
        </p:xfrm>
        <a:graphic>
          <a:graphicData uri="http://schemas.openxmlformats.org/drawingml/2006/table">
            <a:tbl>
              <a:tblPr/>
              <a:tblGrid>
                <a:gridCol w="642960"/>
                <a:gridCol w="1795320"/>
                <a:gridCol w="1665360"/>
                <a:gridCol w="1924200"/>
                <a:gridCol w="19638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\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нь нед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я семья (2 человек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абушка (2 человек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тя Оля (2 человек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Понедель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4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8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1.9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Втор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3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1.2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9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7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1.0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2.6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Четвер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2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6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1.7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5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Пятниц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4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4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1.0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6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Суббо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1.0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1.6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2.9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7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Воскресень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8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5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1.4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Всего за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3.8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6.1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12.4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Рисунок 4" descr="http://fonday.ru/images/tmp/9/0/original/9043Lg7y3W0jGxT9wKn72t7HqigL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01680" y="333360"/>
            <a:ext cx="85406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Для определения среднего количества бытовых отходов приходящихся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на одного человека за один день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, я результаты взвешивания сложила за 7 дней в 3 семьях и разделила на число дней в неде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468360" y="1989000"/>
          <a:ext cx="8183520" cy="4734000"/>
        </p:xfrm>
        <a:graphic>
          <a:graphicData uri="http://schemas.openxmlformats.org/drawingml/2006/table">
            <a:tbl>
              <a:tblPr/>
              <a:tblGrid>
                <a:gridCol w="647640"/>
                <a:gridCol w="2305080"/>
                <a:gridCol w="1655640"/>
                <a:gridCol w="3575160"/>
              </a:tblGrid>
              <a:tr h="641520"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\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 семь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мма за недел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еднее количество за д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Вес в 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Вес в килограмма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</a:tr>
              <a:tr h="507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Моя сем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3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54 (2 человека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Семья бабуш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6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87 (2 человек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3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Семья тети О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12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1.77 (4 человек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</a:tr>
              <a:tr h="734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Итого в 3 семь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22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3.18 (8 человек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3f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Ср. величина на 1 человека за 1 д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d6b"/>
                          </a:solidFill>
                          <a:latin typeface="Tahoma"/>
                        </a:rPr>
                        <a:t>0.397 или 0.4 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aff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3:35:10Z</dcterms:created>
  <dc:creator>Юннат</dc:creator>
  <dc:description/>
  <dc:language>en-US</dc:language>
  <cp:lastModifiedBy>RePack by Diakov</cp:lastModifiedBy>
  <dcterms:modified xsi:type="dcterms:W3CDTF">2015-04-19T14:35:22Z</dcterms:modified>
  <cp:revision>202</cp:revision>
  <dc:subject/>
  <dc:title>Размножение сенполий листовыми черенками.</dc:title>
</cp:coreProperties>
</file>