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1A8-92F9-40F7-96B9-BB12A45F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1B8-9EBD-4BB2-9525-99E31537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70B-B2E5-42B8-A03A-967C6653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B85-0C0A-4588-99AA-7F2F1596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636C-28FB-436D-989D-88F80F8D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0CF9-1498-488D-AE31-B83F8A42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E372-4D08-4778-A6EB-03B4DACA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318C-84A6-48D1-8798-A9655B33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56EB-AB6E-4D14-9D8E-8EC90E3B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A9DF-D02B-4661-9D88-F07EBA52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E710-5442-4F97-AD61-B28DA4F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46E-9487-4888-B679-1CC3777B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29F9-7316-42B0-BDC3-743F4EC0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1805-47EF-4991-8A45-434C2D9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3F4D-6626-432A-9759-DA2DEA2C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9A74-B5EA-440E-952F-F539F917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5790-6A89-4000-8E12-B400C9E1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511-988B-4A73-A3BD-63661DD7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7A7-86F0-4241-81DA-1121BE6E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BD7-1517-4A2E-A77C-2C72CEEB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B5D-0F14-4110-9D82-D0F41536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E75-FDA5-4202-94E6-42F8245B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1EA-5BC5-4D91-849B-06F8C69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CD7-2A0B-4ED2-A283-1C8E2DA2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B42A-E5DB-409F-9D6A-E48C346E6B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E367-82B9-4E33-A712-7CE9AE6341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4" descr="http://worldcup2018.name/fifaworldcup2018/img/krasnod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DSC00517"/>
          <p:cNvPicPr/>
          <p:nvPr/>
        </p:nvPicPr>
        <p:blipFill>
          <a:blip r:embed="rId2"/>
          <a:stretch/>
        </p:blipFill>
        <p:spPr>
          <a:xfrm>
            <a:off x="-396720" y="8325000"/>
            <a:ext cx="9144000" cy="727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77280" cy="496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Tahoma"/>
              </a:rPr>
              <a:t>Бытовой мусор  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 rot="10800000">
            <a:off x="301680" y="182160"/>
            <a:ext cx="85406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1680" y="259920"/>
            <a:ext cx="8540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ля определения среднего количества бытовых отходов приходящихся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а одного человека за месяц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 год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м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0.4 кг ( количество бытовых отходов, приходящихся на одного человека за 1 день) умножили на 30 и 365 дн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результате, мы получ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есяц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0,4 кг Х 30дней =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2 к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од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0.4кг Х 365дней =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46 к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Рисунок 3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 rot="10800000">
            <a:off x="301680" y="-720"/>
            <a:ext cx="854064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50560" y="0"/>
            <a:ext cx="861372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Для определения среднего количества бытовых отходов в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г. Краснодаре за день, месяц и год,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мы с помощью интернета выяснили число жителей в г. Краснодаре , а затем умножили на предыдущие полученные дан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 данным Российской статистики на 1 января 2013 года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Краснодаре проживает 784048 человек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результате, мы получил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ень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0.4 кг Х 784048 чел =313619кг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ли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314тон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есяц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2кг Х 784048чел=9408576кг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ли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9409 тон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Год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46кг Х 784048чел=114471008кг или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14471 тонна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6" descr="Город Киров: Сортировка мусора – 10 «бумажек» на целый бак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6" name="Picture 5" descr="DSC00520"/>
          <p:cNvPicPr/>
          <p:nvPr/>
        </p:nvPicPr>
        <p:blipFill>
          <a:blip r:embed="rId2"/>
          <a:stretch/>
        </p:blipFill>
        <p:spPr>
          <a:xfrm>
            <a:off x="0" y="7245360"/>
            <a:ext cx="9144000" cy="71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Анализ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50920" y="167328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В результате исследования  я  выяснила, что на одного человека приходится бытовых отх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в день  0,4 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за месяц 12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за год  146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59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По городу Краснодар  мы выяснили, что всеми жителями города выбрасывается  бытовых отходов примерно 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5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в день 314 тон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за месяц 9409 тон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за год 114471 тон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5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787560" y="3357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635280" y="4291920"/>
            <a:ext cx="34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6" descr="DSC00554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" descr="http://bataysk-gorod.ru/Image/users/1385751805.jpg"/>
          <p:cNvPicPr/>
          <p:nvPr/>
        </p:nvPicPr>
        <p:blipFill>
          <a:blip r:embed="rId2"/>
          <a:stretch/>
        </p:blipFill>
        <p:spPr>
          <a:xfrm>
            <a:off x="0" y="0"/>
            <a:ext cx="9252000" cy="6840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Выводы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87280" y="836640"/>
            <a:ext cx="8856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 основании  выше изложенных результатов,    я хочу сказать, что проблема бытового мусора   приобретает  глобальный  характер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Если только по нашему городу за год собирается 114471 тонна бытового мусора, то какое количество мусора накапливается в масштабе  нашей страны и мир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есомненно необходимо решать проблему переработки и вторичного использования бытового мусора!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DSC005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6" descr="свалки свалки мусора росприроднадзор охрана окружающей среды"/>
          <p:cNvPicPr/>
          <p:nvPr/>
        </p:nvPicPr>
        <p:blipFill>
          <a:blip r:embed="rId2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31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В результате своего исследования, предлагаю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- уменьшая объем мусора, мы можем существенно снизить количество выбрасываемого мус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-  сортировать  бытовой мусор по категориям и сдавать его в пункты переработки и утилизации сыр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-  не весь бытовой мусор достоин мусорного ведра, путем переработки  ему можно дать вторую жиз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Рисунок 4" descr="http://uld9.mycdn.me/getImage?photoId=517826311303&amp;photoType=3"/>
          <p:cNvPicPr/>
          <p:nvPr/>
        </p:nvPicPr>
        <p:blipFill>
          <a:blip r:embed="rId1"/>
          <a:stretch/>
        </p:blipFill>
        <p:spPr>
          <a:xfrm>
            <a:off x="0" y="-819000"/>
            <a:ext cx="9360000" cy="806436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3" descr="c:\documents and settings\пользователь\рабочий стол\смешарики\мусор.jpg"/>
          <p:cNvPicPr/>
          <p:nvPr/>
        </p:nvPicPr>
        <p:blipFill>
          <a:blip r:embed="rId2"/>
          <a:stretch/>
        </p:blipFill>
        <p:spPr>
          <a:xfrm>
            <a:off x="0" y="7029360"/>
            <a:ext cx="9144000" cy="58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DSC00553"/>
          <p:cNvPicPr/>
          <p:nvPr/>
        </p:nvPicPr>
        <p:blipFill>
          <a:blip r:embed="rId3"/>
          <a:stretch/>
        </p:blipFill>
        <p:spPr>
          <a:xfrm>
            <a:off x="0" y="810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178920" y="259920"/>
            <a:ext cx="8775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С П А С И Б О   З А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В Н И М А Н И 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4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 rot="10800000">
            <a:off x="301680" y="182160"/>
            <a:ext cx="85406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0"/>
            <a:ext cx="8540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каждом доме собирается огромное количество ненужных материалов и изделий, начиная со старых газет и журналов, пустых консервных банок, бутылок, пищевых отходов, оберточной бумаги и кончая изношенной одеждой, разбитой посудой и вышедшей из строя бытовой техни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ы на гране кризиса: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оличество мусора  постоянно растет, а места на свалках становится все меньш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5" descr="http://www.mmusor.ru/store/9/ab/p_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http://fonday.ru/images/tmp/9/0/original/9043Lg7y3W0jGxT9wKn72t7HqigLH.jpg"/>
          <p:cNvPicPr/>
          <p:nvPr/>
        </p:nvPicPr>
        <p:blipFill>
          <a:blip r:embed="rId2"/>
          <a:stretch/>
        </p:blipFill>
        <p:spPr>
          <a:xfrm>
            <a:off x="0" y="7029360"/>
            <a:ext cx="9144000" cy="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-316080"/>
            <a:ext cx="854064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400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Наиболее рациональный путь уничтожения мусора это строительство заводов по переработке мусора полного цикла. Но в нашей стране действует всег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243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усороперерабатывающих зав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мусоросжигательных зав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50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мусоросортировочных комплек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ет  ни одного завода по переработке мусора полного цикл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4" descr="c:\documents and settings\пользователь\рабочий стол\смешарики\мус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5" descr="http://fonday.ru/images/tmp/9/0/original/9043Lg7y3W0jGxT9wKn72t7HqigLH.jpg"/>
          <p:cNvPicPr/>
          <p:nvPr/>
        </p:nvPicPr>
        <p:blipFill>
          <a:blip r:embed="rId2"/>
          <a:stretch/>
        </p:blipFill>
        <p:spPr>
          <a:xfrm>
            <a:off x="-252360" y="7128000"/>
            <a:ext cx="9864720" cy="460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Актуальность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1680" y="1599840"/>
            <a:ext cx="854064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анное исследование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ктуально,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ак как проблемы загрязнения окружающей среды бытовым мусором глоба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пециалисты подсчитали, что если мусор не уничтожать, то через каких-нибудь 10-15 лет он покроет нашу планету слоем в 5 мет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ъектом исследования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является            бытовой мусор в дом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9" descr="Игрушки из пластиковых бутыл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4" descr="http://fonday.ru/images/tmp/9/0/original/9043Lg7y3W0jGxT9wKn72t7HqigLH.jpg"/>
          <p:cNvPicPr/>
          <p:nvPr/>
        </p:nvPicPr>
        <p:blipFill>
          <a:blip r:embed="rId2"/>
          <a:stretch/>
        </p:blipFill>
        <p:spPr>
          <a:xfrm>
            <a:off x="0" y="7029360"/>
            <a:ext cx="9144000" cy="1447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картинки мусор"/>
          <p:cNvPicPr/>
          <p:nvPr/>
        </p:nvPicPr>
        <p:blipFill>
          <a:blip r:embed="rId3"/>
          <a:stretch/>
        </p:blipFill>
        <p:spPr>
          <a:xfrm>
            <a:off x="0" y="7461360"/>
            <a:ext cx="9613800" cy="712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актическая  значим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1680" y="15998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работы заключается в том, что полученные результаты будут доведены до сведения взрослых и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Полученный результат научит бережно относится  к материальным  ценностя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(не весь мусор достоин мусорного ведр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и решать проблемы утилизации  и рационального  применения бытовых отходов у себя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5" descr="Вывоз мусора контейнером в Подмосковье и Московской Области"/>
          <p:cNvPicPr/>
          <p:nvPr/>
        </p:nvPicPr>
        <p:blipFill>
          <a:blip r:embed="rId1"/>
          <a:stretch/>
        </p:blipFill>
        <p:spPr>
          <a:xfrm>
            <a:off x="-252360" y="-171360"/>
            <a:ext cx="9577440" cy="70293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картинки мусор"/>
          <p:cNvPicPr/>
          <p:nvPr/>
        </p:nvPicPr>
        <p:blipFill>
          <a:blip r:embed="rId2"/>
          <a:stretch/>
        </p:blipFill>
        <p:spPr>
          <a:xfrm>
            <a:off x="-369720" y="8423280"/>
            <a:ext cx="9540720" cy="46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DSC00525"/>
          <p:cNvPicPr/>
          <p:nvPr/>
        </p:nvPicPr>
        <p:blipFill>
          <a:blip r:embed="rId3"/>
          <a:stretch/>
        </p:blipFill>
        <p:spPr>
          <a:xfrm>
            <a:off x="-181080" y="7389720"/>
            <a:ext cx="9506160" cy="889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Цель и задачи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50920" y="1412640"/>
            <a:ext cx="8704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Цель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– определить среднее количество бытовых отходов  и подсчитать сколько  их собирается в нашем го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1.  Взвесить бытовые отходы у себя дома и  у родствен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2.  Найти среднее значение бытовых отходов приходящихся на одного человека за день, месяц,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3. Определить на основании полученных данных примерное количество бытовых отходов в г.Краснодаре за день, месяц,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3" descr="http://eko-jizn.ru/wp-content/uploads/2011/04/bytovye_othody_i_musor.jpe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Tahoma"/>
              </a:rPr>
              <a:t>Методика исследован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8000" y="1052280"/>
            <a:ext cx="828036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Исследования проводились по следующей схем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е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 взвешивание  бытовых отход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определение среднего количества  бытовых отходов приходящихся на одного человека за один д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 определение среднего количества бытовых отходов приходящихся на одного человека за месяц и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определение  количества бытовых отходов в   городе Краснодар за день, месяц,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4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-171360"/>
            <a:ext cx="8540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Результат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24000" y="764640"/>
            <a:ext cx="854064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звешивание бытового мусора производилось ежедневно в 3 семьях в 20 часов бытовыми весами в течение недели. Результаты взвешивания записывались в специальную табли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395280" y="2205000"/>
          <a:ext cx="7991640" cy="4210200"/>
        </p:xfrm>
        <a:graphic>
          <a:graphicData uri="http://schemas.openxmlformats.org/drawingml/2006/table">
            <a:tbl>
              <a:tblPr/>
              <a:tblGrid>
                <a:gridCol w="642960"/>
                <a:gridCol w="1795320"/>
                <a:gridCol w="1665360"/>
                <a:gridCol w="1924200"/>
                <a:gridCol w="1963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я семья (2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бушка (2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тя Оля (2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8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9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3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2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9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7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0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.6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2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6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7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0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0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6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.9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7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оскресень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8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5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сего за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.8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6.1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2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4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1680" y="33336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Для определения среднего количества бытовых отходов приходящихся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а одного человека за один день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, я результаты взвешивания сложила за 7 дней в 3 семьях и разделила на число дней в неде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1989000"/>
          <a:ext cx="8183520" cy="4734000"/>
        </p:xfrm>
        <a:graphic>
          <a:graphicData uri="http://schemas.openxmlformats.org/drawingml/2006/table">
            <a:tbl>
              <a:tblPr/>
              <a:tblGrid>
                <a:gridCol w="647640"/>
                <a:gridCol w="2305080"/>
                <a:gridCol w="1655640"/>
                <a:gridCol w="3575160"/>
              </a:tblGrid>
              <a:tr h="64152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мма за недел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е количество за д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ес в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ес в килограмм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50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Моя сем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54 (2 человека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емья бабуш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87 (2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емья тети 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77 (4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734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Итого в 3 семь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2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.18 (8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р. величина на 1 человека за 1 д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397 или 0.4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3:35:10Z</dcterms:created>
  <dc:creator>Юннат</dc:creator>
  <dc:description/>
  <dc:language>en-US</dc:language>
  <cp:lastModifiedBy>RePack by Diakov</cp:lastModifiedBy>
  <dcterms:modified xsi:type="dcterms:W3CDTF">2015-04-19T14:35:22Z</dcterms:modified>
  <cp:revision>202</cp:revision>
  <dc:subject/>
  <dc:title>Размножение сенполий листовыми черенками.</dc:title>
</cp:coreProperties>
</file>