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4B0-08A6-40B8-8DAC-76633B7C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43FB-7936-4020-ABBE-8A315BCD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4E3-6E4C-4E2B-84F6-29D02D58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646-873F-43A5-A92C-43155358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CF78-A746-4BDC-9B80-2288958A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753B-10F7-49E6-8426-E413103F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7314-951A-4BB6-B856-C941F4B9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B499-ABB3-4654-9180-ABC4F3AD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D867-DC6E-46FC-920A-ECCD32F7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D1E9-04B6-4BD7-9113-6F62B2BA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9959-1C19-4FEE-819C-772974AF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F99-DCAA-4258-87D7-818CF7FD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5972-7AB9-4B51-8FAE-94C09559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9799-934F-42FA-8507-552AC85A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DC09-D357-4A78-B308-EDE45DAC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D561-9607-4A6D-A501-A33CB661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ABD6-1E2F-4BCA-A2CF-60160D19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BB0C8-4203-48EA-AF4C-4F01E541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53656-7780-4857-92D4-A4518A43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659A2-9E30-4D39-B420-CBED2D6C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B4CF3-ADC6-4868-A371-54784DDA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EC602-7812-4D36-9E6C-8CA89CEC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4C2-D3AB-4F0F-9CE5-A76912FE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CE92B-8250-486C-AB5B-EF5DA7DF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25CF9-95C4-4066-9D2D-0CF3E1F2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F348B-497E-4FF5-8C72-88AE6281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0549F-C984-4E80-ADCA-AF45C7F2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FDEE9-8707-4834-A9EB-F2B6D47D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6F59C-CD6B-49D5-AE6D-5E74DA71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1BD51-234B-4C1D-B30A-C862E3C7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7B549-3F5E-44F8-AD6B-321B7B1C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C2C97-56D4-4C35-93A0-EE302486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00774-FAAF-46C6-A791-F1CD4344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66D9-BE7C-45C4-9610-1EA5C9DE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339BD-D697-4F83-AD65-A688E3D8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80327-8DB8-4FC8-A2F5-46F770B3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A6AE3-4112-4D60-AAEA-0625D916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0A31C-56CF-4F7B-94FD-E47D6F5F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EB0E4-75D6-4B58-8F5E-FD82960B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9EE05-DD2B-4503-82C9-857DCAE9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95C3B-241F-4B5B-8DDE-C3AF3CC5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EB09A-6D43-4FA3-B5B0-62A963B9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5EAFB-FE4C-4B27-BF68-FF72B080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ED6-8A51-409C-9E0B-C78889E4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CE7A-E1D7-4373-B15E-BD31CDA8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6423-1AC4-4E1C-A1F1-AD86C25D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4AE-8288-40AF-B83C-9F4C353A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6EC-F53E-4E07-8143-3FF32FB9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6C85-DF13-448F-A3EC-0647E5336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A204-FB51-44F4-B5D3-73E020485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CA38-9AAA-4A55-9428-5F0A9C1E2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0A6A-FD10-4209-8304-BA41599A6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4200" y="1785960"/>
            <a:ext cx="5429520" cy="46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596b2e"/>
                </a:solidFill>
                <a:latin typeface="Arial"/>
              </a:rPr>
              <a:t>Изложение.</a:t>
            </a:r>
            <a:br>
              <a:rPr sz="4600"/>
            </a:br>
            <a:br>
              <a:rPr sz="4600"/>
            </a:br>
            <a:r>
              <a:rPr b="1" lang="ru-RU" sz="4600" spc="-1" strike="noStrike">
                <a:solidFill>
                  <a:srgbClr val="596b2e"/>
                </a:solidFill>
                <a:latin typeface="Arial"/>
              </a:rPr>
              <a:t>Этажи в лесу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C:\Users\Инна\Desktop\1004834467.jpg"/>
          <p:cNvPicPr/>
          <p:nvPr/>
        </p:nvPicPr>
        <p:blipFill>
          <a:blip r:embed="rId1"/>
          <a:stretch/>
        </p:blipFill>
        <p:spPr>
          <a:xfrm>
            <a:off x="6429240" y="3071880"/>
            <a:ext cx="2295720" cy="321480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68" name="Picture 5" descr="C:\Users\Инна\Desktop\0008-008-Mikhail-Prishvin-pisal-My-khozjaeva-nashej-prirody-i-ona-dlja-nas.jpg"/>
          <p:cNvPicPr/>
          <p:nvPr/>
        </p:nvPicPr>
        <p:blipFill>
          <a:blip r:embed="rId2"/>
          <a:srcRect l="7587" t="6021" r="6476" b="8567"/>
          <a:stretch/>
        </p:blipFill>
        <p:spPr>
          <a:xfrm>
            <a:off x="285840" y="285840"/>
            <a:ext cx="53578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56840" y="571320"/>
            <a:ext cx="5643720" cy="22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 презентац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 СОШ № 404 Гаврилова Инна Николаев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Санкт-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9360">
            <a:solidFill>
              <a:srgbClr val="596b2e"/>
            </a:solidFill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</a:t>
            </a:r>
            <a:r>
              <a:rPr b="1" lang="ru-RU" sz="36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у зв</a:t>
            </a:r>
            <a:r>
              <a:rPr b="1" lang="ru-RU" sz="36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 и птиц есть св</a:t>
            </a:r>
            <a:r>
              <a:rPr b="1" lang="ru-RU" sz="36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эт</a:t>
            </a:r>
            <a:r>
              <a:rPr b="1" lang="ru-RU" sz="36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C:\Users\Инна\Desktop\0004-004-Lesnye-etazhi.jpg"/>
          <p:cNvPicPr/>
          <p:nvPr/>
        </p:nvPicPr>
        <p:blipFill>
          <a:blip r:embed="rId1"/>
          <a:stretch/>
        </p:blipFill>
        <p:spPr>
          <a:xfrm>
            <a:off x="714240" y="1285920"/>
            <a:ext cx="7500960" cy="5303880"/>
          </a:xfrm>
          <a:prstGeom prst="rect">
            <a:avLst/>
          </a:prstGeom>
          <a:ln w="57240">
            <a:solidFill>
              <a:srgbClr val="596b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920" y="285840"/>
            <a:ext cx="62150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ыш</a:t>
            </a:r>
            <a:r>
              <a:rPr b="0" lang="ru-RU" sz="4000" spc="-1" strike="noStrike">
                <a:solidFill>
                  <a:srgbClr val="596b2e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ж</a:t>
            </a:r>
            <a:r>
              <a:rPr b="0" lang="ru-RU" sz="4000" spc="-1" strike="noStrike">
                <a:solidFill>
                  <a:srgbClr val="596b2e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ут в к</a:t>
            </a:r>
            <a:r>
              <a:rPr b="0" lang="ru-RU" sz="4000" spc="-1" strike="noStrike">
                <a:solidFill>
                  <a:srgbClr val="596b2e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ня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71320" y="5428800"/>
            <a:ext cx="450036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ы мыш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C:\Users\Инна\Desktop\03d1301b6a97.jpg"/>
          <p:cNvPicPr/>
          <p:nvPr/>
        </p:nvPicPr>
        <p:blipFill>
          <a:blip r:embed="rId1"/>
          <a:stretch/>
        </p:blipFill>
        <p:spPr>
          <a:xfrm>
            <a:off x="571680" y="2357280"/>
            <a:ext cx="4093920" cy="257184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74" name="Picture 5" descr="C:\Users\Инна\Desktop\1358307800320.jpg"/>
          <p:cNvPicPr/>
          <p:nvPr/>
        </p:nvPicPr>
        <p:blipFill>
          <a:blip r:embed="rId2"/>
          <a:stretch/>
        </p:blipFill>
        <p:spPr>
          <a:xfrm>
            <a:off x="5522760" y="1143000"/>
            <a:ext cx="3216600" cy="214308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75" name="Picture 6" descr="C:\Users\Инна\Desktop\rahrjihczbabaispgl - zoologi.no.jpg"/>
          <p:cNvPicPr/>
          <p:nvPr/>
        </p:nvPicPr>
        <p:blipFill>
          <a:blip r:embed="rId3"/>
          <a:stretch/>
        </p:blipFill>
        <p:spPr>
          <a:xfrm>
            <a:off x="5643720" y="3929040"/>
            <a:ext cx="3071520" cy="204804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501040" cy="42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лов</a:t>
            </a:r>
            <a:r>
              <a:rPr b="0" lang="ru-RU" sz="3600" spc="-1" strike="noStrike">
                <a:solidFill>
                  <a:srgbClr val="596b2e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в</a:t>
            </a:r>
            <a:r>
              <a:rPr b="0" lang="ru-RU" sz="3600" spc="-1" strike="noStrike">
                <a:solidFill>
                  <a:srgbClr val="596b2e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т гнёзда прям</a:t>
            </a:r>
            <a:r>
              <a:rPr b="0" lang="ru-RU" sz="3600" spc="-1" strike="noStrike">
                <a:solidFill>
                  <a:srgbClr val="596b2e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на з</a:t>
            </a:r>
            <a:r>
              <a:rPr b="0" lang="ru-RU" sz="3600" spc="-1" strike="noStrike">
                <a:solidFill>
                  <a:srgbClr val="596b2e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86280" y="5571720"/>
            <a:ext cx="32148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ездо сол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C:\Users\Инна\Desktop\tmpt53m36.jpeg"/>
          <p:cNvPicPr/>
          <p:nvPr/>
        </p:nvPicPr>
        <p:blipFill>
          <a:blip r:embed="rId1"/>
          <a:stretch/>
        </p:blipFill>
        <p:spPr>
          <a:xfrm>
            <a:off x="785880" y="4000680"/>
            <a:ext cx="4500360" cy="232236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79" name="Picture 7" descr="C:\Users\Инна\Desktop\SongThrushNesEggs-600x400.jpg"/>
          <p:cNvPicPr/>
          <p:nvPr/>
        </p:nvPicPr>
        <p:blipFill>
          <a:blip r:embed="rId2"/>
          <a:srcRect l="14126" t="0" r="7124" b="0"/>
          <a:stretch/>
        </p:blipFill>
        <p:spPr>
          <a:xfrm>
            <a:off x="928800" y="1071720"/>
            <a:ext cx="2857320" cy="241920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80" name="Picture 8" descr="C:\Users\Инна\Desktop\101899417_4437240_57.jpg"/>
          <p:cNvPicPr/>
          <p:nvPr/>
        </p:nvPicPr>
        <p:blipFill>
          <a:blip r:embed="rId3"/>
          <a:stretch/>
        </p:blipFill>
        <p:spPr>
          <a:xfrm>
            <a:off x="5143680" y="1071720"/>
            <a:ext cx="3695400" cy="246528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81" name="Golosa-ptic-Chistaya-solov_inaya-trel_(muzofon.com).mp3" descr=""/>
          <p:cNvPicPr/>
          <p:nvPr/>
        </p:nvPicPr>
        <p:blipFill>
          <a:blip r:embed="rId4"/>
          <a:stretch/>
        </p:blipFill>
        <p:spPr>
          <a:xfrm>
            <a:off x="5357880" y="31431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515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707364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</a:t>
            </a:r>
            <a:r>
              <a:rPr b="0" lang="ru-RU" sz="4000" spc="-1" strike="noStrike">
                <a:solidFill>
                  <a:srgbClr val="596b2e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ды ж</a:t>
            </a:r>
            <a:r>
              <a:rPr b="0" lang="ru-RU" sz="4000" spc="-1" strike="noStrike">
                <a:solidFill>
                  <a:srgbClr val="596b2e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ут в куст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356760" y="5357880"/>
            <a:ext cx="364356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ездо дро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C:\Users\Инна\Desktop\0_5549e_b2f2ada6_XL.jpg"/>
          <p:cNvPicPr/>
          <p:nvPr/>
        </p:nvPicPr>
        <p:blipFill>
          <a:blip r:embed="rId1"/>
          <a:stretch/>
        </p:blipFill>
        <p:spPr>
          <a:xfrm>
            <a:off x="571680" y="2071800"/>
            <a:ext cx="4119480" cy="308916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85" name="Picture 4" descr="C:\Users\Инна\Desktop\post-26034-025035200 1357665300_thumb.jpg"/>
          <p:cNvPicPr/>
          <p:nvPr/>
        </p:nvPicPr>
        <p:blipFill>
          <a:blip r:embed="rId2"/>
          <a:stretch/>
        </p:blipFill>
        <p:spPr>
          <a:xfrm>
            <a:off x="4357800" y="4214880"/>
            <a:ext cx="4190760" cy="235728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86" name="Picture 5" descr="C:\Users\Инна\Desktop\1823009-ea6a6c60988df4504d1fd2e9b99d76b1.jpg"/>
          <p:cNvPicPr/>
          <p:nvPr/>
        </p:nvPicPr>
        <p:blipFill>
          <a:blip r:embed="rId3"/>
          <a:stretch/>
        </p:blipFill>
        <p:spPr>
          <a:xfrm>
            <a:off x="5500800" y="1643040"/>
            <a:ext cx="3319200" cy="220032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87" name="Drozd-Zvuki-prirody-Golosa-ptic-(muzofon.com).mp3" descr=""/>
          <p:cNvPicPr/>
          <p:nvPr/>
        </p:nvPicPr>
        <p:blipFill>
          <a:blip r:embed="rId4"/>
          <a:stretch/>
        </p:blipFill>
        <p:spPr>
          <a:xfrm>
            <a:off x="714240" y="471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77928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471492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ят</a:t>
            </a:r>
            <a:r>
              <a:rPr b="0" lang="ru-RU" sz="3600" spc="-1" strike="noStrike">
                <a:solidFill>
                  <a:srgbClr val="596b2e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, с</a:t>
            </a:r>
            <a:r>
              <a:rPr b="0" lang="ru-RU" sz="3600" spc="-1" strike="noStrike">
                <a:solidFill>
                  <a:srgbClr val="596b2e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ru-RU" sz="3600" spc="-1" strike="noStrike">
                <a:solidFill>
                  <a:srgbClr val="596b2e"/>
                </a:solidFill>
                <a:latin typeface="Arial"/>
              </a:rPr>
              <a:t>ч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, с</a:t>
            </a:r>
            <a:r>
              <a:rPr b="0" lang="ru-RU" sz="3600" spc="-1" strike="noStrike">
                <a:solidFill>
                  <a:srgbClr val="596b2e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 дел</a:t>
            </a:r>
            <a:r>
              <a:rPr b="0" lang="ru-RU" sz="3600" spc="-1" strike="noStrike">
                <a:solidFill>
                  <a:srgbClr val="596b2e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т себе гнёзда п</a:t>
            </a:r>
            <a:r>
              <a:rPr b="0" lang="ru-RU" sz="3600" spc="-1" strike="noStrike">
                <a:solidFill>
                  <a:srgbClr val="596b2e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ш</a:t>
            </a:r>
            <a:r>
              <a:rPr b="0" lang="ru-RU" sz="3600" spc="-1" strike="noStrike">
                <a:solidFill>
                  <a:srgbClr val="596b2e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57120" y="2714760"/>
            <a:ext cx="333072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ездо  дят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4720" y="2785680"/>
            <a:ext cx="42130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ездо сини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C:\Users\Инна\Desktop\0_a8a22_7afa5546_XL.jpg"/>
          <p:cNvPicPr/>
          <p:nvPr/>
        </p:nvPicPr>
        <p:blipFill>
          <a:blip r:embed="rId1"/>
          <a:srcRect l="3027" t="3568" r="3670" b="7137"/>
          <a:stretch/>
        </p:blipFill>
        <p:spPr>
          <a:xfrm>
            <a:off x="6215040" y="285840"/>
            <a:ext cx="2718000" cy="185400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92" name="Picture 6" descr="C:\Users\Инна\Desktop\i.jpg"/>
          <p:cNvPicPr/>
          <p:nvPr/>
        </p:nvPicPr>
        <p:blipFill>
          <a:blip r:embed="rId2"/>
          <a:srcRect l="0" t="0" r="50019" b="0"/>
          <a:stretch/>
        </p:blipFill>
        <p:spPr>
          <a:xfrm>
            <a:off x="4929120" y="428760"/>
            <a:ext cx="1500120" cy="150012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93" name="Picture 7" descr="C:\Users\Инна\Desktop\0_1bb9b_fa0c856f_L.jpg"/>
          <p:cNvPicPr/>
          <p:nvPr/>
        </p:nvPicPr>
        <p:blipFill>
          <a:blip r:embed="rId3"/>
          <a:stretch/>
        </p:blipFill>
        <p:spPr>
          <a:xfrm>
            <a:off x="1571760" y="4143240"/>
            <a:ext cx="3260520" cy="240048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94" name="Picture 4" descr="C:\Users\Инна\Desktop\post-8000-1204725009_thumb.jpg"/>
          <p:cNvPicPr/>
          <p:nvPr/>
        </p:nvPicPr>
        <p:blipFill>
          <a:blip r:embed="rId4"/>
          <a:stretch/>
        </p:blipFill>
        <p:spPr>
          <a:xfrm>
            <a:off x="285840" y="3357720"/>
            <a:ext cx="1928880" cy="194760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95" name="Picture 8" descr="C:\Users\Инна\Desktop\brd96891.jpg"/>
          <p:cNvPicPr/>
          <p:nvPr/>
        </p:nvPicPr>
        <p:blipFill>
          <a:blip r:embed="rId5"/>
          <a:srcRect l="2338" t="6998" r="15625" b="5517"/>
          <a:stretch/>
        </p:blipFill>
        <p:spPr>
          <a:xfrm>
            <a:off x="5214960" y="4143240"/>
            <a:ext cx="3343320" cy="238788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96" name="Picture 9" descr="C:\Users\Инна\Desktop\sinica11r.jpg"/>
          <p:cNvPicPr/>
          <p:nvPr/>
        </p:nvPicPr>
        <p:blipFill>
          <a:blip r:embed="rId6"/>
          <a:stretch/>
        </p:blipFill>
        <p:spPr>
          <a:xfrm>
            <a:off x="6858000" y="3429000"/>
            <a:ext cx="1949400" cy="146376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197" name="Прямоугольник 11" descr=""/>
          <p:cNvPicPr/>
          <p:nvPr/>
        </p:nvPicPr>
        <p:blipFill>
          <a:blip r:embed="rId7"/>
          <a:stretch/>
        </p:blipFill>
        <p:spPr>
          <a:xfrm>
            <a:off x="5278320" y="2176560"/>
            <a:ext cx="2513160" cy="615960"/>
          </a:xfrm>
          <a:prstGeom prst="rect">
            <a:avLst/>
          </a:prstGeom>
          <a:ln w="0">
            <a:noFill/>
          </a:ln>
        </p:spPr>
      </p:pic>
      <p:pic>
        <p:nvPicPr>
          <p:cNvPr id="198" name="golosa-ptic-ushastaya-sova(muzofon.com).mp3" descr=""/>
          <p:cNvPicPr/>
          <p:nvPr/>
        </p:nvPicPr>
        <p:blipFill>
          <a:blip r:embed="rId8"/>
          <a:stretch/>
        </p:blipFill>
        <p:spPr>
          <a:xfrm>
            <a:off x="571680" y="59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7289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4000" spc="-1" strike="noStrike">
                <a:solidFill>
                  <a:srgbClr val="596b2e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лы и ястр</a:t>
            </a:r>
            <a:r>
              <a:rPr b="0" lang="ru-RU" sz="4000" spc="-1" strike="noStrike">
                <a:solidFill>
                  <a:srgbClr val="596b2e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ы ж</a:t>
            </a:r>
            <a:r>
              <a:rPr b="0" lang="ru-RU" sz="4000" spc="-1" strike="noStrike">
                <a:solidFill>
                  <a:srgbClr val="596b2e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ут на  сам</a:t>
            </a:r>
            <a:r>
              <a:rPr b="0" lang="ru-RU" sz="4000" spc="-1" strike="noStrike">
                <a:solidFill>
                  <a:srgbClr val="596b2e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 в</a:t>
            </a:r>
            <a:r>
              <a:rPr b="0" lang="ru-RU" sz="4000" spc="-1" strike="noStrike">
                <a:solidFill>
                  <a:srgbClr val="596b2e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ху дер</a:t>
            </a:r>
            <a:r>
              <a:rPr b="0" lang="ru-RU" sz="4000" spc="-1" strike="noStrike">
                <a:solidFill>
                  <a:srgbClr val="596b2e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5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ездо ор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4508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ездо ястре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C:\Users\Инна\Desktop\chegloki_2.jpg"/>
          <p:cNvPicPr/>
          <p:nvPr/>
        </p:nvPicPr>
        <p:blipFill>
          <a:blip r:embed="rId1"/>
          <a:srcRect l="1760" t="4157" r="3053" b="267"/>
          <a:stretch/>
        </p:blipFill>
        <p:spPr>
          <a:xfrm>
            <a:off x="4929120" y="2517840"/>
            <a:ext cx="4000680" cy="334008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203" name="Picture 7" descr="C:\Users\Инна\Desktop\659_eagle_parents_two.jpg"/>
          <p:cNvPicPr/>
          <p:nvPr/>
        </p:nvPicPr>
        <p:blipFill>
          <a:blip r:embed="rId2"/>
          <a:stretch/>
        </p:blipFill>
        <p:spPr>
          <a:xfrm>
            <a:off x="357120" y="2428920"/>
            <a:ext cx="3857760" cy="303840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204" name="Picture 9" descr="C:\Users\Инна\Desktop\dscn1026_ac_nis_t2.jpg"/>
          <p:cNvPicPr/>
          <p:nvPr/>
        </p:nvPicPr>
        <p:blipFill>
          <a:blip r:embed="rId3"/>
          <a:stretch/>
        </p:blipFill>
        <p:spPr>
          <a:xfrm>
            <a:off x="4405320" y="4643280"/>
            <a:ext cx="2197080" cy="187992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205" name="Picture 10" descr="C:\Users\Инна\Desktop\y_1ee38680.jpg"/>
          <p:cNvPicPr/>
          <p:nvPr/>
        </p:nvPicPr>
        <p:blipFill>
          <a:blip r:embed="rId4"/>
          <a:stretch/>
        </p:blipFill>
        <p:spPr>
          <a:xfrm>
            <a:off x="1143000" y="4643280"/>
            <a:ext cx="2478240" cy="1857600"/>
          </a:xfrm>
          <a:prstGeom prst="rect">
            <a:avLst/>
          </a:prstGeom>
          <a:ln w="38160">
            <a:solidFill>
              <a:srgbClr val="596b2e"/>
            </a:solidFill>
            <a:miter/>
          </a:ln>
        </p:spPr>
      </p:pic>
      <p:pic>
        <p:nvPicPr>
          <p:cNvPr id="206" name="Golosa-ptic-Krik-yastreba(muzofon.com).mp3" descr=""/>
          <p:cNvPicPr/>
          <p:nvPr/>
        </p:nvPicPr>
        <p:blipFill>
          <a:blip r:embed="rId5"/>
          <a:stretch/>
        </p:blipFill>
        <p:spPr>
          <a:xfrm>
            <a:off x="42876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400" y="-500040"/>
            <a:ext cx="822636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жи лес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14200" y="78588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у зв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ь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 и птиц есть св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эт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ыш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т в к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ях. С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ь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ь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т гнёзда прям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з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. Др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ы ж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т в кустах. Дят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, с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чк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с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 дел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т себе гнёзда п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лы и ястр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 ж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т на сам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верху дер</a:t>
            </a:r>
            <a:r>
              <a:rPr b="1" lang="ru-RU" sz="48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37720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пла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9280" y="1142640"/>
            <a:ext cx="89647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есть в л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у зв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ьков и птиц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Где ж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т мыш</a:t>
            </a:r>
            <a:r>
              <a:rPr b="0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то в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т гнёзда прям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з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де ж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т др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Где дел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т гнёзда дят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, с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ч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с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то ж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ёт на сам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верху дер</a:t>
            </a:r>
            <a:r>
              <a:rPr b="1" lang="ru-RU" sz="4000" spc="-1" strike="noStrike">
                <a:solidFill>
                  <a:srgbClr val="596b2e"/>
                </a:solidFill>
                <a:latin typeface="Times New Roman"/>
                <a:ea typeface="Times New Roman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0:12:45Z</dcterms:created>
  <dc:creator>Инна Н.</dc:creator>
  <dc:description/>
  <dc:language>en-US</dc:language>
  <cp:lastModifiedBy>Инна</cp:lastModifiedBy>
  <dcterms:modified xsi:type="dcterms:W3CDTF">2015-04-19T11:33:41Z</dcterms:modified>
  <cp:revision>20</cp:revision>
  <dc:subject/>
  <dc:title>Изложение. Этажи в лесу.</dc:title>
</cp:coreProperties>
</file>