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9DC-1935-4EA7-8071-AB459728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BD7-1EE8-4548-80CF-88EAF8A6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E39-78F0-426E-B152-1B1E302A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6D6-1C48-42F2-B5E9-EB8EFC1E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276-0B0A-4226-A556-62DAEE92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886D-111F-4578-B686-059AA60E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E416-5136-4148-A112-F90574BC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62DA-D2E4-4C98-B500-55B6D18E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D0D3-472A-4410-A304-77C23C1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AA9-0AEC-415D-9E10-88290A4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31BE-899E-46AF-B585-C85BF71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292-11FE-4FA1-9964-90C1EAE3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E366-FC24-4121-816A-11A9337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9754-2526-4459-BF91-104BFB6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5EB2-5FEB-4F87-8E73-442C1AD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EF0-E0ED-435E-8775-A9C3FBC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142C-0D2B-45EA-A8DC-19B3EF6D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2107-F8F6-4B70-BBE3-ED39811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E8B9-2B77-4F01-AFCD-6AF5BC12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7314-31C3-4D70-8143-6DBFA845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1F75-EE46-4DFE-B398-252F3A7F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E48B-3ED8-414B-8D5A-E6C945F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AFF-2839-4FBD-8841-604645E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7EDB-4C6D-4B5D-8446-C498B16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F1AC-DEA7-4EC6-BE93-87AD8A4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1A9D-1C31-48C0-B816-81B6117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5E85-58EA-4155-A63D-F4B24D5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A2A4-55F8-4ECF-BD0E-1A83880C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9526-1D1A-4D42-81F8-26F155BD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D4A8-0CC3-4615-B82A-1915B591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266C-FEAB-4507-B59B-18FDE41E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9F64-B6E4-4792-8B04-136BA402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A4EC-4823-4F21-98E2-6F96A7B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ED8-00AD-43DD-9416-3276A83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486A-ABDF-46EE-A57B-060CBB7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562C-FD7E-4CEF-85EF-F189372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58BC-04B9-4773-805A-5EE1507A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A630-E42D-4AEF-B28F-27FDF25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DC7E-5763-4237-BAF1-47B7519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50FC-6CE3-4285-B022-AC36B853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5A8B-0C47-4EC8-981D-06F0EBC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8E466-0618-4EF2-B053-F508C7DE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60AF4-C6BC-4639-B83B-7B048153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683-35A2-4135-881D-185EDCE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BA2-0175-4EB3-A316-9E0F342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3AC-CAD2-4D70-97C3-DDDF740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F70-4C60-436A-8EFC-9C59B68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C34-07E5-41B0-BD7A-0D3FDCE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565-2519-49DF-9081-4EAB0C44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686-5F11-43DD-B81C-E94D51F8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C13-E291-44D5-B742-BF68CF746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E33-C035-42CC-86C2-6FB95AFB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200" y="1785960"/>
            <a:ext cx="54295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Изложение.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Этажи в лесу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Users\Инна\Desktop\1004834467.jpg"/>
          <p:cNvPicPr/>
          <p:nvPr/>
        </p:nvPicPr>
        <p:blipFill>
          <a:blip r:embed="rId1"/>
          <a:stretch/>
        </p:blipFill>
        <p:spPr>
          <a:xfrm>
            <a:off x="6429240" y="3071880"/>
            <a:ext cx="2295720" cy="32148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68" name="Picture 5" descr="C:\Users\Инна\Desktop\0008-008-Mikhail-Prishvin-pisal-My-khozjaeva-nashej-prirody-i-ona-dlja-nas.jpg"/>
          <p:cNvPicPr/>
          <p:nvPr/>
        </p:nvPicPr>
        <p:blipFill>
          <a:blip r:embed="rId2"/>
          <a:srcRect l="7587" t="6021" r="6476" b="8567"/>
          <a:stretch/>
        </p:blipFill>
        <p:spPr>
          <a:xfrm>
            <a:off x="285840" y="285840"/>
            <a:ext cx="5357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6840" y="571320"/>
            <a:ext cx="56437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зент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СОШ № 404 Гаврилова Инна Никола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596b2e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 и птиц есть св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Инна\Desktop\0004-004-Lesnye-etazhi.jpg"/>
          <p:cNvPicPr/>
          <p:nvPr/>
        </p:nvPicPr>
        <p:blipFill>
          <a:blip r:embed="rId1"/>
          <a:stretch/>
        </p:blipFill>
        <p:spPr>
          <a:xfrm>
            <a:off x="714240" y="1285920"/>
            <a:ext cx="7500960" cy="5303880"/>
          </a:xfrm>
          <a:prstGeom prst="rect">
            <a:avLst/>
          </a:prstGeom>
          <a:ln w="5724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62150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в к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н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71320" y="5428800"/>
            <a:ext cx="450036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ы мы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:\Users\Инна\Desktop\03d1301b6a97.jpg"/>
          <p:cNvPicPr/>
          <p:nvPr/>
        </p:nvPicPr>
        <p:blipFill>
          <a:blip r:embed="rId1"/>
          <a:stretch/>
        </p:blipFill>
        <p:spPr>
          <a:xfrm>
            <a:off x="571680" y="2357280"/>
            <a:ext cx="4093920" cy="25718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4" name="Picture 5" descr="C:\Users\Инна\Desktop\1358307800320.jpg"/>
          <p:cNvPicPr/>
          <p:nvPr/>
        </p:nvPicPr>
        <p:blipFill>
          <a:blip r:embed="rId2"/>
          <a:stretch/>
        </p:blipFill>
        <p:spPr>
          <a:xfrm>
            <a:off x="5522760" y="1143000"/>
            <a:ext cx="3216600" cy="21430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5" name="Picture 6" descr="C:\Users\Инна\Desktop\rahrjihczbabaispgl - zoologi.no.jpg"/>
          <p:cNvPicPr/>
          <p:nvPr/>
        </p:nvPicPr>
        <p:blipFill>
          <a:blip r:embed="rId3"/>
          <a:stretch/>
        </p:blipFill>
        <p:spPr>
          <a:xfrm>
            <a:off x="5643720" y="3929040"/>
            <a:ext cx="3071520" cy="20480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ов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в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 гнёзда прям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 з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86280" y="557172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сол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Users\Инна\Desktop\tmpt53m36.jpeg"/>
          <p:cNvPicPr/>
          <p:nvPr/>
        </p:nvPicPr>
        <p:blipFill>
          <a:blip r:embed="rId1"/>
          <a:stretch/>
        </p:blipFill>
        <p:spPr>
          <a:xfrm>
            <a:off x="785880" y="4000680"/>
            <a:ext cx="4500360" cy="23223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9" name="Picture 7" descr="C:\Users\Инна\Desktop\SongThrushNesEggs-600x400.jpg"/>
          <p:cNvPicPr/>
          <p:nvPr/>
        </p:nvPicPr>
        <p:blipFill>
          <a:blip r:embed="rId2"/>
          <a:srcRect l="14126" t="0" r="7124" b="0"/>
          <a:stretch/>
        </p:blipFill>
        <p:spPr>
          <a:xfrm>
            <a:off x="928800" y="1071720"/>
            <a:ext cx="2857320" cy="24192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0" name="Picture 8" descr="C:\Users\Инна\Desktop\101899417_4437240_57.jpg"/>
          <p:cNvPicPr/>
          <p:nvPr/>
        </p:nvPicPr>
        <p:blipFill>
          <a:blip r:embed="rId3"/>
          <a:stretch/>
        </p:blipFill>
        <p:spPr>
          <a:xfrm>
            <a:off x="5143680" y="1071720"/>
            <a:ext cx="3695400" cy="24652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1" name="Golosa-ptic-Chistaya-solov_inaya-trel_(muzofon.com).mp3" descr=""/>
          <p:cNvPicPr/>
          <p:nvPr/>
        </p:nvPicPr>
        <p:blipFill>
          <a:blip r:embed="rId4"/>
          <a:stretch/>
        </p:blipFill>
        <p:spPr>
          <a:xfrm>
            <a:off x="5357880" y="3143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15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0736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ды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в кус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56760" y="5357880"/>
            <a:ext cx="36435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дро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Инна\Desktop\0_5549e_b2f2ada6_XL.jpg"/>
          <p:cNvPicPr/>
          <p:nvPr/>
        </p:nvPicPr>
        <p:blipFill>
          <a:blip r:embed="rId1"/>
          <a:stretch/>
        </p:blipFill>
        <p:spPr>
          <a:xfrm>
            <a:off x="571680" y="2071800"/>
            <a:ext cx="4119480" cy="3089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5" name="Picture 4" descr="C:\Users\Инна\Desktop\post-26034-025035200 1357665300_thumb.jpg"/>
          <p:cNvPicPr/>
          <p:nvPr/>
        </p:nvPicPr>
        <p:blipFill>
          <a:blip r:embed="rId2"/>
          <a:stretch/>
        </p:blipFill>
        <p:spPr>
          <a:xfrm>
            <a:off x="4357800" y="4214880"/>
            <a:ext cx="4190760" cy="23572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6" name="Picture 5" descr="C:\Users\Инна\Desktop\1823009-ea6a6c60988df4504d1fd2e9b99d76b1.jpg"/>
          <p:cNvPicPr/>
          <p:nvPr/>
        </p:nvPicPr>
        <p:blipFill>
          <a:blip r:embed="rId3"/>
          <a:stretch/>
        </p:blipFill>
        <p:spPr>
          <a:xfrm>
            <a:off x="5500800" y="1643040"/>
            <a:ext cx="3319200" cy="22003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7" name="Drozd-Zvuki-prirody-Golosa-ptic-(muzofon.com).mp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792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471492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ят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, с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ч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, с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 дел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 себе гнёзда п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ш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120" y="2714760"/>
            <a:ext cx="3330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 дя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4720" y="2785680"/>
            <a:ext cx="4213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сини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C:\Users\Инна\Desktop\0_a8a22_7afa5546_XL.jpg"/>
          <p:cNvPicPr/>
          <p:nvPr/>
        </p:nvPicPr>
        <p:blipFill>
          <a:blip r:embed="rId1"/>
          <a:srcRect l="3027" t="3568" r="3670" b="7137"/>
          <a:stretch/>
        </p:blipFill>
        <p:spPr>
          <a:xfrm>
            <a:off x="6215040" y="285840"/>
            <a:ext cx="2718000" cy="18540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2" name="Picture 6" descr="C:\Users\Инна\Desktop\i.jpg"/>
          <p:cNvPicPr/>
          <p:nvPr/>
        </p:nvPicPr>
        <p:blipFill>
          <a:blip r:embed="rId2"/>
          <a:srcRect l="0" t="0" r="50019" b="0"/>
          <a:stretch/>
        </p:blipFill>
        <p:spPr>
          <a:xfrm>
            <a:off x="4929120" y="428760"/>
            <a:ext cx="1500120" cy="15001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3" name="Picture 7" descr="C:\Users\Инна\Desktop\0_1bb9b_fa0c856f_L.jpg"/>
          <p:cNvPicPr/>
          <p:nvPr/>
        </p:nvPicPr>
        <p:blipFill>
          <a:blip r:embed="rId3"/>
          <a:stretch/>
        </p:blipFill>
        <p:spPr>
          <a:xfrm>
            <a:off x="1571760" y="4143240"/>
            <a:ext cx="3260520" cy="24004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4" name="Picture 4" descr="C:\Users\Инна\Desktop\post-8000-1204725009_thumb.jpg"/>
          <p:cNvPicPr/>
          <p:nvPr/>
        </p:nvPicPr>
        <p:blipFill>
          <a:blip r:embed="rId4"/>
          <a:stretch/>
        </p:blipFill>
        <p:spPr>
          <a:xfrm>
            <a:off x="285840" y="3357720"/>
            <a:ext cx="1928880" cy="19476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5" name="Picture 8" descr="C:\Users\Инна\Desktop\brd96891.jpg"/>
          <p:cNvPicPr/>
          <p:nvPr/>
        </p:nvPicPr>
        <p:blipFill>
          <a:blip r:embed="rId5"/>
          <a:srcRect l="2338" t="6998" r="15625" b="5517"/>
          <a:stretch/>
        </p:blipFill>
        <p:spPr>
          <a:xfrm>
            <a:off x="5214960" y="4143240"/>
            <a:ext cx="3343320" cy="23878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6" name="Picture 9" descr="C:\Users\Инна\Desktop\sinica11r.jpg"/>
          <p:cNvPicPr/>
          <p:nvPr/>
        </p:nvPicPr>
        <p:blipFill>
          <a:blip r:embed="rId6"/>
          <a:stretch/>
        </p:blipFill>
        <p:spPr>
          <a:xfrm>
            <a:off x="6858000" y="3429000"/>
            <a:ext cx="1949400" cy="14637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7" name="Прямоугольник 11" descr=""/>
          <p:cNvPicPr/>
          <p:nvPr/>
        </p:nvPicPr>
        <p:blipFill>
          <a:blip r:embed="rId7"/>
          <a:stretch/>
        </p:blipFill>
        <p:spPr>
          <a:xfrm>
            <a:off x="5278320" y="2176560"/>
            <a:ext cx="2513160" cy="615960"/>
          </a:xfrm>
          <a:prstGeom prst="rect">
            <a:avLst/>
          </a:prstGeom>
          <a:ln w="0">
            <a:noFill/>
          </a:ln>
        </p:spPr>
      </p:pic>
      <p:pic>
        <p:nvPicPr>
          <p:cNvPr id="198" name="golosa-ptic-ushastaya-sova(muzofon.com).mp3" descr=""/>
          <p:cNvPicPr/>
          <p:nvPr/>
        </p:nvPicPr>
        <p:blipFill>
          <a:blip r:embed="rId8"/>
          <a:stretch/>
        </p:blipFill>
        <p:spPr>
          <a:xfrm>
            <a:off x="5716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289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лы и яст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на  сам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 в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ху де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яс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Инна\Desktop\chegloki_2.jpg"/>
          <p:cNvPicPr/>
          <p:nvPr/>
        </p:nvPicPr>
        <p:blipFill>
          <a:blip r:embed="rId1"/>
          <a:srcRect l="1760" t="4157" r="3053" b="267"/>
          <a:stretch/>
        </p:blipFill>
        <p:spPr>
          <a:xfrm>
            <a:off x="4929120" y="2517840"/>
            <a:ext cx="4000680" cy="33400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3" name="Picture 7" descr="C:\Users\Инна\Desktop\659_eagle_parents_two.jpg"/>
          <p:cNvPicPr/>
          <p:nvPr/>
        </p:nvPicPr>
        <p:blipFill>
          <a:blip r:embed="rId2"/>
          <a:stretch/>
        </p:blipFill>
        <p:spPr>
          <a:xfrm>
            <a:off x="357120" y="2428920"/>
            <a:ext cx="3857760" cy="30384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4" name="Picture 9" descr="C:\Users\Инна\Desktop\dscn1026_ac_nis_t2.jpg"/>
          <p:cNvPicPr/>
          <p:nvPr/>
        </p:nvPicPr>
        <p:blipFill>
          <a:blip r:embed="rId3"/>
          <a:stretch/>
        </p:blipFill>
        <p:spPr>
          <a:xfrm>
            <a:off x="4405320" y="4643280"/>
            <a:ext cx="2197080" cy="18799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5" name="Picture 10" descr="C:\Users\Инна\Desktop\y_1ee38680.jpg"/>
          <p:cNvPicPr/>
          <p:nvPr/>
        </p:nvPicPr>
        <p:blipFill>
          <a:blip r:embed="rId4"/>
          <a:stretch/>
        </p:blipFill>
        <p:spPr>
          <a:xfrm>
            <a:off x="1143000" y="4643280"/>
            <a:ext cx="2478240" cy="18576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6" name="Golosa-ptic-Krik-yastreba(muzofon.com).mp3" descr=""/>
          <p:cNvPicPr/>
          <p:nvPr/>
        </p:nvPicPr>
        <p:blipFill>
          <a:blip r:embed="rId5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-500040"/>
            <a:ext cx="82263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жи ле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7858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 и птиц есть с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ыш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в к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ях.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гнёзда прям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. Д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ы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в кустах. Дят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,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де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себе гнёзда п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лы и яст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на сам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верху де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77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л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8964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есть в л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ьков и пти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де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мыш</a:t>
            </a:r>
            <a:r>
              <a:rPr b="0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в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т гнёзда прям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де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др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де дел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гнёзда дят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, с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ч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с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то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т на сам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верху дер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12:45Z</dcterms:created>
  <dc:creator>Инна Н.</dc:creator>
  <dc:description/>
  <dc:language>en-US</dc:language>
  <cp:lastModifiedBy>Инна</cp:lastModifiedBy>
  <dcterms:modified xsi:type="dcterms:W3CDTF">2015-04-19T11:33:41Z</dcterms:modified>
  <cp:revision>20</cp:revision>
  <dc:subject/>
  <dc:title>Изложение. Этажи в лесу.</dc:title>
</cp:coreProperties>
</file>