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19E-3B67-471C-ACCF-8C2829FE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DD7-2AB2-453D-9B04-37DC3072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C2C-5CC8-4858-BFF1-7965239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97A-D773-4EFC-9851-997438BF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00B4-5BD8-47C0-976F-824ED01F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E48-68FB-49AE-8A62-D70894C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2DC9-73F5-4873-8671-F2F8B31C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65CB-189F-4B93-BEE5-09E61B0E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BD8-98BA-4FE0-8E2A-865D5CA6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E570-2269-45A7-9EA4-837B174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BDFE-7EF5-4A61-9D3C-AB9519E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E20-D471-4E56-9ABE-6A85337B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5AE6-D840-4FCF-80AD-0264A374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295A-0433-41F5-A312-B54EE26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0CF-E59A-42BB-AB89-D904EC2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1F6C-3075-4BD1-8665-1DA777D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925E-C339-47AC-A8DD-ABEA5558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2403-FC43-4373-A888-150B074D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72D6-8CF2-41B7-B8CA-5E87F8E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120C-4F50-4984-935F-7D45B695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D24A-930F-48F2-BF45-A6B81A8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AB53-FA15-4D4B-B15C-F4E72867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22D-85BF-4EB3-9779-340A11D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2EDF-B4C1-4632-BE05-D0CBFDBE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3AA7-5863-4B90-B875-01E6E76A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45AF-FBAF-4427-836F-185E6D5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85B7-804E-4A70-BB12-CC32F5A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C702-207E-49ED-BB34-767176E2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9C6E-DF0D-4E78-9EE9-7CA7AA0E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470B-8A45-446A-8578-D032F6C6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B7A2-A669-426A-B4D8-59DE945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413D-BE34-4843-9982-152EE761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D0E0-C930-46ED-98E7-4CE3B2E4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F54-CC04-4190-8018-B8CBFE7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890A-F87D-43D5-9388-484D31B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97E4-56A1-401A-8E2A-39DC9DC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FE05-FA4A-46CA-888C-67A4C5E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C5B0-F4C1-4D41-A478-3DCFF32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BC66-64BD-444C-ABAA-BABF3C2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0B90-C176-414F-9878-7042CF0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D611-D619-4CB5-8842-77673BA5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6EDF-2B90-4300-9946-5C6EC2A6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83B1-8476-44AE-A6CF-FB916A5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1AF-A503-4360-9B09-8AF9FFE7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681-B464-4A10-B07F-DC3A983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ABC-E487-41B9-A0A5-3BFA8928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A70-0860-4C82-A951-D5EBA45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33E-F38C-43FE-B2D2-FC88C8C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CBF-827A-4A63-A7C8-95E95833B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CF8-89C8-4F0E-AD70-A84741067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D559-E943-428D-B443-767F31EB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783A-B08F-4E52-AA0E-401107F6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3.jpeg"/><Relationship Id="rId5" Type="http://schemas.openxmlformats.org/officeDocument/2006/relationships/image" Target="../media/image16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2867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ИЗЛОЖЕНИЕ.</a:t>
            </a:r>
            <a:br>
              <a:rPr sz="4600"/>
            </a:b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СЕМЬЯ МЕДВЕДЕЙ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5214960"/>
            <a:ext cx="75722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креби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ывок из рассказа  «Домик в лес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C:\Users\Инна\Desktop\92446841.jpg"/>
          <p:cNvPicPr/>
          <p:nvPr/>
        </p:nvPicPr>
        <p:blipFill>
          <a:blip r:embed="rId1"/>
          <a:stretch/>
        </p:blipFill>
        <p:spPr>
          <a:xfrm>
            <a:off x="6500880" y="3500280"/>
            <a:ext cx="2286000" cy="31608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69" name="Picture 7" descr="C:\Users\Инна\Desktop\medvedica-medvezhata-derevya-4579.jpg"/>
          <p:cNvPicPr/>
          <p:nvPr/>
        </p:nvPicPr>
        <p:blipFill>
          <a:blip r:embed="rId2"/>
          <a:stretch/>
        </p:blipFill>
        <p:spPr>
          <a:xfrm>
            <a:off x="214200" y="2214720"/>
            <a:ext cx="4929480" cy="3143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948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023"/>
                </a:solidFill>
                <a:latin typeface="Arial"/>
              </a:rPr>
              <a:t>Картинный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C:\Users\Инна\Desktop\5069bc5b45f01.jpg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20368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8" name="Picture 9" descr="C:\Users\Инна\Desktop\1409150365_1409093306_010.jpg"/>
          <p:cNvPicPr/>
          <p:nvPr/>
        </p:nvPicPr>
        <p:blipFill>
          <a:blip r:embed="rId2"/>
          <a:srcRect l="0" t="0" r="0" b="8264"/>
          <a:stretch/>
        </p:blipFill>
        <p:spPr>
          <a:xfrm>
            <a:off x="3143160" y="1285920"/>
            <a:ext cx="2643120" cy="2000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9" name="Picture 4" descr="C:\Users\Инна\Desktop\107384400_medvezhata_i_mama_WrestlersII_by_Giedrius_Stakauskas.jpg"/>
          <p:cNvPicPr/>
          <p:nvPr/>
        </p:nvPicPr>
        <p:blipFill>
          <a:blip r:embed="rId3"/>
          <a:stretch/>
        </p:blipFill>
        <p:spPr>
          <a:xfrm>
            <a:off x="6072120" y="1285920"/>
            <a:ext cx="2857680" cy="2038320"/>
          </a:xfrm>
          <a:prstGeom prst="rect">
            <a:avLst/>
          </a:prstGeom>
          <a:ln w="28440">
            <a:solidFill>
              <a:srgbClr val="596b2e"/>
            </a:solidFill>
            <a:miter/>
          </a:ln>
        </p:spPr>
      </p:pic>
      <p:pic>
        <p:nvPicPr>
          <p:cNvPr id="210" name="Picture 3" descr="C:\Users\12\Desktop\лодка.jpg"/>
          <p:cNvPicPr/>
          <p:nvPr/>
        </p:nvPicPr>
        <p:blipFill>
          <a:blip r:embed="rId4"/>
          <a:srcRect l="0" t="0" r="0" b="7265"/>
          <a:stretch/>
        </p:blipFill>
        <p:spPr>
          <a:xfrm>
            <a:off x="214200" y="4000680"/>
            <a:ext cx="2786040" cy="22604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11" name="Picture 4" descr="C:\Users\Инна\Desktop\teddy-20.jpg"/>
          <p:cNvPicPr/>
          <p:nvPr/>
        </p:nvPicPr>
        <p:blipFill>
          <a:blip r:embed="rId5"/>
          <a:stretch/>
        </p:blipFill>
        <p:spPr>
          <a:xfrm>
            <a:off x="3214800" y="4000680"/>
            <a:ext cx="2714400" cy="22730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12" name="Picture 2" descr="C:\Users\Инна\Desktop\790579.jpg"/>
          <p:cNvPicPr/>
          <p:nvPr/>
        </p:nvPicPr>
        <p:blipFill>
          <a:blip r:embed="rId6"/>
          <a:stretch/>
        </p:blipFill>
        <p:spPr>
          <a:xfrm>
            <a:off x="6249960" y="4000680"/>
            <a:ext cx="2679840" cy="22143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37720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5023"/>
                </a:solidFill>
                <a:latin typeface="Times New Roman"/>
                <a:ea typeface="Times New Roman"/>
              </a:rPr>
              <a:t>Вопросы пл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делала 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ей на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азгу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а,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о зат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увырка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,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с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забралис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стали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и, 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ли, стали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ь,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лись, не с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ем была занята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ус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ь, с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663040" cy="18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СОШ № 40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врилова Инна Никола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C:\Users\Инна\Desktop\5069bc5b45f01.jpg"/>
          <p:cNvPicPr/>
          <p:nvPr/>
        </p:nvPicPr>
        <p:blipFill>
          <a:blip r:embed="rId1"/>
          <a:stretch/>
        </p:blipFill>
        <p:spPr>
          <a:xfrm>
            <a:off x="285840" y="1571760"/>
            <a:ext cx="3600360" cy="23367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1055520"/>
          </a:xfrm>
          <a:prstGeom prst="rect">
            <a:avLst/>
          </a:prstGeom>
          <a:noFill/>
          <a:ln w="9360">
            <a:solidFill>
              <a:srgbClr val="596b2e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разгу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а с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ей: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 и два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Users\Инна\Desktop\4497_618.jpg"/>
          <p:cNvPicPr/>
          <p:nvPr/>
        </p:nvPicPr>
        <p:blipFill>
          <a:blip r:embed="rId2"/>
          <a:stretch/>
        </p:blipFill>
        <p:spPr>
          <a:xfrm>
            <a:off x="4357800" y="2714760"/>
            <a:ext cx="3822480" cy="2549520"/>
          </a:xfrm>
          <a:prstGeom prst="rect">
            <a:avLst/>
          </a:prstGeom>
          <a:ln w="57240">
            <a:solidFill>
              <a:srgbClr val="596b2e"/>
            </a:solidFill>
            <a:miter/>
          </a:ln>
        </p:spPr>
      </p:pic>
      <p:pic>
        <p:nvPicPr>
          <p:cNvPr id="173" name="Picture 8" descr="C:\Users\Инна\Desktop\post.jpg"/>
          <p:cNvPicPr/>
          <p:nvPr/>
        </p:nvPicPr>
        <p:blipFill>
          <a:blip r:embed="rId3"/>
          <a:stretch/>
        </p:blipFill>
        <p:spPr>
          <a:xfrm>
            <a:off x="500040" y="4143240"/>
            <a:ext cx="3286080" cy="25066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C:\Users\Инна\Desktop\1409150365_1409093306_010.jpg"/>
          <p:cNvPicPr/>
          <p:nvPr/>
        </p:nvPicPr>
        <p:blipFill>
          <a:blip r:embed="rId1"/>
          <a:srcRect l="0" t="0" r="0" b="8264"/>
          <a:stretch/>
        </p:blipFill>
        <p:spPr>
          <a:xfrm>
            <a:off x="285840" y="3000240"/>
            <a:ext cx="5965560" cy="3643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42920"/>
            <a:ext cx="8208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что-то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и с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и и 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:\Users\Инна\Desktop\1318945792_bears_05.jpg"/>
          <p:cNvPicPr/>
          <p:nvPr/>
        </p:nvPicPr>
        <p:blipFill>
          <a:blip r:embed="rId2"/>
          <a:srcRect l="0" t="0" r="0" b="5786"/>
          <a:stretch/>
        </p:blipFill>
        <p:spPr>
          <a:xfrm>
            <a:off x="3929040" y="857160"/>
            <a:ext cx="4854600" cy="29289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Инна\Desktop\14080758855140807586955.jpeg"/>
          <p:cNvPicPr/>
          <p:nvPr/>
        </p:nvPicPr>
        <p:blipFill>
          <a:blip r:embed="rId1"/>
          <a:stretch/>
        </p:blipFill>
        <p:spPr>
          <a:xfrm>
            <a:off x="357120" y="1714680"/>
            <a:ext cx="3643560" cy="234612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н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ю.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увырка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и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сь дру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ру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:\Users\Инна\Desktop\i.jpg"/>
          <p:cNvPicPr/>
          <p:nvPr/>
        </p:nvPicPr>
        <p:blipFill>
          <a:blip r:embed="rId2"/>
          <a:stretch/>
        </p:blipFill>
        <p:spPr>
          <a:xfrm>
            <a:off x="357120" y="4286160"/>
            <a:ext cx="3686400" cy="230364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  <p:pic>
        <p:nvPicPr>
          <p:cNvPr id="181" name="Picture 4" descr="C:\Users\Инна\Desktop\107384400_medvezhata_i_mama_WrestlersII_by_Giedrius_Stakauskas.jpg"/>
          <p:cNvPicPr/>
          <p:nvPr/>
        </p:nvPicPr>
        <p:blipFill>
          <a:blip r:embed="rId3"/>
          <a:stretch/>
        </p:blipFill>
        <p:spPr>
          <a:xfrm>
            <a:off x="3929040" y="2643120"/>
            <a:ext cx="4686480" cy="334188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2920" y="259920"/>
            <a:ext cx="873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и к бе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, 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ли в 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и стали её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C:\Users\12\Desktop\лодка.jpg"/>
          <p:cNvPicPr/>
          <p:nvPr/>
        </p:nvPicPr>
        <p:blipFill>
          <a:blip r:embed="rId1"/>
          <a:srcRect l="0" t="0" r="0" b="7265"/>
          <a:stretch/>
        </p:blipFill>
        <p:spPr>
          <a:xfrm>
            <a:off x="2411280" y="2421000"/>
            <a:ext cx="6524640" cy="4203720"/>
          </a:xfrm>
          <a:prstGeom prst="rect">
            <a:avLst/>
          </a:prstGeom>
          <a:ln w="38160">
            <a:solidFill>
              <a:srgbClr val="a5bf69"/>
            </a:solidFill>
            <a:miter/>
          </a:ln>
        </p:spPr>
      </p:pic>
      <p:pic>
        <p:nvPicPr>
          <p:cNvPr id="184" name="Picture 4" descr="C:\Users\12\Desktop\ьедвежата.jpg"/>
          <p:cNvPicPr/>
          <p:nvPr/>
        </p:nvPicPr>
        <p:blipFill>
          <a:blip r:embed="rId2"/>
          <a:srcRect l="20181" t="0" r="26061" b="0"/>
          <a:stretch/>
        </p:blipFill>
        <p:spPr>
          <a:xfrm>
            <a:off x="155520" y="1557360"/>
            <a:ext cx="2863800" cy="3330720"/>
          </a:xfrm>
          <a:prstGeom prst="rect">
            <a:avLst/>
          </a:prstGeom>
          <a:ln w="38160">
            <a:solidFill>
              <a:srgbClr val="a5bf6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564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лись 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пор,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 не с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в в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Инна\Desktop\wpid-qJtOKU3r69Q.jpg"/>
          <p:cNvPicPr/>
          <p:nvPr/>
        </p:nvPicPr>
        <p:blipFill>
          <a:blip r:embed="rId1"/>
          <a:stretch/>
        </p:blipFill>
        <p:spPr>
          <a:xfrm>
            <a:off x="857160" y="1857240"/>
            <a:ext cx="6384960" cy="46944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7" name="Picture 4" descr="C:\Users\Инна\Desktop\teddy-20.jpg"/>
          <p:cNvPicPr/>
          <p:nvPr/>
        </p:nvPicPr>
        <p:blipFill>
          <a:blip r:embed="rId2"/>
          <a:stretch/>
        </p:blipFill>
        <p:spPr>
          <a:xfrm>
            <a:off x="5786280" y="228600"/>
            <a:ext cx="3044880" cy="21304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усе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 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и с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ла за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Инна\Desktop\790579.jpg"/>
          <p:cNvPicPr/>
          <p:nvPr/>
        </p:nvPicPr>
        <p:blipFill>
          <a:blip r:embed="rId1"/>
          <a:stretch/>
        </p:blipFill>
        <p:spPr>
          <a:xfrm>
            <a:off x="1000080" y="1643040"/>
            <a:ext cx="7238880" cy="4826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520120" cy="58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гу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а 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ей: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и два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нка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что-то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и и е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а на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ю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кувыркались и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ись дру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другом. Вдру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а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и к бе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, 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зли в л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 и стали её раска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ь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лись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 пор,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 не с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ись в вод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Ста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уселась 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и с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ла за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8059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Роль глагола в тексте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каждом предложении найди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357120" y="1214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4572000" y="30718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428760" y="2143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428760" y="28576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428760" y="364320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428760" y="528624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428760" y="600084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428760" y="4429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вырк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5"/>
          <p:cNvSpPr/>
          <p:nvPr/>
        </p:nvSpPr>
        <p:spPr>
          <a:xfrm>
            <a:off x="4572000" y="150012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з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6"/>
          <p:cNvSpPr/>
          <p:nvPr/>
        </p:nvSpPr>
        <p:spPr>
          <a:xfrm>
            <a:off x="4572000" y="221472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ли раска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4643280" y="4500720"/>
            <a:ext cx="3000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е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4643280" y="3786120"/>
            <a:ext cx="4214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9"/>
          <p:cNvSpPr/>
          <p:nvPr/>
        </p:nvSpPr>
        <p:spPr>
          <a:xfrm>
            <a:off x="500040" y="150012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гу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0"/>
          <p:cNvSpPr/>
          <p:nvPr/>
        </p:nvSpPr>
        <p:spPr>
          <a:xfrm>
            <a:off x="4572000" y="53578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12:45Z</dcterms:created>
  <dc:creator>Инна Н.</dc:creator>
  <dc:description/>
  <dc:language>en-US</dc:language>
  <cp:lastModifiedBy>Инна</cp:lastModifiedBy>
  <dcterms:modified xsi:type="dcterms:W3CDTF">2015-04-19T11:25:39Z</dcterms:modified>
  <cp:revision>41</cp:revision>
  <dc:subject/>
  <dc:title>Изложение. Семья медведей.</dc:title>
</cp:coreProperties>
</file>