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78B2-B1FA-41F9-B860-DDC138B8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207-89A4-4D15-8C21-0BD756A5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7BB3-E69D-4416-9519-810590F3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90C-480D-4495-88D1-66D5CF13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6A44-5272-4357-8B21-EF0CFB09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F185-D104-4E40-ABC5-6C73C30A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44A9-08F3-4D66-AAA1-4B97888E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4BA8-683D-4DCA-AFCE-5E0BB8BB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FA2A-A2A8-4E32-A960-2B52FAAD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8EBB-645B-4E0F-87B7-36000CDF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B3C0-18B5-441A-A964-8F722B66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101-F16F-48C9-824F-4039EBEA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12D9-44A3-449D-BCC9-84CBA11F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C41C-9C3B-4F87-A7C0-8B33ED52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7FDF-746B-4888-A32E-0522D389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5708-0845-42D8-84D6-BBD1B079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DAEB-4A2F-459A-AAF4-1283F4F2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E3794-D648-4A43-A274-49D6C4DD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5D11E-1D1C-4164-AD84-D7CF7969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9023F-DD60-4941-90A5-684A5226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36CB1-C1DC-42BA-91C8-6B4C3F53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A0A97-52B7-4962-9E5A-D29D252B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6E0-C34A-4F6A-BD11-D678B47A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D37BE-A214-4BB0-837D-A182C5CB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8372C-1541-4805-BD04-C586DFCE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CA219-1B99-4C60-BB7F-6C22526A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617E5-1915-4C3D-AA07-18734F57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382FD-F457-4B62-B62F-222179F9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CDAE0-188C-4D5F-8C88-F48FA2BD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835D0-C702-4F3B-9FAF-56B840F8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E83E0-F82C-478F-91A2-64AFE204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7AA75-37CE-4848-9D11-FD5AA1F8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121D3-714F-463D-8C39-67DA11F8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A297-8B6B-42D5-A1F0-BF36955D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4D4D6-42BB-485E-9750-55D068B4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96ABF-0AFA-43A3-964C-43145CC5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80B77-27B9-44E4-ABD5-5896E0D8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27843-5C13-4851-83F8-ACC26334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4BD75-D161-4720-8C04-997FA774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191F2-0C7A-4646-B6F4-C4EB6B4A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C780C-EF3D-4283-ACDB-CF742DAF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9351F-54E9-486C-96D9-86E51DBD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C2167-B43B-4776-AAD9-6E35D2DE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D22-FFAF-4DF4-94C8-A7DA533F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E07-C126-4780-BCAF-C484790E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2FDC-179B-4EBE-853A-D40BBF95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786A-44F8-4092-99BB-EAE9C0F7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2D81-1DA7-4778-A8F5-F004E23F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9224-197C-4806-AEA3-E87C72737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8370-230E-4236-A742-22B65E094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06FA-E3E1-4017-9A7A-2DB46C82F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3044-4508-4185-B3C9-065F01FEB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13.jpeg"/><Relationship Id="rId5" Type="http://schemas.openxmlformats.org/officeDocument/2006/relationships/image" Target="../media/image16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9720" y="285480"/>
            <a:ext cx="72867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596b2e"/>
                </a:solidFill>
                <a:latin typeface="Arial"/>
              </a:rPr>
              <a:t>ИЗЛОЖЕНИЕ.</a:t>
            </a:r>
            <a:br>
              <a:rPr sz="4600"/>
            </a:br>
            <a:r>
              <a:rPr b="1" lang="ru-RU" sz="4600" spc="-1" strike="noStrike">
                <a:solidFill>
                  <a:srgbClr val="596b2e"/>
                </a:solidFill>
                <a:latin typeface="Arial"/>
              </a:rPr>
              <a:t>СЕМЬЯ МЕДВЕДЕЙ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85840" y="5214960"/>
            <a:ext cx="757224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кребиц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ывок из рассказа  «Домик в лес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C:\Users\Инна\Desktop\92446841.jpg"/>
          <p:cNvPicPr/>
          <p:nvPr/>
        </p:nvPicPr>
        <p:blipFill>
          <a:blip r:embed="rId1"/>
          <a:stretch/>
        </p:blipFill>
        <p:spPr>
          <a:xfrm>
            <a:off x="6500880" y="3500280"/>
            <a:ext cx="2286000" cy="316080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69" name="Picture 7" descr="C:\Users\Инна\Desktop\medvedica-medvezhata-derevya-4579.jpg"/>
          <p:cNvPicPr/>
          <p:nvPr/>
        </p:nvPicPr>
        <p:blipFill>
          <a:blip r:embed="rId2"/>
          <a:stretch/>
        </p:blipFill>
        <p:spPr>
          <a:xfrm>
            <a:off x="214200" y="2214720"/>
            <a:ext cx="4929480" cy="314316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071440" y="274680"/>
            <a:ext cx="694836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35023"/>
                </a:solidFill>
                <a:latin typeface="Arial"/>
              </a:rPr>
              <a:t>Картинный пере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C:\Users\Инна\Desktop\5069bc5b45f01.jpg"/>
          <p:cNvPicPr/>
          <p:nvPr/>
        </p:nvPicPr>
        <p:blipFill>
          <a:blip r:embed="rId1"/>
          <a:stretch/>
        </p:blipFill>
        <p:spPr>
          <a:xfrm>
            <a:off x="214200" y="1285920"/>
            <a:ext cx="2643480" cy="203688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208" name="Picture 9" descr="C:\Users\Инна\Desktop\1409150365_1409093306_010.jpg"/>
          <p:cNvPicPr/>
          <p:nvPr/>
        </p:nvPicPr>
        <p:blipFill>
          <a:blip r:embed="rId2"/>
          <a:srcRect l="0" t="0" r="0" b="8264"/>
          <a:stretch/>
        </p:blipFill>
        <p:spPr>
          <a:xfrm>
            <a:off x="3143160" y="1285920"/>
            <a:ext cx="2643120" cy="200016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209" name="Picture 4" descr="C:\Users\Инна\Desktop\107384400_medvezhata_i_mama_WrestlersII_by_Giedrius_Stakauskas.jpg"/>
          <p:cNvPicPr/>
          <p:nvPr/>
        </p:nvPicPr>
        <p:blipFill>
          <a:blip r:embed="rId3"/>
          <a:stretch/>
        </p:blipFill>
        <p:spPr>
          <a:xfrm>
            <a:off x="6072120" y="1285920"/>
            <a:ext cx="2857680" cy="2038320"/>
          </a:xfrm>
          <a:prstGeom prst="rect">
            <a:avLst/>
          </a:prstGeom>
          <a:ln w="28440">
            <a:solidFill>
              <a:srgbClr val="596b2e"/>
            </a:solidFill>
            <a:miter/>
          </a:ln>
        </p:spPr>
      </p:pic>
      <p:pic>
        <p:nvPicPr>
          <p:cNvPr id="210" name="Picture 3" descr="C:\Users\12\Desktop\лодка.jpg"/>
          <p:cNvPicPr/>
          <p:nvPr/>
        </p:nvPicPr>
        <p:blipFill>
          <a:blip r:embed="rId4"/>
          <a:srcRect l="0" t="0" r="0" b="7265"/>
          <a:stretch/>
        </p:blipFill>
        <p:spPr>
          <a:xfrm>
            <a:off x="214200" y="4000680"/>
            <a:ext cx="2786040" cy="226044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211" name="Picture 4" descr="C:\Users\Инна\Desktop\teddy-20.jpg"/>
          <p:cNvPicPr/>
          <p:nvPr/>
        </p:nvPicPr>
        <p:blipFill>
          <a:blip r:embed="rId5"/>
          <a:stretch/>
        </p:blipFill>
        <p:spPr>
          <a:xfrm>
            <a:off x="3214800" y="4000680"/>
            <a:ext cx="2714400" cy="227304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212" name="Picture 2" descr="C:\Users\Инна\Desktop\790579.jpg"/>
          <p:cNvPicPr/>
          <p:nvPr/>
        </p:nvPicPr>
        <p:blipFill>
          <a:blip r:embed="rId6"/>
          <a:stretch/>
        </p:blipFill>
        <p:spPr>
          <a:xfrm>
            <a:off x="6249960" y="4000680"/>
            <a:ext cx="2679840" cy="221436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37720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35023"/>
                </a:solidFill>
                <a:latin typeface="Times New Roman"/>
                <a:ea typeface="Times New Roman"/>
              </a:rPr>
              <a:t>Вопросы пла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856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делала с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дей на б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азгул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а, п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б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л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Что зате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 м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т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увыркал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ь, б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ис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уда м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та забралис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о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стали дела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б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и, з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ли, стали 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ч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ь, 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лись, не с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л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ь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ем была занята м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д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усе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ь, с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л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663040" cy="18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 СОШ № 404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врилова Инна Николаев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Санкт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C:\Users\Инна\Desktop\5069bc5b45f01.jpg"/>
          <p:cNvPicPr/>
          <p:nvPr/>
        </p:nvPicPr>
        <p:blipFill>
          <a:blip r:embed="rId1"/>
          <a:stretch/>
        </p:blipFill>
        <p:spPr>
          <a:xfrm>
            <a:off x="285840" y="1571760"/>
            <a:ext cx="3600360" cy="233676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428760"/>
            <a:ext cx="8929800" cy="1055520"/>
          </a:xfrm>
          <a:prstGeom prst="rect">
            <a:avLst/>
          </a:prstGeom>
          <a:noFill/>
          <a:ln w="9360">
            <a:solidFill>
              <a:srgbClr val="596b2e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 разгул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а с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дей: м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д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 и два м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C:\Users\Инна\Desktop\4497_618.jpg"/>
          <p:cNvPicPr/>
          <p:nvPr/>
        </p:nvPicPr>
        <p:blipFill>
          <a:blip r:embed="rId2"/>
          <a:stretch/>
        </p:blipFill>
        <p:spPr>
          <a:xfrm>
            <a:off x="4357800" y="2714760"/>
            <a:ext cx="3822480" cy="2549520"/>
          </a:xfrm>
          <a:prstGeom prst="rect">
            <a:avLst/>
          </a:prstGeom>
          <a:ln w="57240">
            <a:solidFill>
              <a:srgbClr val="596b2e"/>
            </a:solidFill>
            <a:miter/>
          </a:ln>
        </p:spPr>
      </p:pic>
      <p:pic>
        <p:nvPicPr>
          <p:cNvPr id="173" name="Picture 8" descr="C:\Users\Инна\Desktop\post.jpg"/>
          <p:cNvPicPr/>
          <p:nvPr/>
        </p:nvPicPr>
        <p:blipFill>
          <a:blip r:embed="rId3"/>
          <a:stretch/>
        </p:blipFill>
        <p:spPr>
          <a:xfrm>
            <a:off x="500040" y="4143240"/>
            <a:ext cx="3286080" cy="250668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9" descr="C:\Users\Инна\Desktop\1409150365_1409093306_010.jpg"/>
          <p:cNvPicPr/>
          <p:nvPr/>
        </p:nvPicPr>
        <p:blipFill>
          <a:blip r:embed="rId1"/>
          <a:srcRect l="0" t="0" r="0" b="8264"/>
          <a:stretch/>
        </p:blipFill>
        <p:spPr>
          <a:xfrm>
            <a:off x="285840" y="3000240"/>
            <a:ext cx="5965560" cy="36435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142920"/>
            <a:ext cx="82087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что-то п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б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ли с з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и и 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C:\Users\Инна\Desktop\1318945792_bears_05.jpg"/>
          <p:cNvPicPr/>
          <p:nvPr/>
        </p:nvPicPr>
        <p:blipFill>
          <a:blip r:embed="rId2"/>
          <a:srcRect l="0" t="0" r="0" b="5786"/>
          <a:stretch/>
        </p:blipFill>
        <p:spPr>
          <a:xfrm>
            <a:off x="3929040" y="857160"/>
            <a:ext cx="4854600" cy="292896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Users\Инна\Desktop\14080758855140807586955.jpeg"/>
          <p:cNvPicPr/>
          <p:nvPr/>
        </p:nvPicPr>
        <p:blipFill>
          <a:blip r:embed="rId1"/>
          <a:stretch/>
        </p:blipFill>
        <p:spPr>
          <a:xfrm>
            <a:off x="357120" y="1714680"/>
            <a:ext cx="3643560" cy="2346120"/>
          </a:xfrm>
          <a:prstGeom prst="rect">
            <a:avLst/>
          </a:prstGeom>
          <a:ln w="9360">
            <a:solidFill>
              <a:srgbClr val="596b2e"/>
            </a:solidFill>
            <a:miter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13840" y="356760"/>
            <a:ext cx="864396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 м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та нач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 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ю.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кувыркал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ь и б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ись дру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друг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C:\Users\Инна\Desktop\i.jpg"/>
          <p:cNvPicPr/>
          <p:nvPr/>
        </p:nvPicPr>
        <p:blipFill>
          <a:blip r:embed="rId2"/>
          <a:stretch/>
        </p:blipFill>
        <p:spPr>
          <a:xfrm>
            <a:off x="357120" y="4286160"/>
            <a:ext cx="3686400" cy="2303640"/>
          </a:xfrm>
          <a:prstGeom prst="rect">
            <a:avLst/>
          </a:prstGeom>
          <a:ln w="9360">
            <a:solidFill>
              <a:srgbClr val="596b2e"/>
            </a:solidFill>
            <a:miter/>
          </a:ln>
        </p:spPr>
      </p:pic>
      <p:pic>
        <p:nvPicPr>
          <p:cNvPr id="181" name="Picture 4" descr="C:\Users\Инна\Desktop\107384400_medvezhata_i_mama_WrestlersII_by_Giedrius_Stakauskas.jpg"/>
          <p:cNvPicPr/>
          <p:nvPr/>
        </p:nvPicPr>
        <p:blipFill>
          <a:blip r:embed="rId3"/>
          <a:stretch/>
        </p:blipFill>
        <p:spPr>
          <a:xfrm>
            <a:off x="3929040" y="2643120"/>
            <a:ext cx="4686480" cy="3341880"/>
          </a:xfrm>
          <a:prstGeom prst="rect">
            <a:avLst/>
          </a:prstGeom>
          <a:ln w="9360">
            <a:solidFill>
              <a:srgbClr val="596b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2920" y="259920"/>
            <a:ext cx="873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ру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та п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б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и к бе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, з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ли в ло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 и стали её 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ч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C:\Users\12\Desktop\лодка.jpg"/>
          <p:cNvPicPr/>
          <p:nvPr/>
        </p:nvPicPr>
        <p:blipFill>
          <a:blip r:embed="rId1"/>
          <a:srcRect l="0" t="0" r="0" b="7265"/>
          <a:stretch/>
        </p:blipFill>
        <p:spPr>
          <a:xfrm>
            <a:off x="2411280" y="2421000"/>
            <a:ext cx="6524640" cy="4203720"/>
          </a:xfrm>
          <a:prstGeom prst="rect">
            <a:avLst/>
          </a:prstGeom>
          <a:ln w="38160">
            <a:solidFill>
              <a:srgbClr val="a5bf69"/>
            </a:solidFill>
            <a:miter/>
          </a:ln>
        </p:spPr>
      </p:pic>
      <p:pic>
        <p:nvPicPr>
          <p:cNvPr id="184" name="Picture 4" descr="C:\Users\12\Desktop\ьедвежата.jpg"/>
          <p:cNvPicPr/>
          <p:nvPr/>
        </p:nvPicPr>
        <p:blipFill>
          <a:blip r:embed="rId2"/>
          <a:srcRect l="20181" t="0" r="26061" b="0"/>
          <a:stretch/>
        </p:blipFill>
        <p:spPr>
          <a:xfrm>
            <a:off x="155520" y="1557360"/>
            <a:ext cx="2863800" cy="3330720"/>
          </a:xfrm>
          <a:prstGeom prst="rect">
            <a:avLst/>
          </a:prstGeom>
          <a:ln w="38160">
            <a:solidFill>
              <a:srgbClr val="a5bf6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564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лись д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х пор, п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 не с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л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ь в в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C:\Users\Инна\Desktop\wpid-qJtOKU3r69Q.jpg"/>
          <p:cNvPicPr/>
          <p:nvPr/>
        </p:nvPicPr>
        <p:blipFill>
          <a:blip r:embed="rId1"/>
          <a:stretch/>
        </p:blipFill>
        <p:spPr>
          <a:xfrm>
            <a:off x="857160" y="1857240"/>
            <a:ext cx="6384960" cy="469440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87" name="Picture 4" descr="C:\Users\Инна\Desktop\teddy-20.jpg"/>
          <p:cNvPicPr/>
          <p:nvPr/>
        </p:nvPicPr>
        <p:blipFill>
          <a:blip r:embed="rId2"/>
          <a:stretch/>
        </p:blipFill>
        <p:spPr>
          <a:xfrm>
            <a:off x="5786280" y="228600"/>
            <a:ext cx="3044880" cy="213048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73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 усе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ь на 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 и с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ла за 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C:\Users\Инна\Desktop\790579.jpg"/>
          <p:cNvPicPr/>
          <p:nvPr/>
        </p:nvPicPr>
        <p:blipFill>
          <a:blip r:embed="rId1"/>
          <a:stretch/>
        </p:blipFill>
        <p:spPr>
          <a:xfrm>
            <a:off x="1000080" y="1643040"/>
            <a:ext cx="7238880" cy="482616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8520120" cy="58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 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гу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а с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дей: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 и два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онка.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 что-то п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ли и ел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П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м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та на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 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ю.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 кувыркались и 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лись дру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другом. Вдру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та п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ли к бе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, з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зли в ло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 и стали её раска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ть.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 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ились 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 пор, п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 не с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лись в вод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Ста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 уселась на 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 и с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ла за 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840" y="356760"/>
            <a:ext cx="88059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Роль глагола в тексте</a:t>
            </a:r>
            <a:br>
              <a:rPr sz="32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: </a:t>
            </a:r>
            <a:r>
              <a:rPr b="1" lang="ru-RU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 каждом предложении найди гла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5"/>
          <p:cNvSpPr/>
          <p:nvPr/>
        </p:nvSpPr>
        <p:spPr>
          <a:xfrm>
            <a:off x="357120" y="121428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7"/>
          <p:cNvSpPr/>
          <p:nvPr/>
        </p:nvSpPr>
        <p:spPr>
          <a:xfrm>
            <a:off x="4572000" y="307188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ил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8"/>
          <p:cNvSpPr/>
          <p:nvPr/>
        </p:nvSpPr>
        <p:spPr>
          <a:xfrm>
            <a:off x="428760" y="214308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б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0"/>
          <p:cNvSpPr/>
          <p:nvPr/>
        </p:nvSpPr>
        <p:spPr>
          <a:xfrm>
            <a:off x="428760" y="285768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1"/>
          <p:cNvSpPr/>
          <p:nvPr/>
        </p:nvSpPr>
        <p:spPr>
          <a:xfrm>
            <a:off x="428760" y="364320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2"/>
          <p:cNvSpPr/>
          <p:nvPr/>
        </p:nvSpPr>
        <p:spPr>
          <a:xfrm>
            <a:off x="428760" y="528624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л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3"/>
          <p:cNvSpPr/>
          <p:nvPr/>
        </p:nvSpPr>
        <p:spPr>
          <a:xfrm>
            <a:off x="428760" y="600084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б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4"/>
          <p:cNvSpPr/>
          <p:nvPr/>
        </p:nvSpPr>
        <p:spPr>
          <a:xfrm>
            <a:off x="428760" y="442908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увыркал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15"/>
          <p:cNvSpPr/>
          <p:nvPr/>
        </p:nvSpPr>
        <p:spPr>
          <a:xfrm>
            <a:off x="4572000" y="150012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ез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6"/>
          <p:cNvSpPr/>
          <p:nvPr/>
        </p:nvSpPr>
        <p:spPr>
          <a:xfrm>
            <a:off x="4572000" y="2214720"/>
            <a:ext cx="4286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али раскач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7"/>
          <p:cNvSpPr/>
          <p:nvPr/>
        </p:nvSpPr>
        <p:spPr>
          <a:xfrm>
            <a:off x="4643280" y="4500720"/>
            <a:ext cx="3000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ела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8"/>
          <p:cNvSpPr/>
          <p:nvPr/>
        </p:nvSpPr>
        <p:spPr>
          <a:xfrm>
            <a:off x="4643280" y="3786120"/>
            <a:ext cx="4214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с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л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9"/>
          <p:cNvSpPr/>
          <p:nvPr/>
        </p:nvSpPr>
        <p:spPr>
          <a:xfrm>
            <a:off x="500040" y="150012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гу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0"/>
          <p:cNvSpPr/>
          <p:nvPr/>
        </p:nvSpPr>
        <p:spPr>
          <a:xfrm>
            <a:off x="4572000" y="535788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0:12:45Z</dcterms:created>
  <dc:creator>Инна Н.</dc:creator>
  <dc:description/>
  <dc:language>en-US</dc:language>
  <cp:lastModifiedBy>Инна</cp:lastModifiedBy>
  <dcterms:modified xsi:type="dcterms:W3CDTF">2015-04-19T11:25:39Z</dcterms:modified>
  <cp:revision>41</cp:revision>
  <dc:subject/>
  <dc:title>Изложение. Семья медведей.</dc:title>
</cp:coreProperties>
</file>