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5.wmf" ContentType="image/x-wmf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F5A-716A-4D73-AE82-CAA0A798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297-EEA3-4B5A-B028-D81C968C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6C2-7F71-4073-8C8F-0C78DDC0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88C-9EF3-4C09-A6D4-90EF1DDE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3CE-76E9-4D87-846C-C6D7ADC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9EF-6E55-4882-8001-91EB9D8F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38C-FAD9-4377-9745-516D13BF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F31-9516-4314-AF24-D3024A5E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5A9-BF36-43AD-8F41-E5E01B5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9AB-6EB2-43BB-8E1C-B4CE53A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833-11E8-4641-B7C5-7A9583A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1CA-2989-49C8-85AC-AE8B624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4E7-00F0-42A6-8BE4-5F29992B4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88;&#1103;&#1076;" TargetMode="External"/><Relationship Id="rId2" Type="http://schemas.openxmlformats.org/officeDocument/2006/relationships/hyperlink" Target="http://ru.wikipedia.org/wiki/&#1062;&#1077;&#1088;&#1077;&#1084;&#1086;&#1085;&#1080;&#1103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А И 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309708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№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А И 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РЕЛИ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ли́ги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особая фор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ознания ми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условленна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р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ерхъестественное, включающая в себя свод моральных норм и типо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ве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рядов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льтовых действ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бъединение людей в организации (церковь, религиозную общин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ЛИГ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овоззр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миропонимание, мироощущение, а также сопряженное с ни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д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ей, определяем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уществование сверхъестественной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лиг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лат., особ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ношение челове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 высшему Существу или высшим силам, которым он поклоняе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итуалы в религиях ми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итуал — религиоз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ря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итуал — традиционный порядок проведения какой-либ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церемо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ИЕ БЫВАЮТ РЕЛИГ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обытные ве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ревние рели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радиционные ве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циональные религи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индуизм и иуда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ровые религи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христианство, ислам, будд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HARd\Рабочий стол\2.jpg"/>
          <p:cNvPicPr/>
          <p:nvPr/>
        </p:nvPicPr>
        <p:blipFill>
          <a:blip r:embed="rId1"/>
          <a:stretch/>
        </p:blipFill>
        <p:spPr>
          <a:xfrm>
            <a:off x="6781680" y="1523880"/>
            <a:ext cx="145908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ic_200566_19mn48s36mls749"/>
          <p:cNvPicPr/>
          <p:nvPr/>
        </p:nvPicPr>
        <p:blipFill>
          <a:blip r:embed="rId2"/>
          <a:stretch/>
        </p:blipFill>
        <p:spPr>
          <a:xfrm>
            <a:off x="2666880" y="1600200"/>
            <a:ext cx="1219320" cy="183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file20"/>
          <p:cNvPicPr/>
          <p:nvPr/>
        </p:nvPicPr>
        <p:blipFill>
          <a:blip r:embed="rId3"/>
          <a:stretch/>
        </p:blipFill>
        <p:spPr>
          <a:xfrm>
            <a:off x="4191120" y="1523880"/>
            <a:ext cx="237168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vosres"/>
          <p:cNvPicPr/>
          <p:nvPr/>
        </p:nvPicPr>
        <p:blipFill>
          <a:blip r:embed="rId4"/>
          <a:stretch/>
        </p:blipFill>
        <p:spPr>
          <a:xfrm>
            <a:off x="304920" y="160020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63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основные религии вам известны на территории Росс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07440" y="106668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43200" y="106668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574160" y="106668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д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860160" y="9907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уда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N00116007963"/>
          <p:cNvPicPr/>
          <p:nvPr/>
        </p:nvPicPr>
        <p:blipFill>
          <a:blip r:embed="rId5"/>
          <a:stretch/>
        </p:blipFill>
        <p:spPr>
          <a:xfrm>
            <a:off x="609480" y="3505320"/>
            <a:ext cx="1276560" cy="178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2819520" y="3505320"/>
            <a:ext cx="96048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веды"/>
          <p:cNvPicPr/>
          <p:nvPr/>
        </p:nvPicPr>
        <p:blipFill>
          <a:blip r:embed="rId7"/>
          <a:stretch/>
        </p:blipFill>
        <p:spPr>
          <a:xfrm>
            <a:off x="4495680" y="3352680"/>
            <a:ext cx="110340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0098"/>
          <p:cNvPicPr/>
          <p:nvPr/>
        </p:nvPicPr>
        <p:blipFill>
          <a:blip r:embed="rId8"/>
          <a:stretch/>
        </p:blipFill>
        <p:spPr>
          <a:xfrm>
            <a:off x="7315200" y="3581280"/>
            <a:ext cx="890640" cy="1295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7543800" y="5105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Ях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t3.gstatic.com/images?q=tbn:fxF3M-OopthMUM:http://profi-rus.by.ru/pravoslavie/text/images/pr002.jpg"/>
          <p:cNvPicPr/>
          <p:nvPr/>
        </p:nvPicPr>
        <p:blipFill>
          <a:blip r:embed="rId9"/>
          <a:stretch/>
        </p:blipFill>
        <p:spPr>
          <a:xfrm>
            <a:off x="533520" y="5410080"/>
            <a:ext cx="137160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4"/>
          <p:cNvSpPr/>
          <p:nvPr/>
        </p:nvSpPr>
        <p:spPr>
          <a:xfrm>
            <a:off x="228600" y="6248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219320" y="6095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и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bud2"/>
          <p:cNvPicPr/>
          <p:nvPr/>
        </p:nvPicPr>
        <p:blipFill>
          <a:blip r:embed="rId10"/>
          <a:stretch/>
        </p:blipFill>
        <p:spPr>
          <a:xfrm>
            <a:off x="5029200" y="510552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9"/>
          <p:cNvSpPr/>
          <p:nvPr/>
        </p:nvSpPr>
        <p:spPr>
          <a:xfrm>
            <a:off x="52578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уд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3048120" y="6019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28954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Ал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142920"/>
            <a:ext cx="853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ристианство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гослу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чи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реб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Documents and Settings\HARd\Рабочий стол\н.jpg"/>
          <p:cNvPicPr/>
          <p:nvPr/>
        </p:nvPicPr>
        <p:blipFill>
          <a:blip r:embed="rId1"/>
          <a:stretch/>
        </p:blipFill>
        <p:spPr>
          <a:xfrm>
            <a:off x="3603600" y="2895480"/>
            <a:ext cx="52927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705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азывается страна, в которой мы жив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является главой нашего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зидент Владимир П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://lenta.ru/articles/2007/10/18/putin/picture.jpg"/>
          <p:cNvPicPr/>
          <p:nvPr/>
        </p:nvPicPr>
        <p:blipFill>
          <a:blip r:embed="rId1"/>
          <a:stretch/>
        </p:blipFill>
        <p:spPr>
          <a:xfrm>
            <a:off x="4876920" y="2209680"/>
            <a:ext cx="39765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уал очи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реб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уал притягивания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уалы кра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C:\Documents and Settings\HARd\Рабочий стол\ж.jpg"/>
          <p:cNvPicPr/>
          <p:nvPr/>
        </p:nvPicPr>
        <p:blipFill>
          <a:blip r:embed="rId1"/>
          <a:stretch/>
        </p:blipFill>
        <p:spPr>
          <a:xfrm>
            <a:off x="5181480" y="3733920"/>
            <a:ext cx="3757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л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лосты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м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C:\Documents and Settings\HARd\Рабочий стол\п.jpg"/>
          <p:cNvPicPr/>
          <p:nvPr/>
        </p:nvPicPr>
        <p:blipFill>
          <a:blip r:embed="rId1"/>
          <a:stretch/>
        </p:blipFill>
        <p:spPr>
          <a:xfrm>
            <a:off x="3807000" y="3352680"/>
            <a:ext cx="51861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уда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218960"/>
            <a:ext cx="619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мов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ртвопри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удаизм проникнут ритуалом до мелочей, полон писаных и неписаных правил, кото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C:\Documents and Settings\HARd\Рабочий стол\а.jpg"/>
          <p:cNvPicPr/>
          <p:nvPr/>
        </p:nvPicPr>
        <p:blipFill>
          <a:blip r:embed="rId1"/>
          <a:stretch/>
        </p:blipFill>
        <p:spPr>
          <a:xfrm>
            <a:off x="6095880" y="45720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380880" y="4495680"/>
            <a:ext cx="861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ламентируют деятельность человека: что можно и чего нельзя есть, пить, на ком жениться, когда работать, с кем дружить и кого ненавид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ьте и запишите в тетрадь предложения со словом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ели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99072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ждая религия – часть мировой истории и культуры. Истинно культурный человек должен знать об окружающем его мире и живущих ря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рисовать рису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культура моего на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7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ажите на карте Россию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вы можете сказать о ее территории? Назовите столицу России, покажите ее на ка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russia_map"/>
          <p:cNvPicPr/>
          <p:nvPr/>
        </p:nvPicPr>
        <p:blipFill>
          <a:blip r:embed="rId1"/>
          <a:stretch/>
        </p:blipFill>
        <p:spPr>
          <a:xfrm>
            <a:off x="45720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rcRect l="4166" t="8892" r="19167" b="7780"/>
          <a:stretch/>
        </p:blipFill>
        <p:spPr>
          <a:xfrm>
            <a:off x="533520" y="603360"/>
            <a:ext cx="739116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4:33:34Z</dcterms:created>
  <dc:creator>Irina</dc:creator>
  <dc:description/>
  <dc:language>en-US</dc:language>
  <cp:lastModifiedBy>User</cp:lastModifiedBy>
  <dcterms:modified xsi:type="dcterms:W3CDTF">2012-09-12T19:28:16Z</dcterms:modified>
  <cp:revision>33</cp:revision>
  <dc:subject/>
  <dc:title>КУЛЬТУРА И РЕЛИГИЯ</dc:title>
</cp:coreProperties>
</file>