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6.jpeg" ContentType="image/jpeg"/>
  <Override PartName="/ppt/media/image25.jpeg" ContentType="image/jpeg"/>
  <Override PartName="/ppt/media/image2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3.jpeg" ContentType="image/jpeg"/>
  <Override PartName="/ppt/media/image24.jpeg" ContentType="image/jpeg"/>
  <Override PartName="/ppt/media/image4.png" ContentType="image/png"/>
  <Override PartName="/ppt/media/image5.wmf" ContentType="image/x-wmf"/>
  <Override PartName="/ppt/media/image10.png" ContentType="image/pn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092-AFCA-4ECF-B1CC-1A1D608A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096-2FCF-4E77-B7CE-7276E9CC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2C3-A594-439E-AC98-6D30F20C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171-91FF-44D3-B5D4-ECEC45ED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260-D716-4790-929D-A7E9D7BD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C5C-3A57-4971-9786-2EE8B943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835D-C27B-4D58-A52A-8B8CBBFA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75D-D262-4C15-8D48-9C5810D1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4F1-7A7A-4262-8D2F-B22EF9B6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A85-B6C9-4CED-818D-7A7729FB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302-66F1-48B1-BA35-A0D6F309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7EA-3E94-4645-9884-8D3C2C51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075E-9BDB-4ED4-8CBA-33BE6F37B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88;&#1103;&#1076;" TargetMode="External"/><Relationship Id="rId2" Type="http://schemas.openxmlformats.org/officeDocument/2006/relationships/hyperlink" Target="http://ru.wikipedia.org/wiki/&#1062;&#1077;&#1088;&#1077;&#1084;&#1086;&#1085;&#1080;&#1103;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УЛЬТУРА И РЕЛИ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95640" y="5373720"/>
            <a:ext cx="309708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№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УЛЬТУРА И РЕЛИ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РЕЛИГ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ли́ги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особая форм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ознания ми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бусловленна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еро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ерхъестественное, включающая в себя свод моральных норм и типов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ве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брядов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ультовых действи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бъединение людей в организации (церковь, религиозную общину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ЛИГ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ровоззр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миропонимание, мироощущение, а также сопряженное с ним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едени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ей, определяем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о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уществование сверхъестественной 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лиг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- лат., особ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ношение челове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 высшему Существу или высшим силам, которым он поклоняет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итуалы в религиях ми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итуал — религиоз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ря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итуал — традиционный порядок проведения какой-либ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церемон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ИЕ БЫВАЮТ РЕЛИГ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ервобытные ве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ревние рели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радиционные ве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циональные религии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(индуизм и иудаиз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ировые религии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(христианство, ислам, буддиз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Documents and Settings\HARd\Рабочий стол\2.jpg"/>
          <p:cNvPicPr/>
          <p:nvPr/>
        </p:nvPicPr>
        <p:blipFill>
          <a:blip r:embed="rId1"/>
          <a:stretch/>
        </p:blipFill>
        <p:spPr>
          <a:xfrm>
            <a:off x="6781680" y="1523880"/>
            <a:ext cx="145908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ic_200566_19mn48s36mls749"/>
          <p:cNvPicPr/>
          <p:nvPr/>
        </p:nvPicPr>
        <p:blipFill>
          <a:blip r:embed="rId2"/>
          <a:stretch/>
        </p:blipFill>
        <p:spPr>
          <a:xfrm>
            <a:off x="2666880" y="1600200"/>
            <a:ext cx="1219320" cy="183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file20"/>
          <p:cNvPicPr/>
          <p:nvPr/>
        </p:nvPicPr>
        <p:blipFill>
          <a:blip r:embed="rId3"/>
          <a:stretch/>
        </p:blipFill>
        <p:spPr>
          <a:xfrm>
            <a:off x="4191120" y="1523880"/>
            <a:ext cx="2371680" cy="175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vosres"/>
          <p:cNvPicPr/>
          <p:nvPr/>
        </p:nvPicPr>
        <p:blipFill>
          <a:blip r:embed="rId4"/>
          <a:stretch/>
        </p:blipFill>
        <p:spPr>
          <a:xfrm>
            <a:off x="304920" y="1600200"/>
            <a:ext cx="2209680" cy="17524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7056360" cy="63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е основные религии вам известны на территории Росси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07440" y="106668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авосла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43200" y="1066680"/>
            <a:ext cx="11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574160" y="106668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д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860160" y="9907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уда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N00116007963"/>
          <p:cNvPicPr/>
          <p:nvPr/>
        </p:nvPicPr>
        <p:blipFill>
          <a:blip r:embed="rId5"/>
          <a:stretch/>
        </p:blipFill>
        <p:spPr>
          <a:xfrm>
            <a:off x="609480" y="3505320"/>
            <a:ext cx="1276560" cy="178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2819520" y="3505320"/>
            <a:ext cx="960480" cy="144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веды"/>
          <p:cNvPicPr/>
          <p:nvPr/>
        </p:nvPicPr>
        <p:blipFill>
          <a:blip r:embed="rId7"/>
          <a:stretch/>
        </p:blipFill>
        <p:spPr>
          <a:xfrm>
            <a:off x="4495680" y="3352680"/>
            <a:ext cx="110340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00098"/>
          <p:cNvPicPr/>
          <p:nvPr/>
        </p:nvPicPr>
        <p:blipFill>
          <a:blip r:embed="rId8"/>
          <a:stretch/>
        </p:blipFill>
        <p:spPr>
          <a:xfrm>
            <a:off x="7315200" y="3581280"/>
            <a:ext cx="890640" cy="1295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7"/>
          <p:cNvSpPr/>
          <p:nvPr/>
        </p:nvSpPr>
        <p:spPr>
          <a:xfrm>
            <a:off x="7543800" y="5105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Ях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http://t3.gstatic.com/images?q=tbn:fxF3M-OopthMUM:http://profi-rus.by.ru/pravoslavie/text/images/pr002.jpg"/>
          <p:cNvPicPr/>
          <p:nvPr/>
        </p:nvPicPr>
        <p:blipFill>
          <a:blip r:embed="rId9"/>
          <a:stretch/>
        </p:blipFill>
        <p:spPr>
          <a:xfrm>
            <a:off x="533520" y="5410080"/>
            <a:ext cx="1371600" cy="1246320"/>
          </a:xfrm>
          <a:prstGeom prst="rect">
            <a:avLst/>
          </a:prstGeom>
          <a:ln w="0">
            <a:noFill/>
          </a:ln>
        </p:spPr>
      </p:pic>
      <p:sp>
        <p:nvSpPr>
          <p:cNvPr id="82" name="TextBox 24"/>
          <p:cNvSpPr/>
          <p:nvPr/>
        </p:nvSpPr>
        <p:spPr>
          <a:xfrm>
            <a:off x="228600" y="6248520"/>
            <a:ext cx="83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1219320" y="6095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Иис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bud2"/>
          <p:cNvPicPr/>
          <p:nvPr/>
        </p:nvPicPr>
        <p:blipFill>
          <a:blip r:embed="rId10"/>
          <a:stretch/>
        </p:blipFill>
        <p:spPr>
          <a:xfrm>
            <a:off x="5029200" y="5105520"/>
            <a:ext cx="127152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29"/>
          <p:cNvSpPr/>
          <p:nvPr/>
        </p:nvSpPr>
        <p:spPr>
          <a:xfrm>
            <a:off x="5257800" y="624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Буд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0"/>
          <p:cNvSpPr/>
          <p:nvPr/>
        </p:nvSpPr>
        <p:spPr>
          <a:xfrm>
            <a:off x="3048120" y="6019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1"/>
          <p:cNvSpPr/>
          <p:nvPr/>
        </p:nvSpPr>
        <p:spPr>
          <a:xfrm>
            <a:off x="2895480" y="541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Алл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142920"/>
            <a:ext cx="85345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Христианство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ли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гослу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нч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чи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реб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C:\Documents and Settings\HARd\Рабочий стол\н.jpg"/>
          <p:cNvPicPr/>
          <p:nvPr/>
        </p:nvPicPr>
        <p:blipFill>
          <a:blip r:embed="rId1"/>
          <a:stretch/>
        </p:blipFill>
        <p:spPr>
          <a:xfrm>
            <a:off x="3603600" y="2895480"/>
            <a:ext cx="529272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СПОМ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7052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называется страна, в которой мы жив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является главой нашего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езидент Владимир Пу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http://lenta.ru/articles/2007/10/18/putin/picture.jpg"/>
          <p:cNvPicPr/>
          <p:nvPr/>
        </p:nvPicPr>
        <p:blipFill>
          <a:blip r:embed="rId1"/>
          <a:stretch/>
        </p:blipFill>
        <p:spPr>
          <a:xfrm>
            <a:off x="4876920" y="2209680"/>
            <a:ext cx="397656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удд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ли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туал очи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реб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туал притягивания богат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туалы кра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C:\Documents and Settings\HARd\Рабочий стол\ж.jpg"/>
          <p:cNvPicPr/>
          <p:nvPr/>
        </p:nvPicPr>
        <p:blipFill>
          <a:blip r:embed="rId1"/>
          <a:stretch/>
        </p:blipFill>
        <p:spPr>
          <a:xfrm>
            <a:off x="5181480" y="3733920"/>
            <a:ext cx="3757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сл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ли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лосты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м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C:\Documents and Settings\HARd\Рабочий стол\п.jpg"/>
          <p:cNvPicPr/>
          <p:nvPr/>
        </p:nvPicPr>
        <p:blipFill>
          <a:blip r:embed="rId1"/>
          <a:stretch/>
        </p:blipFill>
        <p:spPr>
          <a:xfrm>
            <a:off x="3807000" y="3352680"/>
            <a:ext cx="51861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уда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218960"/>
            <a:ext cx="619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ли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мов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ртвоприно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удаизм проникнут ритуалом до мелочей, полон писаных и неписаных правил, котор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C:\Documents and Settings\HARd\Рабочий стол\а.jpg"/>
          <p:cNvPicPr/>
          <p:nvPr/>
        </p:nvPicPr>
        <p:blipFill>
          <a:blip r:embed="rId1"/>
          <a:stretch/>
        </p:blipFill>
        <p:spPr>
          <a:xfrm>
            <a:off x="6095880" y="457200"/>
            <a:ext cx="281952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380880" y="4495680"/>
            <a:ext cx="861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ламентируют деятельность человека: что можно и чего нельзя есть, пить, на ком жениться, когда работать, с кем дружить и кого ненавид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ьте и запишите в тетрадь предложения со словом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елиги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99072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ждая религия – часть мировой истории и культуры. Истинно культурный человек должен знать об окружающем его мире и живущих ря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рисовать рисун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культура моего нар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7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кажите на карте Россию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вы можете сказать о ее территории? Назовите столицу России, покажите ее на кар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russia_map"/>
          <p:cNvPicPr/>
          <p:nvPr/>
        </p:nvPicPr>
        <p:blipFill>
          <a:blip r:embed="rId1"/>
          <a:stretch/>
        </p:blipFill>
        <p:spPr>
          <a:xfrm>
            <a:off x="457200" y="19810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rcRect l="4166" t="8892" r="19167" b="7780"/>
          <a:stretch/>
        </p:blipFill>
        <p:spPr>
          <a:xfrm>
            <a:off x="533520" y="603360"/>
            <a:ext cx="739116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4:33:34Z</dcterms:created>
  <dc:creator>Irina</dc:creator>
  <dc:description/>
  <dc:language>en-US</dc:language>
  <cp:lastModifiedBy>User</cp:lastModifiedBy>
  <dcterms:modified xsi:type="dcterms:W3CDTF">2012-09-12T19:28:16Z</dcterms:modified>
  <cp:revision>33</cp:revision>
  <dc:subject/>
  <dc:title>КУЛЬТУРА И РЕЛИГИЯ</dc:title>
</cp:coreProperties>
</file>