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C112-5FF0-424D-A9E4-F054B15D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0694-D426-4C71-83C1-7D5AFDD5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AA11-07F9-4C69-9255-0BA9C6BF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EE50-C4DB-4266-A083-4AE901CF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8D88-2C89-474E-BA68-50934912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1CD9-DB1A-417F-B31F-57EEBB54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3745-55FA-4D3C-8381-AC0E15C4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00DC-D9CE-4FCA-88D6-980141A5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1542-C9F5-4866-9AF0-6967E4E7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0095-1E21-4CB0-83F7-CEBB7AD6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2C7-B039-4787-B5DE-F7903E27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EC3E-C432-4C22-B105-B566E90B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1F5E-B439-43E5-A231-72E43DA979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877680"/>
            <a:ext cx="7061040" cy="998280"/>
          </a:xfrm>
          <a:prstGeom prst="rect">
            <a:avLst/>
          </a:prstGeom>
          <a:solidFill>
            <a:srgbClr val="fff2cc"/>
          </a:solidFill>
          <a:ln w="12600">
            <a:solidFill>
              <a:srgbClr val="bc8c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Графы и нейронные сети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2400120"/>
            <a:ext cx="6946920" cy="1890360"/>
          </a:xfrm>
          <a:prstGeom prst="rect">
            <a:avLst/>
          </a:prstGeom>
          <a:solidFill>
            <a:srgbClr val="fff2cc">
              <a:alpha val="71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ыполнила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ученица 10 Б класса ГБОУ «Школа с углубленным изучением английского языка №1362»  Маркова М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аучный руководите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учитель информатики Санина Марина Серге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ашивка 3"/>
          <p:cNvSpPr/>
          <p:nvPr/>
        </p:nvSpPr>
        <p:spPr>
          <a:xfrm>
            <a:off x="7304040" y="917640"/>
            <a:ext cx="1295280" cy="9716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71640"/>
              <a:gd name="textAreaBottom" fmla="*/ 972000 h 9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fff2cc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йропакет NeuroShеl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6" name="Содержимое 3" descr="FuzzyPatternRecognizerPlus.gif"/>
          <p:cNvPicPr/>
          <p:nvPr/>
        </p:nvPicPr>
        <p:blipFill>
          <a:blip r:embed="rId1"/>
          <a:stretch/>
        </p:blipFill>
        <p:spPr>
          <a:xfrm>
            <a:off x="673200" y="1154160"/>
            <a:ext cx="826776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йропакет Process Advis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8" name="Содержимое 5" descr="figure2.jpg"/>
          <p:cNvPicPr/>
          <p:nvPr/>
        </p:nvPicPr>
        <p:blipFill>
          <a:blip r:embed="rId1"/>
          <a:stretch/>
        </p:blipFill>
        <p:spPr>
          <a:xfrm>
            <a:off x="1308240" y="1066680"/>
            <a:ext cx="765792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йропакет NeuroSolu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0" name="Содержимое 3" descr="7f612dd7.png"/>
          <p:cNvPicPr/>
          <p:nvPr/>
        </p:nvPicPr>
        <p:blipFill>
          <a:blip r:embed="rId1"/>
          <a:stretch/>
        </p:blipFill>
        <p:spPr>
          <a:xfrm>
            <a:off x="399960" y="1351080"/>
            <a:ext cx="8477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йропакет NeuralWorks Professional II/ Plu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2" name="Содержимое 3" descr="3.jpg"/>
          <p:cNvPicPr/>
          <p:nvPr/>
        </p:nvPicPr>
        <p:blipFill>
          <a:blip r:embed="rId1"/>
          <a:stretch/>
        </p:blipFill>
        <p:spPr>
          <a:xfrm>
            <a:off x="2722680" y="1849320"/>
            <a:ext cx="642132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QwikNet32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4" name="Содержимое 3" descr="1_html_3b3d0a82.gif"/>
          <p:cNvPicPr/>
          <p:nvPr/>
        </p:nvPicPr>
        <p:blipFill>
          <a:blip r:embed="rId1"/>
          <a:stretch/>
        </p:blipFill>
        <p:spPr>
          <a:xfrm>
            <a:off x="2190600" y="1346040"/>
            <a:ext cx="695340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28560" y="1296720"/>
            <a:ext cx="788688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бъект исследован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нейронная се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едмет исследован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нейропаке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етод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оведенных исследований: поисковый метод, теоретическое обобщение, сравнение, анализ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96560" y="2124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зучить  нейропакеты, имитирующие работу нейронной се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адачи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учить основные понятия теории граф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отреть  понятие «нейронная сеть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елить модели нейронных сет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учить и сравнить нейропаке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езультат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еление достоинств и недостатков нейропаке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сновные понятия теории графо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ф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риентированный граф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еориентированный граф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олные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еполные граф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звешенный граф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сновные понятия нейронных сете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90400" y="16603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йронные се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кусственный нейрон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апс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сон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хронные /асинхронные нейронны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рхитектура нейронной се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1160" y="20016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 Light"/>
              </a:rPr>
              <a:t>Исследователи искусственного интеллект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Содержимое 5" descr="McM-td1v2.jpg"/>
          <p:cNvPicPr/>
          <p:nvPr/>
        </p:nvPicPr>
        <p:blipFill>
          <a:blip r:embed="rId1"/>
          <a:stretch/>
        </p:blipFill>
        <p:spPr>
          <a:xfrm>
            <a:off x="0" y="1990800"/>
            <a:ext cx="4657680" cy="3822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0" y="5904000"/>
            <a:ext cx="463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оррен Мак-Калл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олтер Питт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7" descr="walter pitts.jpg"/>
          <p:cNvPicPr/>
          <p:nvPr/>
        </p:nvPicPr>
        <p:blipFill>
          <a:blip r:embed="rId2"/>
          <a:stretch/>
        </p:blipFill>
        <p:spPr>
          <a:xfrm>
            <a:off x="4873680" y="1574640"/>
            <a:ext cx="325440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5" name="Содержимое 3" descr="google-face-detection-layer-500px.png"/>
          <p:cNvPicPr/>
          <p:nvPr/>
        </p:nvPicPr>
        <p:blipFill>
          <a:blip r:embed="rId1"/>
          <a:stretch/>
        </p:blipFill>
        <p:spPr>
          <a:xfrm>
            <a:off x="0" y="0"/>
            <a:ext cx="5283360" cy="39625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image030.jpg"/>
          <p:cNvPicPr/>
          <p:nvPr/>
        </p:nvPicPr>
        <p:blipFill>
          <a:blip r:embed="rId2"/>
          <a:stretch/>
        </p:blipFill>
        <p:spPr>
          <a:xfrm>
            <a:off x="0" y="3557520"/>
            <a:ext cx="5270400" cy="33004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i (2).jpg"/>
          <p:cNvPicPr/>
          <p:nvPr/>
        </p:nvPicPr>
        <p:blipFill>
          <a:blip r:embed="rId3"/>
          <a:stretch/>
        </p:blipFill>
        <p:spPr>
          <a:xfrm>
            <a:off x="5257800" y="0"/>
            <a:ext cx="3886200" cy="30369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7" descr="135846.jpg"/>
          <p:cNvPicPr/>
          <p:nvPr/>
        </p:nvPicPr>
        <p:blipFill>
          <a:blip r:embed="rId4"/>
          <a:stretch/>
        </p:blipFill>
        <p:spPr>
          <a:xfrm>
            <a:off x="4940280" y="3022560"/>
            <a:ext cx="420372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7000" y="330120"/>
            <a:ext cx="78865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щий вид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йрон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Содержимое 3" descr="image002.jpg"/>
          <p:cNvPicPr/>
          <p:nvPr/>
        </p:nvPicPr>
        <p:blipFill>
          <a:blip r:embed="rId1"/>
          <a:stretch/>
        </p:blipFill>
        <p:spPr>
          <a:xfrm>
            <a:off x="4927680" y="0"/>
            <a:ext cx="4216320" cy="36241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m1920ee0.png"/>
          <p:cNvPicPr/>
          <p:nvPr/>
        </p:nvPicPr>
        <p:blipFill>
          <a:blip r:embed="rId2"/>
          <a:stretch/>
        </p:blipFill>
        <p:spPr>
          <a:xfrm>
            <a:off x="4915080" y="3594240"/>
            <a:ext cx="4228920" cy="32637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ttt37.jpg"/>
          <p:cNvPicPr/>
          <p:nvPr/>
        </p:nvPicPr>
        <p:blipFill>
          <a:blip r:embed="rId3"/>
          <a:stretch/>
        </p:blipFill>
        <p:spPr>
          <a:xfrm>
            <a:off x="0" y="1866960"/>
            <a:ext cx="49276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йропакет MatLab + Neural Network Toolbox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" name="Содержимое 3" descr="97.png"/>
          <p:cNvPicPr/>
          <p:nvPr/>
        </p:nvPicPr>
        <p:blipFill>
          <a:blip r:embed="rId1"/>
          <a:stretch/>
        </p:blipFill>
        <p:spPr>
          <a:xfrm>
            <a:off x="546120" y="1469880"/>
            <a:ext cx="83566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3T12:52:24Z</dcterms:created>
  <dc:creator>Инна</dc:creator>
  <dc:description/>
  <dc:language>en-US</dc:language>
  <cp:lastModifiedBy>user</cp:lastModifiedBy>
  <dcterms:modified xsi:type="dcterms:W3CDTF">2015-04-17T17:44:07Z</dcterms:modified>
  <cp:revision>4</cp:revision>
  <dc:subject/>
  <dc:title>Презентация PowerPoint</dc:title>
</cp:coreProperties>
</file>