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98E5-7167-43EC-A9A8-25308841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698-BC45-449B-947D-7C01DBE8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6FD-C5CE-420F-85F0-B3AD6A0E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337-BD53-4AED-BFB8-F22E7A06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ECE-5D15-4B28-9E31-FC517FC7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ED8-DD81-42F2-A372-1BDB1BB9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E09-6B48-4E56-AD66-90DA93C0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256-3F24-46E8-A780-C2C5BC76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0CD-2435-47B9-BF3F-244E9851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57E-C0ED-420E-8B9C-3896D3EC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B99-3E51-47EB-80E9-4F27AE6C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107-21C9-4D82-B90F-FE5A8DBC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0B17-D78E-40BE-AB33-EEEB80CBB2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77680"/>
            <a:ext cx="7061040" cy="998280"/>
          </a:xfrm>
          <a:prstGeom prst="rect">
            <a:avLst/>
          </a:prstGeom>
          <a:solidFill>
            <a:srgbClr val="fff2cc"/>
          </a:solidFill>
          <a:ln w="12600">
            <a:solidFill>
              <a:srgbClr val="bc8c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Графы и нейронные сети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400120"/>
            <a:ext cx="6946920" cy="1890360"/>
          </a:xfrm>
          <a:prstGeom prst="rect">
            <a:avLst/>
          </a:prstGeom>
          <a:solidFill>
            <a:srgbClr val="fff2cc">
              <a:alpha val="71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ыполнил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ученица 10 Б класса ГБОУ «Школа с углубленным изучением английского языка №1362»  Маркова М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аучный руководит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учитель информатики Санина Марина Серг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ашивка 3"/>
          <p:cNvSpPr/>
          <p:nvPr/>
        </p:nvSpPr>
        <p:spPr>
          <a:xfrm>
            <a:off x="7304040" y="917640"/>
            <a:ext cx="1295280" cy="9716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fff2cc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йропакет NeuroShе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Содержимое 3" descr="FuzzyPatternRecognizerPlus.gif"/>
          <p:cNvPicPr/>
          <p:nvPr/>
        </p:nvPicPr>
        <p:blipFill>
          <a:blip r:embed="rId1"/>
          <a:stretch/>
        </p:blipFill>
        <p:spPr>
          <a:xfrm>
            <a:off x="673200" y="1154160"/>
            <a:ext cx="826776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йропакет Process Advis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Содержимое 5" descr="figure2.jpg"/>
          <p:cNvPicPr/>
          <p:nvPr/>
        </p:nvPicPr>
        <p:blipFill>
          <a:blip r:embed="rId1"/>
          <a:stretch/>
        </p:blipFill>
        <p:spPr>
          <a:xfrm>
            <a:off x="1308240" y="1066680"/>
            <a:ext cx="765792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йропакет NeuroSolu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Содержимое 3" descr="7f612dd7.png"/>
          <p:cNvPicPr/>
          <p:nvPr/>
        </p:nvPicPr>
        <p:blipFill>
          <a:blip r:embed="rId1"/>
          <a:stretch/>
        </p:blipFill>
        <p:spPr>
          <a:xfrm>
            <a:off x="399960" y="1351080"/>
            <a:ext cx="8477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йропакет NeuralWorks Professional II/ Plu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Содержимое 3" descr="3.jpg"/>
          <p:cNvPicPr/>
          <p:nvPr/>
        </p:nvPicPr>
        <p:blipFill>
          <a:blip r:embed="rId1"/>
          <a:stretch/>
        </p:blipFill>
        <p:spPr>
          <a:xfrm>
            <a:off x="2722680" y="1849320"/>
            <a:ext cx="642132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QwikNet32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Содержимое 3" descr="1_html_3b3d0a82.gif"/>
          <p:cNvPicPr/>
          <p:nvPr/>
        </p:nvPicPr>
        <p:blipFill>
          <a:blip r:embed="rId1"/>
          <a:stretch/>
        </p:blipFill>
        <p:spPr>
          <a:xfrm>
            <a:off x="2190600" y="1346040"/>
            <a:ext cx="69534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28560" y="1296720"/>
            <a:ext cx="788688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бъект исследова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нейронная се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едмет исследова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нейропак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тод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оведенных исследований: поисковый метод, теоретическое обобщение, сравнение, анализ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96560" y="2124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зучить  нейропакеты, имитирующие работу нейронной се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ить основные понятия теории граф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еть  понятие «нейронная сеть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ить модели нейронных сет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ить и сравнить нейропак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ение достоинств и недостатков нейропаке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новные понятия теории граф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ф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риентированный граф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ориентированный граф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лны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полные граф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звешенный гра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новные понятия нейронных сете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90400" y="16603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йронные се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усственный нейро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ап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со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хронные /асинхронные нейрон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хитектура нейронной се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1160" y="2001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Исследователи искусственного интеллект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Содержимое 5" descr="McM-td1v2.jpg"/>
          <p:cNvPicPr/>
          <p:nvPr/>
        </p:nvPicPr>
        <p:blipFill>
          <a:blip r:embed="rId1"/>
          <a:stretch/>
        </p:blipFill>
        <p:spPr>
          <a:xfrm>
            <a:off x="0" y="1990800"/>
            <a:ext cx="4657680" cy="3822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0" y="5904000"/>
            <a:ext cx="463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оррен Мак-Калл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олтер Питт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7" descr="walter pitts.jpg"/>
          <p:cNvPicPr/>
          <p:nvPr/>
        </p:nvPicPr>
        <p:blipFill>
          <a:blip r:embed="rId2"/>
          <a:stretch/>
        </p:blipFill>
        <p:spPr>
          <a:xfrm>
            <a:off x="4873680" y="1574640"/>
            <a:ext cx="32544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Содержимое 3" descr="google-face-detection-layer-500px.png"/>
          <p:cNvPicPr/>
          <p:nvPr/>
        </p:nvPicPr>
        <p:blipFill>
          <a:blip r:embed="rId1"/>
          <a:stretch/>
        </p:blipFill>
        <p:spPr>
          <a:xfrm>
            <a:off x="0" y="0"/>
            <a:ext cx="5283360" cy="3962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image030.jpg"/>
          <p:cNvPicPr/>
          <p:nvPr/>
        </p:nvPicPr>
        <p:blipFill>
          <a:blip r:embed="rId2"/>
          <a:stretch/>
        </p:blipFill>
        <p:spPr>
          <a:xfrm>
            <a:off x="0" y="3557520"/>
            <a:ext cx="5270400" cy="3300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i (2).jpg"/>
          <p:cNvPicPr/>
          <p:nvPr/>
        </p:nvPicPr>
        <p:blipFill>
          <a:blip r:embed="rId3"/>
          <a:stretch/>
        </p:blipFill>
        <p:spPr>
          <a:xfrm>
            <a:off x="5257800" y="0"/>
            <a:ext cx="3886200" cy="3036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135846.jpg"/>
          <p:cNvPicPr/>
          <p:nvPr/>
        </p:nvPicPr>
        <p:blipFill>
          <a:blip r:embed="rId4"/>
          <a:stretch/>
        </p:blipFill>
        <p:spPr>
          <a:xfrm>
            <a:off x="4940280" y="3022560"/>
            <a:ext cx="42037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7000" y="330120"/>
            <a:ext cx="78865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щий вид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йро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Содержимое 3" descr="image002.jpg"/>
          <p:cNvPicPr/>
          <p:nvPr/>
        </p:nvPicPr>
        <p:blipFill>
          <a:blip r:embed="rId1"/>
          <a:stretch/>
        </p:blipFill>
        <p:spPr>
          <a:xfrm>
            <a:off x="4927680" y="0"/>
            <a:ext cx="4216320" cy="36241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m1920ee0.png"/>
          <p:cNvPicPr/>
          <p:nvPr/>
        </p:nvPicPr>
        <p:blipFill>
          <a:blip r:embed="rId2"/>
          <a:stretch/>
        </p:blipFill>
        <p:spPr>
          <a:xfrm>
            <a:off x="4915080" y="3594240"/>
            <a:ext cx="4228920" cy="32637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ttt37.jpg"/>
          <p:cNvPicPr/>
          <p:nvPr/>
        </p:nvPicPr>
        <p:blipFill>
          <a:blip r:embed="rId3"/>
          <a:stretch/>
        </p:blipFill>
        <p:spPr>
          <a:xfrm>
            <a:off x="0" y="1866960"/>
            <a:ext cx="49276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йропакет MatLab + Neural Network Toolbox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Содержимое 3" descr="97.png"/>
          <p:cNvPicPr/>
          <p:nvPr/>
        </p:nvPicPr>
        <p:blipFill>
          <a:blip r:embed="rId1"/>
          <a:stretch/>
        </p:blipFill>
        <p:spPr>
          <a:xfrm>
            <a:off x="546120" y="1469880"/>
            <a:ext cx="83566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12:52:24Z</dcterms:created>
  <dc:creator>Инна</dc:creator>
  <dc:description/>
  <dc:language>en-US</dc:language>
  <cp:lastModifiedBy>user</cp:lastModifiedBy>
  <dcterms:modified xsi:type="dcterms:W3CDTF">2015-04-17T17:44:07Z</dcterms:modified>
  <cp:revision>4</cp:revision>
  <dc:subject/>
  <dc:title>Презентация PowerPoint</dc:title>
</cp:coreProperties>
</file>