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gif" ContentType="image/gif"/>
  <Override PartName="/ppt/media/image8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.gif" ContentType="image/gif"/>
  <Override PartName="/ppt/media/image25.png" ContentType="image/png"/>
  <Override PartName="/ppt/media/image22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4A085-8CD4-4778-AC9E-B542223603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8C987-9D91-4108-AFDE-4FC690719B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05CF6-187D-4A64-B405-50E8ED8998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BAD20-95FB-4241-B6A6-31C858102E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ACCE2-9D9A-4334-A957-FF0E0FC314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0FF4F-5FD3-4F46-94AE-C41E6CC117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AAECE-F4C1-4D9B-801E-B024869BF3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9D725-B226-4BA6-B56C-2D143BE8DA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BDA96-B61B-4B41-8F2A-A70BF64104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17DAD-1F52-43AE-B031-532BB5F80F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B729E-AD20-48B4-B960-AFF45E52F3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CD310-B437-4F83-B355-A05DE03F8F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11C776-4CDE-4D44-A3F2-936FB342EA33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0.pn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3.jpeg"/><Relationship Id="rId7" Type="http://schemas.openxmlformats.org/officeDocument/2006/relationships/image" Target="../media/image8.png"/><Relationship Id="rId8" Type="http://schemas.openxmlformats.org/officeDocument/2006/relationships/image" Target="../media/image9.gi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1680" y="1214280"/>
            <a:ext cx="800100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Comic Sans MS"/>
              </a:rPr>
              <a:t>Презентация по английскому язык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333399"/>
                </a:solidFill>
                <a:latin typeface="Comic Sans MS"/>
              </a:rPr>
              <a:t>по теме «</a:t>
            </a: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Travelling to the Past Simple Land</a:t>
            </a:r>
            <a:r>
              <a:rPr b="1" lang="ru-RU" sz="4400" spc="-1" strike="noStrike">
                <a:solidFill>
                  <a:srgbClr val="333399"/>
                </a:solidFill>
                <a:latin typeface="Comic Sans MS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Comic Sans MS"/>
              </a:rPr>
              <a:t>МБОУ «СОШ №10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Comic Sans MS"/>
              </a:rPr>
              <a:t>Ученица 4а класса:Воложанина Дарья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771640" y="155736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87480" cy="843120"/>
          </a:xfrm>
          <a:prstGeom prst="rect">
            <a:avLst/>
          </a:prstGeom>
          <a:ln w="0">
            <a:noFill/>
          </a:ln>
        </p:spPr>
      </p:pic>
      <p:grpSp>
        <p:nvGrpSpPr>
          <p:cNvPr id="124" name=""/>
          <p:cNvGrpSpPr/>
          <p:nvPr/>
        </p:nvGrpSpPr>
        <p:grpSpPr>
          <a:xfrm>
            <a:off x="6761160" y="260280"/>
            <a:ext cx="2382840" cy="2808360"/>
            <a:chOff x="6761160" y="260280"/>
            <a:chExt cx="2382840" cy="2808360"/>
          </a:xfrm>
        </p:grpSpPr>
        <p:pic>
          <p:nvPicPr>
            <p:cNvPr id="125" name="" descr=""/>
            <p:cNvPicPr/>
            <p:nvPr/>
          </p:nvPicPr>
          <p:blipFill>
            <a:blip r:embed="rId3"/>
            <a:stretch/>
          </p:blipFill>
          <p:spPr>
            <a:xfrm>
              <a:off x="6761160" y="260280"/>
              <a:ext cx="2382840" cy="28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6761160" y="260280"/>
              <a:ext cx="2382840" cy="28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0" y="0"/>
            <a:ext cx="9144000" cy="71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Гномик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Tim</a:t>
            </a: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 очень любит похвастаться. Давайте не согласимся с н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8000"/>
                </a:solidFill>
                <a:uFillTx/>
                <a:latin typeface="Comic Sans MS"/>
              </a:rPr>
              <a:t>Образец: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tch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V at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tc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V at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hands and face ten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hands and face ten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chess with a champ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chess with a champ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help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friends to do their home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help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friends to do their home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clean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teeth three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clea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teeth three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885080" y="580536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6012000" y="1341360"/>
            <a:ext cx="987120" cy="843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7812000" y="3429000"/>
            <a:ext cx="987480" cy="8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dur="indefinite" fill="hold">
                      <p:stCondLst>
                        <p:cond delay="indefinite"/>
                      </p:stCondLst>
                      <p:childTnLst>
                        <p:par>
                          <p:cTn id="4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dur="indefinite" fill="hold">
                      <p:stCondLst>
                        <p:cond delay="indefinite"/>
                      </p:stCondLst>
                      <p:childTnLst>
                        <p:par>
                          <p:cTn id="4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dur="indefinite" fill="hold">
                      <p:stCondLst>
                        <p:cond delay="indefinite"/>
                      </p:stCondLst>
                      <p:childTnLst>
                        <p:par>
                          <p:cTn id="4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dur="indefinite" fill="hold">
                      <p:stCondLst>
                        <p:cond delay="indefinite"/>
                      </p:stCondLst>
                      <p:childTnLst>
                        <p:par>
                          <p:cTn id="4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dur="indefinite" fill="hold">
                      <p:stCondLst>
                        <p:cond delay="indefinite"/>
                      </p:stCondLst>
                      <p:childTnLst>
                        <p:par>
                          <p:cTn id="5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dur="indefinite" fill="hold">
                      <p:stCondLst>
                        <p:cond delay="indefinite"/>
                      </p:stCondLst>
                      <p:childTnLst>
                        <p:par>
                          <p:cTn id="5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dur="indefinite" fill="hold">
                      <p:stCondLst>
                        <p:cond delay="indefinite"/>
                      </p:stCondLst>
                      <p:childTnLst>
                        <p:par>
                          <p:cTn id="5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dur="indefinite" fill="hold">
                      <p:stCondLst>
                        <p:cond delay="indefinite"/>
                      </p:stCondLst>
                      <p:childTnLst>
                        <p:par>
                          <p:cTn id="5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dur="indefinite" fill="hold">
                      <p:stCondLst>
                        <p:cond delay="indefinite"/>
                      </p:stCondLst>
                      <p:childTnLst>
                        <p:par>
                          <p:cTn id="5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dur="indefinite" fill="hold">
                      <p:stCondLst>
                        <p:cond delay="indefinite"/>
                      </p:stCondLst>
                      <p:childTnLst>
                        <p:par>
                          <p:cTn id="5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15920"/>
            <a:ext cx="8964720" cy="65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А теперь давайте переспросим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8000"/>
                </a:solidFill>
                <a:uFillTx/>
                <a:latin typeface="Comic Sans MS"/>
              </a:rPr>
              <a:t>Образец: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tch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V at n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watc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V at nig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y hands and face ten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r hands and face ten ti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hess with a champ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pla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hess with a champ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help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y friends to do their home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help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r friends to do their home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lean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y teeth thre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clea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r teeth three ti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643880" y="5000760"/>
            <a:ext cx="1203120" cy="1027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929200" y="5286240"/>
            <a:ext cx="1347840" cy="1150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7000920" y="714240"/>
            <a:ext cx="1347840" cy="1150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6929280" y="2357280"/>
            <a:ext cx="2214720" cy="221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dur="indefinite" fill="hold">
                      <p:stCondLst>
                        <p:cond delay="indefinite"/>
                      </p:stCondLst>
                      <p:childTnLst>
                        <p:par>
                          <p:cTn id="5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dur="indefinite" fill="hold">
                      <p:stCondLst>
                        <p:cond delay="indefinite"/>
                      </p:stCondLst>
                      <p:childTnLst>
                        <p:par>
                          <p:cTn id="5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dur="indefinite" fill="hold">
                      <p:stCondLst>
                        <p:cond delay="indefinite"/>
                      </p:stCondLst>
                      <p:childTnLst>
                        <p:par>
                          <p:cTn id="5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dur="indefinite" fill="hold">
                      <p:stCondLst>
                        <p:cond delay="indefinite"/>
                      </p:stCondLst>
                      <p:childTnLst>
                        <p:par>
                          <p:cTn id="5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dur="indefinite" fill="hold">
                      <p:stCondLst>
                        <p:cond delay="indefinite"/>
                      </p:stCondLst>
                      <p:childTnLst>
                        <p:par>
                          <p:cTn id="5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dur="indefinite" fill="hold">
                      <p:stCondLst>
                        <p:cond delay="indefinite"/>
                      </p:stCondLst>
                      <p:childTnLst>
                        <p:par>
                          <p:cTn id="5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dur="indefinite" fill="hold">
                      <p:stCondLst>
                        <p:cond delay="indefinite"/>
                      </p:stCondLst>
                      <p:childTnLst>
                        <p:par>
                          <p:cTn id="5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dur="indefinite" fill="hold">
                      <p:stCondLst>
                        <p:cond delay="indefinite"/>
                      </p:stCondLst>
                      <p:childTnLst>
                        <p:par>
                          <p:cTn id="5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dur="indefinite" fill="hold">
                      <p:stCondLst>
                        <p:cond delay="indefinite"/>
                      </p:stCondLst>
                      <p:childTnLst>
                        <p:par>
                          <p:cTn id="5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dur="indefinite" fill="hold">
                      <p:stCondLst>
                        <p:cond delay="indefinite"/>
                      </p:stCondLst>
                      <p:childTnLst>
                        <p:par>
                          <p:cTn id="5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57200" y="1197000"/>
            <a:ext cx="86868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6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otball 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i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you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otb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Wha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i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you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yester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Wh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otball yesterday?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429080" y="5500800"/>
            <a:ext cx="1440000" cy="1036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Comic Sans MS"/>
              </a:rPr>
              <a:t>Wha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Comic Sans MS"/>
              <a:ea typeface="Comic Sans MS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7020000" y="2421000"/>
            <a:ext cx="1760400" cy="893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omic Sans MS"/>
              </a:rPr>
              <a:t>Wher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omic Sans MS"/>
              <a:ea typeface="Comic Sans MS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714760" y="214200"/>
            <a:ext cx="1511280" cy="865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Comic Sans MS"/>
              </a:rPr>
              <a:t>Whe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Comic Sans MS"/>
              <a:ea typeface="Comic Sans MS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300720" y="333360"/>
            <a:ext cx="148428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Comic Sans MS"/>
              </a:rPr>
              <a:t>Wh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ff"/>
              </a:solidFill>
              <a:latin typeface="Comic Sans MS"/>
              <a:ea typeface="Comic Sans MS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11280" y="5734080"/>
            <a:ext cx="1800000" cy="749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How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43280" y="1143000"/>
            <a:ext cx="1249560" cy="965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60093"/>
                </a:solidFill>
                <a:latin typeface="Comic Sans MS"/>
              </a:rPr>
              <a:t>Wh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60093"/>
              </a:solidFill>
              <a:latin typeface="Comic Sans MS"/>
              <a:ea typeface="Comic Sans MS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929280" y="4071960"/>
            <a:ext cx="2214720" cy="1955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71840" cy="24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71800" y="1928880"/>
            <a:ext cx="668628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I can jump, I can ru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I can sing, I can da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I can swim, I can’t f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I can climb and s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good-by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14240" y="214200"/>
            <a:ext cx="777240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АВИ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86040" y="1025640"/>
            <a:ext cx="6000840" cy="50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5c0432"/>
                </a:solidFill>
                <a:latin typeface="Arial"/>
                <a:ea typeface="Aharoni"/>
              </a:rPr>
              <a:t>Past Simple</a:t>
            </a:r>
            <a:r>
              <a:rPr b="1" lang="ru-RU" sz="2800" spc="-1" strike="noStrike">
                <a:solidFill>
                  <a:srgbClr val="5c0432"/>
                </a:solidFill>
                <a:latin typeface="Arial"/>
                <a:ea typeface="Aharoni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haroni"/>
              </a:rPr>
              <a:t>образуется  прибавлением окончаний –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haroni"/>
              </a:rPr>
              <a:t>ed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haroni"/>
              </a:rPr>
              <a:t>and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haroni"/>
              </a:rPr>
              <a:t> –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haroni"/>
              </a:rPr>
              <a:t>d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haroni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haroni"/>
              </a:rPr>
              <a:t>правильным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haroni"/>
              </a:rPr>
              <a:t>глаголам, а также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haroni"/>
              </a:rPr>
              <a:t>2формой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haroni"/>
              </a:rPr>
              <a:t>неправильных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haroni"/>
              </a:rPr>
              <a:t> глаголов. Отрицательная и вопросительная форма образуется при помощи вспомогательного глагола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haroni"/>
              </a:rPr>
              <a:t>did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haroni"/>
              </a:rPr>
              <a:t> и инфинитива без частицы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haroni"/>
              </a:rPr>
              <a:t>to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haron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5c0432"/>
                </a:solidFill>
                <a:latin typeface="Arial"/>
                <a:ea typeface="Aharoni"/>
              </a:rPr>
              <a:t>Past Simple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haroni"/>
              </a:rPr>
              <a:t>обозначает период времени который уже  истек и действие может быть выражено указанием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00040" y="1071720"/>
            <a:ext cx="2214720" cy="2430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572240" y="357120"/>
            <a:ext cx="1079640" cy="920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3929040"/>
            <a:ext cx="2789280" cy="25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940360" y="2565360"/>
            <a:ext cx="1079640" cy="920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68360" y="1413000"/>
            <a:ext cx="496908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6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he day before 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mo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…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6093000"/>
            <a:ext cx="20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14240" y="500040"/>
            <a:ext cx="1079640" cy="920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857920" y="214200"/>
            <a:ext cx="792000" cy="676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979640" y="2421000"/>
            <a:ext cx="790560" cy="674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3571920" y="5214960"/>
            <a:ext cx="936720" cy="799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6300720" y="4869000"/>
            <a:ext cx="1079640" cy="920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0" y="3214800"/>
            <a:ext cx="3133800" cy="3247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7143840" y="642960"/>
            <a:ext cx="1762200" cy="437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24360" y="2852640"/>
            <a:ext cx="4895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56000" y="5445000"/>
            <a:ext cx="50418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8000" y="2421000"/>
            <a:ext cx="4896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1916280"/>
            <a:ext cx="48956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24360" y="3357720"/>
            <a:ext cx="4895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32000" y="4005360"/>
            <a:ext cx="4896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50920" y="4941720"/>
            <a:ext cx="49690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7149960" y="4508640"/>
            <a:ext cx="1994040" cy="2349360"/>
            <a:chOff x="7149960" y="4508640"/>
            <a:chExt cx="1994040" cy="234936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7149960" y="4508640"/>
              <a:ext cx="199404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7149960" y="4508640"/>
              <a:ext cx="1994040" cy="23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50920" y="1773360"/>
            <a:ext cx="4038480" cy="48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en days ago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 week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he day before 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 month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7650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10 дней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18900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позавч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56000" y="18900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в прошлом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80000" y="26028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Comic Sans MS"/>
              </a:rPr>
              <a:t>неделю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08360" y="76500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Comic Sans MS"/>
              </a:rPr>
              <a:t>прошлым ле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64360" y="836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Comic Sans MS"/>
              </a:rPr>
              <a:t>вч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11280" y="13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Comic Sans MS"/>
              </a:rPr>
              <a:t>месяц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 -6 L -7.51445 -7 L 0.39376 0.55584 E">
                                      <p:cBhvr>
                                        <p:cTn id="84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5064 L -0.01181 0.70081 E">
                                      <p:cBhvr>
                                        <p:cTn id="88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 -7 0.04024 L -0.13385 0.45966">
                                      <p:cBhvr>
                                        <p:cTn id="92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0.04 L 0.5158 0.16601 E">
                                      <p:cBhvr>
                                        <p:cTn id="96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0118 0.23931 E">
                                      <p:cBhvr>
                                        <p:cTn id="100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4024 L -0.20468 0.2918 E">
                                      <p:cBhvr>
                                        <p:cTn id="104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0592 0.60647 E">
                                      <p:cBhvr>
                                        <p:cTn id="108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95280" y="190440"/>
            <a:ext cx="8424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Regular verb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V 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  <a:ea typeface="Arial"/>
              </a:rPr>
              <a:t>→ V- 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  <a:ea typeface="Arial"/>
              </a:rPr>
              <a:t>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8760" y="1714680"/>
            <a:ext cx="2170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6600" algn="ctr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[t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tch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l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al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inish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oo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84720" y="1600200"/>
            <a:ext cx="2448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6600" algn="ctr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[id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ka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n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llec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ain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ed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00360" y="1700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19640" y="1557360"/>
            <a:ext cx="2016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[d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arn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r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r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mil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ud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1500120" cy="1297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286760" y="5024520"/>
            <a:ext cx="1650960" cy="18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6588000" y="3860640"/>
            <a:ext cx="2116440" cy="2448000"/>
            <a:chOff x="6588000" y="3860640"/>
            <a:chExt cx="2116440" cy="2448000"/>
          </a:xfrm>
        </p:grpSpPr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6588000" y="3860640"/>
              <a:ext cx="2116440" cy="24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6588000" y="3860640"/>
              <a:ext cx="2116440" cy="24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203640" y="3933720"/>
            <a:ext cx="2178000" cy="2519640"/>
            <a:chOff x="3203640" y="3933720"/>
            <a:chExt cx="2178000" cy="2519640"/>
          </a:xfrm>
        </p:grpSpPr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3203640" y="3933720"/>
              <a:ext cx="2178000" cy="25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3203640" y="3933720"/>
              <a:ext cx="2178000" cy="25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468360" y="3860640"/>
            <a:ext cx="2116080" cy="2448000"/>
            <a:chOff x="468360" y="3860640"/>
            <a:chExt cx="2116080" cy="2448000"/>
          </a:xfrm>
        </p:grpSpPr>
        <p:pic>
          <p:nvPicPr>
            <p:cNvPr id="89" name="" descr=""/>
            <p:cNvPicPr/>
            <p:nvPr/>
          </p:nvPicPr>
          <p:blipFill>
            <a:blip r:embed="rId3"/>
            <a:stretch/>
          </p:blipFill>
          <p:spPr>
            <a:xfrm>
              <a:off x="468360" y="3860640"/>
              <a:ext cx="2116080" cy="24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68360" y="3860640"/>
              <a:ext cx="2116080" cy="24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116000" y="314172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t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80000" y="3213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d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93080" y="314172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id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3333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t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84360" y="981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l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1125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k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03280" y="1628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11280" y="260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700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3493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95640" y="2276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404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ol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32360" y="1197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fin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20000" y="333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164360" y="981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ai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04000" y="1773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loo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067280" y="2276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m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72360" y="2492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4 L 0.05139 0.60624 E">
                                      <p:cBhvr>
                                        <p:cTn id="114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dur="indefinite" fill="hold">
                      <p:stCondLst>
                        <p:cond delay="indefinite"/>
                      </p:stCondLst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0.04024 L 0.10642 0.63792 E">
                                      <p:cBhvr>
                                        <p:cTn id="123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dur="indefinite" fill="hold">
                      <p:stCondLst>
                        <p:cond delay="indefinite"/>
                      </p:stCondLst>
                      <p:childTnLst>
                        <p:par>
                          <p:cTn id="1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21667 0.60648 E">
                                      <p:cBhvr>
                                        <p:cTn id="132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dur="indefinite" fill="hold">
                      <p:stCondLst>
                        <p:cond delay="indefinite"/>
                      </p:stCondLst>
                      <p:childTnLst>
                        <p:par>
                          <p:cTn id="1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4 L -0.38195 0.61688 E">
                                      <p:cBhvr>
                                        <p:cTn id="141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dur="indefinite" fill="hold">
                      <p:stCondLst>
                        <p:cond delay="indefinite"/>
                      </p:stCondLst>
                      <p:childTnLst>
                        <p:par>
                          <p:cTn id="1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0.0504 L 0.72048 0.5015 E">
                                      <p:cBhvr>
                                        <p:cTn id="150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dur="indefinite" fill="hold">
                      <p:stCondLst>
                        <p:cond delay="indefinite"/>
                      </p:stCondLst>
                      <p:childTnLst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dur="indefinite" fill="hold">
                      <p:stCondLst>
                        <p:cond delay="indefinite"/>
                      </p:stCondLst>
                      <p:childTnLst>
                        <p:par>
                          <p:cTn id="1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 -6 0.04 L 0.13386 0.53295">
                                      <p:cBhvr>
                                        <p:cTn id="159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-0.4684 0.47006 E">
                                      <p:cBhvr>
                                        <p:cTn id="168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dur="indefinite" fill="hold">
                      <p:stCondLst>
                        <p:cond delay="indefinite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dur="indefinite" fill="hold">
                      <p:stCondLst>
                        <p:cond delay="indefinite"/>
                      </p:stCondLst>
                      <p:childTnLst>
                        <p:par>
                          <p:cTn id="1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4 L -0.05121 0.53295 E">
                                      <p:cBhvr>
                                        <p:cTn id="177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dur="indefinite" fill="hold">
                      <p:stCondLst>
                        <p:cond delay="indefinite"/>
                      </p:stCondLst>
                      <p:childTnLst>
                        <p:par>
                          <p:cTn id="1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 -6 0.05064 L -0.10243 0.42821">
                                      <p:cBhvr>
                                        <p:cTn id="186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dur="indefinite" fill="hold">
                      <p:stCondLst>
                        <p:cond delay="indefinite"/>
                      </p:stCondLst>
                      <p:childTnLst>
                        <p:par>
                          <p:cTn id="1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dur="indefinite" fill="hold">
                      <p:stCondLst>
                        <p:cond delay="indefinite"/>
                      </p:stCondLst>
                      <p:childTnLst>
                        <p:par>
                          <p:cTn id="1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 -6 0.05064 L 0.36996 0.42821">
                                      <p:cBhvr>
                                        <p:cTn id="195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dur="indefinite" fill="hold">
                      <p:stCondLst>
                        <p:cond delay="indefinite"/>
                      </p:stCondLst>
                      <p:childTnLst>
                        <p:par>
                          <p:cTn id="1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dur="indefinite" fill="hold">
                      <p:stCondLst>
                        <p:cond delay="indefinite"/>
                      </p:stCondLst>
                      <p:childTnLst>
                        <p:par>
                          <p:cTn id="2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 -7 0.05064 L -0.67726 0.38613">
                                      <p:cBhvr>
                                        <p:cTn id="204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dur="indefinite" fill="hold">
                      <p:stCondLst>
                        <p:cond delay="indefinite"/>
                      </p:stCondLst>
                      <p:childTnLst>
                        <p:par>
                          <p:cTn id="2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dur="indefinite" fill="hold">
                      <p:stCondLst>
                        <p:cond delay="indefinite"/>
                      </p:stCondLst>
                      <p:childTnLst>
                        <p:par>
                          <p:cTn id="2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4 L 0.0474 0.34428 E">
                                      <p:cBhvr>
                                        <p:cTn id="213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dur="indefinite" fill="hold">
                      <p:stCondLst>
                        <p:cond delay="indefinite"/>
                      </p:stCondLst>
                      <p:childTnLst>
                        <p:par>
                          <p:cTn id="2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dur="indefinite" fill="hold">
                      <p:stCondLst>
                        <p:cond delay="indefinite"/>
                      </p:stCondLst>
                      <p:childTnLst>
                        <p:par>
                          <p:cTn id="2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1 0.04023 L 0.15365 0.36531 E">
                                      <p:cBhvr>
                                        <p:cTn id="222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dur="indefinite" fill="hold">
                      <p:stCondLst>
                        <p:cond delay="indefinite"/>
                      </p:stCondLst>
                      <p:childTnLst>
                        <p:par>
                          <p:cTn id="2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dur="indefinite" fill="hold">
                      <p:stCondLst>
                        <p:cond delay="indefinite"/>
                      </p:stCondLst>
                      <p:childTnLst>
                        <p:par>
                          <p:cTn id="2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023 L -0.07465 0.35491 E">
                                      <p:cBhvr>
                                        <p:cTn id="231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dur="indefinite" fill="hold">
                      <p:stCondLst>
                        <p:cond delay="indefinite"/>
                      </p:stCondLst>
                      <p:childTnLst>
                        <p:par>
                          <p:cTn id="2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dur="indefinite" fill="hold">
                      <p:stCondLst>
                        <p:cond delay="indefinite"/>
                      </p:stCondLst>
                      <p:childTnLst>
                        <p:par>
                          <p:cTn id="2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023 L 0.05903 0.31283 E">
                                      <p:cBhvr>
                                        <p:cTn id="240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dur="indefinite" fill="hold">
                      <p:stCondLst>
                        <p:cond delay="indefinite"/>
                      </p:stCondLst>
                      <p:childTnLst>
                        <p:par>
                          <p:cTn id="2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885080" y="5661000"/>
            <a:ext cx="1066680" cy="922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389400" y="4653000"/>
            <a:ext cx="1400040" cy="1969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7467480" y="0"/>
            <a:ext cx="1676520" cy="244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57200" y="0"/>
            <a:ext cx="82296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Irregular ver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1052640"/>
            <a:ext cx="40384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e – was/were - b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egin – began - beg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ring – brought - br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uy – bought - b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ome – came - c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do – did -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drink – drank - dru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eat – ate - e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et – got - g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ive – gave -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o – went - g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have – had - 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know – knew -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981000"/>
            <a:ext cx="40384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let – let - 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make – made – 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meet – met –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ut – put- 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read – read -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ee – saw - s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it – sat - s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peak – spoke - sp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leep – slept - sl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ake -took – t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ell – told – t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hink – thought – th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rite – wrote –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1067040" cy="92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dur="indefinite" fill="hold">
                      <p:stCondLst>
                        <p:cond delay="indefinite"/>
                      </p:stCondLst>
                      <p:childTnLst>
                        <p:par>
                          <p:cTn id="2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dur="indefinite" fill="hold">
                      <p:stCondLst>
                        <p:cond delay="indefinite"/>
                      </p:stCondLst>
                      <p:childTnLst>
                        <p:par>
                          <p:cTn id="2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dur="indefinite" fill="hold">
                      <p:stCondLst>
                        <p:cond delay="indefinite"/>
                      </p:stCondLst>
                      <p:childTnLst>
                        <p:par>
                          <p:cTn id="2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dur="indefinite" fill="hold">
                      <p:stCondLst>
                        <p:cond delay="indefinite"/>
                      </p:stCondLst>
                      <p:childTnLst>
                        <p:par>
                          <p:cTn id="2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dur="indefinite" fill="hold">
                      <p:stCondLst>
                        <p:cond delay="indefinite"/>
                      </p:stCondLst>
                      <p:childTnLst>
                        <p:par>
                          <p:cTn id="2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dur="indefinite" fill="hold">
                      <p:stCondLst>
                        <p:cond delay="indefinite"/>
                      </p:stCondLst>
                      <p:childTnLst>
                        <p:par>
                          <p:cTn id="2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dur="indefinite" fill="hold">
                      <p:stCondLst>
                        <p:cond delay="indefinite"/>
                      </p:stCondLst>
                      <p:childTnLst>
                        <p:par>
                          <p:cTn id="2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dur="indefinite" fill="hold">
                      <p:stCondLst>
                        <p:cond delay="indefinite"/>
                      </p:stCondLst>
                      <p:childTnLst>
                        <p:par>
                          <p:cTn id="2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dur="indefinite" fill="hold">
                      <p:stCondLst>
                        <p:cond delay="indefinite"/>
                      </p:stCondLst>
                      <p:childTnLst>
                        <p:par>
                          <p:cTn id="2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dur="indefinite" fill="hold">
                      <p:stCondLst>
                        <p:cond delay="indefinite"/>
                      </p:stCondLst>
                      <p:childTnLst>
                        <p:par>
                          <p:cTn id="3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dur="indefinite" fill="hold">
                      <p:stCondLst>
                        <p:cond delay="indefinite"/>
                      </p:stCondLst>
                      <p:childTnLst>
                        <p:par>
                          <p:cTn id="3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dur="indefinite" fill="hold">
                      <p:stCondLst>
                        <p:cond delay="indefinite"/>
                      </p:stCondLst>
                      <p:childTnLst>
                        <p:par>
                          <p:cTn id="3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dur="indefinite" fill="hold">
                      <p:stCondLst>
                        <p:cond delay="indefinite"/>
                      </p:stCondLst>
                      <p:childTnLst>
                        <p:par>
                          <p:cTn id="3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dur="indefinite" fill="hold">
                      <p:stCondLst>
                        <p:cond delay="indefinite"/>
                      </p:stCondLst>
                      <p:childTnLst>
                        <p:par>
                          <p:cTn id="3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dur="indefinite" fill="hold">
                      <p:stCondLst>
                        <p:cond delay="indefinite"/>
                      </p:stCondLst>
                      <p:childTnLst>
                        <p:par>
                          <p:cTn id="3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dur="indefinite" fill="hold">
                      <p:stCondLst>
                        <p:cond delay="indefinite"/>
                      </p:stCondLst>
                      <p:childTnLst>
                        <p:par>
                          <p:cTn id="3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dur="indefinite" fill="hold">
                      <p:stCondLst>
                        <p:cond delay="indefinite"/>
                      </p:stCondLst>
                      <p:childTnLst>
                        <p:par>
                          <p:cTn id="3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dur="indefinite" fill="hold">
                      <p:stCondLst>
                        <p:cond delay="indefinite"/>
                      </p:stCondLst>
                      <p:childTnLst>
                        <p:par>
                          <p:cTn id="3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dur="indefinite" fill="hold">
                      <p:stCondLst>
                        <p:cond delay="indefinite"/>
                      </p:stCondLst>
                      <p:childTnLst>
                        <p:par>
                          <p:cTn id="3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dur="indefinite" fill="hold">
                      <p:stCondLst>
                        <p:cond delay="indefinite"/>
                      </p:stCondLst>
                      <p:childTnLst>
                        <p:par>
                          <p:cTn id="3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dur="indefinite" fill="hold">
                      <p:stCondLst>
                        <p:cond delay="indefinite"/>
                      </p:stCondLst>
                      <p:childTnLst>
                        <p:par>
                          <p:cTn id="3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dur="indefinite" fill="hold">
                      <p:stCondLst>
                        <p:cond delay="indefinite"/>
                      </p:stCondLst>
                      <p:childTnLst>
                        <p:par>
                          <p:cTn id="3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dur="indefinite" fill="hold">
                      <p:stCondLst>
                        <p:cond delay="indefinite"/>
                      </p:stCondLst>
                      <p:childTnLst>
                        <p:par>
                          <p:cTn id="3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dur="indefinite" fill="hold">
                      <p:stCondLst>
                        <p:cond delay="indefinite"/>
                      </p:stCondLst>
                      <p:childTnLst>
                        <p:par>
                          <p:cTn id="3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dur="indefinite" fill="hold">
                      <p:stCondLst>
                        <p:cond delay="indefinite"/>
                      </p:stCondLst>
                      <p:childTnLst>
                        <p:par>
                          <p:cTn id="3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dur="indefinite" fill="hold">
                      <p:stCondLst>
                        <p:cond delay="indefinite"/>
                      </p:stCondLst>
                      <p:childTnLst>
                        <p:par>
                          <p:cTn id="3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dur="indefinite" fill="hold">
                      <p:stCondLst>
                        <p:cond delay="indefinite"/>
                      </p:stCondLst>
                      <p:childTnLst>
                        <p:par>
                          <p:cTn id="4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9280" y="3860640"/>
            <a:ext cx="2125800" cy="2725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0" y="0"/>
            <a:ext cx="9144000" cy="85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skat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n the yard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skat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n the yard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 weathe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is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ne to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 weathe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was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ne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W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g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o the park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W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wen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o the park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se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my friend and his m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saw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my friend and his m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Childre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hav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ve classes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Children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ha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ve classes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667640" y="2997360"/>
            <a:ext cx="987480" cy="842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508720" y="2421000"/>
            <a:ext cx="987480" cy="8427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6084720" y="342900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6572160" y="214200"/>
            <a:ext cx="2214720" cy="23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dur="indefinite" fill="hold">
                      <p:stCondLst>
                        <p:cond delay="indefinite"/>
                      </p:stCondLst>
                      <p:childTnLst>
                        <p:par>
                          <p:cTn id="4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dur="indefinite" fill="hold">
                      <p:stCondLst>
                        <p:cond delay="indefinite"/>
                      </p:stCondLst>
                      <p:childTnLst>
                        <p:par>
                          <p:cTn id="4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dur="indefinite" fill="hold">
                      <p:stCondLst>
                        <p:cond delay="indefinite"/>
                      </p:stCondLst>
                      <p:childTnLst>
                        <p:par>
                          <p:cTn id="4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dur="indefinite" fill="hold">
                      <p:stCondLst>
                        <p:cond delay="indefinite"/>
                      </p:stCondLst>
                      <p:childTnLst>
                        <p:par>
                          <p:cTn id="4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dur="indefinite" fill="hold">
                      <p:stCondLst>
                        <p:cond delay="indefinite"/>
                      </p:stCondLst>
                      <p:childTnLst>
                        <p:par>
                          <p:cTn id="4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dur="indefinite" fill="hold">
                      <p:stCondLst>
                        <p:cond delay="indefinite"/>
                      </p:stCondLst>
                      <p:childTnLst>
                        <p:par>
                          <p:cTn id="4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dur="indefinite" fill="hold">
                      <p:stCondLst>
                        <p:cond delay="indefinite"/>
                      </p:stCondLst>
                      <p:childTnLst>
                        <p:par>
                          <p:cTn id="4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dur="indefinite" fill="hold">
                      <p:stCondLst>
                        <p:cond delay="indefinite"/>
                      </p:stCondLst>
                      <p:childTnLst>
                        <p:par>
                          <p:cTn id="4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dur="indefinite" fill="hold">
                      <p:stCondLst>
                        <p:cond delay="indefinite"/>
                      </p:stCondLst>
                      <p:childTnLst>
                        <p:par>
                          <p:cTn id="4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dur="indefinite" fill="hold">
                      <p:stCondLst>
                        <p:cond delay="indefinite"/>
                      </p:stCondLst>
                      <p:childTnLst>
                        <p:par>
                          <p:cTn id="4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3:56:58Z</dcterms:created>
  <dc:creator>1</dc:creator>
  <dc:description/>
  <dc:language>en-US</dc:language>
  <cp:lastModifiedBy>Админ</cp:lastModifiedBy>
  <dcterms:modified xsi:type="dcterms:W3CDTF">2014-02-11T16:55:31Z</dcterms:modified>
  <cp:revision>26</cp:revision>
  <dc:subject/>
  <dc:title>Слайд 1</dc:title>
</cp:coreProperties>
</file>