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14E-0197-4DFA-A53B-502DD531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73D-F16F-49CE-BE9E-D359C3E4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1F2-7493-4132-8F2B-CD7959DC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A27-0F0B-4A4D-B184-0F4DBEBC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BEE0-AAB3-4FA3-9E6A-CE37F9F3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D428-F7E5-4A95-8A7F-5659550A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4ECC-6D0F-4A77-BCBC-7CC17CEE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A0CD-4109-490F-9473-881B17C8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22DC-5E34-4A0F-8E9E-D8CB5488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2CD3-F2EA-4A8D-929A-12C3C5B8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B254-DDBB-47CB-86FB-AE084E43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094-92CA-4A49-955C-5AA13289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F7CB-D7ED-40D2-90D5-2C296EAC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76AA-1D84-4B66-8A6C-598BF94A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7960-4351-4A44-B9B2-3D1AEBC0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55B3-79B9-45FC-97F0-F68B50F9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847C-B58F-4A31-8B9D-F7906DDB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97051-9F72-4700-BFC0-A2B14389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ED9F-8CF8-4A4A-96C5-6A1B3D87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44082-F25C-4661-ACCF-2794E39B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C11E-F473-47A6-9852-D1A728D1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2B23-B67F-4B90-B564-F2FD6B0D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A99-C149-420C-93ED-5053D453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788D-C90F-4096-BA67-0A532300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79B6-8979-4949-81CF-66835B94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5FAF8-6EB6-4F90-B281-ED46425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2FE6-6397-4162-B1EA-0ABFAB1A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B8EC-FCD9-4980-BE2C-3A3AB07B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23528-0F6B-4C79-9353-23432847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26DF6-B352-4878-A1E3-38DDD70F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B52F-FB5C-407D-B547-BC258EE5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03288-F6BF-4D8B-BE46-314AB2F4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D9983-BD14-40EB-94D5-18BEDDD4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83E-3A10-4680-8C83-9CB137DB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8C4F1-B97E-4768-AD28-79BD06B9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C0B1C-61EA-4589-8571-667B852E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D685E-2C14-4B9C-89D6-EB20AE96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E297-B7F1-4973-B078-F177FAA3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4225C-6175-4E09-B79B-641D95F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EAEB1-5714-44F5-AB16-D07AB55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A9179-ABD7-432B-9FA7-057DE2AD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5450-888B-45F8-B0B6-4E5C52AC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30A2-7E8A-4E92-8025-D79F49E0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40F0F-C8C9-4F0D-AE43-34CBC528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700-2B4B-49A1-92DD-140296FA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97270-E9D0-4FF4-BDF9-A4DC3A77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4C3CA-D46D-4C0F-A65E-BE9DC44C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EAD9-1892-4C18-A7A5-0841EA6C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C1FED-9368-4627-813E-28F0C1B8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6697C-FF6E-4C49-91E6-D87F283B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29AFC-2ACB-4A28-9E52-41227EEF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5A176-8E2B-4D83-8EB9-02D1C9DC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98622-F495-4A65-A233-FA1B2E6F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0CC2-D540-45F2-8FF1-11C3ECDC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0799-407B-465D-967A-2C58FF9D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790-312F-442B-9006-614487B2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5B81A-C853-4587-AEFD-B44AC481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461A5-8954-48AB-8662-BC45AEA7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240D2-348A-4D2B-BF69-2887658E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FBCCB-1E64-4477-AE37-D70B0E94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CE678-441B-41F9-8BD5-8B89F474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E8384-72B6-4393-8A08-B3697344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83022-2CE5-4AEE-BA31-F244C8A7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2EFE6-37CA-4333-8AC7-DAFDE198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2E71A-97B9-4C23-83DD-8C8BED23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9B06C-53C2-42BA-9CA6-0CC02163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2A1-BBA9-4186-9DE9-CF50755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3CB4A-00BB-49AA-893C-2AC47F6B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8E531-037F-4CCE-BF72-D53A851A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1E783-4871-46C2-83F1-79D4BFAA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7D7-061B-47FE-AA00-0C39443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573-1744-45F3-B02A-7F71481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505A-CDE1-4238-8564-8E4ED66C599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ACA3-E063-44FE-AA63-7616550ED54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C327-7CFC-4FA3-947B-82455DA514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00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FEFA-EBF2-4787-A881-EDCB9C6E2A8A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47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90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473D-08AC-4169-A1C3-3A2525AE56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D08A-2A93-4B5D-97CD-65132241B7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ivanovain.21411s12.edusite.ru/DswMedia/file007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hyperlink" Target="http://rus.1september.ru/2001/42/14.gif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rus.1september.ru/2001/42/14.gif" TargetMode="External"/><Relationship Id="rId6" Type="http://schemas.openxmlformats.org/officeDocument/2006/relationships/image" Target="../media/image16.png"/><Relationship Id="rId7" Type="http://schemas.openxmlformats.org/officeDocument/2006/relationships/hyperlink" Target="http://rus.1september.ru/2001/42/14.gif" TargetMode="External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997360"/>
            <a:ext cx="665820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исьменность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верь свои знания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Что такое иероглиф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гурные знаки для пись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териал, на котором можно пис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меты, найденные при археологических раскоп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верь свои знания!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На чём писали в Древнем Егип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бумаг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пергамен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папиру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верь свои знания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На чём писали в Древнем Вавилон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глиняных табличк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берес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перг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верь свои знания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Как назывались письмена, употребляемые в Древнем Вавило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акопис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ино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вило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верь свои знания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 какой стране раньше всех научились изготавливать бумагу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ип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та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Древний Египет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иероглифы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лово </a:t>
            </a:r>
            <a:r>
              <a:rPr b="0" i="1" lang="en-US" sz="3200" spc="-1" strike="noStrike">
                <a:solidFill>
                  <a:srgbClr val="660000"/>
                </a:solidFill>
                <a:latin typeface="Times New Roman"/>
              </a:rPr>
              <a:t>иерогли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 переводе с грече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значает </a:t>
            </a:r>
            <a:r>
              <a:rPr b="0" i="1" lang="en-US" sz="3200" spc="-1" strike="noStrike">
                <a:solidFill>
                  <a:srgbClr val="660000"/>
                </a:solidFill>
                <a:latin typeface="Times New Roman"/>
              </a:rPr>
              <a:t>священны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492360" y="4221000"/>
            <a:ext cx="5238720" cy="1600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20703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Древний Египет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апиру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4390920" cy="3279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298764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Древний Вавилон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глиняные таблич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3240000" cy="3089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859280" y="2997360"/>
            <a:ext cx="3672000" cy="28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Древний Вавилон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линопис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Картинка 26 из 4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852640"/>
            <a:ext cx="3781440" cy="3810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572000" y="3311640"/>
            <a:ext cx="4248000" cy="22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индейцы майя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539640" y="3033720"/>
            <a:ext cx="4032360" cy="23367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003640" y="2997360"/>
            <a:ext cx="3383280" cy="23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индейцы майя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3889440" cy="2782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435640" y="522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цифровые зна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9" name="" descr="Картинка 2 из 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5659560" y="-12600"/>
            <a:ext cx="4229280" cy="3571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Картинка 2 из 6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5659560" y="-12600"/>
            <a:ext cx="4229280" cy="3571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Картинка 2 из 6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5659560" y="-12600"/>
            <a:ext cx="4229280" cy="3571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Картинка 2 из 66"/>
          <p:cNvPicPr/>
          <p:nvPr/>
        </p:nvPicPr>
        <p:blipFill>
          <a:blip r:embed="rId9"/>
          <a:stretch/>
        </p:blipFill>
        <p:spPr>
          <a:xfrm>
            <a:off x="3245659560" y="-12600"/>
            <a:ext cx="4229280" cy="3571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Картинка 2 из 66"/>
          <p:cNvPicPr/>
          <p:nvPr/>
        </p:nvPicPr>
        <p:blipFill>
          <a:blip r:embed="rId10"/>
          <a:stretch/>
        </p:blipFill>
        <p:spPr>
          <a:xfrm>
            <a:off x="3245659560" y="-12600"/>
            <a:ext cx="4229280" cy="3571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1"/>
          <a:stretch/>
        </p:blipFill>
        <p:spPr>
          <a:xfrm>
            <a:off x="611280" y="2637000"/>
            <a:ext cx="374472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индейцы майя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449520" cy="3816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381636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Китай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Court Ladies of the Former Shu, художник Танг Ен(1470-1523)."/>
          <p:cNvPicPr/>
          <p:nvPr/>
        </p:nvPicPr>
        <p:blipFill>
          <a:blip r:embed="rId1"/>
          <a:stretch/>
        </p:blipFill>
        <p:spPr>
          <a:xfrm>
            <a:off x="1116000" y="1916280"/>
            <a:ext cx="2246400" cy="4249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Каллиграфия Мифу (Династия Сун)"/>
          <p:cNvPicPr/>
          <p:nvPr/>
        </p:nvPicPr>
        <p:blipFill>
          <a:blip r:embed="rId2"/>
          <a:stretch/>
        </p:blipFill>
        <p:spPr>
          <a:xfrm>
            <a:off x="3851280" y="2565360"/>
            <a:ext cx="4441680" cy="29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5:05:21Z</dcterms:created>
  <dc:creator>Customer</dc:creator>
  <dc:description/>
  <dc:language>en-US</dc:language>
  <cp:lastModifiedBy>user</cp:lastModifiedBy>
  <dcterms:modified xsi:type="dcterms:W3CDTF">2008-10-12T10:18:11Z</dcterms:modified>
  <cp:revision>10</cp:revision>
  <dc:subject/>
  <dc:title>Слайд 1</dc:title>
</cp:coreProperties>
</file>