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899-8D72-4B73-8910-41180730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E59-E310-4286-A251-6CDC2423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4A5-B0FD-40A4-8A44-F9385CE9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909-D4AB-46F0-8EBF-A0506B0C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6DF4-6850-4861-91F6-DDC4A1A8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2554-4260-4E18-9A57-E9A4135B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C0D1-D34B-4BE2-889B-74DC7E65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7939-6199-491B-AC37-F89B07E8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4CA0-B491-485B-AF1B-380D583A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D65A-A89F-4C28-8A07-10DF9FF9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9B7-0D35-46A9-8854-BA7C88E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C3C-1941-46F5-A069-E9E4C77C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A5BE-7594-4DA5-B40C-D6D8AB1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2F4B-E87C-4517-811D-84425A5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9A0A-DCE7-4539-9164-E807D164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207C-6F55-4B48-A6F8-A6F64E28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B427-03FC-40B8-AE78-B6B16878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20F2-5DF4-4BE6-B1CE-6BC26726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7692-C2A6-4EA4-B313-8FF3711E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DC68-045C-43AE-9157-92AF562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1295-BEE3-4E2A-8D91-B5414A3A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327F-0D6E-4E01-B4AD-D5C0B75A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562-799E-4A35-A80C-47AC3CC1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F28B9-B6E0-4A8D-A1AB-1310AE65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677C-98CB-4C86-BF35-A83B1CF8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6571-6371-4926-9CE8-3618A3CE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3638-962E-461B-86C8-40D54F0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1CD7-BED9-45BC-B10C-800A710A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7701-925D-43D4-A954-47CEF3F0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369D-9772-4F41-ABFB-ECA062AC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EB091-6D5D-4500-BA21-8C856E11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A2DC-3379-4D85-8C92-A6043965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5F02-8DFC-47D7-9114-CDF5DE6F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A64-B500-4275-8203-6B4EFBB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E29C-DA58-4D38-B3BC-E8C421C8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6C97-0304-4775-B9AA-916EBED8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708E-206E-4877-990E-01B2A75B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B49B6-4B92-4BD1-917A-275F1FA0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D173-4FD7-4703-B525-EE9A35B8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3C003-FEDF-48A7-A87E-4D2C2AD3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AFF3-00DC-4983-AF58-9E032942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1EB69-4C22-4F06-8BC4-B08AA42F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3FE6-054D-47AC-A9C5-CBA083A0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8A581-68AE-469B-AAA6-97FF2DDF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143-2267-4096-B30C-741D2836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6ED2-DB60-473F-8B24-B931BC92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E63B9-867A-40D5-8E80-C616764F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1C380-096C-4A17-B1E0-C3276CF3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5027-0397-4E86-96B9-823167FE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D9B3-1A92-4B5A-A9D7-3789BE7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924B-3570-40BC-8F1A-2A464EA7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86B2-1910-4976-B261-D897311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90414-4C62-4D89-8D2A-A99EB67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1A8A-37B8-4084-A52C-05693B08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26700-7A4E-4551-BCCF-CDA440E7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B90-7A03-4076-83A4-D9F89352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76A75-E6FC-4D5E-9801-F2D1E9C4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97BF4-9E76-457E-BDDA-CA8B8D38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29F90-CD05-44F0-B655-A546D24A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2A50-844C-402B-AA2A-FB7CF547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9E541-0E25-4E40-A3F7-25F2A847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E87DB-51D0-4350-9F19-AD5E8945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2C5CA-75E9-4E24-B708-1D389B30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0E56-0C61-4341-83D7-2AFB3DE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891CB-5ED9-4703-8262-2D023B14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F8364-5010-4E8D-89F0-878C6060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19C-A267-42B3-BFAD-BEA14655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C9024-5152-4BCC-802D-0869588B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0F4EC-98E3-497D-9D96-D7A363FF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AFB5-3BF2-4755-AE1E-45F7AD55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7CC-79ED-4E62-8132-D6778DFC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FBC-BFCA-446F-B1AC-B06F09ED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CF61-FD2D-4C53-B4CD-B45CF10297B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001E-F35C-4286-88B0-01859D9BFE3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F7D4-99C0-40F6-AB1C-F37E648D25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00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CF08-024B-4B8B-9CA7-F5F492E7E6B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47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90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C174-1236-462F-A373-43AD6041B5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A90C-F735-4B90-99F7-7D99160A3C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ivanovain.21411s12.edusite.ru/DswMedia/file007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hyperlink" Target="http://rus.1september.ru/2001/42/14.gif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rus.1september.ru/2001/42/14.gif" TargetMode="External"/><Relationship Id="rId6" Type="http://schemas.openxmlformats.org/officeDocument/2006/relationships/image" Target="../media/image16.png"/><Relationship Id="rId7" Type="http://schemas.openxmlformats.org/officeDocument/2006/relationships/hyperlink" Target="http://rus.1september.ru/2001/42/14.gif" TargetMode="External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997360"/>
            <a:ext cx="665820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исьменность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Что такое иероглиф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гурные знаки для пись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териал, на котором можно пис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меты, найденные при археологических раскоп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На чём писали в Древнем Егип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бумаг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пергамен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папиру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На чём писали в Древнем Вавилон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глиняных табличк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берес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перг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Как назывались письмена, употребляемые в Древнем Вавило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акопи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ино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вило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 какой стране раньше всех научились изготавливать бумагу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ип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та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Древний Египе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иероглифы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ово </a:t>
            </a:r>
            <a:r>
              <a:rPr b="0" i="1" lang="en-US" sz="3200" spc="-1" strike="noStrike">
                <a:solidFill>
                  <a:srgbClr val="660000"/>
                </a:solidFill>
                <a:latin typeface="Times New Roman"/>
              </a:rPr>
              <a:t>иерогли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 переводе с грече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значает </a:t>
            </a:r>
            <a:r>
              <a:rPr b="0" i="1" lang="en-US" sz="3200" spc="-1" strike="noStrike">
                <a:solidFill>
                  <a:srgbClr val="660000"/>
                </a:solidFill>
                <a:latin typeface="Times New Roman"/>
              </a:rPr>
              <a:t>священ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492360" y="4221000"/>
            <a:ext cx="5238720" cy="1600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20703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Древний Египе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апиру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4390920" cy="3279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298764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Древний Вавилон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глиняные таблич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3240000" cy="3089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859280" y="2997360"/>
            <a:ext cx="3672000" cy="28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Древний Вавилон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линопис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Картинка 26 из 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852640"/>
            <a:ext cx="3781440" cy="3810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572000" y="3311640"/>
            <a:ext cx="4248000" cy="22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индейцы май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39640" y="3033720"/>
            <a:ext cx="4032360" cy="23367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003640" y="2997360"/>
            <a:ext cx="3383280" cy="23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индейцы май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889440" cy="2782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435640" y="522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цифровые зна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9" name="" descr="Картинка 2 из 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Картинка 2 из 6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Картинка 2 из 6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Картинка 2 из 66"/>
          <p:cNvPicPr/>
          <p:nvPr/>
        </p:nvPicPr>
        <p:blipFill>
          <a:blip r:embed="rId9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Картинка 2 из 66"/>
          <p:cNvPicPr/>
          <p:nvPr/>
        </p:nvPicPr>
        <p:blipFill>
          <a:blip r:embed="rId10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1"/>
          <a:stretch/>
        </p:blipFill>
        <p:spPr>
          <a:xfrm>
            <a:off x="611280" y="2637000"/>
            <a:ext cx="37447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индейцы май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449520" cy="3816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381636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Китай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Court Ladies of the Former Shu, художник Танг Ен(1470-1523)."/>
          <p:cNvPicPr/>
          <p:nvPr/>
        </p:nvPicPr>
        <p:blipFill>
          <a:blip r:embed="rId1"/>
          <a:stretch/>
        </p:blipFill>
        <p:spPr>
          <a:xfrm>
            <a:off x="1116000" y="1916280"/>
            <a:ext cx="2246400" cy="4249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Каллиграфия Мифу (Династия Сун)"/>
          <p:cNvPicPr/>
          <p:nvPr/>
        </p:nvPicPr>
        <p:blipFill>
          <a:blip r:embed="rId2"/>
          <a:stretch/>
        </p:blipFill>
        <p:spPr>
          <a:xfrm>
            <a:off x="3851280" y="2565360"/>
            <a:ext cx="4441680" cy="29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5:05:21Z</dcterms:created>
  <dc:creator>Customer</dc:creator>
  <dc:description/>
  <dc:language>en-US</dc:language>
  <cp:lastModifiedBy>user</cp:lastModifiedBy>
  <dcterms:modified xsi:type="dcterms:W3CDTF">2008-10-12T10:18:11Z</dcterms:modified>
  <cp:revision>10</cp:revision>
  <dc:subject/>
  <dc:title>Слайд 1</dc:title>
</cp:coreProperties>
</file>