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35.gif" ContentType="image/gif"/>
  <Override PartName="/ppt/media/image9.jpeg" ContentType="image/jpeg"/>
  <Override PartName="/ppt/media/image36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28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488-331B-4256-8076-177E7AB7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306-E60F-4153-A7B1-B1F9131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EFE81-1DBD-4C83-970F-36151FA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EFAB0-ACA9-4ABC-9892-E1E8146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55C4-7FCD-47CC-A76C-17DE24F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C5E3-F8D4-46C2-8F82-E7BB690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6133B-D0F0-4634-B2F6-75F8C1B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A1170-685B-4A6D-9512-B9B2A81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991A6-01F5-4701-8C28-90228C2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09612-3738-4407-A120-C618EDCA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30FFC-EE75-42BC-84FB-860C3B03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F3A11-ACDC-47DF-ADA2-ED93557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89C-97DB-435A-A1C3-5AFD790F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0AF62-FA64-4B71-8E09-FBCA996F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D8FD2-2E60-428A-A080-536BE29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037BF1-334A-4994-81D7-4B2A13AA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F5727-F101-41D7-B6DB-44576AF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7860CA-5AEB-4601-A10D-AAF48A1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D055C-DAE0-40E2-B9C5-3A8C389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BE39AF-A819-43D6-ADFF-338B664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1D405C-898C-4607-A05B-628D2BC5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7E5E8-3CD8-44B9-AE7F-6811217C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018781-9D2A-4072-82E2-9FA46B97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285-C8E6-4729-82E5-987EF988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53125D-39D6-4F79-A6BF-2C5F527A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B0B17B-1A43-49BB-86C2-72A9A9F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2A730A-7577-409C-B2C6-54DD43C6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D411BA-0065-48C6-82EC-F7D866B6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68D04C-D27C-453A-9F2F-19819A7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CF9D6-3431-4D2E-9F70-7BB9142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1F9121-0682-4B95-AF01-A217380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97709-B32D-477F-BF2F-012A3A8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98967-3BFC-4526-BDF0-87BD502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49A562-C8C1-4B63-9D85-A336F45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94BF-7C8C-4E2E-8B1C-CE739F62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0DE78D-1197-449B-9596-E701220D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47A6EE-E5FF-4A95-9D91-B674093D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C7CF46-6587-4B62-8CF7-4A4B1D1B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6EB908-67AD-43E2-B380-25A8528B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54E652-DF6F-4396-94FD-126FF89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D52C6-A790-4A69-A155-EACE36F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F543B2-7FD0-487E-9931-EC800BF6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147033-4D6F-4E65-9C41-CB5B9CB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2FD5DB-ED00-45E5-85B3-8C6F78F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05E831-5F80-46C4-B6ED-255AD71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B080-D1EA-43C1-BCEC-9B1FF437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AAA04D-1B2C-4106-A3CA-73C4107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F2ADAF-FB7D-474E-BD5E-43C5FDD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D5D1A9-FFC4-487A-B212-AC55348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1E333A-049B-467D-B06A-9C62D880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1F77E2-A396-4BF2-92C7-B9766E7E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E7211-C20C-45AF-8E96-6BAC8B27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C1353-8655-4E40-9352-4A2A6F44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7BCC-6FE0-438E-B913-20340C6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E21AE-AB96-4B78-87FC-94A88486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C9F63-FC92-4793-8B68-DC8D6B10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FD53-80BB-4697-9F43-1405ECEE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21441-1D29-4E70-AA71-70F26A7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515B6-F5CE-4F2D-8A6A-025569B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4E847-8C5B-4E15-81B4-69A064D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CFA78-8EA1-416E-BF7B-719358F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77604-7DAD-41E8-B4C2-AE4E8D2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2A2F5-C04A-46B6-A281-6DA7539B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30F8B-B95E-448A-A96F-2D20CB53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ECC9-66BE-4C3D-BF05-D97212E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663D-D6B6-41EF-A51A-275C6EE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BDA-3495-4FCE-858C-8544CC4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F74A-B384-489D-80F4-567EB9C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095-D81B-4F1B-8A82-8F766CFD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04C-903F-4B2C-8EF6-0FE65C1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D87-D6EB-452F-9F5C-5B11DD8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F63-EDF1-43A7-93B8-FAB16D5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9604-D20F-4C86-BFA3-0382CC97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EAB-EBE4-4E61-947B-F48613E1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87B3-ED8F-4441-BFCE-1CB551C6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6FCF-9755-4830-82C8-FC5FB10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EA7C-370B-4340-B655-D4721E84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8FC4-B665-4467-8EE1-1D57DDF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F896-1D7A-4E6D-A676-8FE4E85C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1A1-5A29-469F-8EFF-234E652E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3B2A-1B1D-44DC-B43D-F403312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160B-6B34-4288-B14E-E8FCE12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7C16-9389-44C9-B426-6FDC83A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BC36-A725-4E63-A9BA-977F5CB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86BD-C9F9-42BE-B89C-2647465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648AC-C40F-4641-B4EE-B3E7F57B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C8C7-8669-4D8A-B759-8660F2D6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B7B2-81DC-4248-B752-56698C72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CA49-2394-451D-8A54-B3FE1B17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3FB5-6F02-42CA-8C13-00FFAFD3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95D-9223-4821-A0F2-BB8DC9A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4DAD-AB76-4C11-940B-E61F089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7780-F601-4793-9CDE-F030770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001A-CCED-4AE5-85B9-64A8337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D1B5-C4B0-468F-80BA-202A325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265C-8FFE-4636-8CB2-F81B67F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A201-B3F7-4B84-B7A8-9FD914C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CF55-6A26-4DB3-A553-CADBE5EC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0969-34C9-45EE-AE68-CC099D51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0F10-9FD3-41F3-9486-C0E07548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EFBF-4375-44EA-A175-CB980A53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1FE-FACB-4022-8076-2938502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EFE2-DC76-4482-A8B1-378A4CB5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3E5B-BB23-4A91-B7B5-E9A6EFC3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27FF-4C19-46A2-9A3C-3269759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99D2-8D22-4B4A-8E00-6A006CF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8378-8531-4A88-906C-08F7044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67EA-D58A-4763-A469-A00E9F62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83725-5B87-44AF-B80D-9C2F29A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8D90-ABE2-4F13-8654-6F0D0D1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32EC-C240-41BA-B1A0-EBC3A413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6F11-BE34-42D4-89A9-262CFA74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0AD-78EA-43D0-8F7A-398321B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7982-7C0D-48C1-B948-EBB161FF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B822-7630-41A1-82E6-4C503EC0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595E0-581C-40DC-931F-41EEADC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8622-4A5E-47FB-B388-86DE32F9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8894-3D73-4B5A-AF9A-74F77A5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8AD97-8674-4934-A5D0-EB287F7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6606-3355-431D-90F0-25D45E4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9986-5201-412A-AC2F-344C9673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C350-752E-403F-8E49-AFCD29E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F0F15-5C7F-462D-A38B-9D57866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CF6-30AC-4A89-8DF7-6866358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C2BA7-E662-432D-B978-438CB8C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F189-A65D-44CF-9D4F-C075966C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4808-4CF6-4A70-9395-0CC79332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71E78-C8A7-4FD1-9A68-0E60FF6F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A1904-62CA-42ED-89FD-5219F0D2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53F3-D0C2-44AC-8DDD-68B6260C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85C9B-434A-4750-AEA6-D85D340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450C6-C6E4-4036-8327-A0A2EDC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2759-6E93-4633-925D-873BD47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625D-FA87-40A8-BF8B-2226A06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B76-A17D-4531-88AE-A4DBB40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A691-A316-4D80-A420-1731E05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C575-A5D0-4EAB-8F26-8D953D01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0B94-780E-41A5-B18A-D3F1ABFE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5A01-F0B1-4095-9175-5320B097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5D6E7-3D02-4E0A-AEBE-BC8022E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1FE7D-40C1-4378-AE7A-816BE2F4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5EE2A-525F-4E54-A300-E2E139CE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D209C-F4A0-445F-B5D3-7876CB5F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FB145-65FA-4B2D-A95F-E85EB3E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EC683-C425-4FF9-81EF-41ABE30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340-5BD5-4228-B1BA-57DC919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00E83-3719-4757-80F2-2485E1F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B5A76-B7CF-4694-8B14-77703C6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55AC8-21CD-44C4-81AF-ECC8A98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91C7B-651C-4033-BA64-A5DE42C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F3E65-35FA-48C1-BA13-2AFBD65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D01933-E110-4DDC-8548-2663B6A6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F9A67-AC67-4AB3-9CD4-FBF443C1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6A72A-C616-498B-867B-DE4EB131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0592-8BA2-42D9-B1B0-D1954D1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B83CA-2F8E-42D8-909E-8CB370F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36A-491D-4D05-B83A-3E4639647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AA9-7CB6-46EF-B0D4-E6407F9E7A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0D6E-42E8-4E05-841F-9E6DC156E6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9350-AE23-4BE6-823A-734E1C6259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C87-77B4-492D-82DE-04F5EEE070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BC4C-7D66-4969-BCAC-9AC816175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8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D4A-41FB-4FBE-AD2F-3C26655D8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3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614-74A3-40F1-8EA4-6777830D6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7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505-0005-443E-8F71-0B4C27C4D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6D1-41D6-49A9-8FAE-916E357531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D8A-1FE9-40B5-B0EC-9745052904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1C3-DB02-4305-97B5-0E3B02C30D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E7F-58A3-42E2-A747-1913DF52D6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stat18.privet.ru/lr/0a134d3c3b503a602064476a2aab3c7f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8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УРОК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РУССКОГО ЯЗЫ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75614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cc00"/>
                </a:solidFill>
                <a:latin typeface="Book Antiqua"/>
              </a:rPr>
              <a:t>3 класс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cc00"/>
                </a:solidFill>
                <a:latin typeface="Book Antiqua"/>
              </a:rPr>
              <a:t>УМК «Начальная школа </a:t>
            </a:r>
            <a:r>
              <a:rPr b="1" i="1" lang="en-US" sz="3100" spc="-1" strike="noStrike">
                <a:solidFill>
                  <a:srgbClr val="00cc00"/>
                </a:solidFill>
                <a:latin typeface="Book Antiqua"/>
              </a:rPr>
              <a:t>XXI</a:t>
            </a:r>
            <a:r>
              <a:rPr b="1" i="1" lang="ru-RU" sz="3100" spc="-1" strike="noStrike">
                <a:solidFill>
                  <a:srgbClr val="00cc00"/>
                </a:solidFill>
                <a:latin typeface="Book Antiqua"/>
              </a:rPr>
              <a:t> века»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Arial"/>
              </a:rPr>
              <a:t>Панюкова Ольга Васильев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8317080" y="609300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F93-B212-44DC-8E26-A30B0D00D4A7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539280" y="2133720"/>
            <a:ext cx="7767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рк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ркуль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фр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B4F-D320-4F07-AFFF-337CC3E098AA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511280" cy="3603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2"/>
          <a:stretch/>
        </p:blipFill>
        <p:spPr>
          <a:xfrm>
            <a:off x="3059280" y="3141720"/>
            <a:ext cx="2665080" cy="5032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1728720" cy="3938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циркуль2"/>
          <p:cNvPicPr/>
          <p:nvPr/>
        </p:nvPicPr>
        <p:blipFill>
          <a:blip r:embed="rId4"/>
          <a:stretch/>
        </p:blipFill>
        <p:spPr>
          <a:xfrm>
            <a:off x="6948360" y="2421000"/>
            <a:ext cx="1633680" cy="1728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цифра"/>
          <p:cNvPicPr/>
          <p:nvPr/>
        </p:nvPicPr>
        <p:blipFill>
          <a:blip r:embed="rId5"/>
          <a:stretch/>
        </p:blipFill>
        <p:spPr>
          <a:xfrm>
            <a:off x="6575400" y="5013360"/>
            <a:ext cx="1189080" cy="1674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3" descr="i?id=75798593-00"/>
          <p:cNvPicPr/>
          <p:nvPr/>
        </p:nvPicPr>
        <p:blipFill>
          <a:blip r:embed="rId6"/>
          <a:stretch/>
        </p:blipFill>
        <p:spPr>
          <a:xfrm>
            <a:off x="179280" y="1917720"/>
            <a:ext cx="2219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сини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сквор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птен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FD4-DE01-479A-A544-B5726FBB011A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4896000" y="1916280"/>
            <a:ext cx="647640" cy="718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5011560" y="288936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"/>
          <p:cNvPicPr/>
          <p:nvPr/>
        </p:nvPicPr>
        <p:blipFill>
          <a:blip r:embed="rId3"/>
          <a:stretch/>
        </p:blipFill>
        <p:spPr>
          <a:xfrm>
            <a:off x="4873680" y="3860640"/>
            <a:ext cx="647640" cy="6494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синицы3"/>
          <p:cNvPicPr/>
          <p:nvPr/>
        </p:nvPicPr>
        <p:blipFill>
          <a:blip r:embed="rId4"/>
          <a:stretch/>
        </p:blipFill>
        <p:spPr>
          <a:xfrm>
            <a:off x="324000" y="1773360"/>
            <a:ext cx="2376360" cy="1592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i?id=124156668-09"/>
          <p:cNvPicPr/>
          <p:nvPr/>
        </p:nvPicPr>
        <p:blipFill>
          <a:blip r:embed="rId5"/>
          <a:stretch/>
        </p:blipFill>
        <p:spPr>
          <a:xfrm>
            <a:off x="6659640" y="1916280"/>
            <a:ext cx="1612800" cy="2160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" descr="Картинка 68 из 405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4957920"/>
            <a:ext cx="24480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ПО</a:t>
            </a: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ли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ака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стан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F80-5182-4BCC-B36B-D63A26A14C29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Picture 5" descr="милиция"/>
          <p:cNvPicPr/>
          <p:nvPr/>
        </p:nvPicPr>
        <p:blipFill>
          <a:blip r:embed="rId1"/>
          <a:stretch/>
        </p:blipFill>
        <p:spPr>
          <a:xfrm>
            <a:off x="6588000" y="1700280"/>
            <a:ext cx="1676520" cy="18097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" descr="станция 2"/>
          <p:cNvPicPr/>
          <p:nvPr/>
        </p:nvPicPr>
        <p:blipFill>
          <a:blip r:embed="rId2"/>
          <a:stretch/>
        </p:blipFill>
        <p:spPr>
          <a:xfrm>
            <a:off x="5724360" y="4365720"/>
            <a:ext cx="2448000" cy="22399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акация3"/>
          <p:cNvPicPr/>
          <p:nvPr/>
        </p:nvPicPr>
        <p:blipFill>
          <a:blip r:embed="rId3"/>
          <a:stretch/>
        </p:blipFill>
        <p:spPr>
          <a:xfrm>
            <a:off x="611280" y="2708280"/>
            <a:ext cx="2160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РАВИЛ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0" y="1828800"/>
            <a:ext cx="94680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корне слова после Ц пишется 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окончании слова после Ц пишется 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словах на ЦИЯ после Ц пишется И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AF2E-2643-4827-9FDF-193929BAFEF6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РАВИЛ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entury Schoolbook"/>
              </a:rPr>
              <a:t>Слова -исключения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ган на цыпочках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плёнку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кнул: «Цыц!»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82B-1A2D-4FD6-937C-CA547D64B977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4" name="Рисунок 3" descr="Безымянный.bmp"/>
          <p:cNvPicPr/>
          <p:nvPr/>
        </p:nvPicPr>
        <p:blipFill>
          <a:blip r:embed="rId1"/>
          <a:srcRect l="25550" t="5272" r="24467" b="12502"/>
          <a:stretch/>
        </p:blipFill>
        <p:spPr>
          <a:xfrm>
            <a:off x="5292720" y="1989000"/>
            <a:ext cx="3240000" cy="4751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BIRD1-10"/>
          <p:cNvPicPr/>
          <p:nvPr/>
        </p:nvPicPr>
        <p:blipFill>
          <a:blip r:embed="rId2"/>
          <a:stretch/>
        </p:blipFill>
        <p:spPr>
          <a:xfrm>
            <a:off x="7451640" y="5195880"/>
            <a:ext cx="14414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АЛГОРИТ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2050920" y="1700280"/>
          <a:ext cx="5616720" cy="10810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слышу [цы]</a:t>
                      </a:r>
                      <a:r>
                        <a:rPr b="0" lang="ru-RU" sz="40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2050920" y="3213000"/>
          <a:ext cx="5616720" cy="10080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разбираю слово по составу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1476360" y="4941720"/>
          <a:ext cx="1655640" cy="116388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1674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2EFF-5560-4C52-9D86-F16EAF864908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348000" y="4941720"/>
          <a:ext cx="1511280" cy="168300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16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п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плё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6877080" y="4941720"/>
          <a:ext cx="1582560" cy="11512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60033"/>
                          </a:solidFill>
                          <a:uFillTx/>
                          <a:latin typeface="Comic Sans MS"/>
                        </a:rPr>
                        <a:t>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5148360" y="4941720"/>
          <a:ext cx="1511280" cy="1151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11512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4" name="Line 70"/>
          <p:cNvSpPr/>
          <p:nvPr/>
        </p:nvSpPr>
        <p:spPr>
          <a:xfrm>
            <a:off x="2050920" y="4581360"/>
            <a:ext cx="590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73"/>
          <p:cNvSpPr/>
          <p:nvPr/>
        </p:nvSpPr>
        <p:spPr>
          <a:xfrm>
            <a:off x="205092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78"/>
          <p:cNvSpPr/>
          <p:nvPr/>
        </p:nvSpPr>
        <p:spPr>
          <a:xfrm>
            <a:off x="399564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79"/>
          <p:cNvSpPr/>
          <p:nvPr/>
        </p:nvSpPr>
        <p:spPr>
          <a:xfrm>
            <a:off x="5003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81"/>
          <p:cNvSpPr/>
          <p:nvPr/>
        </p:nvSpPr>
        <p:spPr>
          <a:xfrm>
            <a:off x="507672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89"/>
          <p:cNvSpPr/>
          <p:nvPr/>
        </p:nvSpPr>
        <p:spPr>
          <a:xfrm>
            <a:off x="795672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90"/>
          <p:cNvSpPr/>
          <p:nvPr/>
        </p:nvSpPr>
        <p:spPr>
          <a:xfrm>
            <a:off x="594036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1" name="Picture 92" descr=""/>
          <p:cNvPicPr/>
          <p:nvPr/>
        </p:nvPicPr>
        <p:blipFill>
          <a:blip r:embed="rId1"/>
          <a:stretch/>
        </p:blipFill>
        <p:spPr>
          <a:xfrm>
            <a:off x="5364000" y="5373720"/>
            <a:ext cx="936720" cy="350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9" descr=""/>
          <p:cNvPicPr/>
          <p:nvPr/>
        </p:nvPicPr>
        <p:blipFill>
          <a:blip r:embed="rId2"/>
          <a:stretch/>
        </p:blipFill>
        <p:spPr>
          <a:xfrm>
            <a:off x="6300720" y="5516640"/>
            <a:ext cx="287280" cy="433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04" descr=""/>
          <p:cNvPicPr/>
          <p:nvPr/>
        </p:nvPicPr>
        <p:blipFill>
          <a:blip r:embed="rId3"/>
          <a:stretch/>
        </p:blipFill>
        <p:spPr>
          <a:xfrm>
            <a:off x="1619280" y="5300640"/>
            <a:ext cx="1224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ФИЗМИН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4360" y="1125360"/>
            <a:ext cx="7696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790A-DB18-44F4-A802-A45E63953BB8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7" name="Picture 4" descr="физминутка"/>
          <p:cNvPicPr/>
          <p:nvPr/>
        </p:nvPicPr>
        <p:blipFill>
          <a:blip r:embed="rId1"/>
          <a:stretch/>
        </p:blipFill>
        <p:spPr>
          <a:xfrm>
            <a:off x="1835280" y="2060640"/>
            <a:ext cx="4897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БУРАТИНО1"/>
          <p:cNvPicPr/>
          <p:nvPr/>
        </p:nvPicPr>
        <p:blipFill>
          <a:blip r:embed="rId1"/>
          <a:stretch/>
        </p:blipFill>
        <p:spPr>
          <a:xfrm>
            <a:off x="-181080" y="449280"/>
            <a:ext cx="5127840" cy="640872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10"/>
          <p:cNvSpPr/>
          <p:nvPr/>
        </p:nvSpPr>
        <p:spPr>
          <a:xfrm>
            <a:off x="3203640" y="333360"/>
            <a:ext cx="4824360" cy="1943280"/>
          </a:xfrm>
          <a:prstGeom prst="cloudCallout">
            <a:avLst>
              <a:gd name="adj1" fmla="val -50231"/>
              <a:gd name="adj2" fmla="val 6944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Monotype Corsiva"/>
              </a:rPr>
              <a:t>А теперь, ребята, будем проверять свои знания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0" name="Picture 12" descr="school09-04"/>
          <p:cNvPicPr/>
          <p:nvPr/>
        </p:nvPicPr>
        <p:blipFill>
          <a:blip r:embed="rId3"/>
          <a:stretch/>
        </p:blipFill>
        <p:spPr>
          <a:xfrm>
            <a:off x="4716360" y="3141720"/>
            <a:ext cx="3810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4"/>
          <p:cNvSpPr/>
          <p:nvPr/>
        </p:nvSpPr>
        <p:spPr>
          <a:xfrm>
            <a:off x="1539360" y="765000"/>
            <a:ext cx="620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Учебник, с. 122, упр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.Т. «Пишем грамотно»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тр. 33, упр.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4674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cc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cc00"/>
                </a:solidFill>
                <a:latin typeface="Century Schoolbook"/>
              </a:rPr>
              <a:t>Тест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корне слова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буква 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окончании слова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буква 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словах на [ цыя]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 буква 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йди   слово с ошибкой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циркуль б)  циплёнок в) цир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йди  лишнее слов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цыган  б)цыкнул в) цыплёнок г) рация д)  на цыпочк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39280" y="398160"/>
            <a:ext cx="76964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entury Schoolbook"/>
              </a:rPr>
              <a:t>Экран настро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DAF3-0490-4A6D-85F9-DED5F39D4F4C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3" name="Picture 5" descr="i?id=204864437-06"/>
          <p:cNvPicPr/>
          <p:nvPr/>
        </p:nvPicPr>
        <p:blipFill>
          <a:blip r:embed="rId1"/>
          <a:stretch/>
        </p:blipFill>
        <p:spPr>
          <a:xfrm>
            <a:off x="220680" y="366840"/>
            <a:ext cx="1568520" cy="1800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5"/>
          <p:cNvSpPr/>
          <p:nvPr/>
        </p:nvSpPr>
        <p:spPr>
          <a:xfrm>
            <a:off x="324000" y="4653000"/>
            <a:ext cx="338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«мн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хорош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Прямоугольник 7"/>
          <p:cNvSpPr/>
          <p:nvPr/>
        </p:nvSpPr>
        <p:spPr>
          <a:xfrm>
            <a:off x="4427640" y="4581360"/>
            <a:ext cx="4105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«мне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грустно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5004000" y="1557360"/>
            <a:ext cx="3457440" cy="2448000"/>
          </a:xfrm>
          <a:prstGeom prst="leftArrow">
            <a:avLst>
              <a:gd name="adj1" fmla="val 50000"/>
              <a:gd name="adj2" fmla="val 35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21463800">
            <a:off x="1547280" y="314172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321840" y="1629720"/>
            <a:ext cx="3457800" cy="2448000"/>
          </a:xfrm>
          <a:prstGeom prst="leftArrow">
            <a:avLst>
              <a:gd name="adj1" fmla="val 50000"/>
              <a:gd name="adj2" fmla="val 353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rot="21463800">
            <a:off x="6227280" y="3141720"/>
            <a:ext cx="1008360" cy="1008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entury Schoolbook"/>
              </a:rPr>
              <a:t>Проверь и оцени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"/>
          <p:cNvSpPr/>
          <p:nvPr/>
        </p:nvSpPr>
        <p:spPr>
          <a:xfrm>
            <a:off x="826920" y="1628640"/>
            <a:ext cx="6769440" cy="1368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, а, б, б, г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309600" y="3695760"/>
            <a:ext cx="8078760" cy="253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85723"/>
                </a:solidFill>
                <a:uFillTx/>
                <a:latin typeface="Calibri"/>
                <a:ea typeface="Arial"/>
              </a:rPr>
              <a:t>КРИТЕРИИ ОЦЕНИ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НЕТ ОШИБОК – «5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1-2 ОШИБКИ – «4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БОЛЕЕ 2 ОШИБОК – «3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ИТОГ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4360" y="1125360"/>
            <a:ext cx="769608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Мы все ступеньки прошли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Что у вас получалось сегодня лучше всег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В чём испытали затрудне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Кто сегодня получил отметку в дневник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За чт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- Оцените свои умения на уроке, используя лесенку успе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- Посмотрите, что у на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получилось? Какой вывод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можно сдела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3FA-D1B7-404E-8BE4-4C044A96A75F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1" name="Picture 6" descr="i?id=113929203-02"/>
          <p:cNvPicPr/>
          <p:nvPr/>
        </p:nvPicPr>
        <p:blipFill>
          <a:blip r:embed="rId1"/>
          <a:stretch/>
        </p:blipFill>
        <p:spPr>
          <a:xfrm>
            <a:off x="5580000" y="407664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515880" y="6157800"/>
            <a:ext cx="2235240" cy="6764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" descr=""/>
          <p:cNvPicPr/>
          <p:nvPr/>
        </p:nvPicPr>
        <p:blipFill>
          <a:blip r:embed="rId2"/>
          <a:stretch/>
        </p:blipFill>
        <p:spPr>
          <a:xfrm>
            <a:off x="2131920" y="3871800"/>
            <a:ext cx="452520" cy="2332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"/>
          <p:cNvPicPr/>
          <p:nvPr/>
        </p:nvPicPr>
        <p:blipFill>
          <a:blip r:embed="rId3"/>
          <a:stretch/>
        </p:blipFill>
        <p:spPr>
          <a:xfrm>
            <a:off x="2432160" y="3659040"/>
            <a:ext cx="2236680" cy="676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4"/>
          <a:stretch/>
        </p:blipFill>
        <p:spPr>
          <a:xfrm>
            <a:off x="4668840" y="1785960"/>
            <a:ext cx="452520" cy="23320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"/>
          <p:cNvPicPr/>
          <p:nvPr/>
        </p:nvPicPr>
        <p:blipFill>
          <a:blip r:embed="rId5"/>
          <a:stretch/>
        </p:blipFill>
        <p:spPr>
          <a:xfrm>
            <a:off x="5219640" y="1773360"/>
            <a:ext cx="2665440" cy="676080"/>
          </a:xfrm>
          <a:prstGeom prst="rect">
            <a:avLst/>
          </a:prstGeom>
          <a:ln w="0">
            <a:noFill/>
          </a:ln>
        </p:spPr>
      </p:pic>
      <p:sp>
        <p:nvSpPr>
          <p:cNvPr id="747" name="Прямоугольник 7"/>
          <p:cNvSpPr/>
          <p:nvPr/>
        </p:nvSpPr>
        <p:spPr>
          <a:xfrm>
            <a:off x="365040" y="430200"/>
            <a:ext cx="2948040" cy="914400"/>
          </a:xfrm>
          <a:prstGeom prst="rect">
            <a:avLst/>
          </a:prstGeom>
          <a:solidFill>
            <a:srgbClr val="fe863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3c0c"/>
                </a:solidFill>
                <a:latin typeface="Calibri"/>
                <a:ea typeface="Arial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3"/>
          <p:cNvSpPr/>
          <p:nvPr/>
        </p:nvSpPr>
        <p:spPr>
          <a:xfrm>
            <a:off x="2922120" y="38116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чил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Box 4"/>
          <p:cNvSpPr/>
          <p:nvPr/>
        </p:nvSpPr>
        <p:spPr>
          <a:xfrm>
            <a:off x="5219640" y="19162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Могу оказать помощ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624240" y="630864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до поработ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1" name="Рисунок 1" descr=""/>
          <p:cNvPicPr/>
          <p:nvPr/>
        </p:nvPicPr>
        <p:blipFill>
          <a:blip r:embed="rId6"/>
          <a:stretch/>
        </p:blipFill>
        <p:spPr>
          <a:xfrm>
            <a:off x="2584440" y="2308320"/>
            <a:ext cx="1469880" cy="146988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14" descr=""/>
          <p:cNvPicPr/>
          <p:nvPr/>
        </p:nvPicPr>
        <p:blipFill>
          <a:blip r:embed="rId7"/>
          <a:stretch/>
        </p:blipFill>
        <p:spPr>
          <a:xfrm>
            <a:off x="5214960" y="469800"/>
            <a:ext cx="1469880" cy="147024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16" descr=""/>
          <p:cNvPicPr/>
          <p:nvPr/>
        </p:nvPicPr>
        <p:blipFill>
          <a:blip r:embed="rId8"/>
          <a:stretch/>
        </p:blipFill>
        <p:spPr>
          <a:xfrm>
            <a:off x="539640" y="4653000"/>
            <a:ext cx="14684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39280" y="398160"/>
            <a:ext cx="76964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entury Schoolbook"/>
              </a:rPr>
              <a:t>Экран настро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D22-8FB6-4331-BB89-94A64709BEFC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6" name="Picture 5" descr="i?id=204864437-06"/>
          <p:cNvPicPr/>
          <p:nvPr/>
        </p:nvPicPr>
        <p:blipFill>
          <a:blip r:embed="rId1"/>
          <a:stretch/>
        </p:blipFill>
        <p:spPr>
          <a:xfrm>
            <a:off x="220680" y="366840"/>
            <a:ext cx="1568520" cy="18000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5"/>
          <p:cNvSpPr/>
          <p:nvPr/>
        </p:nvSpPr>
        <p:spPr>
          <a:xfrm>
            <a:off x="324000" y="4653000"/>
            <a:ext cx="338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«мн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хорош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Прямоугольник 7"/>
          <p:cNvSpPr/>
          <p:nvPr/>
        </p:nvSpPr>
        <p:spPr>
          <a:xfrm>
            <a:off x="4427640" y="4581360"/>
            <a:ext cx="4105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«мне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грустно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5004000" y="1557360"/>
            <a:ext cx="3457440" cy="2448000"/>
          </a:xfrm>
          <a:prstGeom prst="leftArrow">
            <a:avLst>
              <a:gd name="adj1" fmla="val 50000"/>
              <a:gd name="adj2" fmla="val 35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 rot="21463800">
            <a:off x="1547280" y="314172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321840" y="1629720"/>
            <a:ext cx="3457800" cy="2448000"/>
          </a:xfrm>
          <a:prstGeom prst="leftArrow">
            <a:avLst>
              <a:gd name="adj1" fmla="val 50000"/>
              <a:gd name="adj2" fmla="val 353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 rot="21463800">
            <a:off x="6227280" y="3141720"/>
            <a:ext cx="1008360" cy="1008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 u="sng">
                <a:solidFill>
                  <a:srgbClr val="575f6d"/>
                </a:solidFill>
                <a:uFillTx/>
                <a:latin typeface="Century Schoolbook"/>
              </a:rPr>
              <a:t>Сотовый телефон для СМС-сообщения (самооценка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"/>
          <p:cNvSpPr/>
          <p:nvPr/>
        </p:nvSpPr>
        <p:spPr>
          <a:xfrm>
            <a:off x="826920" y="1916280"/>
            <a:ext cx="2257560" cy="344628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280"/>
              <a:gd name="textAreaBottom" fmla="*/ 3336120 h 3446280"/>
            </a:gdLst>
            <a:ahLst/>
            <a:rect l="textAreaLeft" t="textAreaTop" r="textAreaRight" b="textAreaBottom"/>
            <a:pathLst>
              <a:path w="21600" h="32972">
                <a:moveTo>
                  <a:pt x="3600" y="0"/>
                </a:moveTo>
                <a:arcTo wR="3600" hR="3600" stAng="16200000" swAng="-5400000"/>
                <a:lnTo>
                  <a:pt x="0" y="29372"/>
                </a:lnTo>
                <a:arcTo wR="3600" hR="3600" stAng="10800000" swAng="-5400000"/>
                <a:lnTo>
                  <a:pt x="18000" y="32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1547640" y="206064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3492360" y="1989000"/>
            <a:ext cx="2257560" cy="344664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640"/>
              <a:gd name="textAreaBottom" fmla="*/ 3336480 h 3446640"/>
            </a:gdLst>
            <a:ahLst/>
            <a:rect l="textAreaLeft" t="textAreaTop" r="textAreaRight" b="textAreaBottom"/>
            <a:pathLst>
              <a:path w="21600" h="32975">
                <a:moveTo>
                  <a:pt x="3600" y="0"/>
                </a:moveTo>
                <a:arcTo wR="3600" hR="3600" stAng="16200000" swAng="-5400000"/>
                <a:lnTo>
                  <a:pt x="0" y="29375"/>
                </a:lnTo>
                <a:arcTo wR="3600" hR="3600" stAng="10800000" swAng="-5400000"/>
                <a:lnTo>
                  <a:pt x="18000" y="32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6156360" y="2060640"/>
            <a:ext cx="2257560" cy="344628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280"/>
              <a:gd name="textAreaBottom" fmla="*/ 3336120 h 3446280"/>
            </a:gdLst>
            <a:ahLst/>
            <a:rect l="textAreaLeft" t="textAreaTop" r="textAreaRight" b="textAreaBottom"/>
            <a:pathLst>
              <a:path w="21600" h="32972">
                <a:moveTo>
                  <a:pt x="3600" y="0"/>
                </a:moveTo>
                <a:arcTo wR="3600" hR="3600" stAng="16200000" swAng="-5400000"/>
                <a:lnTo>
                  <a:pt x="0" y="29372"/>
                </a:lnTo>
                <a:arcTo wR="3600" hR="3600" stAng="10800000" swAng="-5400000"/>
                <a:lnTo>
                  <a:pt x="18000" y="32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6804000" y="220500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4211640" y="213372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4"/>
          <p:cNvSpPr/>
          <p:nvPr/>
        </p:nvSpPr>
        <p:spPr>
          <a:xfrm>
            <a:off x="1288440" y="765000"/>
            <a:ext cx="6711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Д.З.: стр.122, упр. 2 или 3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аб. тетр.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тр.34, упр.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5-конечная звезда 2"/>
          <p:cNvSpPr/>
          <p:nvPr/>
        </p:nvSpPr>
        <p:spPr>
          <a:xfrm>
            <a:off x="2771640" y="1484280"/>
            <a:ext cx="43200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66ff"/>
                </a:solidFill>
                <a:latin typeface="Century Schoolbook"/>
              </a:rPr>
              <a:t>СПАСИБО ЗА УРОК!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C633-F785-4BF1-9337-C6A76EE2C0C1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6" name="Picture 5" descr="тема1"/>
          <p:cNvPicPr/>
          <p:nvPr/>
        </p:nvPicPr>
        <p:blipFill>
          <a:blip r:embed="rId1"/>
          <a:stretch/>
        </p:blipFill>
        <p:spPr>
          <a:xfrm>
            <a:off x="2124000" y="2492280"/>
            <a:ext cx="5184720" cy="4027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6" descr="тема4"/>
          <p:cNvPicPr/>
          <p:nvPr/>
        </p:nvPicPr>
        <p:blipFill>
          <a:blip r:embed="rId2"/>
          <a:stretch/>
        </p:blipFill>
        <p:spPr>
          <a:xfrm>
            <a:off x="5940360" y="2133720"/>
            <a:ext cx="1873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Минутка чистопис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686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зови букву, которая обозначает один звук. Этот звук согласны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лух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парны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гда твёрды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2" name="Рисунок 3" descr=""/>
          <p:cNvPicPr/>
          <p:nvPr/>
        </p:nvPicPr>
        <p:blipFill>
          <a:blip r:embed="rId1"/>
          <a:stretch/>
        </p:blipFill>
        <p:spPr>
          <a:xfrm>
            <a:off x="3708360" y="2660760"/>
            <a:ext cx="4857840" cy="361944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4" descr=""/>
          <p:cNvPicPr/>
          <p:nvPr/>
        </p:nvPicPr>
        <p:blipFill>
          <a:blip r:embed="rId2"/>
          <a:stretch/>
        </p:blipFill>
        <p:spPr>
          <a:xfrm>
            <a:off x="3503520" y="2660760"/>
            <a:ext cx="5114880" cy="3152520"/>
          </a:xfrm>
          <a:prstGeom prst="rect">
            <a:avLst/>
          </a:prstGeom>
          <a:ln w="0">
            <a:noFill/>
          </a:ln>
        </p:spPr>
      </p:pic>
      <p:sp>
        <p:nvSpPr>
          <p:cNvPr id="634" name="Номер слайда 5"/>
          <p:cNvSpPr/>
          <p:nvPr/>
        </p:nvSpPr>
        <p:spPr>
          <a:xfrm>
            <a:off x="6516720" y="5734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17E-D89B-49BF-B550-687104C144F4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Словарная рабо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6" name="Рисунок 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655720" cy="17697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2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232000" cy="176976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5" descr=""/>
          <p:cNvPicPr/>
          <p:nvPr/>
        </p:nvPicPr>
        <p:blipFill>
          <a:blip r:embed="rId3"/>
          <a:stretch/>
        </p:blipFill>
        <p:spPr>
          <a:xfrm>
            <a:off x="6227640" y="1413000"/>
            <a:ext cx="2328840" cy="174600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6" descr=""/>
          <p:cNvPicPr/>
          <p:nvPr/>
        </p:nvPicPr>
        <p:blipFill>
          <a:blip r:embed="rId4"/>
          <a:stretch/>
        </p:blipFill>
        <p:spPr>
          <a:xfrm>
            <a:off x="1789200" y="3933720"/>
            <a:ext cx="2276280" cy="181764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7" descr=""/>
          <p:cNvPicPr/>
          <p:nvPr/>
        </p:nvPicPr>
        <p:blipFill>
          <a:blip r:embed="rId5"/>
          <a:stretch/>
        </p:blipFill>
        <p:spPr>
          <a:xfrm>
            <a:off x="5492880" y="3933720"/>
            <a:ext cx="2363760" cy="1771920"/>
          </a:xfrm>
          <a:prstGeom prst="rect">
            <a:avLst/>
          </a:prstGeom>
          <a:ln w="0">
            <a:noFill/>
          </a:ln>
        </p:spPr>
      </p:pic>
      <p:sp>
        <p:nvSpPr>
          <p:cNvPr id="641" name="TextBox 8"/>
          <p:cNvSpPr/>
          <p:nvPr/>
        </p:nvSpPr>
        <p:spPr>
          <a:xfrm>
            <a:off x="1248120" y="3182760"/>
            <a:ext cx="13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уре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2303280" y="5751360"/>
            <a:ext cx="9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6449400" y="3159000"/>
            <a:ext cx="19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лес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4087080" y="318276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Box 15"/>
          <p:cNvSpPr/>
          <p:nvPr/>
        </p:nvSpPr>
        <p:spPr>
          <a:xfrm>
            <a:off x="5733000" y="571824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ш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6443640" y="58053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08E-F150-47E7-843C-865EE16EBBD3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11556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cc"/>
                </a:solidFill>
                <a:latin typeface="Century Schoolbook"/>
                <a:ea typeface="Andalus"/>
              </a:rPr>
              <a:t>«Лови ошибку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Шупка -шубк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жёлтый-жолт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радосный-радостн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линтяй-лентя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08D-9FC0-4D19-9802-954DEB310EC3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5280" y="-36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cc"/>
                </a:solidFill>
                <a:latin typeface="Century Schoolbook"/>
                <a:ea typeface="Andalus"/>
              </a:rPr>
              <a:t>«Лови ошибку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шубк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жёлт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радостн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лентя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циган-цыган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ADC-4D6C-47D0-B11C-2523A7044EA8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ТЕМА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2144520"/>
            <a:ext cx="769608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Century Schoolbook"/>
              </a:rPr>
              <a:t>Учимся обозначать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Century Schoolbook"/>
              </a:rPr>
              <a:t>звук [ы] после звука [ц]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C934-37B2-4E7E-AD7A-553D807B6F1F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6" name="Picture 5" descr="тема"/>
          <p:cNvPicPr/>
          <p:nvPr/>
        </p:nvPicPr>
        <p:blipFill>
          <a:blip r:embed="rId1"/>
          <a:stretch/>
        </p:blipFill>
        <p:spPr>
          <a:xfrm>
            <a:off x="3203640" y="4005360"/>
            <a:ext cx="26636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ЛАНИРОВАНИЕ УЧЕБ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684360" y="1844640"/>
          <a:ext cx="2663640" cy="106668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Что изучаю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076720" y="2276640"/>
          <a:ext cx="2835360" cy="720720"/>
        </p:xfrm>
        <a:graphic>
          <a:graphicData uri="http://schemas.openxmlformats.org/drawingml/2006/table">
            <a:tbl>
              <a:tblPr/>
              <a:tblGrid>
                <a:gridCol w="2835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Применя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755640" y="3124080"/>
          <a:ext cx="2736720" cy="63972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Наблюда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3780000" y="3429000"/>
          <a:ext cx="2730240" cy="639720"/>
        </p:xfrm>
        <a:graphic>
          <a:graphicData uri="http://schemas.openxmlformats.org/drawingml/2006/table">
            <a:tbl>
              <a:tblPr/>
              <a:tblGrid>
                <a:gridCol w="2730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Оценива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C15-B0D6-4272-8DD0-F6BB848C9A92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932360" y="4365720"/>
          <a:ext cx="2592360" cy="6523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Проверяю</a:t>
                      </a:r>
                      <a:r>
                        <a:rPr b="0" lang="en-US" sz="36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908000" y="4508640"/>
          <a:ext cx="2448000" cy="13716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Делаю вывод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де ЦЫ? Ц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ЛАНИРОВАНИЕ УЧЕБ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619280" y="6021360"/>
          <a:ext cx="2449440" cy="4572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Что изуча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556000" y="5445000"/>
          <a:ext cx="2016000" cy="4572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Наблюд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227640" y="2492280"/>
          <a:ext cx="2376720" cy="8226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822600">
                <a:tc>
                  <a:txBody>
                    <a:bodyPr lIns="90000" rIns="90000" tIns="45360" bIns="453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елаю вывод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где ЦЫ? Ц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3564000" y="4797360"/>
          <a:ext cx="2016000" cy="4572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Применя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79E-3FF5-46BD-84B6-263750D22C11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6720" y="3429000"/>
          <a:ext cx="2154240" cy="457200"/>
        </p:xfrm>
        <a:graphic>
          <a:graphicData uri="http://schemas.openxmlformats.org/drawingml/2006/table">
            <a:tbl>
              <a:tblPr/>
              <a:tblGrid>
                <a:gridCol w="215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Оценив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284720" y="4149720"/>
          <a:ext cx="2232000" cy="4572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Проверяю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3" name="Picture 103" descr="тема3"/>
          <p:cNvPicPr/>
          <p:nvPr/>
        </p:nvPicPr>
        <p:blipFill>
          <a:blip r:embed="rId1"/>
          <a:stretch/>
        </p:blipFill>
        <p:spPr>
          <a:xfrm>
            <a:off x="576360" y="1989000"/>
            <a:ext cx="2658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0:25:21Z</dcterms:created>
  <dc:creator>Ксюша</dc:creator>
  <dc:description/>
  <dc:language>en-US</dc:language>
  <cp:lastModifiedBy>Ольга</cp:lastModifiedBy>
  <dcterms:modified xsi:type="dcterms:W3CDTF">2014-11-23T18:06:23Z</dcterms:modified>
  <cp:revision>137</cp:revision>
  <dc:subject/>
  <dc:title>УРОК РУССКОГО ЯЗЫКА</dc:title>
</cp:coreProperties>
</file>