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35.gif" ContentType="image/gif"/>
  <Override PartName="/ppt/media/image9.jpeg" ContentType="image/jpeg"/>
  <Override PartName="/ppt/media/image36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28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927-2470-40D4-B7FE-75DC665E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3C2-5411-4653-A1C4-5DF14415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34550-C413-4985-9EB7-11A892DD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E29DC-20AF-4AD4-BCC6-8C743E3F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1F178-9C6C-4BB8-BCB8-86B1070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5A283-5C5B-4692-801D-645284F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CB926-3EA5-458F-9DEE-F4D92FA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E5DF8-36AC-4929-BB84-A78D3C3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2419F-6BCF-4D7D-942A-8BF3FC57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BF85C-0662-46B0-898B-5BBD7B77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CA7B1-08F8-4137-8FB8-73AD4448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82A9AC-9154-420A-B282-68660735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DD3-668D-46F3-BD6C-6BA92DB4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F3A5CC-8BE5-4B0F-9A90-63B52C4D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18FBFE-4840-475A-85C4-724087C8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EA842B-6740-411C-BCA2-422030C5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375177-ADEF-4569-A2BD-AD1E2D6C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91C19A-30F0-42B6-9D18-5215AEDD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B7D126-22C7-476F-8CE5-53A6D315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8DC055-E153-43EC-BC62-2FABDD6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312AED-B20E-4A68-B5B9-633ED19E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0D35D2-9EC9-49D1-870C-205D8F8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81438D-3F54-45C1-BF38-BF4D72D0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38A-C34A-4835-9310-70D32590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FAF310-C9C4-410B-A875-0FAEDFBB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C99C61-DF9F-400E-979E-75BA9F4F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78004F-700C-4910-B27D-DA3088E5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E79BEE-5669-404D-8383-8F1D74A6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07C791-40CF-4D35-867F-B58FBB1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1E97AC-89D2-42F8-82F8-52B3B836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346E8C-53E1-4E51-9281-6C6A307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CCE0D3-27B2-4DCF-9E82-5BB2DBB7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9EE73B-AD31-4134-8E2E-4CDF66C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7EAD0D-9D20-456D-BFC2-C97ABF9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F107-DEC4-4800-AA82-0F7AB3F9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464405-8884-48BF-9787-ED67F3CD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EB68F0-9D51-4056-832F-0928E7F1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0D6BD7-813C-4E54-8CD3-2144E893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78662E-08D2-4982-AC79-E29AC4E7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E25E19-C92F-407B-941D-38576A1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9C0296-B956-46EC-B85C-4226BC83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DE1C0E-9D5C-4581-8C48-47794964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F97C79-A200-4596-A92C-EC46BB73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53758F-0DCD-446F-817B-774D3341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01FA4B-194A-425B-B6E3-DE86371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0CBF-3B33-4D4E-B852-C4BE762F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5B419D-6EC1-4D3A-8273-1A04AA15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83289-BA0C-4875-9620-175FC31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DED85F-10B4-45D6-9572-71722EFF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57028C-CDF9-463D-8F3E-DABD6C64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1494E0-87C7-4891-97C8-895CBDC4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564DB-799E-40DA-AFFF-2FF7CDEF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D3A43-03D1-4F4E-9331-50B7D3E9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8962D-A2D6-40C8-B3EA-0D3004CE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631B5-D474-4436-AB7A-70C962DE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78576-94DC-42FB-BBCB-3E5DFCA1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D19E-BF0F-4B60-846B-B31D7F5C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C8B4A-2624-4B22-8D65-9A4C1EA5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582F6-7C37-4E20-8888-18134727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55997-CB79-40BC-ADA8-9E2ED3E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37A6A-C553-4D02-A1BE-5E753B9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E601C-FCED-4343-8971-D748C614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D6459-89F7-46D7-A5E7-46DB7A7C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99396-421E-437D-8517-124CBA6A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0DED-FCD2-405C-B08B-85C688AC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8073-3546-43FC-BDE7-F1724F53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1E6E-A981-45F7-9A1E-5B828BA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1749-75AF-49B4-8787-642F19FC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4FF-1E46-4D33-9282-7923DA6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4AC1-2A5D-45D2-A8BA-B8BE9EA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49FF-AD3D-4F53-A65A-5FF117CF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0BCB-16BE-4B13-95DC-42E0C7E1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BEBD-221B-4363-A3BD-356B3639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8A5B-1431-4810-99A0-B591C707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58EF-00C8-43FD-BAA1-2BA4285A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3B03-B853-4351-9AEF-A4E2A526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84C1-2779-4699-8570-A5C03943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1DD0-67A2-4EC3-AE60-823789C4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91C9-9717-4400-84A4-A6FE3612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F52-0386-4E6D-B75F-4B69D62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6B26-FA80-47FD-A1D0-7D922441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DBDA-BD5C-4E81-9DC1-70352B3C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C89E-AE9B-43DA-A430-F157624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6937-AB45-4EA4-8E75-D0ADAF1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40AF-50D7-45F1-A96B-DB2EC553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7301-C102-434B-99C4-4A8150C4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625A-15BF-4F08-B3CB-5479FA2C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7C47-0FE5-452A-B151-71A2A28D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9BA8-05C5-4E3E-A8F2-48C143B0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51D2-C5B9-4334-9664-81F49AD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92A-2211-4358-B51F-6693E4D3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BEAA-6756-4541-8A02-7E3D31B4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2C81-EEC2-4376-916B-025F1633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9095C-3E4F-4B7B-A703-B2E81CAB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673E-C5F0-479A-B2B2-DA5DA0F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A322-7A96-42ED-9395-914FE7C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5A30-0EEC-4A5C-AC47-3256E82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7778-D216-492D-9B16-02856E12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4021-27CE-4635-9D69-D0FD86D2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0961-0D30-43AB-8285-8B3954C1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1BC85-3B45-4C9E-A9E8-3312B38F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D33-0BAD-4A92-A0AB-5832EF97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B4708-95D3-4B31-9E11-5795EBE6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0247-A03B-4C3C-86AF-9250DC21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B61B-D8F5-4934-B836-1722F9A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82B5-E96E-45B3-A723-531C868E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BBD0-8DFF-4285-9CEB-82CAFDA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4D048-53B3-4D98-8295-54C3CB59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4C4B-02D1-4126-A67A-5544A11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2CFE-2345-4F4E-8987-DC0976D7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EF562-1A1B-4E96-A3EC-162B80B0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DA12-FC89-402C-BCB6-1E417062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559-4B01-4B75-B51D-6234A399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5AE29-FF3E-4ED1-9B0A-83E93C6C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7189-E59D-4463-9A04-8E7173B7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23CE7-3937-415C-83A2-51E0BF7D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EFEFC-C2DE-48EF-ABBF-0F638A9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B9DBF-16E5-4638-8DA9-C3E7BB3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12D5-93A4-4DD9-AA1E-6A64206C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7CA2-CA6F-46EE-8142-16D0BDED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03762-7527-4D4D-A115-E26EFBC9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3CBB8-D1E8-4A15-8164-0E7C7E3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A1A2-F2FB-4D7E-8868-8D8464F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9A4-CBC8-46E8-9B9C-3BAAC68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B470F-BD33-454C-A419-0FC340B3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4D82A-E945-4F69-969E-8F912225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0A0B-5EF0-4DC3-98D7-E79BB8C6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D7715-C47C-42A9-9218-9DB40F52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A077A-0758-45DA-AAE1-12D2BD1D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418D6-3B58-4D1A-8AA9-C9DB06C9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47FC7-81D2-4E8C-8143-FA30E0A0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71126-1AEE-4792-B721-EADF080A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65195-3B44-4B3A-A0B1-6178B237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2F06F-47BB-4F87-8006-168733EE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2D0-FD07-458B-9EC0-7374A48B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99C31-3843-4686-A5AE-5A96F4B2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590E-20C8-452D-8CC1-C2318C63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9277D-8474-4C0C-9275-7A9DECFE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DB54E-A2C8-4363-8E06-019C3D6C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227C-BE18-46EF-B157-7C772FED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F348E-2AC2-4D9F-827C-F441B394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6DDAF-C79F-407F-8BCF-D6D9BA14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15A24-9D15-4DA0-BC60-D568AD8F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059CF9-0411-4135-BE76-337992D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C7274-6F84-469E-AF61-44CD4733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40C-1090-40C6-BDA5-2F3BCC04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4F707-7833-4A9E-BF64-83520823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11935-2636-4473-8F38-8C741914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83FD0-33F2-474F-966A-39894D7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57CA35-371B-457A-864B-9640E89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3CDD9-7416-43B6-A4D2-48AAF9CE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0137B-4A23-4EF4-8A1A-6C705523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12F20-8B90-4802-B51F-6DB90DD6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019D1-D825-46DB-8656-4E7668EC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F9779-93CC-4BE5-ABB6-D1639B8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A0AB6-560E-4DCD-94F4-EAEFB21F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1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A4F-444A-4CB2-9508-21544C0CE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7A40-FD53-4D11-81FE-A5D1195E74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3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5BDB-0C14-4D1F-B773-21D040EF4C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69C4-18F8-49A0-B288-AFFF08B529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4465-19B6-4A6F-8E23-7CF4C9B29C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2D12-B7DB-46D4-B6A9-2E2393B38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89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0123-C0E6-408E-99B4-9261E35A9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133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2B01-0ACD-444C-915D-A5225A752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6"/>
          <p:cNvGrpSpPr/>
          <p:nvPr/>
        </p:nvGrpSpPr>
        <p:grpSpPr>
          <a:xfrm>
            <a:off x="298440" y="328680"/>
            <a:ext cx="8547120" cy="6254640"/>
            <a:chOff x="298440" y="328680"/>
            <a:chExt cx="8547120" cy="6254640"/>
          </a:xfrm>
        </p:grpSpPr>
        <p:pic>
          <p:nvPicPr>
            <p:cNvPr id="177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98440" y="328680"/>
              <a:ext cx="8547120" cy="62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57120" y="357120"/>
              <a:ext cx="842976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6B33-B566-4C36-9019-1F0A0FA0F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8455-EF84-4021-AE5B-84428337B3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0005-B121-4A2A-9C10-A3A9CD2DA0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2265-78E6-4B3D-B2DA-31A8D6F787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979F-4568-4FAF-9A46-A80FCF1E77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hyperlink" Target="http://stat18.privet.ru/lr/0a134d3c3b503a602064476a2aab3c7f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35280" y="333360"/>
            <a:ext cx="518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УРОК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РУССКОГО ЯЗЫ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756144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cc00"/>
                </a:solidFill>
                <a:latin typeface="Book Antiqua"/>
              </a:rPr>
              <a:t>3 класс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cc00"/>
                </a:solidFill>
                <a:latin typeface="Book Antiqua"/>
              </a:rPr>
              <a:t>УМК «Начальная школа </a:t>
            </a:r>
            <a:r>
              <a:rPr b="1" i="1" lang="en-US" sz="3100" spc="-1" strike="noStrike">
                <a:solidFill>
                  <a:srgbClr val="00cc00"/>
                </a:solidFill>
                <a:latin typeface="Book Antiqua"/>
              </a:rPr>
              <a:t>XXI</a:t>
            </a:r>
            <a:r>
              <a:rPr b="1" i="1" lang="ru-RU" sz="3100" spc="-1" strike="noStrike">
                <a:solidFill>
                  <a:srgbClr val="00cc00"/>
                </a:solidFill>
                <a:latin typeface="Book Antiqua"/>
              </a:rPr>
              <a:t> века»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33"/>
                </a:solidFill>
                <a:latin typeface="Arial"/>
              </a:rPr>
              <a:t>Панюкова Ольга Васильев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8317080" y="6093000"/>
            <a:ext cx="609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556E-6603-4883-8C22-CF495B73E819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entury Schoolbook"/>
              </a:rPr>
              <a:t>ОБОЗНАЧЕНИЕ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entury Schoolbook"/>
              </a:rPr>
              <a:t>ЗВУКА [Ы] ПОСЛЕ ЗВУКА [Ц]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539280" y="2133720"/>
            <a:ext cx="7767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цирк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циркуль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цифра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CC86-E936-4F19-8D39-CCD506391970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7" name="Picture 4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511280" cy="3603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"/>
          <p:cNvPicPr/>
          <p:nvPr/>
        </p:nvPicPr>
        <p:blipFill>
          <a:blip r:embed="rId2"/>
          <a:stretch/>
        </p:blipFill>
        <p:spPr>
          <a:xfrm>
            <a:off x="3059280" y="3141720"/>
            <a:ext cx="2665080" cy="5032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1728720" cy="3938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циркуль2"/>
          <p:cNvPicPr/>
          <p:nvPr/>
        </p:nvPicPr>
        <p:blipFill>
          <a:blip r:embed="rId4"/>
          <a:stretch/>
        </p:blipFill>
        <p:spPr>
          <a:xfrm>
            <a:off x="6948360" y="2421000"/>
            <a:ext cx="1633680" cy="1728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цифра"/>
          <p:cNvPicPr/>
          <p:nvPr/>
        </p:nvPicPr>
        <p:blipFill>
          <a:blip r:embed="rId5"/>
          <a:stretch/>
        </p:blipFill>
        <p:spPr>
          <a:xfrm>
            <a:off x="6575400" y="5013360"/>
            <a:ext cx="1189080" cy="1674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3" descr="i?id=75798593-00"/>
          <p:cNvPicPr/>
          <p:nvPr/>
        </p:nvPicPr>
        <p:blipFill>
          <a:blip r:embed="rId6"/>
          <a:stretch/>
        </p:blipFill>
        <p:spPr>
          <a:xfrm>
            <a:off x="179280" y="1917720"/>
            <a:ext cx="2219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ОБОЗНАЧЕНИЕ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ЗВУКА [Ы] ПОСЛЕ ЗВУКА [Ц]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синицы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скворцы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Times New Roman"/>
              </a:rPr>
              <a:t>птенцы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32D0-1984-477F-A5C7-68B044F61B1C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1"/>
          <a:stretch/>
        </p:blipFill>
        <p:spPr>
          <a:xfrm>
            <a:off x="4896000" y="1916280"/>
            <a:ext cx="647640" cy="718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5011560" y="288936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"/>
          <p:cNvPicPr/>
          <p:nvPr/>
        </p:nvPicPr>
        <p:blipFill>
          <a:blip r:embed="rId3"/>
          <a:stretch/>
        </p:blipFill>
        <p:spPr>
          <a:xfrm>
            <a:off x="4873680" y="3860640"/>
            <a:ext cx="647640" cy="6494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7" descr="синицы3"/>
          <p:cNvPicPr/>
          <p:nvPr/>
        </p:nvPicPr>
        <p:blipFill>
          <a:blip r:embed="rId4"/>
          <a:stretch/>
        </p:blipFill>
        <p:spPr>
          <a:xfrm>
            <a:off x="324000" y="1773360"/>
            <a:ext cx="2376360" cy="1592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9" descr="i?id=124156668-09"/>
          <p:cNvPicPr/>
          <p:nvPr/>
        </p:nvPicPr>
        <p:blipFill>
          <a:blip r:embed="rId5"/>
          <a:stretch/>
        </p:blipFill>
        <p:spPr>
          <a:xfrm>
            <a:off x="6659640" y="1916280"/>
            <a:ext cx="1612800" cy="21603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3" descr="Картинка 68 из 4055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48000" y="4957920"/>
            <a:ext cx="24480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ОБОЗНАЧЕНИЕ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ЗВУКА [Ы] ПОСЛЕ ЗВУКА [Ц]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ПО</a:t>
            </a:r>
            <a:r>
              <a:rPr b="0" lang="ru-RU" sz="6000" spc="-1" strike="noStrike">
                <a:solidFill>
                  <a:srgbClr val="660033"/>
                </a:solidFill>
                <a:latin typeface="Times New Roman"/>
              </a:rPr>
              <a:t>ли</a:t>
            </a:r>
            <a:r>
              <a:rPr b="0" lang="ru-RU" sz="6000" spc="-1" strike="noStrike" u="sng">
                <a:solidFill>
                  <a:srgbClr val="660033"/>
                </a:solidFill>
                <a:uFillTx/>
                <a:latin typeface="Times New Roman"/>
              </a:rPr>
              <a:t>ция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</a:rPr>
              <a:t>ака</a:t>
            </a:r>
            <a:r>
              <a:rPr b="0" lang="ru-RU" sz="6000" spc="-1" strike="noStrike" u="sng">
                <a:solidFill>
                  <a:srgbClr val="660033"/>
                </a:solidFill>
                <a:uFillTx/>
                <a:latin typeface="Times New Roman"/>
              </a:rPr>
              <a:t>ция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</a:rPr>
              <a:t>стан</a:t>
            </a:r>
            <a:r>
              <a:rPr b="0" lang="ru-RU" sz="6000" spc="-1" strike="noStrike" u="sng">
                <a:solidFill>
                  <a:srgbClr val="660033"/>
                </a:solidFill>
                <a:uFillTx/>
                <a:latin typeface="Times New Roman"/>
              </a:rPr>
              <a:t>ция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CA83-F975-40BF-9115-375CD838F19C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5" name="Picture 5" descr="милиция"/>
          <p:cNvPicPr/>
          <p:nvPr/>
        </p:nvPicPr>
        <p:blipFill>
          <a:blip r:embed="rId1"/>
          <a:stretch/>
        </p:blipFill>
        <p:spPr>
          <a:xfrm>
            <a:off x="6588000" y="1700280"/>
            <a:ext cx="1676520" cy="18097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" descr="станция 2"/>
          <p:cNvPicPr/>
          <p:nvPr/>
        </p:nvPicPr>
        <p:blipFill>
          <a:blip r:embed="rId2"/>
          <a:stretch/>
        </p:blipFill>
        <p:spPr>
          <a:xfrm>
            <a:off x="5724360" y="4365720"/>
            <a:ext cx="2448000" cy="22399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" descr="акация3"/>
          <p:cNvPicPr/>
          <p:nvPr/>
        </p:nvPicPr>
        <p:blipFill>
          <a:blip r:embed="rId3"/>
          <a:stretch/>
        </p:blipFill>
        <p:spPr>
          <a:xfrm>
            <a:off x="611280" y="2708280"/>
            <a:ext cx="2160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ПРАВИЛ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0" y="1828800"/>
            <a:ext cx="94680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Times New Roman"/>
              </a:rPr>
              <a:t>В корне слова после Ц пишется 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Times New Roman"/>
              </a:rPr>
              <a:t>В окончании слова после Ц пишется 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Times New Roman"/>
              </a:rPr>
              <a:t>В словах на ЦИЯ после Ц пишется И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0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099F-835C-4E7F-A6A1-44C098C0E841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ПРАВИЛ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Century Schoolbook"/>
              </a:rPr>
              <a:t>Слова -исключения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entury Schoolbook"/>
              </a:rPr>
              <a:t>Цыган на цыпочках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entury Schoolbook"/>
              </a:rPr>
              <a:t>цыплёнку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entury Schoolbook"/>
              </a:rPr>
              <a:t>цыкнул: «Цыц!»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5C0-3951-4F65-A446-792638E9B772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4" name="Рисунок 3" descr="Безымянный.bmp"/>
          <p:cNvPicPr/>
          <p:nvPr/>
        </p:nvPicPr>
        <p:blipFill>
          <a:blip r:embed="rId1"/>
          <a:srcRect l="25550" t="5272" r="24467" b="12502"/>
          <a:stretch/>
        </p:blipFill>
        <p:spPr>
          <a:xfrm>
            <a:off x="5292720" y="1989000"/>
            <a:ext cx="3240000" cy="4751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BIRD1-10"/>
          <p:cNvPicPr/>
          <p:nvPr/>
        </p:nvPicPr>
        <p:blipFill>
          <a:blip r:embed="rId2"/>
          <a:stretch/>
        </p:blipFill>
        <p:spPr>
          <a:xfrm>
            <a:off x="7451640" y="5195880"/>
            <a:ext cx="14414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АЛГОРИТ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2050920" y="1700280"/>
          <a:ext cx="5616720" cy="10810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слышу [цы]</a:t>
                      </a:r>
                      <a:r>
                        <a:rPr b="0" lang="ru-RU" sz="40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2050920" y="3213000"/>
          <a:ext cx="5616720" cy="10080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разбираю слово по составу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9" name=""/>
          <p:cNvGraphicFramePr/>
          <p:nvPr/>
        </p:nvGraphicFramePr>
        <p:xfrm>
          <a:off x="1476360" y="4941720"/>
          <a:ext cx="1655640" cy="116388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1674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FA6A-629E-4731-81EA-B93C812801BB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348000" y="4941720"/>
          <a:ext cx="1511280" cy="168300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16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п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плё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6877080" y="4941720"/>
          <a:ext cx="1582560" cy="11512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115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60033"/>
                          </a:solidFill>
                          <a:uFillTx/>
                          <a:latin typeface="Comic Sans MS"/>
                        </a:rPr>
                        <a:t>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3" name=""/>
          <p:cNvGraphicFramePr/>
          <p:nvPr/>
        </p:nvGraphicFramePr>
        <p:xfrm>
          <a:off x="5148360" y="4941720"/>
          <a:ext cx="1511280" cy="115128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11512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Comic Sans MS"/>
                        </a:rPr>
                        <a:t>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4" name="Line 70"/>
          <p:cNvSpPr/>
          <p:nvPr/>
        </p:nvSpPr>
        <p:spPr>
          <a:xfrm>
            <a:off x="2050920" y="4581360"/>
            <a:ext cx="590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73"/>
          <p:cNvSpPr/>
          <p:nvPr/>
        </p:nvSpPr>
        <p:spPr>
          <a:xfrm>
            <a:off x="205092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78"/>
          <p:cNvSpPr/>
          <p:nvPr/>
        </p:nvSpPr>
        <p:spPr>
          <a:xfrm>
            <a:off x="399564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79"/>
          <p:cNvSpPr/>
          <p:nvPr/>
        </p:nvSpPr>
        <p:spPr>
          <a:xfrm>
            <a:off x="5003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81"/>
          <p:cNvSpPr/>
          <p:nvPr/>
        </p:nvSpPr>
        <p:spPr>
          <a:xfrm>
            <a:off x="507672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89"/>
          <p:cNvSpPr/>
          <p:nvPr/>
        </p:nvSpPr>
        <p:spPr>
          <a:xfrm>
            <a:off x="795672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90"/>
          <p:cNvSpPr/>
          <p:nvPr/>
        </p:nvSpPr>
        <p:spPr>
          <a:xfrm>
            <a:off x="5940360" y="45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1" name="Picture 92" descr=""/>
          <p:cNvPicPr/>
          <p:nvPr/>
        </p:nvPicPr>
        <p:blipFill>
          <a:blip r:embed="rId1"/>
          <a:stretch/>
        </p:blipFill>
        <p:spPr>
          <a:xfrm>
            <a:off x="5364000" y="5373720"/>
            <a:ext cx="936720" cy="350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9" descr=""/>
          <p:cNvPicPr/>
          <p:nvPr/>
        </p:nvPicPr>
        <p:blipFill>
          <a:blip r:embed="rId2"/>
          <a:stretch/>
        </p:blipFill>
        <p:spPr>
          <a:xfrm>
            <a:off x="6300720" y="5516640"/>
            <a:ext cx="287280" cy="433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04" descr=""/>
          <p:cNvPicPr/>
          <p:nvPr/>
        </p:nvPicPr>
        <p:blipFill>
          <a:blip r:embed="rId3"/>
          <a:stretch/>
        </p:blipFill>
        <p:spPr>
          <a:xfrm>
            <a:off x="1619280" y="5300640"/>
            <a:ext cx="1224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ФИЗМИН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4360" y="1125360"/>
            <a:ext cx="7696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B5AF-8313-4ADF-B4DD-22E7A35520FE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7" name="Picture 4" descr="физминутка"/>
          <p:cNvPicPr/>
          <p:nvPr/>
        </p:nvPicPr>
        <p:blipFill>
          <a:blip r:embed="rId1"/>
          <a:stretch/>
        </p:blipFill>
        <p:spPr>
          <a:xfrm>
            <a:off x="1835280" y="2060640"/>
            <a:ext cx="4897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9" descr="БУРАТИНО1"/>
          <p:cNvPicPr/>
          <p:nvPr/>
        </p:nvPicPr>
        <p:blipFill>
          <a:blip r:embed="rId1"/>
          <a:stretch/>
        </p:blipFill>
        <p:spPr>
          <a:xfrm>
            <a:off x="-181080" y="449280"/>
            <a:ext cx="5127840" cy="6408720"/>
          </a:xfrm>
          <a:prstGeom prst="rect">
            <a:avLst/>
          </a:prstGeom>
          <a:ln w="0">
            <a:noFill/>
          </a:ln>
        </p:spPr>
      </p:pic>
      <p:sp>
        <p:nvSpPr>
          <p:cNvPr id="729" name="AutoShape 10"/>
          <p:cNvSpPr/>
          <p:nvPr/>
        </p:nvSpPr>
        <p:spPr>
          <a:xfrm>
            <a:off x="3203640" y="333360"/>
            <a:ext cx="4824360" cy="1943280"/>
          </a:xfrm>
          <a:prstGeom prst="cloudCallout">
            <a:avLst>
              <a:gd name="adj1" fmla="val -50231"/>
              <a:gd name="adj2" fmla="val 6944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Monotype Corsiva"/>
              </a:rPr>
              <a:t>А теперь, ребята, будем проверять свои знания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0" name="Picture 12" descr="school09-04"/>
          <p:cNvPicPr/>
          <p:nvPr/>
        </p:nvPicPr>
        <p:blipFill>
          <a:blip r:embed="rId3"/>
          <a:stretch/>
        </p:blipFill>
        <p:spPr>
          <a:xfrm>
            <a:off x="4716360" y="3141720"/>
            <a:ext cx="38102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4"/>
          <p:cNvSpPr/>
          <p:nvPr/>
        </p:nvSpPr>
        <p:spPr>
          <a:xfrm>
            <a:off x="1539360" y="765000"/>
            <a:ext cx="620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Учебник, с. 122, упр.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Р.Т. «Пишем грамотно»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тр. 33, упр.1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74674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cc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cc00"/>
                </a:solidFill>
                <a:latin typeface="Century Schoolbook"/>
              </a:rPr>
              <a:t>Тест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 корне слова после Ц пише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 буква 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 буква 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 окончании слова после Ц пише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 буква 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 буква 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В словах на [ цыя] после Ц пише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  буква 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 буква 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айди   слово с ошибкой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циркуль б)  циплёнок в) цир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айди  лишнее слово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цыган  б)цыкнул в) цыплёнок г) рация д)  на цыпочк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39280" y="398160"/>
            <a:ext cx="76964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Century Schoolbook"/>
              </a:rPr>
              <a:t>Экран настрое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6C85-546B-4D02-BCF6-4AE5F20B09B5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3" name="Picture 5" descr="i?id=204864437-06"/>
          <p:cNvPicPr/>
          <p:nvPr/>
        </p:nvPicPr>
        <p:blipFill>
          <a:blip r:embed="rId1"/>
          <a:stretch/>
        </p:blipFill>
        <p:spPr>
          <a:xfrm>
            <a:off x="220680" y="366840"/>
            <a:ext cx="1568520" cy="1800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5"/>
          <p:cNvSpPr/>
          <p:nvPr/>
        </p:nvSpPr>
        <p:spPr>
          <a:xfrm>
            <a:off x="324000" y="4653000"/>
            <a:ext cx="3384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buClr>
                <a:srgbClr val="007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00"/>
                </a:solidFill>
                <a:latin typeface="Comic Sans MS"/>
              </a:rPr>
              <a:t>«мн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buClr>
                <a:srgbClr val="007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00"/>
                </a:solidFill>
                <a:latin typeface="Comic Sans MS"/>
              </a:rPr>
              <a:t>хорош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Прямоугольник 7"/>
          <p:cNvSpPr/>
          <p:nvPr/>
        </p:nvSpPr>
        <p:spPr>
          <a:xfrm>
            <a:off x="4427640" y="4581360"/>
            <a:ext cx="4105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«мне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грустно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5004000" y="1557360"/>
            <a:ext cx="3457440" cy="2448000"/>
          </a:xfrm>
          <a:prstGeom prst="leftArrow">
            <a:avLst>
              <a:gd name="adj1" fmla="val 50000"/>
              <a:gd name="adj2" fmla="val 353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 rot="21463800">
            <a:off x="1547280" y="3141720"/>
            <a:ext cx="1008360" cy="1008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321840" y="1629720"/>
            <a:ext cx="3457800" cy="2448000"/>
          </a:xfrm>
          <a:prstGeom prst="leftArrow">
            <a:avLst>
              <a:gd name="adj1" fmla="val 50000"/>
              <a:gd name="adj2" fmla="val 353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 rot="21463800">
            <a:off x="6227280" y="3141720"/>
            <a:ext cx="1008360" cy="10080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entury Schoolbook"/>
              </a:rPr>
              <a:t>Проверь и оцени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"/>
          <p:cNvSpPr/>
          <p:nvPr/>
        </p:nvSpPr>
        <p:spPr>
          <a:xfrm>
            <a:off x="826920" y="1628640"/>
            <a:ext cx="6769440" cy="1368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, а, б, б, г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309600" y="3695760"/>
            <a:ext cx="8078760" cy="2531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85723"/>
                </a:solidFill>
                <a:uFillTx/>
                <a:latin typeface="Calibri"/>
                <a:ea typeface="Arial"/>
              </a:rPr>
              <a:t>КРИТЕРИИ ОЦЕНИВ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НЕТ ОШИБОК – «5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1-2 ОШИБКИ – «4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БОЛЕЕ 2 ОШИБОК – «3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ИТОГ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4360" y="1125360"/>
            <a:ext cx="769608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Мы все ступеньки прошли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Что у вас получалось сегодня лучше всег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В чём испытали затруднени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Кто сегодня получил отметку в дневник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За чт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- Оцените свои умения на уроке, используя лесенку успе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- Посмотрите, что у нас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получилось? Какой вывод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entury Schoolbook"/>
              </a:rPr>
              <a:t>можно сдела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3D6B-4B5A-4879-A34D-A2F3C8A7A85B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1" name="Picture 6" descr="i?id=113929203-02"/>
          <p:cNvPicPr/>
          <p:nvPr/>
        </p:nvPicPr>
        <p:blipFill>
          <a:blip r:embed="rId1"/>
          <a:stretch/>
        </p:blipFill>
        <p:spPr>
          <a:xfrm>
            <a:off x="5580000" y="4076640"/>
            <a:ext cx="2664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3" descr=""/>
          <p:cNvPicPr/>
          <p:nvPr/>
        </p:nvPicPr>
        <p:blipFill>
          <a:blip r:embed="rId1"/>
          <a:stretch/>
        </p:blipFill>
        <p:spPr>
          <a:xfrm>
            <a:off x="515880" y="6157800"/>
            <a:ext cx="2235240" cy="6764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" descr=""/>
          <p:cNvPicPr/>
          <p:nvPr/>
        </p:nvPicPr>
        <p:blipFill>
          <a:blip r:embed="rId2"/>
          <a:stretch/>
        </p:blipFill>
        <p:spPr>
          <a:xfrm>
            <a:off x="2131920" y="3871800"/>
            <a:ext cx="452520" cy="2332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" descr=""/>
          <p:cNvPicPr/>
          <p:nvPr/>
        </p:nvPicPr>
        <p:blipFill>
          <a:blip r:embed="rId3"/>
          <a:stretch/>
        </p:blipFill>
        <p:spPr>
          <a:xfrm>
            <a:off x="2432160" y="3659040"/>
            <a:ext cx="2236680" cy="6764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"/>
          <p:cNvPicPr/>
          <p:nvPr/>
        </p:nvPicPr>
        <p:blipFill>
          <a:blip r:embed="rId4"/>
          <a:stretch/>
        </p:blipFill>
        <p:spPr>
          <a:xfrm>
            <a:off x="4668840" y="1785960"/>
            <a:ext cx="452520" cy="23320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" descr=""/>
          <p:cNvPicPr/>
          <p:nvPr/>
        </p:nvPicPr>
        <p:blipFill>
          <a:blip r:embed="rId5"/>
          <a:stretch/>
        </p:blipFill>
        <p:spPr>
          <a:xfrm>
            <a:off x="5219640" y="1773360"/>
            <a:ext cx="2665440" cy="676080"/>
          </a:xfrm>
          <a:prstGeom prst="rect">
            <a:avLst/>
          </a:prstGeom>
          <a:ln w="0">
            <a:noFill/>
          </a:ln>
        </p:spPr>
      </p:pic>
      <p:sp>
        <p:nvSpPr>
          <p:cNvPr id="747" name="Прямоугольник 7"/>
          <p:cNvSpPr/>
          <p:nvPr/>
        </p:nvSpPr>
        <p:spPr>
          <a:xfrm>
            <a:off x="365040" y="430200"/>
            <a:ext cx="2948040" cy="914400"/>
          </a:xfrm>
          <a:prstGeom prst="rect">
            <a:avLst/>
          </a:prstGeom>
          <a:solidFill>
            <a:srgbClr val="fe863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3c0c"/>
                </a:solidFill>
                <a:latin typeface="Calibri"/>
                <a:ea typeface="Arial"/>
              </a:rPr>
              <a:t>Лесенка успех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Box 3"/>
          <p:cNvSpPr/>
          <p:nvPr/>
        </p:nvSpPr>
        <p:spPr>
          <a:xfrm>
            <a:off x="2922120" y="38116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чил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Box 4"/>
          <p:cNvSpPr/>
          <p:nvPr/>
        </p:nvSpPr>
        <p:spPr>
          <a:xfrm>
            <a:off x="5219640" y="19162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Могу оказать помощ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Box 5"/>
          <p:cNvSpPr/>
          <p:nvPr/>
        </p:nvSpPr>
        <p:spPr>
          <a:xfrm>
            <a:off x="624240" y="630864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до поработа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1" name="Рисунок 1" descr=""/>
          <p:cNvPicPr/>
          <p:nvPr/>
        </p:nvPicPr>
        <p:blipFill>
          <a:blip r:embed="rId6"/>
          <a:stretch/>
        </p:blipFill>
        <p:spPr>
          <a:xfrm>
            <a:off x="2584440" y="2308320"/>
            <a:ext cx="1469880" cy="146988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14" descr=""/>
          <p:cNvPicPr/>
          <p:nvPr/>
        </p:nvPicPr>
        <p:blipFill>
          <a:blip r:embed="rId7"/>
          <a:stretch/>
        </p:blipFill>
        <p:spPr>
          <a:xfrm>
            <a:off x="5214960" y="469800"/>
            <a:ext cx="1469880" cy="1470240"/>
          </a:xfrm>
          <a:prstGeom prst="rect">
            <a:avLst/>
          </a:prstGeom>
          <a:ln w="0">
            <a:noFill/>
          </a:ln>
        </p:spPr>
      </p:pic>
      <p:pic>
        <p:nvPicPr>
          <p:cNvPr id="753" name="Рисунок 16" descr=""/>
          <p:cNvPicPr/>
          <p:nvPr/>
        </p:nvPicPr>
        <p:blipFill>
          <a:blip r:embed="rId8"/>
          <a:stretch/>
        </p:blipFill>
        <p:spPr>
          <a:xfrm>
            <a:off x="539640" y="4653000"/>
            <a:ext cx="14684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39280" y="398160"/>
            <a:ext cx="76964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Century Schoolbook"/>
              </a:rPr>
              <a:t>Экран настрое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DBF5-E576-4969-BD14-E3CE97BF3AB2}" type="slidenum">
              <a:rPr b="1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6" name="Picture 5" descr="i?id=204864437-06"/>
          <p:cNvPicPr/>
          <p:nvPr/>
        </p:nvPicPr>
        <p:blipFill>
          <a:blip r:embed="rId1"/>
          <a:stretch/>
        </p:blipFill>
        <p:spPr>
          <a:xfrm>
            <a:off x="220680" y="366840"/>
            <a:ext cx="1568520" cy="1800000"/>
          </a:xfrm>
          <a:prstGeom prst="rect">
            <a:avLst/>
          </a:prstGeom>
          <a:ln w="0">
            <a:noFill/>
          </a:ln>
        </p:spPr>
      </p:pic>
      <p:sp>
        <p:nvSpPr>
          <p:cNvPr id="757" name="Прямоугольник 5"/>
          <p:cNvSpPr/>
          <p:nvPr/>
        </p:nvSpPr>
        <p:spPr>
          <a:xfrm>
            <a:off x="324000" y="4653000"/>
            <a:ext cx="3384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buClr>
                <a:srgbClr val="007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00"/>
                </a:solidFill>
                <a:latin typeface="Comic Sans MS"/>
              </a:rPr>
              <a:t>«мн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buClr>
                <a:srgbClr val="007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00"/>
                </a:solidFill>
                <a:latin typeface="Comic Sans MS"/>
              </a:rPr>
              <a:t>хорош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Прямоугольник 7"/>
          <p:cNvSpPr/>
          <p:nvPr/>
        </p:nvSpPr>
        <p:spPr>
          <a:xfrm>
            <a:off x="4427640" y="4581360"/>
            <a:ext cx="4105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«мне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грустно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 rot="16200000">
            <a:off x="5004000" y="1557360"/>
            <a:ext cx="3457440" cy="2448000"/>
          </a:xfrm>
          <a:prstGeom prst="leftArrow">
            <a:avLst>
              <a:gd name="adj1" fmla="val 50000"/>
              <a:gd name="adj2" fmla="val 353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 rot="21463800">
            <a:off x="1547280" y="3141720"/>
            <a:ext cx="1008360" cy="1008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 rot="16200000">
            <a:off x="321840" y="1629720"/>
            <a:ext cx="3457800" cy="2448000"/>
          </a:xfrm>
          <a:prstGeom prst="leftArrow">
            <a:avLst>
              <a:gd name="adj1" fmla="val 50000"/>
              <a:gd name="adj2" fmla="val 353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 rot="21463800">
            <a:off x="6227280" y="3141720"/>
            <a:ext cx="1008360" cy="10080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 u="sng">
                <a:solidFill>
                  <a:srgbClr val="575f6d"/>
                </a:solidFill>
                <a:uFillTx/>
                <a:latin typeface="Century Schoolbook"/>
              </a:rPr>
              <a:t>Сотовый телефон для СМС-сообщения (самооценка)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"/>
          <p:cNvSpPr/>
          <p:nvPr/>
        </p:nvSpPr>
        <p:spPr>
          <a:xfrm>
            <a:off x="826920" y="1916280"/>
            <a:ext cx="2257560" cy="3446280"/>
          </a:xfrm>
          <a:custGeom>
            <a:avLst/>
            <a:gdLst>
              <a:gd name="textAreaLeft" fmla="*/ 110160 w 2257560"/>
              <a:gd name="textAreaRight" fmla="*/ 2147400 w 2257560"/>
              <a:gd name="textAreaTop" fmla="*/ 110160 h 3446280"/>
              <a:gd name="textAreaBottom" fmla="*/ 3336120 h 3446280"/>
            </a:gdLst>
            <a:ahLst/>
            <a:rect l="textAreaLeft" t="textAreaTop" r="textAreaRight" b="textAreaBottom"/>
            <a:pathLst>
              <a:path w="21600" h="32972">
                <a:moveTo>
                  <a:pt x="3600" y="0"/>
                </a:moveTo>
                <a:arcTo wR="3600" hR="3600" stAng="16200000" swAng="-5400000"/>
                <a:lnTo>
                  <a:pt x="0" y="29372"/>
                </a:lnTo>
                <a:arcTo wR="3600" hR="3600" stAng="10800000" swAng="-5400000"/>
                <a:lnTo>
                  <a:pt x="18000" y="32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1547640" y="2060640"/>
            <a:ext cx="13669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3492360" y="1989000"/>
            <a:ext cx="2257560" cy="3446640"/>
          </a:xfrm>
          <a:custGeom>
            <a:avLst/>
            <a:gdLst>
              <a:gd name="textAreaLeft" fmla="*/ 110160 w 2257560"/>
              <a:gd name="textAreaRight" fmla="*/ 2147400 w 2257560"/>
              <a:gd name="textAreaTop" fmla="*/ 110160 h 3446640"/>
              <a:gd name="textAreaBottom" fmla="*/ 3336480 h 3446640"/>
            </a:gdLst>
            <a:ahLst/>
            <a:rect l="textAreaLeft" t="textAreaTop" r="textAreaRight" b="textAreaBottom"/>
            <a:pathLst>
              <a:path w="21600" h="32975">
                <a:moveTo>
                  <a:pt x="3600" y="0"/>
                </a:moveTo>
                <a:arcTo wR="3600" hR="3600" stAng="16200000" swAng="-5400000"/>
                <a:lnTo>
                  <a:pt x="0" y="29375"/>
                </a:lnTo>
                <a:arcTo wR="3600" hR="3600" stAng="10800000" swAng="-5400000"/>
                <a:lnTo>
                  <a:pt x="18000" y="32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6156360" y="2060640"/>
            <a:ext cx="2257560" cy="3446280"/>
          </a:xfrm>
          <a:custGeom>
            <a:avLst/>
            <a:gdLst>
              <a:gd name="textAreaLeft" fmla="*/ 110160 w 2257560"/>
              <a:gd name="textAreaRight" fmla="*/ 2147400 w 2257560"/>
              <a:gd name="textAreaTop" fmla="*/ 110160 h 3446280"/>
              <a:gd name="textAreaBottom" fmla="*/ 3336120 h 3446280"/>
            </a:gdLst>
            <a:ahLst/>
            <a:rect l="textAreaLeft" t="textAreaTop" r="textAreaRight" b="textAreaBottom"/>
            <a:pathLst>
              <a:path w="21600" h="32972">
                <a:moveTo>
                  <a:pt x="3600" y="0"/>
                </a:moveTo>
                <a:arcTo wR="3600" hR="3600" stAng="16200000" swAng="-5400000"/>
                <a:lnTo>
                  <a:pt x="0" y="29372"/>
                </a:lnTo>
                <a:arcTo wR="3600" hR="3600" stAng="10800000" swAng="-5400000"/>
                <a:lnTo>
                  <a:pt x="18000" y="32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6804000" y="2205000"/>
            <a:ext cx="13669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4211640" y="2133720"/>
            <a:ext cx="13669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4"/>
          <p:cNvSpPr/>
          <p:nvPr/>
        </p:nvSpPr>
        <p:spPr>
          <a:xfrm>
            <a:off x="1288440" y="765000"/>
            <a:ext cx="6711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Д.З.: стр.122, упр. 2 или 3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Раб. тетр.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тр.34, упр.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5-конечная звезда 2"/>
          <p:cNvSpPr/>
          <p:nvPr/>
        </p:nvSpPr>
        <p:spPr>
          <a:xfrm>
            <a:off x="2771640" y="1484280"/>
            <a:ext cx="43200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1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66ff"/>
                </a:solidFill>
                <a:latin typeface="Century Schoolbook"/>
              </a:rPr>
              <a:t>СПАСИБО ЗА УРОК!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44C6-ACB2-4163-AD8F-0A0A020BC5D7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6" name="Picture 5" descr="тема1"/>
          <p:cNvPicPr/>
          <p:nvPr/>
        </p:nvPicPr>
        <p:blipFill>
          <a:blip r:embed="rId1"/>
          <a:stretch/>
        </p:blipFill>
        <p:spPr>
          <a:xfrm>
            <a:off x="2124000" y="2492280"/>
            <a:ext cx="5184720" cy="40276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6" descr="тема4"/>
          <p:cNvPicPr/>
          <p:nvPr/>
        </p:nvPicPr>
        <p:blipFill>
          <a:blip r:embed="rId2"/>
          <a:stretch/>
        </p:blipFill>
        <p:spPr>
          <a:xfrm>
            <a:off x="5940360" y="2133720"/>
            <a:ext cx="1873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entury Schoolbook"/>
              </a:rPr>
              <a:t>Минутка чистопис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686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зови букву, которая обозначает один звук. Этот звук согласны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лухо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парны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егда твёрды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2" name="Рисунок 3" descr=""/>
          <p:cNvPicPr/>
          <p:nvPr/>
        </p:nvPicPr>
        <p:blipFill>
          <a:blip r:embed="rId1"/>
          <a:stretch/>
        </p:blipFill>
        <p:spPr>
          <a:xfrm>
            <a:off x="3708360" y="2660760"/>
            <a:ext cx="4857840" cy="361944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4" descr=""/>
          <p:cNvPicPr/>
          <p:nvPr/>
        </p:nvPicPr>
        <p:blipFill>
          <a:blip r:embed="rId2"/>
          <a:stretch/>
        </p:blipFill>
        <p:spPr>
          <a:xfrm>
            <a:off x="3503520" y="2660760"/>
            <a:ext cx="5114880" cy="3152520"/>
          </a:xfrm>
          <a:prstGeom prst="rect">
            <a:avLst/>
          </a:prstGeom>
          <a:ln w="0">
            <a:noFill/>
          </a:ln>
        </p:spPr>
      </p:pic>
      <p:sp>
        <p:nvSpPr>
          <p:cNvPr id="634" name="Номер слайда 5"/>
          <p:cNvSpPr/>
          <p:nvPr/>
        </p:nvSpPr>
        <p:spPr>
          <a:xfrm>
            <a:off x="6516720" y="57340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94D2-F39A-4FAD-957F-45DC6B8ED69F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entury Schoolbook"/>
              </a:rPr>
              <a:t>Словарная рабо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36" name="Рисунок 1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655720" cy="176976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2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232000" cy="176976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5" descr=""/>
          <p:cNvPicPr/>
          <p:nvPr/>
        </p:nvPicPr>
        <p:blipFill>
          <a:blip r:embed="rId3"/>
          <a:stretch/>
        </p:blipFill>
        <p:spPr>
          <a:xfrm>
            <a:off x="6227640" y="1413000"/>
            <a:ext cx="2328840" cy="174600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6" descr=""/>
          <p:cNvPicPr/>
          <p:nvPr/>
        </p:nvPicPr>
        <p:blipFill>
          <a:blip r:embed="rId4"/>
          <a:stretch/>
        </p:blipFill>
        <p:spPr>
          <a:xfrm>
            <a:off x="1789200" y="3933720"/>
            <a:ext cx="2276280" cy="181764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7" descr=""/>
          <p:cNvPicPr/>
          <p:nvPr/>
        </p:nvPicPr>
        <p:blipFill>
          <a:blip r:embed="rId5"/>
          <a:stretch/>
        </p:blipFill>
        <p:spPr>
          <a:xfrm>
            <a:off x="5492880" y="3933720"/>
            <a:ext cx="2363760" cy="1771920"/>
          </a:xfrm>
          <a:prstGeom prst="rect">
            <a:avLst/>
          </a:prstGeom>
          <a:ln w="0">
            <a:noFill/>
          </a:ln>
        </p:spPr>
      </p:pic>
      <p:sp>
        <p:nvSpPr>
          <p:cNvPr id="641" name="TextBox 8"/>
          <p:cNvSpPr/>
          <p:nvPr/>
        </p:nvSpPr>
        <p:spPr>
          <a:xfrm>
            <a:off x="1248120" y="3182760"/>
            <a:ext cx="13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гуре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2303280" y="5751360"/>
            <a:ext cx="9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а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6449400" y="3159000"/>
            <a:ext cx="19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лес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4087080" y="3182760"/>
            <a:ext cx="12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Box 15"/>
          <p:cNvSpPr/>
          <p:nvPr/>
        </p:nvSpPr>
        <p:spPr>
          <a:xfrm>
            <a:off x="5733000" y="571824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ш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Номер слайда 5"/>
          <p:cNvSpPr/>
          <p:nvPr/>
        </p:nvSpPr>
        <p:spPr>
          <a:xfrm>
            <a:off x="6443640" y="58053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7DCF-DB84-4634-A6A3-B5C3759B200A}" type="slidenum">
              <a:rPr b="0" lang="ru-RU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11556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cc"/>
                </a:solidFill>
                <a:latin typeface="Century Schoolbook"/>
                <a:ea typeface="Andalus"/>
              </a:rPr>
              <a:t>«Лови ошибку»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Шупка -шубка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жёлтый-жолты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радосный-радостны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линтяй-лентя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C379-5574-4197-AB07-2E077AD562BE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95280" y="-36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cc"/>
                </a:solidFill>
                <a:latin typeface="Century Schoolbook"/>
                <a:ea typeface="Andalus"/>
              </a:rPr>
              <a:t>«Лови ошибку»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шубка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жёлты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радостны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лентяй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00000"/>
                </a:solidFill>
                <a:latin typeface="Century Schoolbook"/>
              </a:rPr>
              <a:t>циган-цыган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9E9-DA52-458A-B2FD-72FBEE41B194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ТЕМА УРОК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2144520"/>
            <a:ext cx="769608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Century Schoolbook"/>
              </a:rPr>
              <a:t>Учимся обозначать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Century Schoolbook"/>
              </a:rPr>
              <a:t>звук [ы] после звука [ц]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Номер слайда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952B-632B-4488-A02C-B8D26B154491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6" name="Picture 5" descr="тема"/>
          <p:cNvPicPr/>
          <p:nvPr/>
        </p:nvPicPr>
        <p:blipFill>
          <a:blip r:embed="rId1"/>
          <a:stretch/>
        </p:blipFill>
        <p:spPr>
          <a:xfrm>
            <a:off x="3203640" y="4005360"/>
            <a:ext cx="266364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ПЛАНИРОВАНИЕ УЧЕБНОЙ ДЕЯТЕЛЬНОСТ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684360" y="1844640"/>
          <a:ext cx="2663640" cy="106668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cc00"/>
                          </a:solidFill>
                          <a:latin typeface="Comic Sans MS"/>
                          <a:ea typeface="Times New Roman"/>
                        </a:rPr>
                        <a:t>Что изучаю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5076720" y="2276640"/>
          <a:ext cx="2835360" cy="720720"/>
        </p:xfrm>
        <a:graphic>
          <a:graphicData uri="http://schemas.openxmlformats.org/drawingml/2006/table">
            <a:tbl>
              <a:tblPr/>
              <a:tblGrid>
                <a:gridCol w="2835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00"/>
                          </a:solidFill>
                          <a:latin typeface="Comic Sans MS"/>
                          <a:ea typeface="Times New Roman"/>
                        </a:rPr>
                        <a:t>Применяю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755640" y="3124080"/>
          <a:ext cx="2736720" cy="63972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00"/>
                          </a:solidFill>
                          <a:latin typeface="Comic Sans MS"/>
                          <a:ea typeface="Times New Roman"/>
                        </a:rPr>
                        <a:t>Наблюдаю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3780000" y="3429000"/>
          <a:ext cx="2730240" cy="639720"/>
        </p:xfrm>
        <a:graphic>
          <a:graphicData uri="http://schemas.openxmlformats.org/drawingml/2006/table">
            <a:tbl>
              <a:tblPr/>
              <a:tblGrid>
                <a:gridCol w="2730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00"/>
                          </a:solidFill>
                          <a:latin typeface="Comic Sans MS"/>
                          <a:ea typeface="Times New Roman"/>
                        </a:rPr>
                        <a:t>Оценива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2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0E43-4D81-4C97-B891-4252EEB93FE4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932360" y="4365720"/>
          <a:ext cx="2592360" cy="6523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Проверяю</a:t>
                      </a:r>
                      <a:r>
                        <a:rPr b="0" lang="en-US" sz="36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908000" y="4508640"/>
          <a:ext cx="2448000" cy="13716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Делаю вывод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де ЦЫ? Ц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entury Schoolbook"/>
              </a:rPr>
              <a:t>ПЛАНИРОВАНИЕ УЧЕБНОЙ ДЕЯТЕЛЬНОСТ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619280" y="6021360"/>
          <a:ext cx="2449440" cy="457200"/>
        </p:xfrm>
        <a:graphic>
          <a:graphicData uri="http://schemas.openxmlformats.org/drawingml/2006/table">
            <a:tbl>
              <a:tblPr/>
              <a:tblGrid>
                <a:gridCol w="244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Comic Sans MS"/>
                          <a:ea typeface="Times New Roman"/>
                        </a:rPr>
                        <a:t>Что изучаю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556000" y="5445000"/>
          <a:ext cx="2016000" cy="45720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Comic Sans MS"/>
                          <a:ea typeface="Times New Roman"/>
                        </a:rPr>
                        <a:t>Наблюда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6227640" y="2492280"/>
          <a:ext cx="2376720" cy="822600"/>
        </p:xfrm>
        <a:graphic>
          <a:graphicData uri="http://schemas.openxmlformats.org/drawingml/2006/table">
            <a:tbl>
              <a:tblPr/>
              <a:tblGrid>
                <a:gridCol w="2376720"/>
              </a:tblGrid>
              <a:tr h="822600">
                <a:tc>
                  <a:txBody>
                    <a:bodyPr lIns="90000" rIns="90000" tIns="45360" bIns="453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Делаю вывод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где ЦЫ? Ц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3564000" y="4797360"/>
          <a:ext cx="2016000" cy="45720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Comic Sans MS"/>
                          <a:ea typeface="Times New Roman"/>
                        </a:rPr>
                        <a:t>Применя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8B1F-C653-499C-A63A-0EDCFF996DA9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6720" y="3429000"/>
          <a:ext cx="2154240" cy="457200"/>
        </p:xfrm>
        <a:graphic>
          <a:graphicData uri="http://schemas.openxmlformats.org/drawingml/2006/table">
            <a:tbl>
              <a:tblPr/>
              <a:tblGrid>
                <a:gridCol w="215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Comic Sans MS"/>
                          <a:ea typeface="Times New Roman"/>
                        </a:rPr>
                        <a:t>Оценив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4284720" y="4149720"/>
          <a:ext cx="2232000" cy="4572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Проверяю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3" name="Picture 103" descr="тема3"/>
          <p:cNvPicPr/>
          <p:nvPr/>
        </p:nvPicPr>
        <p:blipFill>
          <a:blip r:embed="rId1"/>
          <a:stretch/>
        </p:blipFill>
        <p:spPr>
          <a:xfrm>
            <a:off x="576360" y="1989000"/>
            <a:ext cx="2658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0:25:21Z</dcterms:created>
  <dc:creator>Ксюша</dc:creator>
  <dc:description/>
  <dc:language>en-US</dc:language>
  <cp:lastModifiedBy>Ольга</cp:lastModifiedBy>
  <dcterms:modified xsi:type="dcterms:W3CDTF">2014-11-23T18:06:23Z</dcterms:modified>
  <cp:revision>137</cp:revision>
  <dc:subject/>
  <dc:title>УРОК РУССКОГО ЯЗЫКА</dc:title>
</cp:coreProperties>
</file>