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73E-D465-45F3-8DE0-AB3D375C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938-1A3A-4225-9C01-772D1A61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629-C897-407D-817C-E46903C8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FBF-F005-49DF-A720-C9B7C85D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9EC-1837-4B4E-BF27-2DF17324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5E4-519E-4525-9CBE-688B49A6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7F6-E3F5-4B17-90BB-E16E0FB1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2BC-A1B7-422E-BD6B-8121304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30D-1308-4047-817E-BCC826BC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27E-6184-4FD2-82D2-53AF934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378-F49E-44FF-A40D-3B01245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4BD-3F50-4392-9F1D-4D7E403A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8CAD-C352-4E8C-98E9-EBBDE8FC8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Маршак Самуил Яковлевич. Биография"/>
          <p:cNvPicPr/>
          <p:nvPr/>
        </p:nvPicPr>
        <p:blipFill>
          <a:blip r:embed="rId1"/>
          <a:stretch/>
        </p:blipFill>
        <p:spPr>
          <a:xfrm>
            <a:off x="2003400" y="152280"/>
            <a:ext cx="501804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47920" y="5562720"/>
            <a:ext cx="6305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амуил Яковлевич Марш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1887-196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5640" y="264960"/>
            <a:ext cx="19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Чиранова Т.С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читель русского язы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Дорогой Самуил Яковлевич! Где теперь живёт человек рассеянный? Может быть, он теперь исправился? Если да, то что он теперь делает? И как он одевается? Таня Кравцова из Ленинграда. 30 апреля 1956 года"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919880"/>
            <a:ext cx="533412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"Дорогая Таня! Я очень рад, что тебе понравилась книжка про человека рассеянного. К сожалению, он ещё не исправился. Надевает на голову сапог, пишет письма огурцом, спит под кроватью. Вот он какой - рассеянный с улицы Бассейной! Где он теперь живёт, я не знаю. Он сам забыл свой адрес. А тебе шлю привет и посылаю в подарок книгу "Кошкин дом". Твой С. Маршак".</a:t>
            </a: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Человек рассеянный - Ольга Васильевна Смирнова"/>
          <p:cNvPicPr/>
          <p:nvPr/>
        </p:nvPicPr>
        <p:blipFill>
          <a:blip r:embed="rId1"/>
          <a:stretch/>
        </p:blipFill>
        <p:spPr>
          <a:xfrm>
            <a:off x="5943600" y="2057400"/>
            <a:ext cx="2736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6900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Дорогой писатель Маршак! Почему это так получается: учу я учу уроки, а когда вызовут к доске, всегда знаю только половину"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Самуил Яковлевич ответил ему: 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"Учи вдвое больше - будешь знать всё"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365316.jpg"/>
          <p:cNvPicPr/>
          <p:nvPr/>
        </p:nvPicPr>
        <p:blipFill>
          <a:blip r:embed="rId1"/>
          <a:stretch/>
        </p:blipFill>
        <p:spPr>
          <a:xfrm>
            <a:off x="380880" y="2511360"/>
            <a:ext cx="4953240" cy="3375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untitled 1.bmp"/>
          <p:cNvPicPr/>
          <p:nvPr/>
        </p:nvPicPr>
        <p:blipFill>
          <a:blip r:embed="rId2"/>
          <a:stretch/>
        </p:blipFill>
        <p:spPr>
          <a:xfrm>
            <a:off x="5607000" y="2209680"/>
            <a:ext cx="2832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4. Рисунки\2. Ш.К.О.Л.А\2. ЛИТЕРАТУРА\ПОЭТЫ и ПИСАТЕЛИ\12 месяцев\d16_01.jpg"/>
          <p:cNvPicPr/>
          <p:nvPr/>
        </p:nvPicPr>
        <p:blipFill>
          <a:blip r:embed="rId1"/>
          <a:stretch/>
        </p:blipFill>
        <p:spPr>
          <a:xfrm>
            <a:off x="285840" y="71280"/>
            <a:ext cx="4871880" cy="66438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5121360" y="365040"/>
            <a:ext cx="426060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00600" y="1600200"/>
            <a:ext cx="3886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Я.Маршак - русский поэт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аматург, переводчик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итературный критик, редактор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" name="" descr="Самуил Яковлевич Маршак"/>
          <p:cNvPicPr/>
          <p:nvPr/>
        </p:nvPicPr>
        <p:blipFill>
          <a:blip r:embed="rId1"/>
          <a:stretch/>
        </p:blipFill>
        <p:spPr>
          <a:xfrm>
            <a:off x="357120" y="228600"/>
            <a:ext cx="4435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5772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00600" y="12466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ков Михайлович – отец С.Я.Маршака - всю жизнь очень любил книги, литературу и знал несколько иностранных язы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68880" cy="624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9200" y="582480"/>
            <a:ext cx="3809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ь - Евгения Борисовна Маршак (урождённая Гиттельсон) была женщиной немногословной, не любившей выражать свои сокровенные чувства. С детских лет и на всю жизнь была она влюблена в литературу, в романы Тургенева, Гончарова, Диккенса, стихи Некрасов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248160" cy="4100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443124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огромной благодарностью С.Я. Маршак вспоминал своего гимназического учителя, преподавателя латыни Владимира Ивановича Теплых: он учил будущего писателя любить классическую литературу, поощрял его первые поэтические опыты, именно по его заданию Маршак перевёл оду древнегреческого поэта Горация "В ком спасение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4684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5025600"/>
            <a:ext cx="5715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итатель мой особенного рода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меет он под стол ходить пешком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о радостно мне знать, что я знаком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читателем двухтысячного года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66434.jpg"/>
          <p:cNvPicPr/>
          <p:nvPr/>
        </p:nvPicPr>
        <p:blipFill>
          <a:blip r:embed="rId1"/>
          <a:stretch/>
        </p:blipFill>
        <p:spPr>
          <a:xfrm>
            <a:off x="304920" y="152280"/>
            <a:ext cx="2647800" cy="3500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57296.jpg"/>
          <p:cNvPicPr/>
          <p:nvPr/>
        </p:nvPicPr>
        <p:blipFill>
          <a:blip r:embed="rId2"/>
          <a:stretch/>
        </p:blipFill>
        <p:spPr>
          <a:xfrm>
            <a:off x="228600" y="3809880"/>
            <a:ext cx="3214800" cy="25765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334147.jpg"/>
          <p:cNvPicPr/>
          <p:nvPr/>
        </p:nvPicPr>
        <p:blipFill>
          <a:blip r:embed="rId3"/>
          <a:stretch/>
        </p:blipFill>
        <p:spPr>
          <a:xfrm>
            <a:off x="6477120" y="3505320"/>
            <a:ext cx="2387520" cy="3101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11.bmp"/>
          <p:cNvPicPr/>
          <p:nvPr/>
        </p:nvPicPr>
        <p:blipFill>
          <a:blip r:embed="rId4"/>
          <a:stretch/>
        </p:blipFill>
        <p:spPr>
          <a:xfrm>
            <a:off x="3352680" y="152280"/>
            <a:ext cx="244476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25000391545.jpg"/>
          <p:cNvPicPr/>
          <p:nvPr/>
        </p:nvPicPr>
        <p:blipFill>
          <a:blip r:embed="rId5"/>
          <a:stretch/>
        </p:blipFill>
        <p:spPr>
          <a:xfrm>
            <a:off x="3809880" y="3352680"/>
            <a:ext cx="2266920" cy="317196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untitled.bmp"/>
          <p:cNvPicPr/>
          <p:nvPr/>
        </p:nvPicPr>
        <p:blipFill>
          <a:blip r:embed="rId6"/>
          <a:stretch/>
        </p:blipFill>
        <p:spPr>
          <a:xfrm>
            <a:off x="6324480" y="228600"/>
            <a:ext cx="22860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3" descr="a2e3a539112f.jpg"/>
          <p:cNvPicPr/>
          <p:nvPr/>
        </p:nvPicPr>
        <p:blipFill>
          <a:blip r:embed="rId1"/>
          <a:srcRect l="0" t="0" r="1123" b="2988"/>
          <a:stretch/>
        </p:blipFill>
        <p:spPr>
          <a:xfrm>
            <a:off x="152280" y="152280"/>
            <a:ext cx="2274840" cy="2895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c02_01.jpg"/>
          <p:cNvPicPr/>
          <p:nvPr/>
        </p:nvPicPr>
        <p:blipFill>
          <a:blip r:embed="rId2"/>
          <a:stretch/>
        </p:blipFill>
        <p:spPr>
          <a:xfrm>
            <a:off x="4876920" y="3809880"/>
            <a:ext cx="198576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gdeobedal.jpg"/>
          <p:cNvPicPr/>
          <p:nvPr/>
        </p:nvPicPr>
        <p:blipFill>
          <a:blip r:embed="rId3"/>
          <a:stretch/>
        </p:blipFill>
        <p:spPr>
          <a:xfrm>
            <a:off x="2895480" y="228600"/>
            <a:ext cx="3233880" cy="2244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ast245465.jpg"/>
          <p:cNvPicPr/>
          <p:nvPr/>
        </p:nvPicPr>
        <p:blipFill>
          <a:blip r:embed="rId4"/>
          <a:stretch/>
        </p:blipFill>
        <p:spPr>
          <a:xfrm>
            <a:off x="2514600" y="3429000"/>
            <a:ext cx="2247840" cy="2847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u04_01.jpg"/>
          <p:cNvPicPr/>
          <p:nvPr/>
        </p:nvPicPr>
        <p:blipFill>
          <a:blip r:embed="rId5"/>
          <a:stretch/>
        </p:blipFill>
        <p:spPr>
          <a:xfrm>
            <a:off x="268200" y="3657600"/>
            <a:ext cx="2092320" cy="276228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3" descr="r07_01.jpg"/>
          <p:cNvPicPr/>
          <p:nvPr/>
        </p:nvPicPr>
        <p:blipFill>
          <a:blip r:embed="rId6"/>
          <a:srcRect l="6248" t="0" r="0" b="0"/>
          <a:stretch/>
        </p:blipFill>
        <p:spPr>
          <a:xfrm>
            <a:off x="7010280" y="3429000"/>
            <a:ext cx="1866960" cy="28004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untitled9.bmp"/>
          <p:cNvPicPr/>
          <p:nvPr/>
        </p:nvPicPr>
        <p:blipFill>
          <a:blip r:embed="rId7"/>
          <a:stretch/>
        </p:blipFill>
        <p:spPr>
          <a:xfrm>
            <a:off x="6629400" y="304920"/>
            <a:ext cx="19717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963000"/>
            <a:ext cx="876312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Милый дедушка! Сколько же тебе лет? Есть уже сто? Ведь ещё моя бабушка читала твои стихи, когда была маленькой, и мои мама, и папа тоже..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Дорогой дедушка Маршак! Приезжай к нам в гости в Киев. Только со своей раскладушкой, а то дома может не оказаться лишней постели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90920" y="0"/>
            <a:ext cx="3914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исьма Марша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42670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5-03-11T15:27:0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