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applause.wav" ContentType="audio/x-wav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C73C-80AA-447E-8A3F-A5C10AB6E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0C11-FBED-464B-87AA-B7E00243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8A52-D0B5-42A5-B891-F181F87B9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3782-B406-4835-9EFC-63F50F6F0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1B55-B8E4-4B3E-A34B-10E0BEBE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DA26-BF2E-45AA-BF2F-75DB2845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E8A7-0DD6-41DB-8CDA-B6E32328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D2D1-7C28-45C8-AA59-5FCDBE80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F1F9-C9E6-4F76-B001-ACC86827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AD9B-BA1B-402E-B32E-29943C7B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9ACC-7472-4303-98C2-788B1CF5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A63A-9A24-4288-AECC-F2880FFE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DE8E-9586-4039-9826-4676A15144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мейный конкурс «Новогодняя ёлоч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Воспитатель высшей категории Крылова Валентина Михайловна МАДОУ ЦРР-д/с №7 «Огонёк»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г. Светлы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здаем Новогоднее настро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5784840" y="2333520"/>
            <a:ext cx="3389400" cy="4524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Users\Иришка\Desktop\видео Крылова развлечение\фото елочка цыплята\DSC02735.JPG"/>
          <p:cNvPicPr/>
          <p:nvPr/>
        </p:nvPicPr>
        <p:blipFill>
          <a:blip r:embed="rId2"/>
          <a:stretch/>
        </p:blipFill>
        <p:spPr>
          <a:xfrm>
            <a:off x="-63360" y="3021120"/>
            <a:ext cx="2944800" cy="3836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Иришка\Desktop\видео Крылова развлечение\фото елочка цыплята\DSC02732.JPG"/>
          <p:cNvPicPr/>
          <p:nvPr/>
        </p:nvPicPr>
        <p:blipFill>
          <a:blip r:embed="rId3"/>
          <a:stretch/>
        </p:blipFill>
        <p:spPr>
          <a:xfrm>
            <a:off x="2627280" y="1079640"/>
            <a:ext cx="4537080" cy="2360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  <p:sndAc>
      <p:stSnd>
        <p:snd r:embed="rId4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Новогодняя Ёлоч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S Sans Serif"/>
              </a:rPr>
              <a:t>Семейный конкурс создан на трехсторонней основе: педагог – ребенок – родитель, показывают новые возможности и всех участников, и процесса партнерского взаимодействия, раскрывают талан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S Sans Serif"/>
              </a:rPr>
              <a:t>Мотив конкурса один у всех – сделать жизнь наших детей насыщенной, яркой, чтобы детские годы всю жизнь вспоминались с радостью и теплот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  <p:sndAc>
      <p:stSnd>
        <p:snd r:embed="rId1" name="applaus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создания праздничного настроения , взаимодействия родителей , детей и воспитателей группы «Цыплята» организовали Семейный конкурс «Новогодняя Ёлочк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C:\Users\Иришка\Desktop\видео Крылова развлечение\фото елочка цыплята\DSC02748.JPG"/>
          <p:cNvPicPr/>
          <p:nvPr/>
        </p:nvPicPr>
        <p:blipFill>
          <a:blip r:embed="rId1"/>
          <a:stretch/>
        </p:blipFill>
        <p:spPr>
          <a:xfrm>
            <a:off x="5435640" y="2133720"/>
            <a:ext cx="339552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468360" y="1797120"/>
            <a:ext cx="3527280" cy="4524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  <p:sndAc>
      <p:stSnd>
        <p:snd r:embed="rId3" name="applaus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се «произведения» наших талантливых родителей, детей и воспитателей были выставлены, украсили группу «Цыплята», не осталось ни одного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внодушного зрител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C:\Users\Иришка\Desktop\видео Крылова развлечение\фото елочка цыплята\DSC02737.JPG"/>
          <p:cNvPicPr/>
          <p:nvPr/>
        </p:nvPicPr>
        <p:blipFill>
          <a:blip r:embed="rId1"/>
          <a:stretch/>
        </p:blipFill>
        <p:spPr>
          <a:xfrm>
            <a:off x="5749920" y="2030400"/>
            <a:ext cx="3394080" cy="4827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Иришка\Desktop\видео Крылова развлечение\фото елочка цыплята\DSC02742.JPG"/>
          <p:cNvPicPr/>
          <p:nvPr/>
        </p:nvPicPr>
        <p:blipFill>
          <a:blip r:embed="rId2"/>
          <a:stretch/>
        </p:blipFill>
        <p:spPr>
          <a:xfrm>
            <a:off x="0" y="2030400"/>
            <a:ext cx="3394080" cy="4827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Иришка\Desktop\видео Крылова развлечение\фото елочка цыплята\DSC02738.JPG"/>
          <p:cNvPicPr/>
          <p:nvPr/>
        </p:nvPicPr>
        <p:blipFill>
          <a:blip r:embed="rId3"/>
          <a:stretch/>
        </p:blipFill>
        <p:spPr>
          <a:xfrm>
            <a:off x="2771640" y="1413000"/>
            <a:ext cx="338472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  <p:sndAc>
      <p:stSnd>
        <p:snd r:embed="rId4" name="applaus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363528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овогодние Ёлоч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C:\Users\Иришка\Desktop\видео Крылова развлечение\фото елочка цыплята\DSC02745.JPG"/>
          <p:cNvPicPr/>
          <p:nvPr/>
        </p:nvPicPr>
        <p:blipFill>
          <a:blip r:embed="rId1"/>
          <a:stretch/>
        </p:blipFill>
        <p:spPr>
          <a:xfrm>
            <a:off x="5749920" y="2852640"/>
            <a:ext cx="3394080" cy="4005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C:\Users\Иришка\Desktop\видео Крылова развлечение\фото елочка цыплята\DSC02743.JPG"/>
          <p:cNvPicPr/>
          <p:nvPr/>
        </p:nvPicPr>
        <p:blipFill>
          <a:blip r:embed="rId2"/>
          <a:stretch/>
        </p:blipFill>
        <p:spPr>
          <a:xfrm>
            <a:off x="0" y="206064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Иришка\Desktop\видео Крылова развлечение\фото елочка цыплята\DSC02740.JPG"/>
          <p:cNvPicPr/>
          <p:nvPr/>
        </p:nvPicPr>
        <p:blipFill>
          <a:blip r:embed="rId3"/>
          <a:stretch/>
        </p:blipFill>
        <p:spPr>
          <a:xfrm>
            <a:off x="3394080" y="189000"/>
            <a:ext cx="3395520" cy="414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  <p:sndAc>
      <p:stSnd>
        <p:snd r:embed="rId4" name="applaus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– огромная творческая сила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бедители получили грамо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Иришка\Desktop\видео Крылова развлечение\фото елочка цыплята\DSC02753.JPG"/>
          <p:cNvPicPr/>
          <p:nvPr/>
        </p:nvPicPr>
        <p:blipFill>
          <a:blip r:embed="rId1"/>
          <a:stretch/>
        </p:blipFill>
        <p:spPr>
          <a:xfrm>
            <a:off x="179280" y="1557360"/>
            <a:ext cx="4932360" cy="3973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Иришка\Desktop\видео Крылова развлечение\фото елочка цыплята\DSC02760.JPG"/>
          <p:cNvPicPr/>
          <p:nvPr/>
        </p:nvPicPr>
        <p:blipFill>
          <a:blip r:embed="rId2"/>
          <a:stretch/>
        </p:blipFill>
        <p:spPr>
          <a:xfrm>
            <a:off x="5580000" y="233208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  <p:sndAc>
      <p:stSnd>
        <p:snd r:embed="rId3" name="applaus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C:\Users\Иришка\Desktop\видео Крылова развлечение\фото елочка цыплята\DSC02756.JPG"/>
          <p:cNvPicPr/>
          <p:nvPr/>
        </p:nvPicPr>
        <p:blipFill>
          <a:blip r:embed="rId1"/>
          <a:stretch/>
        </p:blipFill>
        <p:spPr>
          <a:xfrm>
            <a:off x="2195640" y="1600200"/>
            <a:ext cx="432108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7T12:51:07Z</dcterms:created>
  <dc:creator>User</dc:creator>
  <dc:description/>
  <dc:language>en-US</dc:language>
  <cp:lastModifiedBy>Иришка</cp:lastModifiedBy>
  <dcterms:modified xsi:type="dcterms:W3CDTF">2015-04-19T08:09:18Z</dcterms:modified>
  <cp:revision>22</cp:revision>
  <dc:subject/>
  <dc:title>Презентация PowerPoint</dc:title>
</cp:coreProperties>
</file>