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pplaus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222-5A19-4D35-8838-D27B20D1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C59-F368-4303-8F18-51812EE0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A72-0F85-4153-8A22-EB4FA4B4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DA1-3AC9-4764-982B-8D54281A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44E-F09C-436E-BC9C-3C71B3AB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426-1598-4760-9D0C-77C1659C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46F-3CAF-4988-85E5-4C7CBE9F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197-5A43-45D1-9FC5-46E21E09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1C9-2BC7-44B2-AF51-E0035F60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6FF-8E07-4A48-85BE-A07C732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F98-A8A2-4DCE-A299-EA482886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6A1-C021-40C1-BA66-908827F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AA12-4E6A-4DAE-9D87-F2E5DB31F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ейный конкурс «Новогодняя ёл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оспитатель высшей категории Крылова Валентина Михайловна МАДОУ ЦРР-д/с №7 «Огонёк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г. Светл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здаем Новогоднее на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784840" y="2333520"/>
            <a:ext cx="3389400" cy="452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Иришка\Desktop\видео Крылова развлечение\фото елочка цыплята\DSC02735.JPG"/>
          <p:cNvPicPr/>
          <p:nvPr/>
        </p:nvPicPr>
        <p:blipFill>
          <a:blip r:embed="rId2"/>
          <a:stretch/>
        </p:blipFill>
        <p:spPr>
          <a:xfrm>
            <a:off x="-63360" y="3021120"/>
            <a:ext cx="294480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Иришка\Desktop\видео Крылова развлечение\фото елочка цыплята\DSC02732.JPG"/>
          <p:cNvPicPr/>
          <p:nvPr/>
        </p:nvPicPr>
        <p:blipFill>
          <a:blip r:embed="rId3"/>
          <a:stretch/>
        </p:blipFill>
        <p:spPr>
          <a:xfrm>
            <a:off x="2627280" y="1079640"/>
            <a:ext cx="45370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4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овогодняя Ёл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S Sans Serif"/>
              </a:rPr>
              <a:t>Семейный конкурс создан на трехсторонней основе: педагог – ребенок – родитель, показывают новые возможности и всех участников, и процесса партнерского взаимодействия, раскрывают тала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S Sans Serif"/>
              </a:rPr>
              <a:t>Мотив конкурса один у всех – сделать жизнь наших детей насыщенной, яркой, чтобы детские годы всю жизнь вспоминались с радостью и тепло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оздания праздничного настроения , взаимодействия родителей , детей и воспитателей группы «Цыплята» организовали Семейный конкурс «Новогодняя Ёл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Иришка\Desktop\видео Крылова развлечение\фото елочка цыплята\DSC02748.JPG"/>
          <p:cNvPicPr/>
          <p:nvPr/>
        </p:nvPicPr>
        <p:blipFill>
          <a:blip r:embed="rId1"/>
          <a:stretch/>
        </p:blipFill>
        <p:spPr>
          <a:xfrm>
            <a:off x="5435640" y="2133720"/>
            <a:ext cx="33955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68360" y="1797120"/>
            <a:ext cx="352728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 «произведения» наших талантливых родителей, детей и воспитателей были выставлены, украсили группу «Цыплята», не осталось ни одн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внодушного зр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Иришка\Desktop\видео Крылова развлечение\фото елочка цыплята\DSC02737.JPG"/>
          <p:cNvPicPr/>
          <p:nvPr/>
        </p:nvPicPr>
        <p:blipFill>
          <a:blip r:embed="rId1"/>
          <a:stretch/>
        </p:blipFill>
        <p:spPr>
          <a:xfrm>
            <a:off x="5749920" y="2030400"/>
            <a:ext cx="3394080" cy="482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Иришка\Desktop\видео Крылова развлечение\фото елочка цыплята\DSC02742.JPG"/>
          <p:cNvPicPr/>
          <p:nvPr/>
        </p:nvPicPr>
        <p:blipFill>
          <a:blip r:embed="rId2"/>
          <a:stretch/>
        </p:blipFill>
        <p:spPr>
          <a:xfrm>
            <a:off x="0" y="2030400"/>
            <a:ext cx="3394080" cy="482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Иришка\Desktop\видео Крылова развлечение\фото елочка цыплята\DSC02738.JPG"/>
          <p:cNvPicPr/>
          <p:nvPr/>
        </p:nvPicPr>
        <p:blipFill>
          <a:blip r:embed="rId3"/>
          <a:stretch/>
        </p:blipFill>
        <p:spPr>
          <a:xfrm>
            <a:off x="2771640" y="141300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4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6352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годние Ёл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Users\Иришка\Desktop\видео Крылова развлечение\фото елочка цыплята\DSC02745.JPG"/>
          <p:cNvPicPr/>
          <p:nvPr/>
        </p:nvPicPr>
        <p:blipFill>
          <a:blip r:embed="rId1"/>
          <a:stretch/>
        </p:blipFill>
        <p:spPr>
          <a:xfrm>
            <a:off x="5749920" y="2852640"/>
            <a:ext cx="3394080" cy="400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Иришка\Desktop\видео Крылова развлечение\фото елочка цыплята\DSC02743.JPG"/>
          <p:cNvPicPr/>
          <p:nvPr/>
        </p:nvPicPr>
        <p:blipFill>
          <a:blip r:embed="rId2"/>
          <a:stretch/>
        </p:blipFill>
        <p:spPr>
          <a:xfrm>
            <a:off x="0" y="2060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Иришка\Desktop\видео Крылова развлечение\фото елочка цыплята\DSC02740.JPG"/>
          <p:cNvPicPr/>
          <p:nvPr/>
        </p:nvPicPr>
        <p:blipFill>
          <a:blip r:embed="rId3"/>
          <a:stretch/>
        </p:blipFill>
        <p:spPr>
          <a:xfrm>
            <a:off x="3394080" y="189000"/>
            <a:ext cx="3395520" cy="41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4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– огромная творческая сила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бедители получили грам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Иришка\Desktop\видео Крылова развлечение\фото елочка цыплята\DSC02753.JPG"/>
          <p:cNvPicPr/>
          <p:nvPr/>
        </p:nvPicPr>
        <p:blipFill>
          <a:blip r:embed="rId1"/>
          <a:stretch/>
        </p:blipFill>
        <p:spPr>
          <a:xfrm>
            <a:off x="179280" y="1557360"/>
            <a:ext cx="4932360" cy="397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Иришка\Desktop\видео Крылова развлечение\фото елочка цыплята\DSC02760.JPG"/>
          <p:cNvPicPr/>
          <p:nvPr/>
        </p:nvPicPr>
        <p:blipFill>
          <a:blip r:embed="rId2"/>
          <a:stretch/>
        </p:blipFill>
        <p:spPr>
          <a:xfrm>
            <a:off x="5580000" y="23320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3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Иришка\Desktop\видео Крылова развлечение\фото елочка цыплята\DSC02756.JPG"/>
          <p:cNvPicPr/>
          <p:nvPr/>
        </p:nvPicPr>
        <p:blipFill>
          <a:blip r:embed="rId1"/>
          <a:stretch/>
        </p:blipFill>
        <p:spPr>
          <a:xfrm>
            <a:off x="2195640" y="1600200"/>
            <a:ext cx="43210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Иришка</cp:lastModifiedBy>
  <dcterms:modified xsi:type="dcterms:W3CDTF">2015-04-19T08:09:18Z</dcterms:modified>
  <cp:revision>22</cp:revision>
  <dc:subject/>
  <dc:title>Презентация PowerPoint</dc:title>
</cp:coreProperties>
</file>