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7B1-841B-48A8-9C80-3240EE6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FB5-1794-4874-8ECF-46069BCF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B18-F665-4B2E-AC80-8DC0FB78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C2D-0072-43D2-92C4-0372230C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0A3-3325-47C8-BAC6-045DCFC7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714-EC75-45C8-9415-9709A888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3EF-235F-42C0-AFB2-05C4E86F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13E-8482-4492-B0E2-35909E78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54D-A9A4-4905-8AD4-EF0AC37A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E27-CFE2-457E-90F5-E43F448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A61-E6AA-49EB-A358-E4B8B8A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ADA-6079-468F-9894-64339559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0D25-BCB9-4E30-886F-BE004390E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тивно-имитационное моделирование как способ актуализации знания и формирования умений безопасного пове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013360"/>
            <a:ext cx="6153120" cy="1440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«Уроки безопасности в любимых детских сказках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Мои Рисунки\Мои рисунки\bda8a.jpg"/>
          <p:cNvPicPr/>
          <p:nvPr/>
        </p:nvPicPr>
        <p:blipFill>
          <a:blip r:embed="rId1"/>
          <a:stretch/>
        </p:blipFill>
        <p:spPr>
          <a:xfrm>
            <a:off x="0" y="0"/>
            <a:ext cx="3924360" cy="483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Мои Рисунки\Мои рисунки\91169342_5fe15811de6b.jpg"/>
          <p:cNvPicPr/>
          <p:nvPr/>
        </p:nvPicPr>
        <p:blipFill>
          <a:blip r:embed="rId2"/>
          <a:stretch/>
        </p:blipFill>
        <p:spPr>
          <a:xfrm>
            <a:off x="3900600" y="292428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ли ли вы сюжеты сказок и их персонажей? Назовите сказочны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влекательной внеш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привлекательной внешность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из этих персонажей можно назвать положительными, а кого отрицательными? Внешность каких героев соответствует их поступкам, а каких – н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можно из этого выв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равила безопасности в общении с незнакомц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совпадение приятной внешности и добрых намер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правило 4-х «НЕ», которое надо помнить при общении с незнакомыми людь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о 4-х «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ать угощение или подарки у чужих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диться в чужую маш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ывать чужим о своей семье и о себ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чать, если происходит что-то подозрительное, если кто-то хочет причинить тебе зло, а  надо кричать и бежать в людное мес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Рисунки\Мои рисунки\aad504958d5e.jpg"/>
          <p:cNvPicPr/>
          <p:nvPr/>
        </p:nvPicPr>
        <p:blipFill>
          <a:blip r:embed="rId1"/>
          <a:stretch/>
        </p:blipFill>
        <p:spPr>
          <a:xfrm>
            <a:off x="1068480" y="566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D:\Мои Рисунки\Мои рисунки\10.jpgтрр.jpg"/>
          <p:cNvPicPr/>
          <p:nvPr/>
        </p:nvPicPr>
        <p:blipFill>
          <a:blip r:embed="rId1"/>
          <a:stretch/>
        </p:blipFill>
        <p:spPr>
          <a:xfrm>
            <a:off x="539640" y="692280"/>
            <a:ext cx="3564000" cy="540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Мои Рисунки\Мои рисунки\67080298_11.jpg"/>
          <p:cNvPicPr/>
          <p:nvPr/>
        </p:nvPicPr>
        <p:blipFill>
          <a:blip r:embed="rId2"/>
          <a:stretch/>
        </p:blipFill>
        <p:spPr>
          <a:xfrm>
            <a:off x="4500720" y="1052640"/>
            <a:ext cx="431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68360" y="155736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нарушили Буратино, Колобок и Петушок и поплатились за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539640" y="170028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змерное довер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незнакомцам, желание получить обещан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нарушила царев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Мои Рисунки\Мои рисунки\1300725235_13.jpg"/>
          <p:cNvPicPr/>
          <p:nvPr/>
        </p:nvPicPr>
        <p:blipFill>
          <a:blip r:embed="rId1"/>
          <a:stretch/>
        </p:blipFill>
        <p:spPr>
          <a:xfrm>
            <a:off x="1511280" y="1600200"/>
            <a:ext cx="620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гда НЕ брать угощение или подарки у чужих люд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итуативно-имитационным моделированием  понимается процесс конструирования модели реальной ситуации, например, опасной обстановки на дороге, в природе, в быту, в общении с  незнакомцем и постановка экспериментов на этой модели с целью понять различные стратегии поведения в 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лку удалось обмануть глупых поросят? Какое правило нужно помн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Мои Рисунки\Мои рисунки\05labqs5t1222258295.jpg"/>
          <p:cNvPicPr/>
          <p:nvPr/>
        </p:nvPicPr>
        <p:blipFill>
          <a:blip r:embed="rId1"/>
          <a:stretch/>
        </p:blipFill>
        <p:spPr>
          <a:xfrm>
            <a:off x="0" y="1722600"/>
            <a:ext cx="3851280" cy="513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ои Рисунки\Мои рисунки\53832803_1263576251_36053bc230db.jpg"/>
          <p:cNvPicPr/>
          <p:nvPr/>
        </p:nvPicPr>
        <p:blipFill>
          <a:blip r:embed="rId2"/>
          <a:stretch/>
        </p:blipFill>
        <p:spPr>
          <a:xfrm>
            <a:off x="4083120" y="3860640"/>
            <a:ext cx="5060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даже увидишь в глазок человека в полицейской форме или в белом халате, помни, что преступники могут надеть любую одеж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D:\Мои Рисунки\Мои рисунки\0b0bd9eec51cc79795505c304ffb2bcc.jpeg"/>
          <p:cNvPicPr/>
          <p:nvPr/>
        </p:nvPicPr>
        <p:blipFill>
          <a:blip r:embed="rId1"/>
          <a:stretch/>
        </p:blipFill>
        <p:spPr>
          <a:xfrm>
            <a:off x="0" y="0"/>
            <a:ext cx="5313240" cy="383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Мои Рисунки\Мои рисунки\95607462_littlered07.jpg"/>
          <p:cNvPicPr/>
          <p:nvPr/>
        </p:nvPicPr>
        <p:blipFill>
          <a:blip r:embed="rId2"/>
          <a:stretch/>
        </p:blipFill>
        <p:spPr>
          <a:xfrm>
            <a:off x="4857840" y="3357720"/>
            <a:ext cx="4286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далось Волку в этих сказках обмануть козлят и бабушку? О каком правиле забыли козлята и бабушка Красной Шапоч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открывать дверь чуж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, сама того не ведая, помогла Волку Красная Шапоч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Мои Рисунки\Мои рисунки\14-krasnaja-shapochka-1975.jpg"/>
          <p:cNvPicPr/>
          <p:nvPr/>
        </p:nvPicPr>
        <p:blipFill>
          <a:blip r:embed="rId1"/>
          <a:stretch/>
        </p:blipFill>
        <p:spPr>
          <a:xfrm>
            <a:off x="1116000" y="1484280"/>
            <a:ext cx="6769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безопас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гда НЕ рассказывать чужим о своей семье и о себ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Мои Рисунки\Мои рисунки\20110131070631.jpg"/>
          <p:cNvPicPr/>
          <p:nvPr/>
        </p:nvPicPr>
        <p:blipFill>
          <a:blip r:embed="rId1"/>
          <a:stretch/>
        </p:blipFill>
        <p:spPr>
          <a:xfrm>
            <a:off x="0" y="0"/>
            <a:ext cx="4764240" cy="386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622760" y="3500280"/>
            <a:ext cx="4521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безопас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гулять одному, без присмотра взросл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оставлять маленьких детей без присмот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л правильно Петушок после того, как Лиса его похити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Мои Рисунки\Мои рисунки\67080318_12.jpg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у детей к обыгрыванию опасных ситуаций возникает не только в реальной обстановке на конкретных примерах, но и на материале знакомых сказок с участием любимых персонаж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безопас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олчать, если происходит что-то подозрительное, если кто-то хочет причинить тебе зло, а  надо кричать и бежать в людное место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Мои Рисунки\Мои рисунки\kot2[1].jpg"/>
          <p:cNvPicPr/>
          <p:nvPr/>
        </p:nvPicPr>
        <p:blipFill>
          <a:blip r:embed="rId1"/>
          <a:stretch/>
        </p:blipFill>
        <p:spPr>
          <a:xfrm>
            <a:off x="-108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первой категор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убкова Галина Александ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ДОУ №20 «Катюша» г.Брян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280" y="692280"/>
            <a:ext cx="7931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Владея снегом, льдом и стуж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Она надменно холод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И снежной вьюгой злою круж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Зимой у тёплого ок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Холодной льдинки злой оско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Вонзит в сердечко малы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Её правленья век недоло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Когда есть добрая душа</a:t>
            </a:r>
            <a:r>
              <a:rPr b="0" i="1" lang="ru-RU" sz="3200" spc="-1" strike="noStrike">
                <a:solidFill>
                  <a:srgbClr val="10253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Мои Рисунки\Мои рисунки\0cb36404-2c8b-11e2-96f0-001517f5b538.jpeg"/>
          <p:cNvPicPr/>
          <p:nvPr/>
        </p:nvPicPr>
        <p:blipFill>
          <a:blip r:embed="rId1"/>
          <a:stretch/>
        </p:blipFill>
        <p:spPr>
          <a:xfrm>
            <a:off x="1332000" y="0"/>
            <a:ext cx="67435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Мои Рисунки\Мои рисунки\7674483.jpg"/>
          <p:cNvPicPr/>
          <p:nvPr/>
        </p:nvPicPr>
        <p:blipFill>
          <a:blip r:embed="rId1"/>
          <a:stretch/>
        </p:blipFill>
        <p:spPr>
          <a:xfrm>
            <a:off x="324000" y="476280"/>
            <a:ext cx="3456000" cy="589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ои Рисунки\Мои рисунки\17104204lab3qpd1243287312.jpg"/>
          <p:cNvPicPr/>
          <p:nvPr/>
        </p:nvPicPr>
        <p:blipFill>
          <a:blip r:embed="rId2"/>
          <a:stretch/>
        </p:blipFill>
        <p:spPr>
          <a:xfrm>
            <a:off x="4067280" y="333360"/>
            <a:ext cx="47466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Рисунки\Мои рисунки\294342.jpg"/>
          <p:cNvPicPr/>
          <p:nvPr/>
        </p:nvPicPr>
        <p:blipFill>
          <a:blip r:embed="rId1"/>
          <a:stretch/>
        </p:blipFill>
        <p:spPr>
          <a:xfrm>
            <a:off x="923760" y="1125360"/>
            <a:ext cx="7440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D:\Мои Рисунки\Мои рисунки\lisa.png"/>
          <p:cNvPicPr/>
          <p:nvPr/>
        </p:nvPicPr>
        <p:blipFill>
          <a:blip r:embed="rId1"/>
          <a:stretch/>
        </p:blipFill>
        <p:spPr>
          <a:xfrm>
            <a:off x="0" y="836640"/>
            <a:ext cx="4530600" cy="553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Мои Рисунки\Мои рисунки\L0Ev2nn23638_43392_XL.jpg"/>
          <p:cNvPicPr/>
          <p:nvPr/>
        </p:nvPicPr>
        <p:blipFill>
          <a:blip r:embed="rId2"/>
          <a:stretch/>
        </p:blipFill>
        <p:spPr>
          <a:xfrm>
            <a:off x="4451400" y="333360"/>
            <a:ext cx="4452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D:\Мои Рисунки\Мои рисунки\rcedkhhzfo.jpg"/>
          <p:cNvPicPr/>
          <p:nvPr/>
        </p:nvPicPr>
        <p:blipFill>
          <a:blip r:embed="rId1"/>
          <a:stretch/>
        </p:blipFill>
        <p:spPr>
          <a:xfrm>
            <a:off x="0" y="0"/>
            <a:ext cx="4519440" cy="347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Мои Рисунки\Мои рисунки\KMO_097065_04900_1_t210.jpg"/>
          <p:cNvPicPr/>
          <p:nvPr/>
        </p:nvPicPr>
        <p:blipFill>
          <a:blip r:embed="rId2"/>
          <a:stretch/>
        </p:blipFill>
        <p:spPr>
          <a:xfrm>
            <a:off x="3946680" y="2882880"/>
            <a:ext cx="51973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5:56:39Z</dcterms:created>
  <dc:creator>Admin</dc:creator>
  <dc:description/>
  <dc:language>en-US</dc:language>
  <cp:lastModifiedBy>Admin</cp:lastModifiedBy>
  <dcterms:modified xsi:type="dcterms:W3CDTF">2015-04-19T20:50:22Z</dcterms:modified>
  <cp:revision>38</cp:revision>
  <dc:subject/>
  <dc:title> Ситуативно-имитационное моделирование как способ актуализации знания и формирования умений безопасного поведения </dc:title>
</cp:coreProperties>
</file>