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17A-3E13-42A6-9D34-0FD30D63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BE6-8521-47A2-8280-72C5360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B13-4B82-4463-A30F-FD6EB6E4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1B6-775E-4379-9C29-9D650F8E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482-BC37-49DD-B2B8-702C9087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4AD-6EEA-4F5A-A6E0-63EF549C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B13-A438-4D1E-A60F-C8D08BE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4AA-8435-468D-A031-6664FD26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D18-E6E8-417F-90AC-C43C6A7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1EF-BAC7-4F23-8457-1900E72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53F-0CEF-40AE-B4F8-A20DB5C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4F5-D4F9-48F8-AA9D-1450C13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EF1-8315-41C9-A667-EE13C2D4D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5"/>
          <p:cNvSpPr/>
          <p:nvPr/>
        </p:nvSpPr>
        <p:spPr>
          <a:xfrm>
            <a:off x="101520" y="3098880"/>
            <a:ext cx="12090600" cy="87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6"/>
          <p:cNvSpPr/>
          <p:nvPr/>
        </p:nvSpPr>
        <p:spPr>
          <a:xfrm flipH="1" flipV="1">
            <a:off x="5744880" y="3201840"/>
            <a:ext cx="65160" cy="358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3738600" y="763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а; неб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етний ясный ден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2013120" y="1171440"/>
            <a:ext cx="936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дка серого цвет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ьчик в белой майке и чёрных шортах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оит в лодке, держит удочку, ловит рыб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7"/>
          <p:cNvSpPr/>
          <p:nvPr/>
        </p:nvSpPr>
        <p:spPr>
          <a:xfrm>
            <a:off x="6828480" y="4024440"/>
            <a:ext cx="489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бака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ичневая шерсть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дит на берег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отрит на мальч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3048840" y="3168720"/>
            <a:ext cx="42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рег реки; трав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1149480" y="378612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мыш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9483480" y="3201840"/>
            <a:ext cx="18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о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69800" y="3786120"/>
            <a:ext cx="44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69800" y="731880"/>
            <a:ext cx="60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647720" y="-733320"/>
            <a:ext cx="8874360" cy="89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8:17:05Z</dcterms:created>
  <dc:creator>LENOVO</dc:creator>
  <dc:description/>
  <dc:language>en-US</dc:language>
  <cp:lastModifiedBy>LENOVO</cp:lastModifiedBy>
  <dcterms:modified xsi:type="dcterms:W3CDTF">2015-04-19T20:00:30Z</dcterms:modified>
  <cp:revision>15</cp:revision>
  <dc:subject/>
  <dc:title>Презентация PowerPoint</dc:title>
</cp:coreProperties>
</file>