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51B-FAB9-4755-A268-A9E35B3F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5E1-3CEF-4A3C-B63F-ECE2E87E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437-FCEC-4ECA-A2D1-E8158AF0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345-8797-4E03-A180-E152CAD0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B55-4237-4DD1-8095-5416A85B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A91-D574-4669-A132-7062A60A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F59-72C8-4071-8E47-63ACEB87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E35-68E6-432D-8917-0C5454D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BD7-A092-45FD-A4BA-533BC49E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BFB-9813-4FCF-AF9C-07E385E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C63-A345-4418-9C02-6837CC2C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257-F5C6-40DD-9066-6F785B6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A002-B257-42DE-800F-CA2CD8389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5"/>
          <p:cNvSpPr/>
          <p:nvPr/>
        </p:nvSpPr>
        <p:spPr>
          <a:xfrm>
            <a:off x="101520" y="3098880"/>
            <a:ext cx="12090600" cy="87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6"/>
          <p:cNvSpPr/>
          <p:nvPr/>
        </p:nvSpPr>
        <p:spPr>
          <a:xfrm flipH="1" flipV="1">
            <a:off x="5744880" y="3201840"/>
            <a:ext cx="65160" cy="358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1"/>
          <p:cNvSpPr/>
          <p:nvPr/>
        </p:nvSpPr>
        <p:spPr>
          <a:xfrm>
            <a:off x="3738600" y="7632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ка; неб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етний ясный ден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6"/>
          <p:cNvSpPr/>
          <p:nvPr/>
        </p:nvSpPr>
        <p:spPr>
          <a:xfrm>
            <a:off x="2013120" y="1171440"/>
            <a:ext cx="936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одка серого цвет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льчик в белой майке и чёрных шортах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оит в лодке, держит удочку, ловит рыбу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7"/>
          <p:cNvSpPr/>
          <p:nvPr/>
        </p:nvSpPr>
        <p:spPr>
          <a:xfrm>
            <a:off x="6828480" y="4024440"/>
            <a:ext cx="4894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бака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ичневая шерсть 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дит на берег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мотрит на мальчи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9"/>
          <p:cNvSpPr/>
          <p:nvPr/>
        </p:nvSpPr>
        <p:spPr>
          <a:xfrm>
            <a:off x="3048840" y="3168720"/>
            <a:ext cx="42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рег реки; трав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0"/>
          <p:cNvSpPr/>
          <p:nvPr/>
        </p:nvSpPr>
        <p:spPr>
          <a:xfrm>
            <a:off x="1149480" y="378612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мыш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9483480" y="3201840"/>
            <a:ext cx="18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рево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69800" y="3786120"/>
            <a:ext cx="44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469800" y="731880"/>
            <a:ext cx="60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647720" y="-733320"/>
            <a:ext cx="8874360" cy="89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8:17:05Z</dcterms:created>
  <dc:creator>LENOVO</dc:creator>
  <dc:description/>
  <dc:language>en-US</dc:language>
  <cp:lastModifiedBy>LENOVO</cp:lastModifiedBy>
  <dcterms:modified xsi:type="dcterms:W3CDTF">2015-04-19T20:00:30Z</dcterms:modified>
  <cp:revision>15</cp:revision>
  <dc:subject/>
  <dc:title>Презентация PowerPoint</dc:title>
</cp:coreProperties>
</file>