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787-12C9-4566-BB98-65DF4223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950-1972-4EF9-A596-8C3EC86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617DE-534F-4B5A-A216-836DFE72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B5931-3A2C-47CA-AE20-67023057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70EA7-AF15-48F6-8831-858DC713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73A22-0937-432E-B496-6EBAFF2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2CED9-44CD-47D0-9604-5A9C784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4D2A7-14BA-4377-9ABD-9CABE57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37140-F3F0-4BC4-BD08-09526BE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A29ED-D2FD-40DD-953C-04C273F1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F11E3-DAF6-4F02-8B78-836ED898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5848C-926E-49F1-BA3E-78D6DDC0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813-1FA4-4713-B5C4-A1B2146F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8E48B-C3EF-40EC-BEB4-22D59EEF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74CD2-CCF5-4CEE-8798-73DC1540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E2251-C399-4EEE-BBA9-E59C4313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27E8C-F54D-4DC7-B95C-0E0D22AD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12577-5B5C-4268-B43E-C283780C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4DB63-422D-4F09-908C-3DACF796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F8567-1CF6-4BEB-A0F3-6CDB21B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39EEE-0963-4D60-B561-B3FCAD0C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C2D3D-1655-4D24-8C04-4DBFC9EC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C8E34-371B-483E-AF23-034AD51C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A76-3876-41A5-B49D-10079A3F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C6585-EDCB-47B9-B91F-CBAE7573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97125-95FE-41A5-B47C-12D9FF2A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6FFBF-4513-4960-BAD4-44A0E03A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B88B2-3A9B-4841-BFC0-270C4844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303C-1181-4D1E-8DC7-AF87BE66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58BE6-3D64-4D63-A3D1-1C0F26D4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4FBDF-2042-44BC-ABB6-5354E9AB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21E83-F19E-4396-9E08-E6F9BB4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9F073-C953-4A89-B01D-B03D893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9A15A-E78E-482B-80E3-2E45ECC4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C514-F299-463A-A89D-F80D180E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3643F-50A9-40F8-B9FF-F17D251E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AAB37-A6A8-4F50-ABDA-F1851C86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1D03C-BB0A-46BA-ABB5-7DBECAF5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C1BF-B1FE-4FAB-8DA8-C5DCA318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89295-5E9E-4EE2-AC44-920BD246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C0748-0E7B-44F9-9790-44A65DF7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63545-30C0-4D06-B8A1-A86C6867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F26AB-15E6-4F71-95B1-E267BD9E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3715F-03D0-47B7-993F-443EDAB4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F9D0-29C7-4B75-B2D9-8187F31C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4D9CD-30E7-4A6E-BEA7-056E8778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94948-3FD3-4A49-8F1A-C03F5BCD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9B3F7-7BC7-440E-AFFA-AAD4CBB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AE3A2-B17D-4395-8B17-A213EA9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FB8CA-D65E-472E-A9B3-98E68526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9EFE2-FB4E-483F-BA9A-AC1CE605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C7549-FBCA-4F6D-8969-9724268A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DBA10-C98A-4C1E-93A4-641AEE39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AAD74-AD61-4D8B-A264-5B5B361E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E61D3-0321-4357-B128-B24D6D1A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13AF-8EB5-4DEB-8958-AEC6C631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8F298-4613-4805-8FC1-3FE2A391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B75DC-0113-4DFE-BFD7-C8E4BCA1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E0D70-9D25-4532-935B-579C208E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FB33B-AE50-47D4-82FB-67370F59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A2FE3-2E98-4F15-BBF1-93DFB011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7C0CA-0C4D-4EE3-96DB-8161FC8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77940-CD39-4A50-A018-3469DA17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F7C32-4BC0-44F7-8FB4-EF36A8FA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9185A-0E9B-4FEA-AC51-027AF457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23A71-0DC6-485D-836C-915AC78A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030-E899-4F74-B410-5ABF894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94FD6-4341-45EC-B610-A98A0A03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C3998-6EAF-4B0D-9C79-8B87B450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88CEF-C23A-4A39-B293-089AB98D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CE949-8B1C-47DD-98BE-50B191E0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3F0E9-1E3B-407E-8F3D-163BF859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7A517-30E5-48ED-AC6D-F0896971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072BA-D3CE-4648-8D5B-5F1D0EB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11288-D7EB-446E-A5D0-32C2FA5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2B1F2-20F2-4681-95B4-1DE635B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301A0-B3FF-4FB6-ABFE-8B490D23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5BEF-9423-4906-911D-D1DB59DB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0A05A-EDFB-438A-8ACB-9F2DB893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0B6A-3A03-48AB-8650-E99EF51A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B86-D307-44FD-ACD7-53884397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3EB8-1B14-45FD-8B97-79C0AAB4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5F67-61AB-4A2C-8B5D-A78B8BE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4A96-CB27-42E8-BE99-0618145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F097-2A20-4ECB-BD32-ADA17957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035C-7633-4272-A482-DAB9F2B3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2006-4D73-4553-AEEA-04002224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A5FB-D5D2-4261-9927-5E39D563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FC21-6CE0-4F02-81D9-D495CCAA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0ED9-3604-42A1-8680-B91F2F9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7D84-9C84-4DE3-B71A-36BEA9CB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D5A-47C1-48D2-9858-5CD33A98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8658-11A4-49A5-A140-EE8C5EB8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59EC-BC06-4012-909C-40E8B80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C941-AA9B-4735-85DF-6290EAA8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7107-846C-437A-B3C1-7C5A736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94A4-189B-46BA-812D-0D1A732B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8105-90CF-4F4E-B5A3-2F16EC95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A1A4-3743-4095-ADC0-39B04E6C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D68E7-224B-4719-BBAD-D0C91965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D7C3-839F-4B63-BDDD-B97DE9A1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A1A1-0053-497F-8FE1-3293B8B4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84D-13EB-40FA-A967-88BD4C9C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9753-4DAB-4147-AD66-FEBD6D8B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F143-6A7C-46FA-8BD2-062BB28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51DF-C66D-4F43-A1A0-2E99591A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1DC1-BDF4-4E8C-A691-A19D048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9072-0C21-4076-B1F2-88ABAEF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2F96-05B1-43CD-A0F0-CC28FF5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C4141-5509-44E5-8050-A4601D93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7433-051C-4625-B4B6-8C872C29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4020-0B49-4503-959F-AFB15F64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6FBE-1B1D-4454-91C5-90440003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16E-D239-420A-B316-5F665D8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720C9-5BB2-4F25-8E5D-E0BCEDA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4DD46-99C3-425C-932A-AFC144D9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5558-215C-4250-B23A-50F68110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94E5-A9B8-4D40-A453-BC2EE89F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FC2D3-6AC3-481B-8E6F-84EACE2F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C9084-8A38-4280-9F26-3A1B54C7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AB7B4-6882-4C2D-B44B-632AE9F7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220E-3B98-432F-B9A7-9232ECB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118A4-802B-49CC-888D-06EA129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08194-0234-474E-8882-FB8CD4E6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A55-54B6-4EB7-9E91-B646BAA7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42B8-7E70-4846-8FBB-F5E4DD1C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EF59-245D-421C-AA1E-B88CBBF4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2E171-4A56-44FD-ABD1-417F4956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C9379-7548-45D0-A828-02BF63C2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5CAC-89AF-4E08-A4D7-BF51105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FE4DB-8CD2-4C17-B269-30B71A01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E3952-7F89-447D-9875-E24D3E2A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0B478-4941-4E70-AE88-2D8E91D0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2363-F34E-4D49-AC48-6AF9DF14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4AB20-4EF1-4DE2-B994-ABCD3A97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882-2903-499D-884B-C9C0B40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1E89-3AC5-44EA-BD72-BCD7F797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BD6B1-8818-4F9F-BEC3-F9F8F0EA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848F8-4A36-4D16-80FD-6FA3C48A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08715-2604-46ED-9FF4-2DE6BA2D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6E7F8-F7FE-47FB-9740-E2A5DDA9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D85F-A734-4C63-864B-9709AFE3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C2422-2FD3-48DB-8267-0615FFF9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E0664-13BF-4071-B5BC-D2991CBE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BA22-4C3E-446D-8002-B69394E7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9030C-0C4E-4221-B4AF-F72A067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B2A-702E-46F7-8ECE-876CE2CB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1B705-4507-465B-9013-70F0D04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86BCC-3980-4D1D-A59C-16DEE0D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44A3A-2F0D-44FD-BE3A-9D00E530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96E9A-BFB9-4767-BF6F-B58EAA57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442C3-EA64-4C36-A22F-95576F7F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E513B-FA44-42C4-89AF-F17CCB84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55971-732F-4183-9F73-D7B46CD0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6FDC-05C1-4936-BB63-A584CF15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8DB0F-724C-4A74-AC36-19C3539E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B5057-5AF6-46AC-BC8A-4C0B4E84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6BB-0095-491F-BFCD-D2B090E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FBFC1-BA97-4756-84A6-4FED4C49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3FA4D-8192-4BFC-B452-620D2E64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6875-ED10-431E-BA6C-459C2FD5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07969-62E0-4DFB-AE48-8F9A9F6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1E92-A906-4731-997B-731A5325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40CDC-3046-40C5-9E1F-B96B213C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DD63F-6F9F-46C4-9E30-AFDF3266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00386-28FB-49E2-A8FB-DA23636F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9DCA6-D313-4308-A333-D4127627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90FD1-5000-4516-8709-EE29F366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C421-A65E-43B4-8085-4AEFEB2F9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C136-61A8-4722-9B5D-D40A6604A2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802D-7118-4788-BFAB-BB77834D7D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946A-5544-4466-9FC2-945C0D7943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E77-9176-441A-8FB7-B5F9877F81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38F-5DD3-4F87-A6CA-00F1CD8334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40C7-8F30-4915-8FDB-B07AFE11FB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38A-78C2-4455-81E1-D467CB2F9A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1902-C14A-4404-9339-7C706D2A0F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40F1-F3CF-47B4-973C-83DA2ED6D0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E9A7-0213-4B1F-8138-146D256B4F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5065-F792-48B0-9FCA-371FFAF9DE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AA3A-C444-43B4-BDA0-9AC960889D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72C7-A321-47DB-814D-C74DDE6A14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0.liveinternet.ru/images/attach/c/0/63/136/63136665_5f8350820dd8.pn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4"/>
          <p:cNvSpPr/>
          <p:nvPr/>
        </p:nvSpPr>
        <p:spPr>
          <a:xfrm>
            <a:off x="5072040" y="4429080"/>
            <a:ext cx="36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Заместитель директора школы по ВР </a:t>
            </a:r>
            <a:br>
              <a:rPr sz="2400"/>
            </a:b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ОУ «Акчеевская СОШ» </a:t>
            </a:r>
            <a:br>
              <a:rPr sz="2400"/>
            </a:b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алд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8" descr="Картинка 10 из 461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141720"/>
            <a:ext cx="5076720" cy="33624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2857680" y="635796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4 –2015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Прямоугольник 5" descr=""/>
          <p:cNvPicPr/>
          <p:nvPr/>
        </p:nvPicPr>
        <p:blipFill>
          <a:blip r:embed="rId4"/>
          <a:stretch/>
        </p:blipFill>
        <p:spPr>
          <a:xfrm>
            <a:off x="420840" y="133200"/>
            <a:ext cx="8369280" cy="2176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"/>
          <p:cNvSpPr/>
          <p:nvPr/>
        </p:nvSpPr>
        <p:spPr>
          <a:xfrm>
            <a:off x="285840" y="192888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Работа с родителями одаренных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школы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357120" y="278604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ная практическая деятельность ребенка, родителей и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"/>
          <p:cNvSpPr/>
          <p:nvPr/>
        </p:nvSpPr>
        <p:spPr>
          <a:xfrm>
            <a:off x="166680" y="220500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Работа с педагогическим коллекти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школы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1908000" y="3573360"/>
            <a:ext cx="45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ание работать нестандар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исков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товность работать с талантливыми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е психологии талантливы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"/>
          <p:cNvSpPr/>
          <p:nvPr/>
        </p:nvSpPr>
        <p:spPr>
          <a:xfrm>
            <a:off x="179280" y="177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Взаимодействие школы с другими структурами соци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школы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Схема 6" descr=""/>
          <p:cNvPicPr/>
          <p:nvPr/>
        </p:nvPicPr>
        <p:blipFill>
          <a:blip r:embed="rId2"/>
          <a:stretch/>
        </p:blipFill>
        <p:spPr>
          <a:xfrm>
            <a:off x="1616040" y="2719440"/>
            <a:ext cx="61070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658" name="Picture 2" descr="C:\Users\школа\Desktop\фото презентация мо\IMG_2963.JPG"/>
          <p:cNvPicPr/>
          <p:nvPr/>
        </p:nvPicPr>
        <p:blipFill>
          <a:blip r:embed="rId2"/>
          <a:stretch/>
        </p:blipFill>
        <p:spPr>
          <a:xfrm>
            <a:off x="285840" y="2858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C:\Users\школа\Desktop\фото презентация мо\SDC15581.JPG"/>
          <p:cNvPicPr/>
          <p:nvPr/>
        </p:nvPicPr>
        <p:blipFill>
          <a:blip r:embed="rId3"/>
          <a:stretch/>
        </p:blipFill>
        <p:spPr>
          <a:xfrm>
            <a:off x="4572000" y="3357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9" descr="SDC15610"/>
          <p:cNvPicPr/>
          <p:nvPr/>
        </p:nvPicPr>
        <p:blipFill>
          <a:blip r:embed="rId2">
            <a:alphaModFix amt="65000"/>
          </a:blip>
          <a:stretch/>
        </p:blipFill>
        <p:spPr>
          <a:xfrm>
            <a:off x="395280" y="981000"/>
            <a:ext cx="3944880" cy="52563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0" descr="SDC13059"/>
          <p:cNvPicPr/>
          <p:nvPr/>
        </p:nvPicPr>
        <p:blipFill>
          <a:blip r:embed="rId3">
            <a:alphaModFix amt="65000"/>
          </a:blip>
          <a:stretch/>
        </p:blipFill>
        <p:spPr>
          <a:xfrm>
            <a:off x="4500720" y="549360"/>
            <a:ext cx="4489200" cy="3205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1" descr="SDC11096"/>
          <p:cNvPicPr/>
          <p:nvPr/>
        </p:nvPicPr>
        <p:blipFill>
          <a:blip r:embed="rId4">
            <a:alphaModFix amt="65000"/>
          </a:blip>
          <a:srcRect l="0" t="0" r="0" b="11399"/>
          <a:stretch/>
        </p:blipFill>
        <p:spPr>
          <a:xfrm>
            <a:off x="4500720" y="3860640"/>
            <a:ext cx="4475160" cy="2830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2" descr="G:\наташа\QXYVGKGRL4s.jpg"/>
          <p:cNvPicPr/>
          <p:nvPr/>
        </p:nvPicPr>
        <p:blipFill>
          <a:blip r:embed="rId2"/>
          <a:stretch/>
        </p:blipFill>
        <p:spPr>
          <a:xfrm>
            <a:off x="214200" y="1071720"/>
            <a:ext cx="5043600" cy="378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G:\наташа\e0gPZfo3EpM.jpg"/>
          <p:cNvPicPr/>
          <p:nvPr/>
        </p:nvPicPr>
        <p:blipFill>
          <a:blip r:embed="rId3"/>
          <a:stretch/>
        </p:blipFill>
        <p:spPr>
          <a:xfrm>
            <a:off x="5518080" y="785880"/>
            <a:ext cx="321804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28400" y="856800"/>
            <a:ext cx="838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–стечение трёх характеристи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х способ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йч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эруд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благоприятные условия  окруж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4643280" y="4000680"/>
            <a:ext cx="4165920" cy="256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Calibri"/>
              </a:rPr>
              <a:t>Конкурс «Одаренные дети»</a:t>
            </a:r>
            <a:br>
              <a:rPr sz="4400"/>
            </a:br>
            <a:r>
              <a:rPr b="0" lang="en-US" sz="3200" spc="-1" strike="noStrike">
                <a:solidFill>
                  <a:srgbClr val="cc3399"/>
                </a:solidFill>
                <a:latin typeface="Calibri"/>
              </a:rPr>
              <a:t>номинации «Изобразительное искусство»</a:t>
            </a:r>
            <a:br>
              <a:rPr sz="3200"/>
            </a:br>
            <a:r>
              <a:rPr b="0" lang="en-US" sz="3200" spc="-1" strike="noStrike">
                <a:solidFill>
                  <a:srgbClr val="cc3399"/>
                </a:solidFill>
                <a:latin typeface="Calibri"/>
              </a:rPr>
              <a:t>                         «Художественная фотограф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2" descr="C:\Users\школа\Desktop\фото презентация мо\SDC10098.JPG"/>
          <p:cNvPicPr/>
          <p:nvPr/>
        </p:nvPicPr>
        <p:blipFill>
          <a:blip r:embed="rId2"/>
          <a:stretch/>
        </p:blipFill>
        <p:spPr>
          <a:xfrm>
            <a:off x="4211640" y="2000160"/>
            <a:ext cx="4718160" cy="35388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4"/>
          <p:cNvSpPr/>
          <p:nvPr/>
        </p:nvSpPr>
        <p:spPr>
          <a:xfrm>
            <a:off x="558000" y="2000160"/>
            <a:ext cx="341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УДЯЕВА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АСТА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Конкурс «Одаренные дети»</a:t>
            </a:r>
            <a:br>
              <a:rPr sz="4400"/>
            </a:br>
            <a:r>
              <a:rPr b="0" lang="ru-RU" sz="2800" spc="-1" strike="noStrike">
                <a:solidFill>
                  <a:srgbClr val="cc3399"/>
                </a:solidFill>
                <a:latin typeface="Calibri"/>
              </a:rPr>
              <a:t>номинациии «Режиссерское и операторское искусство», «Художественная фот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2" descr="C:\Users\школа\Desktop\фото презентация мо\IMG_3634.JPG"/>
          <p:cNvPicPr/>
          <p:nvPr/>
        </p:nvPicPr>
        <p:blipFill>
          <a:blip r:embed="rId2"/>
          <a:stretch/>
        </p:blipFill>
        <p:spPr>
          <a:xfrm>
            <a:off x="4929120" y="164304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624" name="TextBox 4"/>
          <p:cNvSpPr/>
          <p:nvPr/>
        </p:nvSpPr>
        <p:spPr>
          <a:xfrm>
            <a:off x="357120" y="1857240"/>
            <a:ext cx="29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ЧЕБЫРОВА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АТА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C:\Users\школа\Desktop\фотки\DSC06420.JPG"/>
          <p:cNvPicPr/>
          <p:nvPr/>
        </p:nvPicPr>
        <p:blipFill>
          <a:blip r:embed="rId3"/>
          <a:stretch/>
        </p:blipFill>
        <p:spPr>
          <a:xfrm>
            <a:off x="642960" y="357192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Calibri"/>
              </a:rPr>
              <a:t>УЧЕНИК ГОДА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G:\наташа\BcB7Bj_YGcE.jpg"/>
          <p:cNvPicPr/>
          <p:nvPr/>
        </p:nvPicPr>
        <p:blipFill>
          <a:blip r:embed="rId2"/>
          <a:stretch/>
        </p:blipFill>
        <p:spPr>
          <a:xfrm>
            <a:off x="214200" y="1285920"/>
            <a:ext cx="4629240" cy="318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G:\наташа\YO1Z6yXk3IY.jpg"/>
          <p:cNvPicPr/>
          <p:nvPr/>
        </p:nvPicPr>
        <p:blipFill>
          <a:blip r:embed="rId3"/>
          <a:stretch/>
        </p:blipFill>
        <p:spPr>
          <a:xfrm>
            <a:off x="4929120" y="1357200"/>
            <a:ext cx="395928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"/>
          <p:cNvSpPr/>
          <p:nvPr/>
        </p:nvSpPr>
        <p:spPr>
          <a:xfrm>
            <a:off x="395280" y="1916280"/>
            <a:ext cx="84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Выявление одаренных и талантливых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179280" y="3340080"/>
            <a:ext cx="30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бан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фолио достижений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ностика потенци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C:\Users\школа\Desktop\фотки\DSC06403.JPG"/>
          <p:cNvPicPr/>
          <p:nvPr/>
        </p:nvPicPr>
        <p:blipFill>
          <a:blip r:embed="rId2"/>
          <a:stretch/>
        </p:blipFill>
        <p:spPr>
          <a:xfrm>
            <a:off x="3995640" y="2997360"/>
            <a:ext cx="4067280" cy="30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Calibri"/>
              </a:rPr>
              <a:t>Путь к творчеству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2" descr="C:\Users\школа\Desktop\фото презентация мо\IMG_3968.JPG"/>
          <p:cNvPicPr/>
          <p:nvPr/>
        </p:nvPicPr>
        <p:blipFill>
          <a:blip r:embed="rId2"/>
          <a:stretch/>
        </p:blipFill>
        <p:spPr>
          <a:xfrm>
            <a:off x="428760" y="1214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C:\Users\школа\Desktop\фото презентация мо\SDC11035.JPG"/>
          <p:cNvPicPr/>
          <p:nvPr/>
        </p:nvPicPr>
        <p:blipFill>
          <a:blip r:embed="rId3"/>
          <a:stretch/>
        </p:blipFill>
        <p:spPr>
          <a:xfrm>
            <a:off x="2714760" y="3786120"/>
            <a:ext cx="3767040" cy="28256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C:\Users\школа\Desktop\фото презентация мо\IMG_5319.JPG"/>
          <p:cNvPicPr/>
          <p:nvPr/>
        </p:nvPicPr>
        <p:blipFill>
          <a:blip r:embed="rId4"/>
          <a:stretch/>
        </p:blipFill>
        <p:spPr>
          <a:xfrm>
            <a:off x="5143680" y="121428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Заголовок 1" descr=""/>
          <p:cNvPicPr/>
          <p:nvPr/>
        </p:nvPicPr>
        <p:blipFill>
          <a:blip r:embed="rId2"/>
          <a:stretch/>
        </p:blipFill>
        <p:spPr>
          <a:xfrm>
            <a:off x="463680" y="-212760"/>
            <a:ext cx="8242200" cy="1492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250920" y="1196640"/>
            <a:ext cx="8642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занятия  с учащими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кружки и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исследовательская дея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олимпиадах, в том числе дистанционно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, конференции, семин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8" descr="C:\Users\школа\Desktop\фото презентация мо\IMG_3262.JPG"/>
          <p:cNvPicPr/>
          <p:nvPr/>
        </p:nvPicPr>
        <p:blipFill>
          <a:blip r:embed="rId3"/>
          <a:stretch/>
        </p:blipFill>
        <p:spPr>
          <a:xfrm>
            <a:off x="4643280" y="33577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1"/>
          <p:cNvSpPr/>
          <p:nvPr/>
        </p:nvSpPr>
        <p:spPr>
          <a:xfrm>
            <a:off x="179280" y="177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мощь одаренным учащимся в само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школы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Схема 4" descr=""/>
          <p:cNvPicPr/>
          <p:nvPr/>
        </p:nvPicPr>
        <p:blipFill>
          <a:blip r:embed="rId2"/>
          <a:stretch/>
        </p:blipFill>
        <p:spPr>
          <a:xfrm>
            <a:off x="1481040" y="2786040"/>
            <a:ext cx="6212160" cy="407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4:46:51Z</dcterms:created>
  <dc:creator>Летягина</dc:creator>
  <dc:description/>
  <dc:language>en-US</dc:language>
  <cp:lastModifiedBy>User</cp:lastModifiedBy>
  <dcterms:modified xsi:type="dcterms:W3CDTF">2015-04-19T18:08:59Z</dcterms:modified>
  <cp:revision>186</cp:revision>
  <dc:subject/>
  <dc:title>Слайд 1</dc:title>
</cp:coreProperties>
</file>