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3CF-5A23-4B02-AAB5-F0D84252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1B2-CC7E-4AB1-A074-A0C9A252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179CD-2AA4-4514-A89F-7723C476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3357B-F078-42BE-A720-CC077FBE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92829-4EC1-4B9F-BAB0-47858AE3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5636E-B922-448D-B394-FD3EB546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96FBE-2116-4486-91B4-FACF57CA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4996B-153F-4754-ADBD-640954B2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E4CAC-FA3A-415A-8AB4-C29B0F07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C9B6C-4654-46FF-9706-6B8C024D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83545-B7D9-43DB-A2EE-875D6CFF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B04B9-58D5-4008-8360-27431F24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659-31A9-437B-B3B2-EBFFCBD6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87877-0F5F-4D69-8796-3CF2D2A5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BC64D-96D6-4960-AE88-A0FE7329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3780A-B416-41DE-885E-7429E15D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D5BE3-555F-465E-9D91-78ED856E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A1DB8-1EA1-4ECB-8753-4298EB46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281AF-A58A-4DFE-A6B0-3F550CF3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6A83B-2624-4278-B2D6-2243897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2993B-A953-47A8-A63A-A0D7F8D2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8AEED-30DD-42A8-B2C1-D070AD0B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13483-22A0-471A-A980-A9354C07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329-A2C0-4D2B-91D4-A979A4F5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140B5-908A-4098-88CA-94EB4A8C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AEF13-4853-4495-AA7D-4D66A354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40913-0454-4C2F-8E3C-65934146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AC58B-2F4D-4CE8-B3C7-DAFBE611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7C2CF-146F-42D6-9EAA-FB3BDE67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2E79F-6188-41A4-8795-340DBEBE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B1778-6841-4E2F-B7F0-08BAF926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F2346-EE57-4046-835B-0CF7DA4B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F029C-E8AE-499C-8F48-936B36D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5478D-3E2B-4C26-AD37-22D3EBF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C23F-34FA-4CCC-B2E7-043B71DA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B7D34-C166-4961-ABF3-FE0B4DF0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EC4B7-9BD2-48AF-8C8B-D7D7292F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E5C06-6747-4B45-A868-D00E9FEE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3481-39E9-4053-9115-A4F97107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8F4FC-1E92-4526-A4BD-2B809776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DE454-472B-4C71-A060-99E0AF20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948A8-529E-4658-A08C-7B649AFF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F8E2D-5334-44E2-BB8D-E0174577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CA8E0-7B4E-4D94-AC58-10BE5EA5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9677-F8DE-44F7-8721-74AA9553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4FF02-8BAE-44A5-9C0A-3C7724D5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EF635-7F42-49F9-A4D1-21E3472B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C6963-965F-4D90-88E5-8E8F50FF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54116-4221-49F5-B825-C57FA2E9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B0765-B733-43B8-B6AF-E7CDC189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F97ED-2B2A-4B09-B42C-BF0EBEC4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C491E-A022-4959-8A7B-4F5E48C6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28BE6-085E-4965-9115-A11C79EB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37AB3-F7EF-4153-B278-1A891481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88CD3-4338-4115-9756-C496D2A2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505D-5B8C-4708-A406-49DCDCBE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7734A-5BA7-4F1F-B52F-D38BE991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5EA43-956B-4108-BB85-7F55399F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60D22-DEF2-44BB-9E38-877EDF66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AE321-CCD3-43C7-8645-0522E0C1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6FDBB-9DDF-4AAA-B178-AC700627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B7084-8DE5-4F8B-A1C7-576B0E18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A8BB6-7902-4618-8D6E-8A43CD9B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F6E14-F593-4915-B2C7-406738F2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0E0BD-E666-4923-A409-01AEE917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02D00-79DA-4242-AE95-6DDBD2E5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EE72-B7B5-430C-A4F1-5FA92079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6EE3D-8042-43EB-A1C6-59FEAB64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79192-2D6A-40E0-A1FF-C900E0F8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C9825F-813E-45EC-AE55-51659B75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B0660-4995-4941-A161-ED89A490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0CC97-817A-4613-92C8-0717B27D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2CF29-53E4-4146-BA58-87CD3480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E5854-85C7-4EF4-9349-7884A715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39C29-E5EB-4FAB-B313-BA7EA98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1CC96-AAA4-42BA-A5F0-78F8E605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AFF4A-706B-40C8-B51C-BFD5B18C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F53D-8811-4384-929F-517B9804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C4681-1E37-42CC-B684-3B54D9F0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BE68-8344-4012-AFA6-49D2035E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DBC-CF74-4E17-892A-9CFD5DA5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7BF0-A5FA-4AC3-BFE6-DE4755C9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B8E6-4337-4188-9E8D-AB1341F2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7177-2D51-4FCD-B18C-8B533138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1358-BB44-4D98-8AD6-D85859C0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7CC8-F894-40E1-8707-FE41B3E0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EA7A-3D26-45C2-A9C7-1818A8C6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6F48D-4279-42FA-8228-D62E690B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1773-7070-4949-B754-621413A5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11B5-1AA8-4DE2-B333-F0ABBE94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7416-F826-4057-A8A0-B0213794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546-4A83-410F-B547-335612CD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DCD3-CD3F-4D0D-8FA5-BA08B38B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F55F-B1DA-4802-8914-3EE001D3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C843-C92F-4A9D-8A06-6586B85D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2181-8966-4499-BD67-846042B8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55D7-94AD-4AB5-B28E-B5CAEC92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D11F-72B9-4203-9F8D-62B88F4E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54203-DF3C-4C4B-BD74-348FDDC3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213A-53CC-46C2-804A-0E078DCB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20C0-F7F1-4F9E-8CE9-E2E9BCAA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BBEB-0D80-499B-910F-5BE06E76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695-E5CB-4DAD-A429-85E3E2A0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45AF-F386-4220-8D0F-85D42809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A797-5A32-4330-B7F6-CCD16E8C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9B88B-0F83-430B-95CC-6570E15C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80083-9C06-4561-9CFB-E9703395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42D4-FD32-4556-A6A1-D130294F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8B1C-A219-4BA7-B9D9-1D61425F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63BBB-DB81-461E-9558-7CCAE2DE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3DF3-9044-426A-847D-69C3E6EA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0141-60A9-46FC-9A73-967B7686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3C008-406F-4F58-B5E3-85897950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71E-3AAD-422E-B34C-762A2D25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4A90-3DD3-4C42-B410-6E024171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245AF-AC86-47D9-8C56-C30C7DB2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AC089-78C2-45C4-AFF3-AD11E83E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7F881-912D-4126-B9F7-A6622D30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5865-4CF9-4D18-9953-EA421217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793A-50FE-4367-A897-459F670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B0294-BE3D-4ED7-BFF3-37D7DF32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4248E-821A-4739-9751-45FE08AC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1E1BB-43A4-4F5E-A9A2-ABD6AE2D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87DEF-5603-4A7E-A772-CA6E96A5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2D0-02DC-44FA-A36E-1EF21A45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1242D-CE0A-42B4-8C28-4BF91A91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A3E99-F5BC-4D7B-9E82-1CF8BFF7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EE254-6721-404D-8185-31489B53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C0D0E-EC3A-4063-A140-124CA4D9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65E6B-D15D-4A2D-A34F-30637FB3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38523-54A7-4EBA-B3ED-99E8FC2F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FB3F8-2A87-4458-8E50-1A2D65F4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82B4E-BAC2-4CAA-A98A-2922188E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43A97-6604-4C9A-9471-E7EFAA2D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5F8F-5548-4CB6-8584-1ED9C28B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899-6B1D-4D79-879A-060376EB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A55E7-CCB4-47F9-BF0E-0C1D14F5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70826-411A-4A12-B7CF-F7A847B7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9FA14-587C-4232-A689-A299F169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C8E3E-381A-4E2B-AE30-87BBD850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D70D4-6EAE-4E01-B448-4157191F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15B4E-859E-473D-813E-FD9C2D9C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D871F-6160-4A4A-953C-6D14C73D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CBEFB-113D-4DCA-9C27-A2981961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0078F-A240-4FBA-8811-B1DED08E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7577F-6250-4186-8BC2-34834F8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847-41A7-47A8-BA96-0057777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84B60-11C2-465C-9FFB-58501E3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7B031-A309-41D0-997D-C7173C9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EAA3B-EB34-4CDD-8149-D5160A1A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2E37B-1BD6-4AEC-9837-5C90E446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5DAA6-03C8-4AB0-8EFA-BA0E7F5A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762F1-A582-4644-BAE9-7D6F7189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4C8BA-ED1B-4C2B-8E76-6CB0CB06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B0D7D-AF04-4C85-BBD2-E88F25B1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9ADC1-8ED1-4E1B-9A85-545C2E07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D24C5-032D-4CD3-9A92-3846678E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7E9-DDB6-4966-960F-22DF5820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CBCC1-2B33-431A-99E2-58940438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C1B14-2933-4528-B45C-CE3785F3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6A6DF-9B1F-4A55-A81B-845581EC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C848A-39B1-4720-B553-2FECE4B1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13E94-9736-45ED-A524-CD9A67EC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D3345-59E1-4A86-9FCF-F9345201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8CF9F-2153-4615-84DF-1F05FB32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4261D-E8A0-4A8A-84F8-4720EC42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B9C68-50CB-4852-8B97-C3E7240D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618F6-8285-4459-B3EB-A7BC1393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0A64-43D5-4433-9C88-E1370F121F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DDA6-024D-4791-83B3-5719D517DE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2AA7-DB3A-4853-8F19-7F08F9829B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374D-A199-41C2-BAE5-BECD4A8456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DCA8-B5C2-4CC2-BE04-9B2F627FFA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355D-074B-4EBE-A9EC-78795FD917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7B40-A713-4054-A4D9-5F4FF76E03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965F-E6F6-420F-9F78-54CD959776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D1D0-A661-446D-8E57-D780CA0B23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C45D-E737-4C50-87BE-3C850623BE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4B7B-6031-4ECC-ABF5-48732CC116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1A52-137C-4DDC-A83A-9F3151EA59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9B34-E6C4-4632-B598-6A224CE694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501C-456F-404E-8FCC-D4BE80D6B5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0.liveinternet.ru/images/attach/c/0/63/136/63136665_5f8350820dd8.png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4"/>
          <p:cNvSpPr/>
          <p:nvPr/>
        </p:nvSpPr>
        <p:spPr>
          <a:xfrm>
            <a:off x="5072040" y="4429080"/>
            <a:ext cx="36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Заместитель директора школы по ВР </a:t>
            </a:r>
            <a:br>
              <a:rPr sz="2400"/>
            </a:b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ОУ «Акчеевская СОШ» </a:t>
            </a:r>
            <a:br>
              <a:rPr sz="2400"/>
            </a:b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Галд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8" descr="Картинка 10 из 461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141720"/>
            <a:ext cx="5076720" cy="33624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2857680" y="635796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4 –2015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Прямоугольник 5" descr=""/>
          <p:cNvPicPr/>
          <p:nvPr/>
        </p:nvPicPr>
        <p:blipFill>
          <a:blip r:embed="rId4"/>
          <a:stretch/>
        </p:blipFill>
        <p:spPr>
          <a:xfrm>
            <a:off x="420840" y="133200"/>
            <a:ext cx="8369280" cy="2176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17240" y="764640"/>
            <a:ext cx="8186760" cy="223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"/>
          <p:cNvSpPr/>
          <p:nvPr/>
        </p:nvSpPr>
        <p:spPr>
          <a:xfrm>
            <a:off x="285840" y="192888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Работа с родителями одаренных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"/>
          <p:cNvSpPr/>
          <p:nvPr/>
        </p:nvSpPr>
        <p:spPr>
          <a:xfrm>
            <a:off x="539640" y="404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ия деятельности школы по организации работы с одаренными и талантлив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357120" y="278604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ная практическая деятельность ребенка, родителей и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17240" y="764640"/>
            <a:ext cx="8186760" cy="223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"/>
          <p:cNvSpPr/>
          <p:nvPr/>
        </p:nvSpPr>
        <p:spPr>
          <a:xfrm>
            <a:off x="166680" y="220500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Работа с педагогическим коллекти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3"/>
          <p:cNvSpPr/>
          <p:nvPr/>
        </p:nvSpPr>
        <p:spPr>
          <a:xfrm>
            <a:off x="539640" y="404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ия деятельности школы по организации работы с одаренными и талантлив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1908000" y="3573360"/>
            <a:ext cx="453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ание работать нестандар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исков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товность работать с талантливыми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ние психологии талантливы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17240" y="764640"/>
            <a:ext cx="8186760" cy="223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"/>
          <p:cNvSpPr/>
          <p:nvPr/>
        </p:nvSpPr>
        <p:spPr>
          <a:xfrm>
            <a:off x="179280" y="1773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Взаимодействие школы с другими структурами соци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3"/>
          <p:cNvSpPr/>
          <p:nvPr/>
        </p:nvSpPr>
        <p:spPr>
          <a:xfrm>
            <a:off x="539640" y="404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ия деятельности школы по организации работы с одаренными и талантлив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Схема 6" descr=""/>
          <p:cNvPicPr/>
          <p:nvPr/>
        </p:nvPicPr>
        <p:blipFill>
          <a:blip r:embed="rId2"/>
          <a:stretch/>
        </p:blipFill>
        <p:spPr>
          <a:xfrm>
            <a:off x="1616040" y="2719440"/>
            <a:ext cx="610704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pic>
        <p:nvPicPr>
          <p:cNvPr id="658" name="Picture 2" descr="C:\Users\школа\Desktop\фото презентация мо\IMG_2963.JPG"/>
          <p:cNvPicPr/>
          <p:nvPr/>
        </p:nvPicPr>
        <p:blipFill>
          <a:blip r:embed="rId2"/>
          <a:stretch/>
        </p:blipFill>
        <p:spPr>
          <a:xfrm>
            <a:off x="285840" y="28584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" descr="C:\Users\школа\Desktop\фото презентация мо\SDC15581.JPG"/>
          <p:cNvPicPr/>
          <p:nvPr/>
        </p:nvPicPr>
        <p:blipFill>
          <a:blip r:embed="rId3"/>
          <a:stretch/>
        </p:blipFill>
        <p:spPr>
          <a:xfrm>
            <a:off x="4572000" y="3357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9" descr="SDC15610"/>
          <p:cNvPicPr/>
          <p:nvPr/>
        </p:nvPicPr>
        <p:blipFill>
          <a:blip r:embed="rId2">
            <a:alphaModFix amt="65000"/>
          </a:blip>
          <a:stretch/>
        </p:blipFill>
        <p:spPr>
          <a:xfrm>
            <a:off x="395280" y="981000"/>
            <a:ext cx="3944880" cy="52563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0" descr="SDC13059"/>
          <p:cNvPicPr/>
          <p:nvPr/>
        </p:nvPicPr>
        <p:blipFill>
          <a:blip r:embed="rId3">
            <a:alphaModFix amt="65000"/>
          </a:blip>
          <a:stretch/>
        </p:blipFill>
        <p:spPr>
          <a:xfrm>
            <a:off x="4500720" y="549360"/>
            <a:ext cx="4489200" cy="3205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1" descr="SDC11096"/>
          <p:cNvPicPr/>
          <p:nvPr/>
        </p:nvPicPr>
        <p:blipFill>
          <a:blip r:embed="rId4">
            <a:alphaModFix amt="65000"/>
          </a:blip>
          <a:srcRect l="0" t="0" r="0" b="11399"/>
          <a:stretch/>
        </p:blipFill>
        <p:spPr>
          <a:xfrm>
            <a:off x="4500720" y="3860640"/>
            <a:ext cx="4475160" cy="2830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2" descr="G:\наташа\QXYVGKGRL4s.jpg"/>
          <p:cNvPicPr/>
          <p:nvPr/>
        </p:nvPicPr>
        <p:blipFill>
          <a:blip r:embed="rId2"/>
          <a:stretch/>
        </p:blipFill>
        <p:spPr>
          <a:xfrm>
            <a:off x="214200" y="1071720"/>
            <a:ext cx="5043600" cy="37828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G:\наташа\e0gPZfo3EpM.jpg"/>
          <p:cNvPicPr/>
          <p:nvPr/>
        </p:nvPicPr>
        <p:blipFill>
          <a:blip r:embed="rId3"/>
          <a:stretch/>
        </p:blipFill>
        <p:spPr>
          <a:xfrm>
            <a:off x="5518080" y="785880"/>
            <a:ext cx="321804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28400" y="856800"/>
            <a:ext cx="838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ОСТЬ –стечение трёх характеристи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х способ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йчив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эруди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благоприятные условия  окружающей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4643280" y="4000680"/>
            <a:ext cx="4165920" cy="256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Calibri"/>
              </a:rPr>
              <a:t>Конкурс «Одаренные дети»</a:t>
            </a:r>
            <a:br>
              <a:rPr sz="4400"/>
            </a:br>
            <a:r>
              <a:rPr b="0" lang="en-US" sz="3200" spc="-1" strike="noStrike">
                <a:solidFill>
                  <a:srgbClr val="cc3399"/>
                </a:solidFill>
                <a:latin typeface="Calibri"/>
              </a:rPr>
              <a:t>номинации «Изобразительное искусство»</a:t>
            </a:r>
            <a:br>
              <a:rPr sz="3200"/>
            </a:br>
            <a:r>
              <a:rPr b="0" lang="en-US" sz="3200" spc="-1" strike="noStrike">
                <a:solidFill>
                  <a:srgbClr val="cc3399"/>
                </a:solidFill>
                <a:latin typeface="Calibri"/>
              </a:rPr>
              <a:t>                         «Художественная фотограф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2" descr="C:\Users\школа\Desktop\фото презентация мо\SDC10098.JPG"/>
          <p:cNvPicPr/>
          <p:nvPr/>
        </p:nvPicPr>
        <p:blipFill>
          <a:blip r:embed="rId2"/>
          <a:stretch/>
        </p:blipFill>
        <p:spPr>
          <a:xfrm>
            <a:off x="4211640" y="2000160"/>
            <a:ext cx="4718160" cy="3538800"/>
          </a:xfrm>
          <a:prstGeom prst="rect">
            <a:avLst/>
          </a:prstGeom>
          <a:ln w="0">
            <a:noFill/>
          </a:ln>
        </p:spPr>
      </p:pic>
      <p:sp>
        <p:nvSpPr>
          <p:cNvPr id="621" name="TextBox 4"/>
          <p:cNvSpPr/>
          <p:nvPr/>
        </p:nvSpPr>
        <p:spPr>
          <a:xfrm>
            <a:off x="558000" y="2000160"/>
            <a:ext cx="3413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УДЯЕВА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НАСТА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Конкурс «Одаренные дети»</a:t>
            </a:r>
            <a:br>
              <a:rPr sz="4400"/>
            </a:br>
            <a:r>
              <a:rPr b="0" lang="ru-RU" sz="2800" spc="-1" strike="noStrike">
                <a:solidFill>
                  <a:srgbClr val="cc3399"/>
                </a:solidFill>
                <a:latin typeface="Calibri"/>
              </a:rPr>
              <a:t>номинациии «Режиссерское и операторское искусство», «Художественная фотограф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2" descr="C:\Users\школа\Desktop\фото презентация мо\IMG_3634.JPG"/>
          <p:cNvPicPr/>
          <p:nvPr/>
        </p:nvPicPr>
        <p:blipFill>
          <a:blip r:embed="rId2"/>
          <a:stretch/>
        </p:blipFill>
        <p:spPr>
          <a:xfrm>
            <a:off x="4929120" y="1643040"/>
            <a:ext cx="3619440" cy="2714760"/>
          </a:xfrm>
          <a:prstGeom prst="rect">
            <a:avLst/>
          </a:prstGeom>
          <a:ln w="0">
            <a:noFill/>
          </a:ln>
        </p:spPr>
      </p:pic>
      <p:sp>
        <p:nvSpPr>
          <p:cNvPr id="624" name="TextBox 4"/>
          <p:cNvSpPr/>
          <p:nvPr/>
        </p:nvSpPr>
        <p:spPr>
          <a:xfrm>
            <a:off x="357120" y="1857240"/>
            <a:ext cx="29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ЧЕБЫРОВА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НАТА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3" descr="C:\Users\школа\Desktop\фотки\DSC06420.JPG"/>
          <p:cNvPicPr/>
          <p:nvPr/>
        </p:nvPicPr>
        <p:blipFill>
          <a:blip r:embed="rId3"/>
          <a:stretch/>
        </p:blipFill>
        <p:spPr>
          <a:xfrm>
            <a:off x="642960" y="357192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Calibri"/>
              </a:rPr>
              <a:t>УЧЕНИК ГОДА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G:\наташа\BcB7Bj_YGcE.jpg"/>
          <p:cNvPicPr/>
          <p:nvPr/>
        </p:nvPicPr>
        <p:blipFill>
          <a:blip r:embed="rId2"/>
          <a:stretch/>
        </p:blipFill>
        <p:spPr>
          <a:xfrm>
            <a:off x="214200" y="1285920"/>
            <a:ext cx="4629240" cy="3186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" descr="G:\наташа\YO1Z6yXk3IY.jpg"/>
          <p:cNvPicPr/>
          <p:nvPr/>
        </p:nvPicPr>
        <p:blipFill>
          <a:blip r:embed="rId3"/>
          <a:stretch/>
        </p:blipFill>
        <p:spPr>
          <a:xfrm>
            <a:off x="4929120" y="1357200"/>
            <a:ext cx="395928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17240" y="764640"/>
            <a:ext cx="8186760" cy="223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"/>
          <p:cNvSpPr/>
          <p:nvPr/>
        </p:nvSpPr>
        <p:spPr>
          <a:xfrm>
            <a:off x="395280" y="1916280"/>
            <a:ext cx="84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Выявление одаренных и талантливых де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3"/>
          <p:cNvSpPr/>
          <p:nvPr/>
        </p:nvSpPr>
        <p:spPr>
          <a:xfrm>
            <a:off x="539640" y="404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ия деятельности по организации работы с одаренными и талантлив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179280" y="3340080"/>
            <a:ext cx="30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банк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фолио достижений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ностика потенци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" descr="C:\Users\школа\Desktop\фотки\DSC06403.JPG"/>
          <p:cNvPicPr/>
          <p:nvPr/>
        </p:nvPicPr>
        <p:blipFill>
          <a:blip r:embed="rId2"/>
          <a:stretch/>
        </p:blipFill>
        <p:spPr>
          <a:xfrm>
            <a:off x="3995640" y="2997360"/>
            <a:ext cx="4067280" cy="30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Calibri"/>
              </a:rPr>
              <a:t>Путь к творчеству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2" descr="C:\Users\школа\Desktop\фото презентация мо\IMG_3968.JPG"/>
          <p:cNvPicPr/>
          <p:nvPr/>
        </p:nvPicPr>
        <p:blipFill>
          <a:blip r:embed="rId2"/>
          <a:stretch/>
        </p:blipFill>
        <p:spPr>
          <a:xfrm>
            <a:off x="428760" y="1214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C:\Users\школа\Desktop\фото презентация мо\SDC11035.JPG"/>
          <p:cNvPicPr/>
          <p:nvPr/>
        </p:nvPicPr>
        <p:blipFill>
          <a:blip r:embed="rId3"/>
          <a:stretch/>
        </p:blipFill>
        <p:spPr>
          <a:xfrm>
            <a:off x="2714760" y="3786120"/>
            <a:ext cx="3767040" cy="28256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C:\Users\школа\Desktop\фото презентация мо\IMG_5319.JPG"/>
          <p:cNvPicPr/>
          <p:nvPr/>
        </p:nvPicPr>
        <p:blipFill>
          <a:blip r:embed="rId4"/>
          <a:stretch/>
        </p:blipFill>
        <p:spPr>
          <a:xfrm>
            <a:off x="5143680" y="121428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Заголовок 1" descr=""/>
          <p:cNvPicPr/>
          <p:nvPr/>
        </p:nvPicPr>
        <p:blipFill>
          <a:blip r:embed="rId2"/>
          <a:stretch/>
        </p:blipFill>
        <p:spPr>
          <a:xfrm>
            <a:off x="463680" y="-212760"/>
            <a:ext cx="8242200" cy="1492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250920" y="1196640"/>
            <a:ext cx="8642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занятия  с учащими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кружки и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и исследовательская деяте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олимпиадах, в том числе дистанционно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, конференции, семина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8" descr="C:\Users\школа\Desktop\фото презентация мо\IMG_3262.JPG"/>
          <p:cNvPicPr/>
          <p:nvPr/>
        </p:nvPicPr>
        <p:blipFill>
          <a:blip r:embed="rId3"/>
          <a:stretch/>
        </p:blipFill>
        <p:spPr>
          <a:xfrm>
            <a:off x="4643280" y="33577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17240" y="764640"/>
            <a:ext cx="8186760" cy="2232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1"/>
          <p:cNvSpPr/>
          <p:nvPr/>
        </p:nvSpPr>
        <p:spPr>
          <a:xfrm>
            <a:off x="179280" y="1773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омощь одаренным учащимся в само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3"/>
          <p:cNvSpPr/>
          <p:nvPr/>
        </p:nvSpPr>
        <p:spPr>
          <a:xfrm>
            <a:off x="539640" y="404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равления деятельности школы по организации работы с одаренными и талантлив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Схема 4" descr=""/>
          <p:cNvPicPr/>
          <p:nvPr/>
        </p:nvPicPr>
        <p:blipFill>
          <a:blip r:embed="rId2"/>
          <a:stretch/>
        </p:blipFill>
        <p:spPr>
          <a:xfrm>
            <a:off x="1481040" y="2786040"/>
            <a:ext cx="6212160" cy="407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4:46:51Z</dcterms:created>
  <dc:creator>Летягина</dc:creator>
  <dc:description/>
  <dc:language>en-US</dc:language>
  <cp:lastModifiedBy>User</cp:lastModifiedBy>
  <dcterms:modified xsi:type="dcterms:W3CDTF">2015-04-19T18:08:59Z</dcterms:modified>
  <cp:revision>186</cp:revision>
  <dc:subject/>
  <dc:title>Слайд 1</dc:title>
</cp:coreProperties>
</file>