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E73-8801-49EE-BA12-703E786E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0B7-963D-4F8F-8328-D0E69EBA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FA3-C596-4271-8A3E-A0A50EE3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5FF-80F6-4BB6-B865-24F7DF22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D27-7FEA-463A-8262-6D4BA736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D22-0C58-4A8C-8A28-C7631E14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D7A-13FE-474F-B89E-7F9F991E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833-B3AD-4595-8F16-2D91DF64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130-F748-4BA1-ADA8-96ACF4CA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5A0-9263-470A-9894-1B5223ED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C6D-3EAD-4A9E-9219-A8CA5352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235-3378-4BC4-A9F3-06DBA4C2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17FF-6D52-4F34-B5AD-67B2BEF128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dsovet.su/" TargetMode="External"/><Relationship Id="rId3" Type="http://schemas.openxmlformats.org/officeDocument/2006/relationships/hyperlink" Target="http://pedsovet.su/" TargetMode="External"/><Relationship Id="rId4" Type="http://schemas.openxmlformats.org/officeDocument/2006/relationships/hyperlink" Target="http://pedsovet.su/" TargetMode="External"/><Relationship Id="rId5" Type="http://schemas.openxmlformats.org/officeDocument/2006/relationships/hyperlink" Target="http://pedsovet.su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00720" y="3613320"/>
            <a:ext cx="4103640" cy="27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835280" y="2287440"/>
          <a:ext cx="4429080" cy="997200"/>
        </p:xfrm>
        <a:graphic>
          <a:graphicData uri="http://schemas.openxmlformats.org/drawingml/2006/table">
            <a:tbl>
              <a:tblPr/>
              <a:tblGrid>
                <a:gridCol w="720720"/>
                <a:gridCol w="576000"/>
                <a:gridCol w="576360"/>
                <a:gridCol w="934920"/>
                <a:gridCol w="505080"/>
                <a:gridCol w="468360"/>
                <a:gridCol w="64764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177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1800" y="278136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1080" y="278136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2790720"/>
            <a:ext cx="4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1440" y="2781360"/>
            <a:ext cx="4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278136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7800" y="524988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олбасное дере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440" y="476280"/>
            <a:ext cx="74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   И             3,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   К               0,0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   Я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   Г              0,00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   Е               2,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    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7720" y="278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3640" y="476280"/>
            <a:ext cx="6573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0000"/>
                </a:solidFill>
                <a:latin typeface="Times New Roman"/>
              </a:rPr>
              <a:t>Выполните умно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547560"/>
            <a:ext cx="1674720" cy="172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195640" y="1693800"/>
            <a:ext cx="4987800" cy="180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2189160" cy="183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60920" y="1676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1440" y="21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9800" y="2565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52720" y="2997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34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50160" y="21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8520" y="256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05440" y="29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78160" y="4124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21080" y="450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94520" y="4941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2616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arg-5-50-trans"/>
          <p:cNvPicPr/>
          <p:nvPr/>
        </p:nvPicPr>
        <p:blipFill>
          <a:blip r:embed="rId5"/>
          <a:stretch/>
        </p:blipFill>
        <p:spPr>
          <a:xfrm>
            <a:off x="7093080" y="3933720"/>
            <a:ext cx="17143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50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00"/>
                </a:solidFill>
                <a:latin typeface="Times New Roman"/>
              </a:rPr>
              <a:t>Умножение десятичных дробей на 10, 100, 1000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51640" y="4508640"/>
            <a:ext cx="952560" cy="1904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23840" y="2081160"/>
            <a:ext cx="304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на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ло умножения десятичных дробей на 10, 100, 1000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2060640"/>
            <a:ext cx="304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множать  десятичные дроби на 10, 100, 1000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16360" y="27432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39640" y="1197000"/>
            <a:ext cx="5832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 умножить десятичную дробь на 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 умножить десятичную дробь на 1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 умножить десятичную дробь на 10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59280" y="4508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,5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5013360"/>
            <a:ext cx="288720" cy="71280"/>
          </a:xfrm>
          <a:custGeom>
            <a:avLst/>
            <a:gdLst>
              <a:gd name="textAreaLeft" fmla="*/ 50400 w 288720"/>
              <a:gd name="textAreaRight" fmla="*/ 209520 w 28872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537372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,53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450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5,3= 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5877000"/>
            <a:ext cx="216000" cy="71280"/>
          </a:xfrm>
          <a:custGeom>
            <a:avLst/>
            <a:gdLst>
              <a:gd name="textAreaLeft" fmla="*/ 37800 w 216000"/>
              <a:gd name="textAreaRight" fmla="*/ 156600 w 21600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5877000"/>
            <a:ext cx="215640" cy="71280"/>
          </a:xfrm>
          <a:custGeom>
            <a:avLst/>
            <a:gdLst>
              <a:gd name="textAreaLeft" fmla="*/ 37800 w 215640"/>
              <a:gd name="textAreaRight" fmla="*/ 156600 w 21564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5877000"/>
            <a:ext cx="216000" cy="71280"/>
          </a:xfrm>
          <a:custGeom>
            <a:avLst/>
            <a:gdLst>
              <a:gd name="textAreaLeft" fmla="*/ 37800 w 216000"/>
              <a:gd name="textAreaRight" fmla="*/ 156600 w 21600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5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180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шите приме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arg-5-50-trans"/>
          <p:cNvPicPr/>
          <p:nvPr/>
        </p:nvPicPr>
        <p:blipFill>
          <a:blip r:embed="rId2"/>
          <a:stretch/>
        </p:blipFill>
        <p:spPr>
          <a:xfrm>
            <a:off x="7093080" y="3933720"/>
            <a:ext cx="1714320" cy="262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49280" y="16495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51840" y="20811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) 64,2         1,7           38           1          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1440" y="278136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) 638,7      2035         0,6           75           10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33800" y="357336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) 45480        7800           0,81          60            1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27340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40000" y="1648800"/>
            <a:ext cx="4522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з – согнуться, разогнуться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ва – нагнуться, потянуться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Три – в ладоши три хлопка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оловою три кивка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 четыре – руки шире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ять – шесть – тихо сесть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емь, восемь – лень отбросим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66760" y="150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78000" y="157644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11, 13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451640" y="4221000"/>
            <a:ext cx="95256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18880" y="3933720"/>
            <a:ext cx="282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33, 13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ло наизусть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2800" y="2205000"/>
            <a:ext cx="8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50360" y="2513160"/>
            <a:ext cx="47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16 – записать промежуто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итоговые отв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83280" y="3938760"/>
            <a:ext cx="259236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66840" y="5661000"/>
            <a:ext cx="153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ru-RU" sz="10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0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0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pedsovet.su</a:t>
            </a:r>
            <a:r>
              <a:rPr b="0" lang="ru-RU" sz="10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00000" y="836640"/>
            <a:ext cx="7344000" cy="28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окончен.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ЮЛИЯ</cp:lastModifiedBy>
  <dcterms:modified xsi:type="dcterms:W3CDTF">2015-04-19T16:23:57Z</dcterms:modified>
  <cp:revision>49</cp:revision>
  <dc:subject/>
  <dc:title>Слайд 1</dc:title>
</cp:coreProperties>
</file>