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C74-9AC9-448A-871E-47E653B9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AF9-FEEB-479F-A3C8-6760206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1C5-88DF-4862-87CE-C51C92D9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D74-8408-4F97-B179-EB46E67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530-775F-464B-8549-D726A99D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E58-C4F2-4DE4-B8BA-DBEC994F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5A1-3509-40EC-AC7F-058974C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2C1-CDA8-49F6-B088-703893D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C2A-6DC7-4D95-8A52-1D88800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7F8-57AB-4CCA-921A-967E487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89E-3EA3-4926-8229-C205E90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1DB-E4A4-4209-B375-383888B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368A-C65E-484E-A7DA-B23D606146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hyperlink" Target="http://pedsovet.su/" TargetMode="External"/><Relationship Id="rId5" Type="http://schemas.openxmlformats.org/officeDocument/2006/relationships/hyperlink" Target="http://pedsovet.su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00720" y="3613320"/>
            <a:ext cx="4103640" cy="27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835280" y="2287440"/>
          <a:ext cx="4429080" cy="997200"/>
        </p:xfrm>
        <a:graphic>
          <a:graphicData uri="http://schemas.openxmlformats.org/drawingml/2006/table">
            <a:tbl>
              <a:tblPr/>
              <a:tblGrid>
                <a:gridCol w="720720"/>
                <a:gridCol w="576000"/>
                <a:gridCol w="576360"/>
                <a:gridCol w="934920"/>
                <a:gridCol w="505080"/>
                <a:gridCol w="468360"/>
                <a:gridCol w="6476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177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108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27907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278136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7800" y="524988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олбасное дере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440" y="476280"/>
            <a:ext cx="74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   И             3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   К               0,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   Я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   Г              0,0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  Е               2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   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7720" y="278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6573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0000"/>
                </a:solidFill>
                <a:latin typeface="Times New Roman"/>
              </a:rPr>
              <a:t>Выполните умно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547560"/>
            <a:ext cx="1674720" cy="17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95640" y="1693800"/>
            <a:ext cx="4987800" cy="180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2189160" cy="183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60920" y="167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21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9800" y="256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2720" y="29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34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0160" y="21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852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05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8160" y="412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1080" y="450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4520" y="4941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2616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arg-5-50-trans"/>
          <p:cNvPicPr/>
          <p:nvPr/>
        </p:nvPicPr>
        <p:blipFill>
          <a:blip r:embed="rId5"/>
          <a:stretch/>
        </p:blipFill>
        <p:spPr>
          <a:xfrm>
            <a:off x="7093080" y="3933720"/>
            <a:ext cx="17143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Умножение десятичных дробей на 10, 100, 1000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51640" y="450864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23840" y="2081160"/>
            <a:ext cx="30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умножения десятичных дробей на 10, 100, 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060640"/>
            <a:ext cx="30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множать  десятичные дроби на 10, 100, 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39640" y="1197000"/>
            <a:ext cx="5832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59280" y="450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5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013360"/>
            <a:ext cx="288720" cy="71280"/>
          </a:xfrm>
          <a:custGeom>
            <a:avLst/>
            <a:gdLst>
              <a:gd name="textAreaLeft" fmla="*/ 50400 w 288720"/>
              <a:gd name="textAreaRight" fmla="*/ 209520 w 28872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7372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,53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5,3= 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5877000"/>
            <a:ext cx="216000" cy="71280"/>
          </a:xfrm>
          <a:custGeom>
            <a:avLst/>
            <a:gdLst>
              <a:gd name="textAreaLeft" fmla="*/ 37800 w 216000"/>
              <a:gd name="textAreaRight" fmla="*/ 156600 w 21600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5877000"/>
            <a:ext cx="215640" cy="71280"/>
          </a:xfrm>
          <a:custGeom>
            <a:avLst/>
            <a:gdLst>
              <a:gd name="textAreaLeft" fmla="*/ 37800 w 215640"/>
              <a:gd name="textAreaRight" fmla="*/ 156600 w 21564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877000"/>
            <a:ext cx="216000" cy="71280"/>
          </a:xfrm>
          <a:custGeom>
            <a:avLst/>
            <a:gdLst>
              <a:gd name="textAreaLeft" fmla="*/ 37800 w 216000"/>
              <a:gd name="textAreaRight" fmla="*/ 156600 w 21600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5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шите прим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arg-5-50-trans"/>
          <p:cNvPicPr/>
          <p:nvPr/>
        </p:nvPicPr>
        <p:blipFill>
          <a:blip r:embed="rId2"/>
          <a:stretch/>
        </p:blipFill>
        <p:spPr>
          <a:xfrm>
            <a:off x="7093080" y="3933720"/>
            <a:ext cx="1714320" cy="262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49280" y="16495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51840" y="20811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64,2         1,7           38           1          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1440" y="278136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638,7      2035         0,6           75           10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3800" y="357336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) 45480        7800           0,81          60            1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27340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1648800"/>
            <a:ext cx="4522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 – согнуться, разогнуться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а – нагнуться, потянуться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ри – в ладоши три хлопка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оловою три кивк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 четыре – руки шире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ять – шесть – тихо сесть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емь, восемь – лень отбросим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6760" y="150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8000" y="157644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1, 13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95256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18880" y="393372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33, 13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наизусть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2800" y="2205000"/>
            <a:ext cx="8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0360" y="2513160"/>
            <a:ext cx="47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6 – записать промежут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итоговые от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83280" y="3938760"/>
            <a:ext cx="259236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66840" y="5661000"/>
            <a:ext cx="153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pedsovet.su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0000" y="836640"/>
            <a:ext cx="73440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окончен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ЮЛИЯ</cp:lastModifiedBy>
  <dcterms:modified xsi:type="dcterms:W3CDTF">2015-04-19T16:23:57Z</dcterms:modified>
  <cp:revision>49</cp:revision>
  <dc:subject/>
  <dc:title>Слайд 1</dc:title>
</cp:coreProperties>
</file>