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png" ContentType="image/png"/>
  <Override PartName="/ppt/media/image20.jpeg" ContentType="image/jpeg"/>
  <Override PartName="/ppt/media/image9.jpeg" ContentType="image/jpe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7.png" ContentType="image/png"/>
  <Override PartName="/ppt/media/image24.png" ContentType="image/png"/>
  <Override PartName="/ppt/media/image18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26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A577-A420-4B59-BA03-51A013123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531E-7C10-4FA7-816D-B57EA273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42EC-9524-4E7B-8983-C5CAFEFB9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8243-F10C-44B7-AE15-3FC4EBC8E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19A9-0C1D-444F-AECF-8C7F1996D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587FD-77CB-455B-9706-536023DD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526F-AB46-4C2C-948C-53CAFF21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B4E9E-4F3B-442C-AABA-73C18A804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1794-0F8E-4F9B-92D8-057D4F4E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FB93-83B4-4EB5-9B51-BCE16588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732F-21D1-4EC4-965D-D9982DCE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107E-C3D1-4428-BBA1-91C39633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417F-AA1C-47E2-9944-600D88CF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CE65-2424-4357-9479-76AA4FAF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E27C-5946-4C72-A494-076971B3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535A-DBCD-48C0-96CB-D40C3110C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C9F6-8CD9-4A0E-9D2B-09BD003D9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7566C-15D1-4489-835B-C6FC955D2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1B5A3-5A2E-43F7-8CE8-304F2839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B33A8-E74A-4CEC-AC7C-9E96F232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A4AB3-AD47-45E4-9AA6-81DCE246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65CF2-2E22-41EC-AE8D-7231AEDD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2162-29AC-4E0A-B8AA-A10E14E4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7E3B9-4B77-458F-9F79-78268EAA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6AE13-008C-4CBD-A80A-B2124318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01EF0-31BF-4B04-B632-59B662FD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DF21E-FD38-4D3F-B466-AE03C231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B5750-70EA-4A89-8FD4-FFC62488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ECBA1-EE02-4FCC-8485-806982DC2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C2FC6-B4DC-4874-8746-2CCFD940E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0E7F-A86F-4971-B8E2-F46CDEEF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2776-5008-44BB-A4EC-E35E3389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4A8F-7C58-4F70-9C52-AFDC89F2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61D8-DBE1-4158-879E-EE0595E1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D13F-CC18-4442-88A0-BB8BCAB6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8D35-8F55-492D-B2F0-26B44AD6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A744-6C42-4757-8153-2513910A93E4}" type="slidenum">
              <a:rPr b="1" i="1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8EBF-4755-4DB3-9705-624F055C43D1}" type="slidenum">
              <a:rPr b="1" i="1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903F-A2D8-42B1-A969-39F8C39345EA}" type="slidenum">
              <a:rPr b="1" i="1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утренний мир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усской изб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полнила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хапкина Надежда Николаевн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итель ИЗО МБОУ «Средняя школа № 35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. Дзержинс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ижегородской обла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5805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ядом с устьем печи стоят навытяжку железные ухваты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торыми ставят в печь и достают горш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5" descr="C:\Users\germanich-o\Desktop\Рисунок2.png"/>
          <p:cNvPicPr/>
          <p:nvPr/>
        </p:nvPicPr>
        <p:blipFill>
          <a:blip r:embed="rId1"/>
          <a:stretch/>
        </p:blipFill>
        <p:spPr>
          <a:xfrm>
            <a:off x="3780000" y="1197000"/>
            <a:ext cx="4633920" cy="3583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C:\Users\germanich-o\Desktop\Рисунок3.png"/>
          <p:cNvPicPr/>
          <p:nvPr/>
        </p:nvPicPr>
        <p:blipFill>
          <a:blip r:embed="rId2"/>
          <a:stretch/>
        </p:blipFill>
        <p:spPr>
          <a:xfrm>
            <a:off x="468360" y="907920"/>
            <a:ext cx="2930400" cy="3889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11280" y="5516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так же у печи находился деревянный ушат с вод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4" descr="C:\Users\germanich-o\Desktop\Рисунок4.jpg"/>
          <p:cNvPicPr/>
          <p:nvPr/>
        </p:nvPicPr>
        <p:blipFill>
          <a:blip r:embed="rId1"/>
          <a:stretch/>
        </p:blipFill>
        <p:spPr>
          <a:xfrm>
            <a:off x="2658960" y="404640"/>
            <a:ext cx="3792600" cy="5040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516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боку печь закрывали стенкой или пристраивали ящик в виде шкафчика с дверцами – голбец. Часто его расписывали яркими красками, изображали на нем птиц, звер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4" descr="C:\Users\germanich-o\Desktop\Рисунок14.png"/>
          <p:cNvPicPr/>
          <p:nvPr/>
        </p:nvPicPr>
        <p:blipFill>
          <a:blip r:embed="rId1"/>
          <a:stretch/>
        </p:blipFill>
        <p:spPr>
          <a:xfrm>
            <a:off x="1558800" y="836640"/>
            <a:ext cx="6021360" cy="4321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57337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авый от печки угол назывался бабий ку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десь командовала хозяйк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 было приспособлено для приготовления пищ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4" descr="C:\Users\germanich-o\Desktop\Рисунок15.jpg"/>
          <p:cNvPicPr/>
          <p:nvPr/>
        </p:nvPicPr>
        <p:blipFill>
          <a:blip r:embed="rId1"/>
          <a:stretch/>
        </p:blipFill>
        <p:spPr>
          <a:xfrm>
            <a:off x="1258920" y="765000"/>
            <a:ext cx="6891480" cy="4608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46526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ругой, левый от печки угол назывался красный, то есть красивы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асный угол был обращен к юго-востоку. Он принимал первые лучи солнц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как бы олицетворял собой зарю. Здесь на нарядной угловой полке (божнице) устанавливались иконы, горела лампад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красном углу ставили стол, за которым обедала вся семь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а часть дома была самой почетной.  Если хозяин хотел оказать гостю особое почтение, то приглашал его в передний угол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5" descr="C:\Users\germanich-o\Desktop\Рисунок16.png"/>
          <p:cNvPicPr/>
          <p:nvPr/>
        </p:nvPicPr>
        <p:blipFill>
          <a:blip r:embed="rId1"/>
          <a:stretch/>
        </p:blipFill>
        <p:spPr>
          <a:xfrm>
            <a:off x="611280" y="1125360"/>
            <a:ext cx="2184480" cy="291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germanich-o\Desktop\Рисунок17.jpg"/>
          <p:cNvPicPr/>
          <p:nvPr/>
        </p:nvPicPr>
        <p:blipFill>
          <a:blip r:embed="rId2"/>
          <a:stretch/>
        </p:blipFill>
        <p:spPr>
          <a:xfrm>
            <a:off x="3635280" y="981000"/>
            <a:ext cx="4759560" cy="3300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5373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 двери до боковой стены была устроена лавка – конник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было место мужской половин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десь мужчины осенними и зимними вечерами занимались ремонтом обуви, мастерили, чинили конскую упряж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5" descr="C:\Users\germanich-o\Desktop\Рисунок27.jpg"/>
          <p:cNvPicPr/>
          <p:nvPr/>
        </p:nvPicPr>
        <p:blipFill>
          <a:blip r:embed="rId1"/>
          <a:stretch/>
        </p:blipFill>
        <p:spPr>
          <a:xfrm>
            <a:off x="468360" y="1484280"/>
            <a:ext cx="4430520" cy="3324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C:\Users\germanich-o\Desktop\Рисунок5.jpg"/>
          <p:cNvPicPr/>
          <p:nvPr/>
        </p:nvPicPr>
        <p:blipFill>
          <a:blip r:embed="rId2"/>
          <a:stretch/>
        </p:blipFill>
        <p:spPr>
          <a:xfrm>
            <a:off x="5651640" y="907920"/>
            <a:ext cx="2916000" cy="388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537336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 потолком укрепляли полавочники с утварью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у печи устраивали деревянные настилы – полати, на них спал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во время посиделок или свадьбы туда забиралась детвора и с любопытством глазела на все происходящее в изб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5" descr="C:\Users\germanich-o\Desktop\Рисунок25.jpg"/>
          <p:cNvPicPr/>
          <p:nvPr/>
        </p:nvPicPr>
        <p:blipFill>
          <a:blip r:embed="rId1"/>
          <a:stretch/>
        </p:blipFill>
        <p:spPr>
          <a:xfrm>
            <a:off x="395280" y="1197000"/>
            <a:ext cx="4011480" cy="3633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C:\Users\germanich-o\Desktop\Рисунок26.jpg"/>
          <p:cNvPicPr/>
          <p:nvPr/>
        </p:nvPicPr>
        <p:blipFill>
          <a:blip r:embed="rId2"/>
          <a:stretch/>
        </p:blipFill>
        <p:spPr>
          <a:xfrm>
            <a:off x="5292720" y="620640"/>
            <a:ext cx="2987640" cy="45975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5300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начительное место в избе занимал деревянный ткацкий стан – кросно, на нем женщины ткали. Его отдельные детали нередко украшались круглыми розетками – знаками солнца, а также скульптурными изображениями кон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4" descr="C:\Users\germanich-o\Desktop\Рисунок24.png"/>
          <p:cNvPicPr/>
          <p:nvPr/>
        </p:nvPicPr>
        <p:blipFill>
          <a:blip r:embed="rId1"/>
          <a:stretch/>
        </p:blipFill>
        <p:spPr>
          <a:xfrm>
            <a:off x="1619280" y="765000"/>
            <a:ext cx="6427800" cy="4430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573372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новорожденного подвешивали к потолку нарядную люльк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ягко покачиваясь, она убаюкивала младенц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 напевную песнь крестьянк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4" descr="C:\Users\germanich-o\Desktop\Рисунок1.png"/>
          <p:cNvPicPr/>
          <p:nvPr/>
        </p:nvPicPr>
        <p:blipFill>
          <a:blip r:embed="rId1"/>
          <a:stretch/>
        </p:blipFill>
        <p:spPr>
          <a:xfrm>
            <a:off x="1547640" y="692280"/>
            <a:ext cx="6208920" cy="4681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5661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спускались сумерки, жгли лучин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этого служил кованый светец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6" descr="C:\Users\germanich-o\Desktop\Рисунок20.png"/>
          <p:cNvPicPr/>
          <p:nvPr/>
        </p:nvPicPr>
        <p:blipFill>
          <a:blip r:embed="rId1"/>
          <a:stretch/>
        </p:blipFill>
        <p:spPr>
          <a:xfrm>
            <a:off x="611280" y="1125360"/>
            <a:ext cx="4854600" cy="3640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C:\Users\germanich-o\Desktop\Рисунок21.png"/>
          <p:cNvPicPr/>
          <p:nvPr/>
        </p:nvPicPr>
        <p:blipFill>
          <a:blip r:embed="rId2"/>
          <a:stretch/>
        </p:blipFill>
        <p:spPr>
          <a:xfrm>
            <a:off x="6156360" y="692280"/>
            <a:ext cx="2233440" cy="1841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C:\Users\germanich-o\Desktop\Рисунок22.png"/>
          <p:cNvPicPr/>
          <p:nvPr/>
        </p:nvPicPr>
        <p:blipFill>
          <a:blip r:embed="rId3"/>
          <a:stretch/>
        </p:blipFill>
        <p:spPr>
          <a:xfrm>
            <a:off x="6292800" y="2637000"/>
            <a:ext cx="2282760" cy="2663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53737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усские деревни удивительно гармонично вписывались в окружающую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433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роду. Ощущая свой дом частицей природы, где все подчинен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433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рядку, целесообразности и красоте, крестьянин чувствовал себя защищенным и сильным, а значит, и свободны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4" descr="C:\Users\germanich-o\Desktop\Рисунок1.jpg"/>
          <p:cNvPicPr/>
          <p:nvPr/>
        </p:nvPicPr>
        <p:blipFill>
          <a:blip r:embed="rId1"/>
          <a:stretch/>
        </p:blipFill>
        <p:spPr>
          <a:xfrm>
            <a:off x="1258920" y="404640"/>
            <a:ext cx="6638760" cy="4896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95280" y="522900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полу тянулись радужные домотканые половики-дорожк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и и впрямь напоминали дорогу, стелющуюся по земл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 многих северных деревнях сохранились дома с расписными интерьерами. Иногда кажется, что весь мир вместился в старинном доме: деревья и травы, птицы и животные, земное и небесное, видимое и невидимо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4" descr="C:\Users\germanich-o\Desktop\Рисунок19.png"/>
          <p:cNvPicPr/>
          <p:nvPr/>
        </p:nvPicPr>
        <p:blipFill>
          <a:blip r:embed="rId1"/>
          <a:stretch/>
        </p:blipFill>
        <p:spPr>
          <a:xfrm>
            <a:off x="1415880" y="476280"/>
            <a:ext cx="6226200" cy="4681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515736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м напоминает корабль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котором по неспокойному житейскому морю плывет и спасается семья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де все живут в ладу друг с другом и в согласии 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стая деревенская изба, а сколько мудрости и смысла в себя она вобрала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терьер избы – это столь же высокое искусство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и все, что создавал талантливый русский народ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4" descr="C:\Users\germanich-o\Desktop\Рисунок3.jpg"/>
          <p:cNvPicPr/>
          <p:nvPr/>
        </p:nvPicPr>
        <p:blipFill>
          <a:blip r:embed="rId1"/>
          <a:stretch/>
        </p:blipFill>
        <p:spPr>
          <a:xfrm>
            <a:off x="1403280" y="549360"/>
            <a:ext cx="6343560" cy="4535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br>
              <a:rPr sz="2400"/>
            </a:br>
            <a:br>
              <a:rPr sz="24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ряева Н.А., Островская О.В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коративно-прикладное искусство в жизни человека: Учебник по изобразительному искусству для 5 класса. 2013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589720"/>
            <a:ext cx="856908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ое жилище крестьянин воспринимал как особый мир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м имел три вертикальных яруса, напоминавших о трех мирах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толок, чердак и крыша уподоблялись миру вышнему, светлому, преображенному 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8" descr="C:\Users\germanich-o\Desktop\Рисунок4.jpg"/>
          <p:cNvPicPr/>
          <p:nvPr/>
        </p:nvPicPr>
        <p:blipFill>
          <a:blip r:embed="rId1"/>
          <a:stretch/>
        </p:blipFill>
        <p:spPr>
          <a:xfrm>
            <a:off x="2556000" y="2852640"/>
            <a:ext cx="3243240" cy="2630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C:\Users\germanich-o\Desktop\Рисунок2.png"/>
          <p:cNvPicPr/>
          <p:nvPr/>
        </p:nvPicPr>
        <p:blipFill>
          <a:blip r:embed="rId2"/>
          <a:stretch/>
        </p:blipFill>
        <p:spPr>
          <a:xfrm>
            <a:off x="5038560" y="333360"/>
            <a:ext cx="3521160" cy="2735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C:\Users\germanich-o\Desktop\Рисунок1.jpg"/>
          <p:cNvPicPr/>
          <p:nvPr/>
        </p:nvPicPr>
        <p:blipFill>
          <a:blip r:embed="rId3"/>
          <a:stretch/>
        </p:blipFill>
        <p:spPr>
          <a:xfrm>
            <a:off x="395280" y="333360"/>
            <a:ext cx="2058840" cy="2879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95280" y="544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ба напоминала о мире освоенном, земном, освященном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котором протекала жизнь челове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4" descr="C:\Users\germanich-o\Desktop\Рисунок1.jpg"/>
          <p:cNvPicPr/>
          <p:nvPr/>
        </p:nvPicPr>
        <p:blipFill>
          <a:blip r:embed="rId1"/>
          <a:stretch/>
        </p:blipFill>
        <p:spPr>
          <a:xfrm>
            <a:off x="1619280" y="620640"/>
            <a:ext cx="6121440" cy="4591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580536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клет (подполье) напоминал о мире недоброй, нечистой сил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ьшим наказанием считалось, если проказника запрут в подполь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C:\Users\germanich-o\Desktop\Рисунок6.png"/>
          <p:cNvPicPr/>
          <p:nvPr/>
        </p:nvPicPr>
        <p:blipFill>
          <a:blip r:embed="rId1"/>
          <a:stretch/>
        </p:blipFill>
        <p:spPr>
          <a:xfrm>
            <a:off x="1908000" y="620640"/>
            <a:ext cx="6508800" cy="4896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30028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 крыльцо украшалось резными ажурными подзора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крыльцо вели ступеньки. Крыльцо – «распахнутые руки» дом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о связывает его с улицей, соседями.«Жить в соседях – быть в беседах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вай поднимемся на крыльцо и откроем двер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4" descr="C:\Users\germanich-o\Desktop\Рисунок7.jpg"/>
          <p:cNvPicPr/>
          <p:nvPr/>
        </p:nvPicPr>
        <p:blipFill>
          <a:blip r:embed="rId1"/>
          <a:stretch/>
        </p:blipFill>
        <p:spPr>
          <a:xfrm>
            <a:off x="1908000" y="620640"/>
            <a:ext cx="5776920" cy="4346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5229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ходя в избу, волей-неволей каждый должен поклониться хозяевам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то и шишку на лбу можно набить: дверь в избу низка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порог наоборот, высокий, чтоб меньше дуло. Порогу придавали особое значение: он считался рубежом между миром внутренним и внешни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ступали его с молитвой и крестным знамени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4" descr="C:\Users\germanich-o\Desktop\Рисунок3.png"/>
          <p:cNvPicPr/>
          <p:nvPr/>
        </p:nvPicPr>
        <p:blipFill>
          <a:blip r:embed="rId1"/>
          <a:stretch/>
        </p:blipFill>
        <p:spPr>
          <a:xfrm>
            <a:off x="1042920" y="404640"/>
            <a:ext cx="6913800" cy="4632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530064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здух в избе особенный, пряный, наполненный ароматами сухих трав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ченого теста. Войдя в избу, сразу  обратишь внимание на печь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а занимает почти пол-избы. С печью связаны весь быт, вся жизнь крестьянин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даром говорится: «Печь греет и варит, печет и жари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а накормит, обсушит и порадует душу.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4" descr="C:\Users\germanich-o\Desktop\Рисунок9.jpg"/>
          <p:cNvPicPr/>
          <p:nvPr/>
        </p:nvPicPr>
        <p:blipFill>
          <a:blip r:embed="rId1"/>
          <a:stretch/>
        </p:blipFill>
        <p:spPr>
          <a:xfrm>
            <a:off x="1547640" y="620640"/>
            <a:ext cx="6639120" cy="4417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7337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д устьем печи ладно устроен шесток – широкая толстая доска, на которой разместились горшки, чугун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4" descr="vitoslav3"/>
          <p:cNvPicPr/>
          <p:nvPr/>
        </p:nvPicPr>
        <p:blipFill>
          <a:blip r:embed="rId1"/>
          <a:stretch/>
        </p:blipFill>
        <p:spPr>
          <a:xfrm>
            <a:off x="900000" y="333360"/>
            <a:ext cx="7653600" cy="5081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08:58:37Z</dcterms:created>
  <dc:creator>3d_mod</dc:creator>
  <dc:description/>
  <dc:language>en-US</dc:language>
  <cp:lastModifiedBy>germanich-o</cp:lastModifiedBy>
  <dcterms:modified xsi:type="dcterms:W3CDTF">2015-04-19T09:47:43Z</dcterms:modified>
  <cp:revision>52</cp:revision>
  <dc:subject/>
  <dc:title>МОУ «Средняя общеобразовательная школа №1</dc:title>
</cp:coreProperties>
</file>