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2.png" ContentType="image/png"/>
  <Override PartName="/ppt/media/image20.jpeg" ContentType="image/jpeg"/>
  <Override PartName="/ppt/media/image9.jpeg" ContentType="image/jpeg"/>
  <Override PartName="/ppt/media/image8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10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27.png" ContentType="image/png"/>
  <Override PartName="/ppt/media/image24.png" ContentType="image/png"/>
  <Override PartName="/ppt/media/image18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2.jpeg" ContentType="image/jpeg"/>
  <Override PartName="/ppt/media/image26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173F-DA34-46C0-A562-3E3C692F3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F0A0-94E1-44A0-A329-88422D84A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EB33-C045-4177-BD3A-9A6F9870F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9FC0-8F9D-459E-B5B0-78ED21EFC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30BE1-5604-4092-B2AA-ACC338FB6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8A518-0D56-4F49-AA30-2A1851784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AEF93-91A9-4334-838F-AD5E9A059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AAA46-CE93-4E62-90AD-630152739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51E43-5801-466D-B791-B64F9E4C9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4AFDA-634D-4A12-8C3B-43DB6B1C2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FBE4B-77DA-4406-AADC-FCED37702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47EB-F508-4C22-B5F8-0E82C4F00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03840-0D65-4DE0-A48A-43A4162E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473D7-D5EA-4B46-A535-89F30CF9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F7F3A-4964-4D4F-8AFF-5F373D622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3124A-91B6-453D-A5E3-76C2CB825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A9FFF-B516-4DE9-AC32-68FD2FD53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67382-C6EA-44C3-9B5C-87671807B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D135A-F263-48A5-B349-0D769CB55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B50A7-EA3B-422D-84C9-BA6D60AD4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F19D2-B41F-45F7-85BD-3FD2951A2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E8748-FB04-4882-83E2-732C2EB47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B614-2263-4C11-9FBF-A10F56077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45345-D42C-4ED4-A3FB-62E561A9B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7B560-E894-45D8-9C83-EB207F9FE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56508-5FB2-470D-B87A-E31B0348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8F81C-14AA-4A01-BFDD-F9B8DE3D6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5E832-AF1C-4B8E-98A4-3F9C35038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8626D-9A32-483E-B8CA-03F77FB11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EDFD0-F817-412B-8CA7-1B9F849C4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DC86-A7D1-4E52-A42E-C2CB442E1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3376-E62B-4AE4-890E-22310AA26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7356-A621-4EED-A8B8-D186A59DC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0352-4E7C-4E33-8ECE-4AAE699E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FD4C-E075-4335-A788-53AD31F3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B10F-E5AE-4E90-99AD-364AA3EB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FF5E7-1C29-409A-8CF9-3E636B66061D}" type="slidenum">
              <a:rPr b="1" i="1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8AA36-8501-408B-9637-ABF1D762773D}" type="slidenum">
              <a:rPr b="1" i="1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0BF43-FECF-4F68-AC51-47956040E200}" type="slidenum">
              <a:rPr b="1" i="1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нутренний мир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усской избы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полнила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хапкина Надежда Николаевна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итель ИЗО МБОУ «Средняя школа № 35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. Дзержинск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ижегородской обла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5805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ядом с устьем печи стоят навытяжку железные ухваты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торыми ставят в печь и достают горш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5" descr="C:\Users\germanich-o\Desktop\Рисунок2.png"/>
          <p:cNvPicPr/>
          <p:nvPr/>
        </p:nvPicPr>
        <p:blipFill>
          <a:blip r:embed="rId1"/>
          <a:stretch/>
        </p:blipFill>
        <p:spPr>
          <a:xfrm>
            <a:off x="3780000" y="1197000"/>
            <a:ext cx="4633920" cy="35830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C:\Users\germanich-o\Desktop\Рисунок3.png"/>
          <p:cNvPicPr/>
          <p:nvPr/>
        </p:nvPicPr>
        <p:blipFill>
          <a:blip r:embed="rId2"/>
          <a:stretch/>
        </p:blipFill>
        <p:spPr>
          <a:xfrm>
            <a:off x="468360" y="907920"/>
            <a:ext cx="2930400" cy="38894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11280" y="5516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 так же у печи находился деревянный ушат с водо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4" descr="C:\Users\germanich-o\Desktop\Рисунок4.jpg"/>
          <p:cNvPicPr/>
          <p:nvPr/>
        </p:nvPicPr>
        <p:blipFill>
          <a:blip r:embed="rId1"/>
          <a:stretch/>
        </p:blipFill>
        <p:spPr>
          <a:xfrm>
            <a:off x="2658960" y="404640"/>
            <a:ext cx="3792600" cy="5040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516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боку печь закрывали стенкой или пристраивали ящик в виде шкафчика с дверцами – голбец. Часто его расписывали яркими красками, изображали на нем птиц, звер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4" descr="C:\Users\germanich-o\Desktop\Рисунок14.png"/>
          <p:cNvPicPr/>
          <p:nvPr/>
        </p:nvPicPr>
        <p:blipFill>
          <a:blip r:embed="rId1"/>
          <a:stretch/>
        </p:blipFill>
        <p:spPr>
          <a:xfrm>
            <a:off x="1558800" y="836640"/>
            <a:ext cx="6021360" cy="43210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57337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авый от печки угол назывался бабий кут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десь командовала хозяйк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е было приспособлено для приготовления пищ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4" descr="C:\Users\germanich-o\Desktop\Рисунок15.jpg"/>
          <p:cNvPicPr/>
          <p:nvPr/>
        </p:nvPicPr>
        <p:blipFill>
          <a:blip r:embed="rId1"/>
          <a:stretch/>
        </p:blipFill>
        <p:spPr>
          <a:xfrm>
            <a:off x="1258920" y="765000"/>
            <a:ext cx="6891480" cy="46087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465264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ругой, левый от печки угол назывался красный, то есть красивы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расный угол был обращен к юго-востоку. Он принимал первые лучи солнц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как бы олицетворял собой зарю. Здесь на нарядной угловой полке (божнице) устанавливались иконы, горела лампад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красном углу ставили стол, за которым обедала вся семья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а часть дома была самой почетной.  Если хозяин хотел оказать гостю особое почтение, то приглашал его в передний угол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5" descr="C:\Users\germanich-o\Desktop\Рисунок16.png"/>
          <p:cNvPicPr/>
          <p:nvPr/>
        </p:nvPicPr>
        <p:blipFill>
          <a:blip r:embed="rId1"/>
          <a:stretch/>
        </p:blipFill>
        <p:spPr>
          <a:xfrm>
            <a:off x="611280" y="1125360"/>
            <a:ext cx="2184480" cy="2910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C:\Users\germanich-o\Desktop\Рисунок17.jpg"/>
          <p:cNvPicPr/>
          <p:nvPr/>
        </p:nvPicPr>
        <p:blipFill>
          <a:blip r:embed="rId2"/>
          <a:stretch/>
        </p:blipFill>
        <p:spPr>
          <a:xfrm>
            <a:off x="3635280" y="981000"/>
            <a:ext cx="4759560" cy="33004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537336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 двери до боковой стены была устроена лавка – конник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о было место мужской половины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десь мужчины осенними и зимними вечерами занимались ремонтом обуви, мастерили, чинили конскую упряж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5" descr="C:\Users\germanich-o\Desktop\Рисунок27.jpg"/>
          <p:cNvPicPr/>
          <p:nvPr/>
        </p:nvPicPr>
        <p:blipFill>
          <a:blip r:embed="rId1"/>
          <a:stretch/>
        </p:blipFill>
        <p:spPr>
          <a:xfrm>
            <a:off x="468360" y="1484280"/>
            <a:ext cx="4430520" cy="33242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C:\Users\germanich-o\Desktop\Рисунок5.jpg"/>
          <p:cNvPicPr/>
          <p:nvPr/>
        </p:nvPicPr>
        <p:blipFill>
          <a:blip r:embed="rId2"/>
          <a:stretch/>
        </p:blipFill>
        <p:spPr>
          <a:xfrm>
            <a:off x="5651640" y="907920"/>
            <a:ext cx="2916000" cy="3888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537336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д потолком укрепляли полавочники с утварью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 у печи устраивали деревянные настилы – полати, на них спал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 во время посиделок или свадьбы туда забиралась детвора и с любопытством глазела на все происходящее в изб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5" descr="C:\Users\germanich-o\Desktop\Рисунок25.jpg"/>
          <p:cNvPicPr/>
          <p:nvPr/>
        </p:nvPicPr>
        <p:blipFill>
          <a:blip r:embed="rId1"/>
          <a:stretch/>
        </p:blipFill>
        <p:spPr>
          <a:xfrm>
            <a:off x="395280" y="1197000"/>
            <a:ext cx="4011480" cy="36338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C:\Users\germanich-o\Desktop\Рисунок26.jpg"/>
          <p:cNvPicPr/>
          <p:nvPr/>
        </p:nvPicPr>
        <p:blipFill>
          <a:blip r:embed="rId2"/>
          <a:stretch/>
        </p:blipFill>
        <p:spPr>
          <a:xfrm>
            <a:off x="5292720" y="620640"/>
            <a:ext cx="2987640" cy="45975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5300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начительное место в избе занимал деревянный ткацкий стан – кросно, на нем женщины ткали. Его отдельные детали нередко украшались круглыми розетками – знаками солнца, а также скульптурными изображениями кон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4" descr="C:\Users\germanich-o\Desktop\Рисунок24.png"/>
          <p:cNvPicPr/>
          <p:nvPr/>
        </p:nvPicPr>
        <p:blipFill>
          <a:blip r:embed="rId1"/>
          <a:stretch/>
        </p:blipFill>
        <p:spPr>
          <a:xfrm>
            <a:off x="1619280" y="765000"/>
            <a:ext cx="6427800" cy="44308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573372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новорожденного подвешивали к потолку нарядную люльку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ягко покачиваясь, она убаюкивала младенц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д напевную песнь крестьянк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4" descr="C:\Users\germanich-o\Desktop\Рисунок1.png"/>
          <p:cNvPicPr/>
          <p:nvPr/>
        </p:nvPicPr>
        <p:blipFill>
          <a:blip r:embed="rId1"/>
          <a:stretch/>
        </p:blipFill>
        <p:spPr>
          <a:xfrm>
            <a:off x="1547640" y="692280"/>
            <a:ext cx="6208920" cy="46814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566100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гда спускались сумерки, жгли лучину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этого служил кованый светец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6" descr="C:\Users\germanich-o\Desktop\Рисунок20.png"/>
          <p:cNvPicPr/>
          <p:nvPr/>
        </p:nvPicPr>
        <p:blipFill>
          <a:blip r:embed="rId1"/>
          <a:stretch/>
        </p:blipFill>
        <p:spPr>
          <a:xfrm>
            <a:off x="611280" y="1125360"/>
            <a:ext cx="4854600" cy="36403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C:\Users\germanich-o\Desktop\Рисунок21.png"/>
          <p:cNvPicPr/>
          <p:nvPr/>
        </p:nvPicPr>
        <p:blipFill>
          <a:blip r:embed="rId2"/>
          <a:stretch/>
        </p:blipFill>
        <p:spPr>
          <a:xfrm>
            <a:off x="6156360" y="692280"/>
            <a:ext cx="2233440" cy="18414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8" descr="C:\Users\germanich-o\Desktop\Рисунок22.png"/>
          <p:cNvPicPr/>
          <p:nvPr/>
        </p:nvPicPr>
        <p:blipFill>
          <a:blip r:embed="rId3"/>
          <a:stretch/>
        </p:blipFill>
        <p:spPr>
          <a:xfrm>
            <a:off x="6292800" y="2637000"/>
            <a:ext cx="2282760" cy="2663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537372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усские деревни удивительно гармонично вписывались в окружающую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4336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роду. Ощущая свой дом частицей природы, где все подчинен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4336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рядку, целесообразности и красоте, крестьянин чувствовал себя защищенным и сильным, а значит, и свободны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4" descr="C:\Users\germanich-o\Desktop\Рисунок1.jpg"/>
          <p:cNvPicPr/>
          <p:nvPr/>
        </p:nvPicPr>
        <p:blipFill>
          <a:blip r:embed="rId1"/>
          <a:stretch/>
        </p:blipFill>
        <p:spPr>
          <a:xfrm>
            <a:off x="1258920" y="404640"/>
            <a:ext cx="6638760" cy="4896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95280" y="522900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 полу тянулись радужные домотканые половики-дорожк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и и впрямь напоминали дорогу, стелющуюся по земл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 многих северных деревнях сохранились дома с расписными интерьерами. Иногда кажется, что весь мир вместился в старинном доме: деревья и травы, птицы и животные, земное и небесное, видимое и невидимо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4" descr="C:\Users\germanich-o\Desktop\Рисунок19.png"/>
          <p:cNvPicPr/>
          <p:nvPr/>
        </p:nvPicPr>
        <p:blipFill>
          <a:blip r:embed="rId1"/>
          <a:stretch/>
        </p:blipFill>
        <p:spPr>
          <a:xfrm>
            <a:off x="1415880" y="476280"/>
            <a:ext cx="6226200" cy="46814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515736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м напоминает корабль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котором по неспокойному житейскому морю плывет и спасается семья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де все живут в ладу друг с другом и в согласии 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стая деревенская изба, а сколько мудрости и смысла в себя она вобрала!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терьер избы – это столь же высокое искусство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 и все, что создавал талантливый русский народ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4" descr="C:\Users\germanich-o\Desktop\Рисунок3.jpg"/>
          <p:cNvPicPr/>
          <p:nvPr/>
        </p:nvPicPr>
        <p:blipFill>
          <a:blip r:embed="rId1"/>
          <a:stretch/>
        </p:blipFill>
        <p:spPr>
          <a:xfrm>
            <a:off x="1403280" y="549360"/>
            <a:ext cx="6343560" cy="4535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итература</a:t>
            </a:r>
            <a:br>
              <a:rPr sz="2400"/>
            </a:br>
            <a:br>
              <a:rPr sz="24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оряева Н.А., Островская О.В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коративно-прикладное искусство в жизни человека: Учебник по изобразительному искусству для 5 класса. 2013.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589720"/>
            <a:ext cx="856908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вое жилище крестьянин воспринимал как особый мир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м имел три вертикальных яруса, напоминавших о трех мирах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толок, чердак и крыша уподоблялись миру вышнему, светлому, преображенному 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8" descr="C:\Users\germanich-o\Desktop\Рисунок4.jpg"/>
          <p:cNvPicPr/>
          <p:nvPr/>
        </p:nvPicPr>
        <p:blipFill>
          <a:blip r:embed="rId1"/>
          <a:stretch/>
        </p:blipFill>
        <p:spPr>
          <a:xfrm>
            <a:off x="2556000" y="2852640"/>
            <a:ext cx="3243240" cy="26305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C:\Users\germanich-o\Desktop\Рисунок2.png"/>
          <p:cNvPicPr/>
          <p:nvPr/>
        </p:nvPicPr>
        <p:blipFill>
          <a:blip r:embed="rId2"/>
          <a:stretch/>
        </p:blipFill>
        <p:spPr>
          <a:xfrm>
            <a:off x="5038560" y="333360"/>
            <a:ext cx="3521160" cy="2735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C:\Users\germanich-o\Desktop\Рисунок1.jpg"/>
          <p:cNvPicPr/>
          <p:nvPr/>
        </p:nvPicPr>
        <p:blipFill>
          <a:blip r:embed="rId3"/>
          <a:stretch/>
        </p:blipFill>
        <p:spPr>
          <a:xfrm>
            <a:off x="395280" y="333360"/>
            <a:ext cx="2058840" cy="2879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95280" y="5445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ба напоминала о мире освоенном, земном, освященном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котором протекала жизнь челове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4" descr="C:\Users\germanich-o\Desktop\Рисунок1.jpg"/>
          <p:cNvPicPr/>
          <p:nvPr/>
        </p:nvPicPr>
        <p:blipFill>
          <a:blip r:embed="rId1"/>
          <a:stretch/>
        </p:blipFill>
        <p:spPr>
          <a:xfrm>
            <a:off x="1619280" y="620640"/>
            <a:ext cx="6121440" cy="45910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580536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дклет (подполье) напоминал о мире недоброй, нечистой силы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ольшим наказанием считалось, если проказника запрут в подполь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4" descr="C:\Users\germanich-o\Desktop\Рисунок6.png"/>
          <p:cNvPicPr/>
          <p:nvPr/>
        </p:nvPicPr>
        <p:blipFill>
          <a:blip r:embed="rId1"/>
          <a:stretch/>
        </p:blipFill>
        <p:spPr>
          <a:xfrm>
            <a:off x="1908000" y="620640"/>
            <a:ext cx="6508800" cy="4896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30028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е крыльцо украшалось резными ажурными подзорам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крыльцо вели ступеньки. Крыльцо – «распахнутые руки» дом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о связывает его с улицей, соседями.«Жить в соседях – быть в беседах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авай поднимемся на крыльцо и откроем двер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4" descr="C:\Users\germanich-o\Desktop\Рисунок7.jpg"/>
          <p:cNvPicPr/>
          <p:nvPr/>
        </p:nvPicPr>
        <p:blipFill>
          <a:blip r:embed="rId1"/>
          <a:stretch/>
        </p:blipFill>
        <p:spPr>
          <a:xfrm>
            <a:off x="1908000" y="620640"/>
            <a:ext cx="5776920" cy="4346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5229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ходя в избу, волей-неволей каждый должен поклониться хозяевам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 то и шишку на лбу можно набить: дверь в избу низкая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 порог наоборот, высокий, чтоб меньше дуло. Порогу придавали особое значение: он считался рубежом между миром внутренним и внешним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еступали его с молитвой и крестным знамение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4" descr="C:\Users\germanich-o\Desktop\Рисунок3.png"/>
          <p:cNvPicPr/>
          <p:nvPr/>
        </p:nvPicPr>
        <p:blipFill>
          <a:blip r:embed="rId1"/>
          <a:stretch/>
        </p:blipFill>
        <p:spPr>
          <a:xfrm>
            <a:off x="1042920" y="404640"/>
            <a:ext cx="6913800" cy="46324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5300640"/>
            <a:ext cx="822960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здух в избе особенный, пряный, наполненный ароматами сухих трав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ченого теста. Войдя в избу, сразу  обратишь внимание на печь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а занимает почти пол-избы. С печью связаны весь быт, вся жизнь крестьянин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 даром говорится: «Печь греет и варит, печет и жарит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а накормит, обсушит и порадует душу.»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4" descr="C:\Users\germanich-o\Desktop\Рисунок9.jpg"/>
          <p:cNvPicPr/>
          <p:nvPr/>
        </p:nvPicPr>
        <p:blipFill>
          <a:blip r:embed="rId1"/>
          <a:stretch/>
        </p:blipFill>
        <p:spPr>
          <a:xfrm>
            <a:off x="1547640" y="620640"/>
            <a:ext cx="6639120" cy="4417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57337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ед устьем печи ладно устроен шесток – широкая толстая доска, на которой разместились горшки, чугун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4" descr="vitoslav3"/>
          <p:cNvPicPr/>
          <p:nvPr/>
        </p:nvPicPr>
        <p:blipFill>
          <a:blip r:embed="rId1"/>
          <a:stretch/>
        </p:blipFill>
        <p:spPr>
          <a:xfrm>
            <a:off x="900000" y="333360"/>
            <a:ext cx="7653600" cy="50817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3T08:58:37Z</dcterms:created>
  <dc:creator>3d_mod</dc:creator>
  <dc:description/>
  <dc:language>en-US</dc:language>
  <cp:lastModifiedBy>germanich-o</cp:lastModifiedBy>
  <dcterms:modified xsi:type="dcterms:W3CDTF">2015-04-19T09:47:43Z</dcterms:modified>
  <cp:revision>52</cp:revision>
  <dc:subject/>
  <dc:title>МОУ «Средняя общеобразовательная школа №1</dc:title>
</cp:coreProperties>
</file>