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973-726D-43DF-9D31-2BB66617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F00-05D7-44DC-99D4-4CAD535F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586-32C0-482C-A69A-FC7CC8CA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1ED-DB84-4FD8-AAD1-67D4631F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99D-2B1E-4E98-92EB-B2C8F0B1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224-69AC-40D8-8DAB-BCF29AE7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5E8-596C-485D-B06C-97325573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DE9-1A84-402F-9B19-9019EDF0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A67-EA12-468F-804B-9C326B39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E64-6297-4B03-BEB5-9206DC23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81B-BBD4-45E1-9B7E-B2E83EAE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E8F-AA87-4E31-B0DA-AD33840B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5575-F8A0-4D0D-A0D5-13B97E85D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Защита информации, антивирусная защи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уществует ряд признаков, свидетельствующих о заражении компьютер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вод на экран непредусмотренных сообщений или изобра­жени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ача непредусмотренных звуковых сигнал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ожиданное открытие и закрытие лотка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устройств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извольный, без вашего участия, запуск на компьютере каких-либо программ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вод на экран предупреждения о попытке какой-либо из программ вашего компьютера выйти в Интернет, хотя вы никак не инициировали такое ее поведение (при наличии установленной на вашем компьютере соответствующей антивирусной программы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знаки заражения виру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знаки заражения виру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33520" y="910080"/>
            <a:ext cx="83055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ествуют и косвенные признаки заражения вашего компьютер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ые зависания и сбои в работе компьюте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ленная работа компьютера при запуске програм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сть загрузки операционной систе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чезновение файлов и каталогов или искажение их содержимог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е обращение к жесткому диску, когда часто мигает лампочка на системном блок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Internet Explorer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висает или ведет себя неожидан­ным образом, например окно программы невозможно закры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мпьютерный вирус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это целенаправленно созданная программа, автоматически приписывающая себя к другим программным продуктам, изменяющая или уничтожающая их. Компьютерные вирусы могут заразить компьютерные программы, привести к потере данных и даже вывести компьютер из стро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омпьютерные вирусы могут распространяться и проникать в операционную и файловую систему ПК только через внешние магнитные носители (жесткий и гибкий диски, компакт-диски) и через средства межкомпьютерной коммуникац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от среды обит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ирусы можно разделить на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ете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файло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грузочн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файлово-загрузочн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ете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ы распространяются по различным компьютер­ным сет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айло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ы внедряются главным образом в исполняемые модули, т.е. в файлы, имеющие расширения СОМ и ЕХ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грузочн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ы внедряются в загрузочный сектор диска или сектор, содержащий программу загрузки сис­темного дис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айлово - загрузочн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ы заражают файлы и загрузочные сектора дис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28600" y="1522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ы вредоносных программ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пособу зараж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ирусы разделяются н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зидентны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резидент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идент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ус при заражении компьютера оставляет в оперативной памяти свою резидентную часть, которая потом перехватывает обращение операционной системы к объектам зараже­ния (файлам, загрузочным секторам дисков и т.д.) и внедряется в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езидентны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усы не заражают память компьютера и являются активными огранич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228600" y="1522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ы вредоносных программ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степени воз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деля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5209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опасн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ы, которые не мешают работе компью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5209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асн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могут привести к различным нарушениям в работе компью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5209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 опасн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е которых может привести к потере программ, уничтожению данных, стиранию информации в системных областях д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228600" y="1522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ы вредоносных программ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бнаружения, удаления и защиты от компьютерных вирусов разработано несколько видов специальных программ, которые позволяют обнаруживать и уничтожать вирусы. Такие программы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вирусны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ограммы-дете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уществляют поиск характерной для конкретного вируса сиг­натуры в оперативной памяти и файлах и при обнаружении выдают соответствующие сообщение. Недостатком таких антивирусных программ является то, ч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находить только те вирусы, которые известны разработчикам таких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рограммы-докт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только находят зараженные вирусами файлы, но и возвращают файлы в исходное состояние. В начале своей работы флаги ищут вирусы в оперативной памя­ти, уничтожая их, и только затем переходят к «лечению» фай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ды антивирусных прогр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99036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Программы-ревиз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поминают исходное состояние программ, каталогов и системных областей диска тогда, когда компьютер не заражен вирусом, а затем периодически или по желанию пользователя сравнивают текущее состояние с исходным. Обнаружение изменения выводится на экран мони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Программы - вакцин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ммунизат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резидентные программы, предотвращающие заражение 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ды антивирусных прогр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Программы-фильт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рож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 собой небольшие резидентные программы, предназначенные для обнаружения подозрительных действий при работе компьютера, характерных для виру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ка коррекции файлов с расширениями СОМ и ЕХ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атрибутов фай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запись на диск по абсолютному адрес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в загрузочные сектора дис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ка резидентной програм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пытке вирусной атаки сторож посылает сообщение и предлагает запретить или разрешить соответствующи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ды антивирусных прогр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тя</dc:creator>
  <dc:description/>
  <dc:language>en-US</dc:language>
  <cp:lastModifiedBy>Катя</cp:lastModifiedBy>
  <dcterms:modified xsi:type="dcterms:W3CDTF">2015-03-05T09:51:5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