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9.jpeg" ContentType="image/jpeg"/>
  <Override PartName="/ppt/media/image17.png" ContentType="image/png"/>
  <Override PartName="/ppt/media/image32.jpeg" ContentType="image/jpeg"/>
  <Override PartName="/ppt/media/image8.png" ContentType="image/png"/>
  <Override PartName="/ppt/media/image2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1.jpeg" ContentType="image/jpeg"/>
  <Override PartName="/ppt/media/image4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56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60.jpeg" ContentType="image/jpeg"/>
  <Override PartName="/ppt/media/image16.jpeg" ContentType="image/jpeg"/>
  <Override PartName="/ppt/media/image38.jpeg" ContentType="image/jpeg"/>
  <Override PartName="/ppt/media/image7.jpeg" ContentType="image/jpeg"/>
  <Override PartName="/ppt/media/image15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46.jpeg" ContentType="image/jpeg"/>
  <Override PartName="/ppt/media/image58.png" ContentType="image/png"/>
  <Override PartName="/ppt/media/image59.jpeg" ContentType="image/jpeg"/>
  <Override PartName="/ppt/media/image18.png" ContentType="image/pn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C5BB-A8C4-4A09-A1FE-56088C5A8B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79A-89CF-4738-A1FE-AD1ABBB8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489B-EC52-438B-BB62-D5F476F10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CF86-4BF3-4951-8165-5B2A1F1A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75D-7271-49BA-8C75-BCEDB43D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370-FA8B-47EE-B5F7-64272E52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9FE-84AC-4275-BC19-B454CF73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954-BAE8-4235-AA9F-C3B8E8A8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0F1A-B5C4-4EEE-8CFB-780F734E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43C6-F58D-478F-BBFC-CCE242CC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A7F2-ED2D-4B3F-B4B5-644A686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9932-4E59-465A-8325-97D9C6C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7831-C464-4E08-8824-B5CA8E7A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85B5-83D7-49E5-9A74-7E78C58B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5D75-1657-469D-9DBC-B7D15C0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E2F-71C0-4F21-BEF8-A327669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8C5D-2C85-480A-B746-2E0929A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26B6-B768-42C5-BACF-C3B47B7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6BFD-57DE-4F75-BA62-3DB8A4A1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B3EF-D446-4C3E-915D-7F717839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2AD6-A18E-45AB-9B5F-3E533ADB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0F4-7148-4543-A96E-E6486913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8B9-E576-4D4D-883F-9D05085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937-8D99-43DC-AA18-5E8DEF20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A39-1A6F-42E7-AF6E-85099D64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AE2-C7F8-4E82-88AF-A435CE94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F41-549E-47C5-B356-25EF7AE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2AC-E0BE-4048-A910-38D50B3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08B8-F68D-451C-8C40-D6ADBB4C2A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06B-309C-4617-9B1C-7D2C79DDF6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4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14400" y="928800"/>
            <a:ext cx="597204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Наше здоровье – </a:t>
            </a:r>
            <a:br>
              <a:rPr sz="6000"/>
            </a:b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 в наших руках!</a:t>
            </a: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404040"/>
                </a:solidFill>
                <a:latin typeface="Times New Roman"/>
              </a:rPr>
              <a:t>А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втор презентации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учащаяся 9 «Б» класса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МОУ КСОШ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 Кафтырева А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</a:rPr>
              <a:t>Руководитель: Мухина С.Н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12" descr="PE03276_"/>
          <p:cNvPicPr/>
          <p:nvPr/>
        </p:nvPicPr>
        <p:blipFill>
          <a:blip r:embed="rId1"/>
          <a:stretch/>
        </p:blipFill>
        <p:spPr>
          <a:xfrm>
            <a:off x="0" y="3660840"/>
            <a:ext cx="3643200" cy="3197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1785960" y="171468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Правильное питание – </a:t>
            </a:r>
            <a:br>
              <a:rPr sz="4200"/>
            </a:b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залог здоровь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71680" y="1500120"/>
            <a:ext cx="4357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3100"/>
                </a:solidFill>
                <a:latin typeface="Times New Roman"/>
              </a:rPr>
              <a:t>Каждый вид продуктов полезен по - своему. Очень важно, чтобы мы употребляли в правильной пропорции все необходимые прод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31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13100"/>
                </a:solidFill>
                <a:latin typeface="Times New Roman"/>
              </a:rPr>
              <a:t>Нам надо есть 4-5 раз в день в строго определ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4" descr=""/>
          <p:cNvPicPr/>
          <p:nvPr/>
        </p:nvPicPr>
        <p:blipFill>
          <a:blip r:embed="rId1"/>
          <a:stretch/>
        </p:blipFill>
        <p:spPr>
          <a:xfrm>
            <a:off x="4876920" y="1571760"/>
            <a:ext cx="3809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277920"/>
            <a:ext cx="8115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Значение соблюдения режима д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40" y="1500120"/>
            <a:ext cx="4572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жим дня - это рациональное распределение времени на все виды деятельности и отдыха в течение су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его цель - обеспечить высокую работоспособность на протяжении всего периода бодр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ся режим на основе биологического ритма функционирования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, например, подъём работоспособности отмечается с 11 до 13 часов. Второй подъём в 16-18 ча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429160" y="1643040"/>
            <a:ext cx="3357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86360" y="5357520"/>
            <a:ext cx="17571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«Профилактика лечения в бесконечности движения»</a:t>
            </a:r>
            <a:br>
              <a:rPr sz="1600"/>
            </a:b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7760" y="1599840"/>
            <a:ext cx="292896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Занимай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физкультур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спорто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42960" y="428760"/>
            <a:ext cx="5786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7000920" y="1785960"/>
            <a:ext cx="1928880" cy="4238640"/>
          </a:xfrm>
          <a:prstGeom prst="rect">
            <a:avLst/>
          </a:prstGeom>
          <a:ln w="76320">
            <a:solidFill>
              <a:srgbClr val="cccc99"/>
            </a:solidFill>
            <a:miter/>
          </a:ln>
        </p:spPr>
      </p:pic>
      <p:pic>
        <p:nvPicPr>
          <p:cNvPr id="154" name="Рисунок 8" descr=""/>
          <p:cNvPicPr/>
          <p:nvPr/>
        </p:nvPicPr>
        <p:blipFill>
          <a:blip r:embed="rId2"/>
          <a:stretch/>
        </p:blipFill>
        <p:spPr>
          <a:xfrm>
            <a:off x="4000680" y="3571920"/>
            <a:ext cx="2857320" cy="2352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642960" y="1500120"/>
            <a:ext cx="3429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тимальный двигательный режим - важнейшее условие здорового образа жизни. Его основу составляют систематические заняти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Times New Roman"/>
              </a:rPr>
              <a:t>Двигательная активность для детей крайне важна, особенно в период активного роста с 7 до 12 лет –  чем более развито будет тело, тем гармоничнее оформится фигура к периоду полового созре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5857920" y="142920"/>
            <a:ext cx="328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10061"/>
                </a:solidFill>
                <a:latin typeface="Times New Roman"/>
              </a:rPr>
              <a:t>Закаливать человека – это «приучать его ко всем лишениям, нуждам, непогоде, воспитывать в суровости». В. Да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642960" y="214200"/>
            <a:ext cx="492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0000"/>
                </a:solidFill>
                <a:latin typeface="Times New Roman"/>
              </a:rPr>
              <a:t>Значение физкультуры и закаливания для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3929040" cy="1150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f0000"/>
                </a:solidFill>
                <a:latin typeface="Times New Roman"/>
              </a:rPr>
              <a:t>Значение закали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928880"/>
            <a:ext cx="453708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Times New Roman"/>
              </a:rPr>
              <a:t>При закаливании вырабатывается устойчивость организма к охлаждению и тем самым к простудным и некоторым другим заболе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инающим можно посоветовать начать с обтирания, а затем обл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500800" y="14292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0061"/>
                </a:solidFill>
                <a:latin typeface="Arial"/>
              </a:rPr>
              <a:t>Закаливать человека – это «приучать его ко всем лишениям, нуждам, непогоде, воспитывать в суровости». В. Да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IMG_0008"/>
          <p:cNvPicPr/>
          <p:nvPr/>
        </p:nvPicPr>
        <p:blipFill>
          <a:blip r:embed="rId1"/>
          <a:stretch/>
        </p:blipFill>
        <p:spPr>
          <a:xfrm>
            <a:off x="5429160" y="1928880"/>
            <a:ext cx="3071880" cy="42148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62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2158920" y="59292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Закаляйте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770040"/>
            <a:ext cx="55008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Никитин Павел 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(легкая атлетика)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Рисунок 3" descr="C:\Users\2011\Desktop\фото спортсмены\100OLYMP\PC022438.JPG"/>
          <p:cNvPicPr/>
          <p:nvPr/>
        </p:nvPicPr>
        <p:blipFill>
          <a:blip r:embed="rId1"/>
          <a:stretch/>
        </p:blipFill>
        <p:spPr>
          <a:xfrm>
            <a:off x="179280" y="2060640"/>
            <a:ext cx="295272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C:\Users\2011\Desktop\фото спортсмены\100OLYMP\PC022424.JPG"/>
          <p:cNvPicPr/>
          <p:nvPr/>
        </p:nvPicPr>
        <p:blipFill>
          <a:blip r:embed="rId2"/>
          <a:stretch/>
        </p:blipFill>
        <p:spPr>
          <a:xfrm>
            <a:off x="6227640" y="620640"/>
            <a:ext cx="1297080" cy="1484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C:\Users\2011\Desktop\фото спортсмены\100OLYMP\PC022425.JPG"/>
          <p:cNvPicPr/>
          <p:nvPr/>
        </p:nvPicPr>
        <p:blipFill>
          <a:blip r:embed="rId3"/>
          <a:stretch/>
        </p:blipFill>
        <p:spPr>
          <a:xfrm>
            <a:off x="179280" y="2060640"/>
            <a:ext cx="857520" cy="1000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C:\Users\2011\Desktop\фото спортсмены\100OLYMP\PC022427.JPG"/>
          <p:cNvPicPr/>
          <p:nvPr/>
        </p:nvPicPr>
        <p:blipFill>
          <a:blip r:embed="rId4"/>
          <a:stretch/>
        </p:blipFill>
        <p:spPr>
          <a:xfrm>
            <a:off x="4716360" y="256536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C:\Users\2011\Desktop\фото спортсмены\100OLYMP\PC022419.JPG"/>
          <p:cNvPicPr/>
          <p:nvPr/>
        </p:nvPicPr>
        <p:blipFill>
          <a:blip r:embed="rId5"/>
          <a:stretch/>
        </p:blipFill>
        <p:spPr>
          <a:xfrm>
            <a:off x="7596360" y="4581360"/>
            <a:ext cx="1547640" cy="19288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C:\Users\2011\Desktop\фото спортсмены\100OLYMP\PC022423.JPG"/>
          <p:cNvPicPr/>
          <p:nvPr/>
        </p:nvPicPr>
        <p:blipFill>
          <a:blip r:embed="rId6"/>
          <a:stretch/>
        </p:blipFill>
        <p:spPr>
          <a:xfrm>
            <a:off x="3203640" y="4508640"/>
            <a:ext cx="1500120" cy="2001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C:\Users\2011\Desktop\фото спортсмены\100OLYMP\PC022413.JPG"/>
          <p:cNvPicPr/>
          <p:nvPr/>
        </p:nvPicPr>
        <p:blipFill>
          <a:blip r:embed="rId7"/>
          <a:stretch/>
        </p:blipFill>
        <p:spPr>
          <a:xfrm>
            <a:off x="6156360" y="256536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C:\Users\2011\Desktop\фото спортсмены\100OLYMP\PC022421.JPG"/>
          <p:cNvPicPr/>
          <p:nvPr/>
        </p:nvPicPr>
        <p:blipFill>
          <a:blip r:embed="rId8"/>
          <a:stretch/>
        </p:blipFill>
        <p:spPr>
          <a:xfrm>
            <a:off x="4716360" y="4581360"/>
            <a:ext cx="1511280" cy="19432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C:\Users\2011\Desktop\фото спортсмены\100OLYMP\PC022418.JPG"/>
          <p:cNvPicPr/>
          <p:nvPr/>
        </p:nvPicPr>
        <p:blipFill>
          <a:blip r:embed="rId9"/>
          <a:stretch/>
        </p:blipFill>
        <p:spPr>
          <a:xfrm>
            <a:off x="3203640" y="2565360"/>
            <a:ext cx="1512720" cy="19432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C:\Users\2011\Desktop\фото спортсмены\100OLYMP\PC022417.JPG"/>
          <p:cNvPicPr/>
          <p:nvPr/>
        </p:nvPicPr>
        <p:blipFill>
          <a:blip r:embed="rId10"/>
          <a:stretch/>
        </p:blipFill>
        <p:spPr>
          <a:xfrm>
            <a:off x="6227640" y="4581360"/>
            <a:ext cx="1440000" cy="19432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4" descr="C:\Users\2011\Desktop\фото спортсмены\100OLYMP\PC022411.JPG"/>
          <p:cNvPicPr/>
          <p:nvPr/>
        </p:nvPicPr>
        <p:blipFill>
          <a:blip r:embed="rId11"/>
          <a:stretch/>
        </p:blipFill>
        <p:spPr>
          <a:xfrm>
            <a:off x="4932360" y="620640"/>
            <a:ext cx="1295280" cy="15001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5" descr="C:\Users\2011\Desktop\фото спортсмены\100OLYMP\PC022412.JPG"/>
          <p:cNvPicPr/>
          <p:nvPr/>
        </p:nvPicPr>
        <p:blipFill>
          <a:blip r:embed="rId12"/>
          <a:stretch/>
        </p:blipFill>
        <p:spPr>
          <a:xfrm>
            <a:off x="7524720" y="620640"/>
            <a:ext cx="1150920" cy="1513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6" descr="C:\Users\2011\Desktop\фото спортсмены\100OLYMP\PC022415.JPG"/>
          <p:cNvPicPr/>
          <p:nvPr/>
        </p:nvPicPr>
        <p:blipFill>
          <a:blip r:embed="rId13"/>
          <a:stretch/>
        </p:blipFill>
        <p:spPr>
          <a:xfrm>
            <a:off x="2195640" y="5373720"/>
            <a:ext cx="936360" cy="1150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7" descr="C:\Users\2011\Desktop\фото спортсмены\100OLYMP\PC022416.JPG"/>
          <p:cNvPicPr/>
          <p:nvPr/>
        </p:nvPicPr>
        <p:blipFill>
          <a:blip r:embed="rId14"/>
          <a:stretch/>
        </p:blipFill>
        <p:spPr>
          <a:xfrm>
            <a:off x="2124000" y="2060640"/>
            <a:ext cx="935280" cy="11523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8" descr="C:\Users\2011\Desktop\фото спортсмены\100OLYMP\PC022420.JPG"/>
          <p:cNvPicPr/>
          <p:nvPr/>
        </p:nvPicPr>
        <p:blipFill>
          <a:blip r:embed="rId15"/>
          <a:stretch/>
        </p:blipFill>
        <p:spPr>
          <a:xfrm>
            <a:off x="179280" y="5373720"/>
            <a:ext cx="936720" cy="1150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9" descr="C:\Users\2011\Desktop\фото спортсмены\100OLYMP\PC022414.JPG"/>
          <p:cNvPicPr/>
          <p:nvPr/>
        </p:nvPicPr>
        <p:blipFill>
          <a:blip r:embed="rId16"/>
          <a:stretch/>
        </p:blipFill>
        <p:spPr>
          <a:xfrm>
            <a:off x="1116000" y="5373720"/>
            <a:ext cx="1079640" cy="11509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0" descr="C:\Users\2011\Desktop\фото спортсмены\100OLYMP\PC022422.JPG"/>
          <p:cNvPicPr/>
          <p:nvPr/>
        </p:nvPicPr>
        <p:blipFill>
          <a:blip r:embed="rId17"/>
          <a:stretch/>
        </p:blipFill>
        <p:spPr>
          <a:xfrm>
            <a:off x="7667640" y="2565360"/>
            <a:ext cx="1476360" cy="2016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1"/>
          <p:cNvSpPr/>
          <p:nvPr/>
        </p:nvSpPr>
        <p:spPr>
          <a:xfrm>
            <a:off x="1714680" y="21420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Наши спортс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770040"/>
            <a:ext cx="4859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атрошкина Валерия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(лыжи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Рисунок 3" descr="C:\Users\2011\Desktop\фото спортсмены\100OLYMP\PC022409.JPG"/>
          <p:cNvPicPr/>
          <p:nvPr/>
        </p:nvPicPr>
        <p:blipFill>
          <a:blip r:embed="rId1"/>
          <a:stretch/>
        </p:blipFill>
        <p:spPr>
          <a:xfrm>
            <a:off x="179280" y="2276640"/>
            <a:ext cx="26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5" descr="C:\Users\2011\Desktop\фото спортсмены\100OLYMP\PC022397.JPG"/>
          <p:cNvPicPr/>
          <p:nvPr/>
        </p:nvPicPr>
        <p:blipFill>
          <a:blip r:embed="rId2"/>
          <a:stretch/>
        </p:blipFill>
        <p:spPr>
          <a:xfrm>
            <a:off x="2916360" y="4149720"/>
            <a:ext cx="1871640" cy="23749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6" descr="C:\Users\2011\Desktop\фото спортсмены\100OLYMP\PC022398.JPG"/>
          <p:cNvPicPr/>
          <p:nvPr/>
        </p:nvPicPr>
        <p:blipFill>
          <a:blip r:embed="rId3"/>
          <a:stretch/>
        </p:blipFill>
        <p:spPr>
          <a:xfrm>
            <a:off x="4788000" y="4149720"/>
            <a:ext cx="2087640" cy="2374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7" descr="C:\Users\2011\Desktop\фото спортсмены\100OLYMP\PC022402.JPG"/>
          <p:cNvPicPr/>
          <p:nvPr/>
        </p:nvPicPr>
        <p:blipFill>
          <a:blip r:embed="rId4"/>
          <a:stretch/>
        </p:blipFill>
        <p:spPr>
          <a:xfrm>
            <a:off x="2928960" y="207180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8" descr="C:\Users\2011\Desktop\фото спортсмены\100OLYMP\PC022399.JPG"/>
          <p:cNvPicPr/>
          <p:nvPr/>
        </p:nvPicPr>
        <p:blipFill>
          <a:blip r:embed="rId5"/>
          <a:stretch/>
        </p:blipFill>
        <p:spPr>
          <a:xfrm>
            <a:off x="4788000" y="213372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9" descr="C:\Users\2011\Desktop\фото спортсмены\100OLYMP\PC022403.JPG"/>
          <p:cNvPicPr/>
          <p:nvPr/>
        </p:nvPicPr>
        <p:blipFill>
          <a:blip r:embed="rId6"/>
          <a:stretch/>
        </p:blipFill>
        <p:spPr>
          <a:xfrm>
            <a:off x="6875640" y="2133720"/>
            <a:ext cx="208908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0" descr="C:\Users\2011\Desktop\фото спортсмены\100OLYMP\PC022400.JPG"/>
          <p:cNvPicPr/>
          <p:nvPr/>
        </p:nvPicPr>
        <p:blipFill>
          <a:blip r:embed="rId7"/>
          <a:stretch/>
        </p:blipFill>
        <p:spPr>
          <a:xfrm>
            <a:off x="5508720" y="33336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1" descr="C:\Users\2011\Desktop\фото спортсмены\100OLYMP\PC022401.JPG"/>
          <p:cNvPicPr/>
          <p:nvPr/>
        </p:nvPicPr>
        <p:blipFill>
          <a:blip r:embed="rId8"/>
          <a:stretch/>
        </p:blipFill>
        <p:spPr>
          <a:xfrm>
            <a:off x="6875640" y="4149720"/>
            <a:ext cx="2089080" cy="23749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2"/>
          <p:cNvSpPr/>
          <p:nvPr/>
        </p:nvSpPr>
        <p:spPr>
          <a:xfrm>
            <a:off x="1724400" y="28584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ши спортс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770040"/>
            <a:ext cx="55008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омеранцев Олег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(бег, теннис,шашки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" name="Рисунок 3" descr="C:\Users\2011\Desktop\фото спортсмены\100OLYMP\PC022440.JPG"/>
          <p:cNvPicPr/>
          <p:nvPr/>
        </p:nvPicPr>
        <p:blipFill>
          <a:blip r:embed="rId1"/>
          <a:stretch/>
        </p:blipFill>
        <p:spPr>
          <a:xfrm>
            <a:off x="324000" y="2349360"/>
            <a:ext cx="2808000" cy="3600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C:\Users\2011\Desktop\фото спортсмены\100OLYMP\PC022433.JPG"/>
          <p:cNvPicPr/>
          <p:nvPr/>
        </p:nvPicPr>
        <p:blipFill>
          <a:blip r:embed="rId2"/>
          <a:stretch/>
        </p:blipFill>
        <p:spPr>
          <a:xfrm>
            <a:off x="6012000" y="3789360"/>
            <a:ext cx="2305080" cy="27352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C:\Users\2011\Desktop\фото спортсмены\100OLYMP\PC022434.JPG"/>
          <p:cNvPicPr/>
          <p:nvPr/>
        </p:nvPicPr>
        <p:blipFill>
          <a:blip r:embed="rId3"/>
          <a:stretch/>
        </p:blipFill>
        <p:spPr>
          <a:xfrm>
            <a:off x="3708360" y="3789360"/>
            <a:ext cx="23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C:\Users\2011\Desktop\фото спортсмены\100OLYMP\PC022436.JPG"/>
          <p:cNvPicPr/>
          <p:nvPr/>
        </p:nvPicPr>
        <p:blipFill>
          <a:blip r:embed="rId4"/>
          <a:stretch/>
        </p:blipFill>
        <p:spPr>
          <a:xfrm>
            <a:off x="3708360" y="1484280"/>
            <a:ext cx="2087640" cy="23050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C:\Users\2011\Desktop\фото спортсмены\100OLYMP\PC022430.JPG"/>
          <p:cNvPicPr/>
          <p:nvPr/>
        </p:nvPicPr>
        <p:blipFill>
          <a:blip r:embed="rId5"/>
          <a:stretch/>
        </p:blipFill>
        <p:spPr>
          <a:xfrm>
            <a:off x="5796000" y="1484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10"/>
          <p:cNvSpPr/>
          <p:nvPr/>
        </p:nvSpPr>
        <p:spPr>
          <a:xfrm>
            <a:off x="1938600" y="28584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ши спортс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Наш класс дружит со спортом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1" name="Picture 2" descr="D:\фотки\фотки\школа\класс\9 класс\День здоровья 14\P9023494.JPG"/>
          <p:cNvPicPr/>
          <p:nvPr/>
        </p:nvPicPr>
        <p:blipFill>
          <a:blip r:embed="rId1"/>
          <a:stretch/>
        </p:blipFill>
        <p:spPr>
          <a:xfrm>
            <a:off x="214200" y="428616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D:\фотки\фотки\школа\класс\8 класс\23 февраля 2014\P2283036.JPG"/>
          <p:cNvPicPr/>
          <p:nvPr/>
        </p:nvPicPr>
        <p:blipFill>
          <a:blip r:embed="rId2"/>
          <a:stretch/>
        </p:blipFill>
        <p:spPr>
          <a:xfrm>
            <a:off x="1428840" y="1357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1071720" y="4500720"/>
            <a:ext cx="4071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D:\фотки\фотки\школа\класс\8 класс\Горкаа\IMG_3951.JPG"/>
          <p:cNvPicPr/>
          <p:nvPr/>
        </p:nvPicPr>
        <p:blipFill>
          <a:blip r:embed="rId3"/>
          <a:stretch/>
        </p:blipFill>
        <p:spPr>
          <a:xfrm>
            <a:off x="3500280" y="442908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D:\фотки\фотки\школа\класс\8 класс\День здоровья\P9032113.JPG"/>
          <p:cNvPicPr/>
          <p:nvPr/>
        </p:nvPicPr>
        <p:blipFill>
          <a:blip r:embed="rId4"/>
          <a:stretch/>
        </p:blipFill>
        <p:spPr>
          <a:xfrm>
            <a:off x="5715000" y="17859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D:\фотки\фотки\школа\класс\8 класс\НЕДЕЛЯ СПОРТА 2013\PC102523.JPG"/>
          <p:cNvPicPr/>
          <p:nvPr/>
        </p:nvPicPr>
        <p:blipFill>
          <a:blip r:embed="rId5"/>
          <a:stretch/>
        </p:blipFill>
        <p:spPr>
          <a:xfrm>
            <a:off x="6215040" y="42148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D:\фотки\фотки\школа\класс\8 класс\23 февраля 2014\P2283036.JPG"/>
          <p:cNvPicPr/>
          <p:nvPr/>
        </p:nvPicPr>
        <p:blipFill>
          <a:blip r:embed="rId6"/>
          <a:stretch/>
        </p:blipFill>
        <p:spPr>
          <a:xfrm>
            <a:off x="1571760" y="13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:\фотки\фотки\школа\класс\8 класс\День здоровья\P9032113.JPG"/>
          <p:cNvPicPr/>
          <p:nvPr/>
        </p:nvPicPr>
        <p:blipFill>
          <a:blip r:embed="rId7"/>
          <a:stretch/>
        </p:blipFill>
        <p:spPr>
          <a:xfrm>
            <a:off x="5857920" y="17859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D:\фотки\фотки\школа\класс\8 класс\НЕДЕЛЯ СПОРТА 2013\PC102523.JPG"/>
          <p:cNvPicPr/>
          <p:nvPr/>
        </p:nvPicPr>
        <p:blipFill>
          <a:blip r:embed="rId8"/>
          <a:stretch/>
        </p:blipFill>
        <p:spPr>
          <a:xfrm>
            <a:off x="6357960" y="42148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f0000"/>
                </a:solidFill>
                <a:latin typeface="Times New Roman"/>
              </a:rPr>
              <a:t>Мы за здоровый образ жизн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00720" y="1599840"/>
            <a:ext cx="4186080" cy="453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:\фотки\фотки\школа\класс\8 класс\1 сентября\P9022054.JPG"/>
          <p:cNvPicPr/>
          <p:nvPr/>
        </p:nvPicPr>
        <p:blipFill>
          <a:blip r:embed="rId2"/>
          <a:stretch/>
        </p:blipFill>
        <p:spPr>
          <a:xfrm>
            <a:off x="571680" y="185724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Картинка 81 из 7277"/>
          <p:cNvPicPr/>
          <p:nvPr/>
        </p:nvPicPr>
        <p:blipFill>
          <a:blip r:embed="rId3"/>
          <a:stretch/>
        </p:blipFill>
        <p:spPr>
          <a:xfrm>
            <a:off x="642960" y="1714680"/>
            <a:ext cx="3571920" cy="42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500360"/>
            <a:ext cx="6629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0000"/>
                </a:solidFill>
                <a:latin typeface="Times New Roman"/>
              </a:rPr>
              <a:t>БУДЬТЕ ЗДОРОВЫ!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3" descr=""/>
          <p:cNvPicPr/>
          <p:nvPr/>
        </p:nvPicPr>
        <p:blipFill>
          <a:blip r:embed="rId1"/>
          <a:stretch/>
        </p:blipFill>
        <p:spPr>
          <a:xfrm>
            <a:off x="6786720" y="142920"/>
            <a:ext cx="19285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презентаци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13880" y="157176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здоровья и ЗО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ые составляющие ЗО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губные привычки: курение, алкоголь, нарко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е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сть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физкультуры и зака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спортсм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7773c"/>
                </a:solidFill>
                <a:latin typeface="Times New Roman"/>
              </a:rPr>
              <a:t>Понятие здоровья и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9720" y="1571400"/>
            <a:ext cx="735804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190019"/>
                </a:solidFill>
                <a:latin typeface="Arial"/>
              </a:rPr>
              <a:t> – это состояние полного физического, психического и социального благополучия, а не просто отсутствие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ье –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всего зависит о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ОГО ОБРАЗА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доровый образ жизни (ЗОЖ) </a:t>
            </a:r>
            <a:r>
              <a:rPr b="0" lang="ru-RU" sz="2400" spc="-1" strike="noStrike">
                <a:solidFill>
                  <a:srgbClr val="190019"/>
                </a:solidFill>
                <a:latin typeface="Arial"/>
              </a:rPr>
              <a:t>— образ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019"/>
                </a:solidFill>
                <a:latin typeface="Arial"/>
              </a:rPr>
              <a:t>отдельного человека с целью профилактики болезней и укрепления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. 9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1"/>
          <a:stretch/>
        </p:blipFill>
        <p:spPr>
          <a:xfrm>
            <a:off x="7286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2"/>
          <a:stretch/>
        </p:blipFill>
        <p:spPr>
          <a:xfrm>
            <a:off x="3071880" y="421488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7773c"/>
                </a:solidFill>
                <a:latin typeface="Times New Roman"/>
              </a:rPr>
              <a:t>Главные составляющие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914400" y="1571760"/>
            <a:ext cx="7372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агубные привычки, вредящие нашему здоровью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Содержимое 4" descr=""/>
          <p:cNvPicPr/>
          <p:nvPr/>
        </p:nvPicPr>
        <p:blipFill>
          <a:blip r:embed="rId1"/>
          <a:stretch/>
        </p:blipFill>
        <p:spPr>
          <a:xfrm>
            <a:off x="1714680" y="1571760"/>
            <a:ext cx="58114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ъект WordArt 19"/>
          <p:cNvSpPr txBox="1"/>
          <p:nvPr/>
        </p:nvSpPr>
        <p:spPr>
          <a:xfrm>
            <a:off x="1116000" y="500040"/>
            <a:ext cx="72421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1" name="Прямоуг. 28"/>
          <p:cNvSpPr/>
          <p:nvPr/>
        </p:nvSpPr>
        <p:spPr>
          <a:xfrm>
            <a:off x="755640" y="2004120"/>
            <a:ext cx="39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 приводит к рождению слабых, с низким весом детей, и кормящим женщинам, так как повышает заболеваемость и смертность детей в первые годы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99090_20041023132959.jpg"/>
          <p:cNvPicPr/>
          <p:nvPr/>
        </p:nvPicPr>
        <p:blipFill>
          <a:blip r:embed="rId1"/>
          <a:stretch/>
        </p:blipFill>
        <p:spPr>
          <a:xfrm>
            <a:off x="5500800" y="1643040"/>
            <a:ext cx="290988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8"/>
          <p:cNvSpPr/>
          <p:nvPr/>
        </p:nvSpPr>
        <p:spPr>
          <a:xfrm>
            <a:off x="6147000" y="4714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9" descr=""/>
          <p:cNvPicPr/>
          <p:nvPr/>
        </p:nvPicPr>
        <p:blipFill>
          <a:blip r:embed="rId2"/>
          <a:stretch/>
        </p:blipFill>
        <p:spPr>
          <a:xfrm>
            <a:off x="4376880" y="4584600"/>
            <a:ext cx="5425920" cy="27241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0" descr=""/>
          <p:cNvPicPr/>
          <p:nvPr/>
        </p:nvPicPr>
        <p:blipFill>
          <a:blip r:embed="rId3"/>
          <a:stretch/>
        </p:blipFill>
        <p:spPr>
          <a:xfrm>
            <a:off x="5638680" y="3895560"/>
            <a:ext cx="2511720" cy="73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 болезненное пристрастие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исходит 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рушается деятельность центральной и периферической нервной системы (психозы, невроз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ожалению, в России много пьющих людей. Только мы сами можем остановить это безум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ъект WordArt 7"/>
          <p:cNvSpPr txBox="1"/>
          <p:nvPr/>
        </p:nvSpPr>
        <p:spPr>
          <a:xfrm>
            <a:off x="2428920" y="549360"/>
            <a:ext cx="5959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TextBox 5" descr=""/>
          <p:cNvPicPr/>
          <p:nvPr/>
        </p:nvPicPr>
        <p:blipFill>
          <a:blip r:embed="rId1"/>
          <a:stretch/>
        </p:blipFill>
        <p:spPr>
          <a:xfrm>
            <a:off x="6523200" y="1889280"/>
            <a:ext cx="206676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seneka.jpg"/>
          <p:cNvPicPr/>
          <p:nvPr/>
        </p:nvPicPr>
        <p:blipFill>
          <a:blip r:embed="rId2"/>
          <a:stretch/>
        </p:blipFill>
        <p:spPr>
          <a:xfrm>
            <a:off x="4714920" y="1571760"/>
            <a:ext cx="1714320" cy="20923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p4.jpg"/>
          <p:cNvPicPr/>
          <p:nvPr/>
        </p:nvPicPr>
        <p:blipFill>
          <a:blip r:embed="rId3"/>
          <a:stretch/>
        </p:blipFill>
        <p:spPr>
          <a:xfrm>
            <a:off x="4714920" y="3857760"/>
            <a:ext cx="4000320" cy="257148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132" name="Picture 6" descr="D:\фотки\фотки\школа\класс\8 класс\поделка о ЗОЖ\PC032443.JPG"/>
          <p:cNvPicPr/>
          <p:nvPr/>
        </p:nvPicPr>
        <p:blipFill>
          <a:blip r:embed="rId4"/>
          <a:stretch/>
        </p:blipFill>
        <p:spPr>
          <a:xfrm>
            <a:off x="642960" y="285840"/>
            <a:ext cx="1643040" cy="1231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4200" y="164268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бъект WordArt 35"/>
          <p:cNvSpPr txBox="1"/>
          <p:nvPr/>
        </p:nvSpPr>
        <p:spPr>
          <a:xfrm>
            <a:off x="914400" y="277920"/>
            <a:ext cx="7772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10800000">
            <a:off x="4876200" y="1530000"/>
            <a:ext cx="380988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14880" y="1642680"/>
            <a:ext cx="2481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Arial"/>
              </a:rPr>
              <a:t>Факты:</a:t>
            </a: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 у 20% детей наркоманов – «слабоумие» и физическое уродство – это </a:t>
            </a:r>
            <a:r>
              <a:rPr b="1" lang="ru-RU" sz="2000" spc="-1" strike="noStrike" u="sng">
                <a:solidFill>
                  <a:srgbClr val="bf0000"/>
                </a:solidFill>
                <a:uFillTx/>
                <a:latin typeface="Times New Roman"/>
                <a:ea typeface="Arial"/>
              </a:rPr>
              <a:t>каждый четвертый</a:t>
            </a: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 ребен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200 тысяч человек  больны СПИДом, из 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молодежь от </a:t>
            </a:r>
            <a:r>
              <a:rPr b="1" lang="ru-RU" sz="2000" spc="-1" strike="noStrike" u="sng">
                <a:solidFill>
                  <a:srgbClr val="bf0000"/>
                </a:solidFill>
                <a:uFillTx/>
                <a:latin typeface="Times New Roman"/>
                <a:ea typeface="Arial"/>
              </a:rPr>
              <a:t>15 – 20 лет  </a:t>
            </a:r>
            <a:r>
              <a:rPr b="1" lang="ru-RU" sz="2000" spc="-1" strike="noStrike">
                <a:solidFill>
                  <a:srgbClr val="bf0000"/>
                </a:solidFill>
                <a:latin typeface="Times New Roman"/>
                <a:ea typeface="Arial"/>
              </a:rPr>
              <a:t>составляет </a:t>
            </a:r>
            <a:r>
              <a:rPr b="1" lang="ru-RU" sz="2000" spc="-1" strike="noStrike" u="sng">
                <a:solidFill>
                  <a:srgbClr val="bf0000"/>
                </a:solidFill>
                <a:uFillTx/>
                <a:latin typeface="Times New Roman"/>
                <a:ea typeface="Arial"/>
              </a:rPr>
              <a:t>72%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1971mad.jpg"/>
          <p:cNvPicPr/>
          <p:nvPr/>
        </p:nvPicPr>
        <p:blipFill>
          <a:blip r:embed="rId3"/>
          <a:stretch/>
        </p:blipFill>
        <p:spPr>
          <a:xfrm>
            <a:off x="7000920" y="1714680"/>
            <a:ext cx="1928880" cy="47145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40179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организм получает энергии больше, чем расходует, то есть,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ъект WordArt 7"/>
          <p:cNvSpPr txBox="1"/>
          <p:nvPr/>
        </p:nvSpPr>
        <p:spPr>
          <a:xfrm>
            <a:off x="571680" y="357120"/>
            <a:ext cx="47862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6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0" name="Рисунок 17" descr="CA7U2X7F"/>
          <p:cNvPicPr/>
          <p:nvPr/>
        </p:nvPicPr>
        <p:blipFill>
          <a:blip r:embed="rId1"/>
          <a:stretch/>
        </p:blipFill>
        <p:spPr>
          <a:xfrm>
            <a:off x="5857920" y="3929040"/>
            <a:ext cx="2733480" cy="2433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. 18"/>
          <p:cNvSpPr/>
          <p:nvPr/>
        </p:nvSpPr>
        <p:spPr>
          <a:xfrm>
            <a:off x="971640" y="4581360"/>
            <a:ext cx="48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929200" y="1643040"/>
            <a:ext cx="2714760" cy="2067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475240" y="645840"/>
            <a:ext cx="364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"Мы живем не для того, чтобы е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а для того, чтобы жить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Dotum"/>
              </a:rPr>
              <a:t>Сок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2011</cp:lastModifiedBy>
  <dcterms:modified xsi:type="dcterms:W3CDTF">2015-04-20T15:04:12Z</dcterms:modified>
  <cp:revision>55</cp:revision>
  <dc:subject/>
  <dc:title>Здоровый образ  жизни</dc:title>
</cp:coreProperties>
</file>