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67A-690F-4572-8526-C7CABF271E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7994-EB62-4C15-9D55-75191E154CE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740B-F0ED-48BD-85A3-92C89146CE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97E-4112-45E5-9BEB-826A27B5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A79-096D-4145-97A2-09C79306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9D2A5-D46A-4C03-B404-76D12EB6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FF9D2-1A1C-4CDE-9B26-1FF9032B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C51DD-A943-4D26-B13A-7FE8FE5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5E366-3FE5-4655-8A73-DFFF0221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52FFF-8D57-4F8B-8870-2D3BAB7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1EE44-23BC-4CD5-95DF-65C5925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5EB12-610E-48F2-BAA7-C709D576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39D58-D015-445F-B674-C5863846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44DA0-25B1-4EA9-B5F7-03D904BA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CAF33-BB37-4EA5-ADBA-CA4B0132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E43-875D-4C61-82F7-38F2DDE3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10BED-8144-4CD4-B559-70297EA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908B6-7AE7-4333-8DAB-D635C4C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C0F66-72EC-4D89-BBC2-77A6617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026BB-6256-4221-8819-E8BC7073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C9C54-A305-4E30-A6E8-CD5F365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E5A04-5092-4F0D-AB7A-9A06E01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8CF75-CB6D-4105-A4CD-D62CFE4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9F088-0FBF-45F0-AAC2-414855C1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C79AE-F076-41A0-BFF5-3475700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10779-88C2-46C0-AFB1-BF3D23CA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C74-CF0A-4323-A577-A4D45391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B852D-A7AB-44AC-9165-BD2C007D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763E9-DBC2-47AF-90FC-9A0664E1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97ED3-EAE2-4090-86B2-CE2D970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070F3-2E4F-46F8-A24E-482A7631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16441-C9F6-47A0-A86E-170C68D2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E72E-E4B2-4BFD-93AB-68BBDF9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35182-24FB-4573-8BA5-8CEDED0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CF0EA-12B7-46F2-A77C-725031B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D6A5A-57DF-40BB-B1DC-2EF570F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20BC7-1329-4F6D-9FB6-21C94C7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C698-79FF-4A50-8F42-787D7B5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5C2E-0108-4BD3-BE6C-B6D6F064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E735D-9CF4-4D67-8D67-BF078F05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D3389-5383-421F-B58F-B873B5DA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41B6B-2095-4613-B8C7-4C2DE548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C78E3-8F23-4A86-9337-F21D95F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6CED8-4BB3-41A4-A6AC-5A116873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0BD55-D076-48D1-AE43-E2B466F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6290C-11CB-48B3-B2B0-55599B6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3A657-8FA0-4882-9FDC-E72ADFCA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527E5-20C4-4666-A321-82162DA4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5B8A-CE81-42A1-B098-8682D47E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A5625-1903-4066-A21F-5CF16B8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8BCA3-E7C0-4F4C-AF12-9C670477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248EA-BF23-4B82-9B4E-2D22387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1B936-986F-4321-A3B2-F34F6860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C707C-C093-44BB-83E2-021080C5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C6C-899F-40A7-B816-3A631CA1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B98-200D-4F0D-BE3B-D9BD32B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7FDF-FA39-47E0-8D66-50CFFF32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3D56-82E0-4D85-B963-9FF8E6B3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0623-C9DF-4D05-A0E2-E0BB28B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3C9-5B01-4E48-B541-0AF331A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AB6-4B7A-4A53-816D-74F9B977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A55-92BE-4D75-B8AD-F4E9A4A9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7B59-A48B-4713-A382-394CCA3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3482-60A4-40E4-AD8B-5F4EC01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45CA-D33F-4584-9FCF-DCBD27CD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1489-11A4-430F-98BB-6DAB0641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3FA9-90F3-4892-800F-D652B3BC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3E83-64C0-4505-8C35-4318E19C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0B1E-3AFE-4EAD-8FC6-2280A8E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9B3A-3C53-463E-BF93-4460FD9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194-B46C-4F20-B1B0-12E98606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D61F-E6B0-4A1B-82F7-71E9AF2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A197-3587-4B16-9E9D-40024CB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1EA5-0637-4D12-9E9F-23ACDB1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97EB-99DA-4F94-9FE9-F89A51E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D8EE-285D-4F54-A779-EEA6778D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B33A-58AF-49F6-8211-668CDF54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1CDE-DC1E-4435-BD23-AED3D87A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5E8C-21EC-430C-A0C8-F834387E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0F01-1A6C-444B-B3EA-D89986D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641C-9DA4-4074-ABC5-D241E4F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03F-36CA-451F-A01B-CE5619A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92A5-06F2-4346-8720-6CBCE30B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E98C-A6DD-4A74-982F-9E1B04AE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AAF3-CB0B-4F80-ADA2-9158080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7A52-B927-4474-BF08-460EAB4B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CA1F-4DE9-4767-9C1C-B823A8F7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9C7A-90D8-44DE-BF4C-05882AA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B3F6D-640F-4E27-917B-4427B00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2482-38A3-4696-9DEC-62A5E2D0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EDE3F-8092-4707-ADAA-7B862191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8C95-62D7-4D23-B8EA-350FB70B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5EB-EEB4-4B2B-B9FF-8012122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2DD1-A59F-44BD-BC27-74DF98A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24C67-D596-4BD5-B579-A21ADE04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A312-7051-43A8-A612-B19C5CF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20C67-8E60-4F54-B6B5-7DA066C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F626-3117-4CCF-B16E-18A10266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2D39-6B57-4FC4-9A02-DCAAA0F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8CAD-CFD2-4179-9E4C-E551750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9B1C-71DC-4939-8B81-237CE0E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3C8B-4BFD-4986-813C-18917F1A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0AF17-5944-4AB9-BC08-6331DB91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31C-7599-4E1B-BD81-8C0976B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9035-620C-4C76-B383-B0050543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3394-6FE2-4A1B-99CD-51B3132E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ED011-BEF0-4CF9-9944-13715AC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1289-43DA-4DAC-9CDA-2C720DE5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2067-F370-4425-813C-4A82374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B535-FD5A-4753-84C9-FBA14014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305D0-680F-4432-A971-B0AFD046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DC1A2-E5DB-46BC-827F-4FC05A1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DA7A-C6A1-4EF1-9A9D-A5594A6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EFD0-8123-4E46-8DBC-7D3E906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F1F-6EB3-4167-AE8F-6563138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733B-8A7B-4D6A-B9A0-AA176EC8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24C7-D070-4B65-91D1-AE802ABC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7CA9-A6BC-438A-A0B7-61D12966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D2EA-4470-40E6-8125-A90C01A1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B71D5-D8FD-4D70-937E-1067BE10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25FC-7480-4D00-BEB8-9519D14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4943-42D4-41D1-99A8-341FFCD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096D-B5D5-4FE5-A6FA-595EDB87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AFCD-BFD2-4FBB-93D8-CC8E0972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27957-593C-4C08-A216-E6BF0A18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438-9012-4BD6-BE1D-1306891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31C2-ED7F-49C9-9D26-3E01F71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6290F-A940-4326-B29D-7416C20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F51D0-10FC-4EC6-B5CC-EC29249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4CD8F-1C48-43E4-A8FF-3F2DE324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C0F81-5EA4-4C22-A9DC-F620B291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11EB9-259E-4E57-A372-FCCFDFD9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B0ED1-BEB7-4C0D-97CC-EA8DD52B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DD6A9-9900-4AD8-A184-08DEF2FD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F66AB-5498-477C-AED7-414EC7B7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F1AA1-DAF8-49EE-9ED0-1EDF1D43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C77-314A-4F8C-9B7D-8403D56C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AB30F-5423-4340-AEFC-2171968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70517-62D9-443A-8572-8B5F5D1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5B3B-8869-44CC-B047-6138E51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0697E-854C-4AEC-9157-989DEB0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5B3A-DF99-410B-87D2-D0D163C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DDB1-4561-4770-9021-6D144A79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FC4A1-3FD7-418D-8361-E24406CC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1D981-C143-493B-B592-FB933FC8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20E36-95B9-4DD0-8C35-B4C9C12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EC723-8EA7-430B-8225-06D4F307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709-7AB0-4D69-B9A8-84C2AAA43CC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4A9E-AAE6-46A8-854E-C92C9261C7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196-D161-4362-9C04-8CF974A6B19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2793-AD4D-46E7-A6D8-01F165868D6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1FA0-4741-49DB-B02E-4149F459B7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3911-6473-43D5-9DB6-C8FD2165ACE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CA7-87A9-42C9-902C-E6AD437520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9778-9461-43D7-A273-F9C7EBEF53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541F-5F2C-4032-A1AC-944BE3A50F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DB83-D28C-4B16-868B-6858F95CFA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F86D-1A57-444F-A1E4-F5A26C494A8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DAE2-5F03-4C96-B7F5-4EE86A2A58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423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Истор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дзержинского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аэроклуб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им. Н.П.Каманина</a:t>
            </a:r>
            <a:br>
              <a:rPr sz="4400"/>
            </a:b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музея: Охапкина Н.Н.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ЗО МБОУ «Средняя школа № 35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Дзержинск  Нижегородской области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Барковский Эдуард Эдуард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Picture 5" descr="C:\Users\germanich-o\Desktop\Рисунок38.jpg"/>
          <p:cNvPicPr/>
          <p:nvPr/>
        </p:nvPicPr>
        <p:blipFill>
          <a:blip r:embed="rId1"/>
          <a:stretch/>
        </p:blipFill>
        <p:spPr>
          <a:xfrm>
            <a:off x="539640" y="1773360"/>
            <a:ext cx="3330720" cy="4457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" descr="C:\Users\germanich-o\Desktop\Рисунок39.jpg"/>
          <p:cNvPicPr/>
          <p:nvPr/>
        </p:nvPicPr>
        <p:blipFill>
          <a:blip r:embed="rId2"/>
          <a:stretch/>
        </p:blipFill>
        <p:spPr>
          <a:xfrm>
            <a:off x="3995640" y="2421000"/>
            <a:ext cx="458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Чукалин Николай Иван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6" descr="C:\Users\germanich-o\Desktop\Рисунок4.jpg"/>
          <p:cNvPicPr/>
          <p:nvPr/>
        </p:nvPicPr>
        <p:blipFill>
          <a:blip r:embed="rId1"/>
          <a:stretch/>
        </p:blipFill>
        <p:spPr>
          <a:xfrm>
            <a:off x="5219640" y="1557360"/>
            <a:ext cx="2986200" cy="4464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C:\Users\germanich-o\Desktop\Рисунок6.jpg"/>
          <p:cNvPicPr/>
          <p:nvPr/>
        </p:nvPicPr>
        <p:blipFill>
          <a:blip r:embed="rId2"/>
          <a:stretch/>
        </p:blipFill>
        <p:spPr>
          <a:xfrm>
            <a:off x="684360" y="2492280"/>
            <a:ext cx="3760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ереговой Иван Григорье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3" name="Picture 6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214280" y="1628640"/>
            <a:ext cx="3434040" cy="4321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img153"/>
          <p:cNvPicPr/>
          <p:nvPr/>
        </p:nvPicPr>
        <p:blipFill>
          <a:blip r:embed="rId2"/>
          <a:stretch/>
        </p:blipFill>
        <p:spPr>
          <a:xfrm>
            <a:off x="5219640" y="1268280"/>
            <a:ext cx="3160800" cy="2000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C:\Users\germanich-o\Desktop\Рисунок7.jpg"/>
          <p:cNvPicPr/>
          <p:nvPr/>
        </p:nvPicPr>
        <p:blipFill>
          <a:blip r:embed="rId3"/>
          <a:stretch/>
        </p:blipFill>
        <p:spPr>
          <a:xfrm>
            <a:off x="5219640" y="3716280"/>
            <a:ext cx="3638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одина Таисия Александровна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6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042920" y="1700280"/>
            <a:ext cx="2944800" cy="4167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C:\Users\germanich-o\Desktop\Рисунок5.jpg"/>
          <p:cNvPicPr/>
          <p:nvPr/>
        </p:nvPicPr>
        <p:blipFill>
          <a:blip r:embed="rId2"/>
          <a:stretch/>
        </p:blipFill>
        <p:spPr>
          <a:xfrm>
            <a:off x="4284720" y="2133720"/>
            <a:ext cx="43956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асов Николай Михайл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0" name="Picture 4" descr="C:\Users\germanich-o\Desktop\Рисунок34.jpg"/>
          <p:cNvPicPr/>
          <p:nvPr/>
        </p:nvPicPr>
        <p:blipFill>
          <a:blip r:embed="rId1"/>
          <a:stretch/>
        </p:blipFill>
        <p:spPr>
          <a:xfrm>
            <a:off x="1763640" y="1844640"/>
            <a:ext cx="585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отапов Александр Дмитриевич</a:t>
            </a:r>
            <a:br>
              <a:rPr sz="20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Picture 4" descr="C:\Users\germanich-o\Desktop\Рисунок33.jpg"/>
          <p:cNvPicPr/>
          <p:nvPr/>
        </p:nvPicPr>
        <p:blipFill>
          <a:blip r:embed="rId1"/>
          <a:stretch/>
        </p:blipFill>
        <p:spPr>
          <a:xfrm>
            <a:off x="1619280" y="1557360"/>
            <a:ext cx="60926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26560" y="566100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1 год служил Александр Дмитриевич в авиаци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ил 17 типов самолетов, налетал 4500 часов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которых 500 часов – ноч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4" name="Picture 7" descr="C:\Users\germanich-o\Desktop\Рисунок6.jpg"/>
          <p:cNvPicPr/>
          <p:nvPr/>
        </p:nvPicPr>
        <p:blipFill>
          <a:blip r:embed="rId1"/>
          <a:stretch/>
        </p:blipFill>
        <p:spPr>
          <a:xfrm>
            <a:off x="4932360" y="2924280"/>
            <a:ext cx="3252960" cy="2448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8" descr="C:\Users\germanich-o\Desktop\Рисунок7.jpg"/>
          <p:cNvPicPr/>
          <p:nvPr/>
        </p:nvPicPr>
        <p:blipFill>
          <a:blip r:embed="rId2"/>
          <a:stretch/>
        </p:blipFill>
        <p:spPr>
          <a:xfrm>
            <a:off x="5003640" y="404640"/>
            <a:ext cx="3062520" cy="2303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9" descr="C:\Users\germanich-o\Desktop\Рисунок8.jpg"/>
          <p:cNvPicPr/>
          <p:nvPr/>
        </p:nvPicPr>
        <p:blipFill>
          <a:blip r:embed="rId3"/>
          <a:stretch/>
        </p:blipFill>
        <p:spPr>
          <a:xfrm>
            <a:off x="1042920" y="1557360"/>
            <a:ext cx="2765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Хренов Александр Павл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8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2987640" y="1557360"/>
            <a:ext cx="3495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гостях у брата  Героя Советского Союза Александра Молева и Тихонина Юрия Ксенофонтовича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0" name="Picture 4" descr="C:\Users\germanich-o\Desktop\Рисунок9.jpg"/>
          <p:cNvPicPr/>
          <p:nvPr/>
        </p:nvPicPr>
        <p:blipFill>
          <a:blip r:embed="rId1"/>
          <a:stretch/>
        </p:blipFill>
        <p:spPr>
          <a:xfrm>
            <a:off x="1835280" y="1628640"/>
            <a:ext cx="5796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C:\Users\germanich-o\Desktop\Рисунок27.png"/>
          <p:cNvPicPr/>
          <p:nvPr/>
        </p:nvPicPr>
        <p:blipFill>
          <a:blip r:embed="rId1"/>
          <a:stretch/>
        </p:blipFill>
        <p:spPr>
          <a:xfrm>
            <a:off x="1763640" y="549360"/>
            <a:ext cx="5621400" cy="42242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11280" y="508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 музея МОУ СОШ № 35 собирает материал об истории Дзержинского аэроклуба имени Н.П.Каманина. Большую работу по возрождению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дрома в Бабино проводит заместитель мэра Дзержинска Хилов А.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глашению Алексея Юрьевича мы посетили Бабинский аэродр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Зарождение авиации в Дзержинске</a:t>
            </a:r>
            <a:br>
              <a:rPr sz="27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3027240" cy="2016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787640" y="1267920"/>
            <a:ext cx="3887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ередине 30-х годов в Дзержинске появились первые признаки зарождения авиаци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4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1935 году была создана городская детская техническая станция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9" descr="C:\Users\germanich-o\Desktop\Рисунок5.png"/>
          <p:cNvPicPr/>
          <p:nvPr/>
        </p:nvPicPr>
        <p:blipFill>
          <a:blip r:embed="rId2"/>
          <a:stretch/>
        </p:blipFill>
        <p:spPr>
          <a:xfrm>
            <a:off x="755640" y="3645000"/>
            <a:ext cx="3787920" cy="2520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C:\Users\germanich-o\Desktop\Рисунок1.jpg"/>
          <p:cNvPicPr/>
          <p:nvPr/>
        </p:nvPicPr>
        <p:blipFill>
          <a:blip r:embed="rId3"/>
          <a:stretch/>
        </p:blipFill>
        <p:spPr>
          <a:xfrm>
            <a:off x="5148360" y="3500280"/>
            <a:ext cx="3522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ктив школьного музея МОУ СОШ № 35 – дружная команда!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4" name="Picture 4" descr="C:\Users\germanich-o\Desktop\Рисунок17.png"/>
          <p:cNvPicPr/>
          <p:nvPr/>
        </p:nvPicPr>
        <p:blipFill>
          <a:blip r:embed="rId1"/>
          <a:stretch/>
        </p:blipFill>
        <p:spPr>
          <a:xfrm>
            <a:off x="1692360" y="1700280"/>
            <a:ext cx="56512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ткрытие зала воинской славы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6" name="Picture 4" descr="C:\Users\germanich-o\Desktop\Рисунок16.jpg"/>
          <p:cNvPicPr/>
          <p:nvPr/>
        </p:nvPicPr>
        <p:blipFill>
          <a:blip r:embed="rId1"/>
          <a:stretch/>
        </p:blipFill>
        <p:spPr>
          <a:xfrm>
            <a:off x="1835280" y="184464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ервые планеристы города. 1934 год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5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835280" y="1628640"/>
            <a:ext cx="5592600" cy="381636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1934году для занятий молодежи руководство завода им. Свердлова приобрело планер УС-2.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688b"/>
                </a:solidFill>
                <a:latin typeface="Georgia"/>
              </a:rPr>
              <a:t>1935 г. Планерный кружок на пос. Свердлова.</a:t>
            </a:r>
            <a:r>
              <a:rPr b="0" lang="ru-RU" sz="2500" spc="-1" strike="noStrike">
                <a:solidFill>
                  <a:srgbClr val="5f688b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6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826920" y="1413000"/>
            <a:ext cx="2730600" cy="37656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сной 1935 года в город прибыли два самолета У-2. Осень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брали первую группу курсантов. Борис Трухин, токарь завода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л инструктором-планеристом при аэроклуб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7" descr="C:\Users\germanich-o\Desktop\Рисунок3.png"/>
          <p:cNvPicPr/>
          <p:nvPr/>
        </p:nvPicPr>
        <p:blipFill>
          <a:blip r:embed="rId2"/>
          <a:stretch/>
        </p:blipFill>
        <p:spPr>
          <a:xfrm>
            <a:off x="4140360" y="1844640"/>
            <a:ext cx="44510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ервый выпуск пилотов  аэроклуба. 1936 год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4" descr="C:\Users\germanich-o\Desktop\Рисунок9.png"/>
          <p:cNvPicPr/>
          <p:nvPr/>
        </p:nvPicPr>
        <p:blipFill>
          <a:blip r:embed="rId1"/>
          <a:stretch/>
        </p:blipFill>
        <p:spPr>
          <a:xfrm>
            <a:off x="1692360" y="1773360"/>
            <a:ext cx="57722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Г.И.Макаров – начальник аэроклуба 1936-1938г.г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Picture 5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900000" y="1628640"/>
            <a:ext cx="3292560" cy="4446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зиме 1936-1937 г.г. Г.И.Макаров перебазировал материальную часть аэроклуба с Бабушкинского аэродрома в Бабино, получил новую технику. К началу полетов весной 1937 года был построен новый аэродром с ангаром для самолетов, планер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2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324000" y="771480"/>
            <a:ext cx="1584000" cy="2232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C:\Users\germanich-o\Desktop\Рисунок3.jpg"/>
          <p:cNvPicPr/>
          <p:nvPr/>
        </p:nvPicPr>
        <p:blipFill>
          <a:blip r:embed="rId2"/>
          <a:stretch/>
        </p:blipFill>
        <p:spPr>
          <a:xfrm>
            <a:off x="2124000" y="907920"/>
            <a:ext cx="1511280" cy="2132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C:\Users\germanich-o\Desktop\Рисунок4.jpg"/>
          <p:cNvPicPr/>
          <p:nvPr/>
        </p:nvPicPr>
        <p:blipFill>
          <a:blip r:embed="rId3"/>
          <a:stretch/>
        </p:blipFill>
        <p:spPr>
          <a:xfrm>
            <a:off x="3862440" y="836640"/>
            <a:ext cx="1533600" cy="2160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5" descr="C:\Users\germanich-o\Desktop\Рисунок5.jpg"/>
          <p:cNvPicPr/>
          <p:nvPr/>
        </p:nvPicPr>
        <p:blipFill>
          <a:blip r:embed="rId4"/>
          <a:stretch/>
        </p:blipFill>
        <p:spPr>
          <a:xfrm>
            <a:off x="7020000" y="765000"/>
            <a:ext cx="1665360" cy="2346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6" descr="C:\Users\germanich-o\Desktop\Рисунок6.png"/>
          <p:cNvPicPr/>
          <p:nvPr/>
        </p:nvPicPr>
        <p:blipFill>
          <a:blip r:embed="rId5"/>
          <a:stretch/>
        </p:blipFill>
        <p:spPr>
          <a:xfrm>
            <a:off x="5508720" y="907920"/>
            <a:ext cx="1469880" cy="2089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7" descr="C:\Users\germanich-o\Desktop\Рисунок7.jpg"/>
          <p:cNvPicPr/>
          <p:nvPr/>
        </p:nvPicPr>
        <p:blipFill>
          <a:blip r:embed="rId6"/>
          <a:stretch/>
        </p:blipFill>
        <p:spPr>
          <a:xfrm>
            <a:off x="384120" y="3573360"/>
            <a:ext cx="1736640" cy="2448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8" descr="C:\Users\germanich-o\Desktop\Рисунок8.jpg"/>
          <p:cNvPicPr/>
          <p:nvPr/>
        </p:nvPicPr>
        <p:blipFill>
          <a:blip r:embed="rId7"/>
          <a:stretch/>
        </p:blipFill>
        <p:spPr>
          <a:xfrm>
            <a:off x="2411280" y="3573360"/>
            <a:ext cx="1738440" cy="2448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9" descr="C:\Users\germanich-o\Desktop\Рисунок9.jpg"/>
          <p:cNvPicPr/>
          <p:nvPr/>
        </p:nvPicPr>
        <p:blipFill>
          <a:blip r:embed="rId8"/>
          <a:stretch/>
        </p:blipFill>
        <p:spPr>
          <a:xfrm>
            <a:off x="4500720" y="3573360"/>
            <a:ext cx="1787400" cy="25196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0" descr="C:\Users\germanich-o\Desktop\Рисунок10.jpg"/>
          <p:cNvPicPr/>
          <p:nvPr/>
        </p:nvPicPr>
        <p:blipFill>
          <a:blip r:embed="rId9"/>
          <a:stretch/>
        </p:blipFill>
        <p:spPr>
          <a:xfrm>
            <a:off x="6659640" y="3645000"/>
            <a:ext cx="1738080" cy="2449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817884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Курсанты дзержинского аэроклуба- Герои Советского Союза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940 г. Конышев Н.С. – командир отряда аэроклуба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5" descr="C:\Users\germanich-o\Desktop\Рисунок11.png"/>
          <p:cNvPicPr/>
          <p:nvPr/>
        </p:nvPicPr>
        <p:blipFill>
          <a:blip r:embed="rId1"/>
          <a:stretch/>
        </p:blipFill>
        <p:spPr>
          <a:xfrm>
            <a:off x="611280" y="1700280"/>
            <a:ext cx="2797200" cy="4201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C:\Users\germanich-o\Desktop\Рисунок13.png"/>
          <p:cNvPicPr/>
          <p:nvPr/>
        </p:nvPicPr>
        <p:blipFill>
          <a:blip r:embed="rId2"/>
          <a:stretch/>
        </p:blipFill>
        <p:spPr>
          <a:xfrm>
            <a:off x="3924360" y="2421000"/>
            <a:ext cx="48196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урсанты  аэроклуба</a:t>
            </a:r>
            <a:br>
              <a:rPr sz="2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Мария Васильевна Конышева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5" name="Picture 7" descr="img135"/>
          <p:cNvPicPr/>
          <p:nvPr/>
        </p:nvPicPr>
        <p:blipFill>
          <a:blip r:embed="rId1"/>
          <a:stretch/>
        </p:blipFill>
        <p:spPr>
          <a:xfrm>
            <a:off x="3059280" y="1628640"/>
            <a:ext cx="3031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2:50:45Z</dcterms:created>
  <dc:creator>Admin</dc:creator>
  <dc:description/>
  <dc:language>en-US</dc:language>
  <cp:lastModifiedBy>germanich-o</cp:lastModifiedBy>
  <dcterms:modified xsi:type="dcterms:W3CDTF">2015-04-17T18:14:28Z</dcterms:modified>
  <cp:revision>51</cp:revision>
  <dc:subject/>
  <dc:title>На Бабинском  аэродроме</dc:title>
</cp:coreProperties>
</file>