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558-7917-471D-8BFC-D04BC4614A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AA1-FE44-4405-AB66-E29187694CB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F0D1-CB67-44B9-BB4F-7A806771D1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569-1167-4580-BC06-B394AAB3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AB8-4D61-41F3-8ECD-278BA7D4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3292B-C6AE-44EF-9C98-C7B4711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4CDF3-E5F2-495F-81C8-5C13B34A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C1183-9236-41E2-8837-9D04470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96B32-9E0E-4D10-A315-6BA50A2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E6486-66B1-49F4-A29E-7D57E16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A7BFD-BE14-4EE5-978A-FBF1AC2C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54D71-8A4A-4C2C-8633-95A4A13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9342C-DC31-4AD6-9AEF-4DCCE5DF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0F298-7A3B-43CC-B8B9-4466CED3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93D85-BCC5-4051-9F5C-3A2461C0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7F0-E6D2-444C-B01D-0FBD0199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B4338-58EA-4107-8F76-0B94C463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7BD7C-8EB7-48E9-B533-2D3FB94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1A781-56D5-4038-8072-0D3D79D1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085D3-AEF7-41B8-AD60-1D6DC31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7F87F-ED22-4182-8B60-357F3DF7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42F1E-D3B0-43C1-8827-A7CA8A9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FC96B-B412-4CA4-91C7-E66AFB8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45AED-0D09-42F9-8214-3280AE0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4A9F1-1090-424B-A774-FEC1DC5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359F4-D62C-45E2-BF54-0A01434B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DFC-E917-4CBE-9512-95CFFD29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77154-14A0-4B9E-BC63-27B887FD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ECB0-1C67-41C6-AD4D-C9D9A558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BF30-1EC7-4DBB-8D42-16D8FB48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3BF72-5DD0-4F48-8A4F-B1C0CD6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3A66E-255C-4D84-BCAC-1F10B6D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B88E1-C170-48E2-B766-5443FE8F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58F7-FDC6-4A05-B6B9-4AD9F56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9973E-4331-4123-8010-CCE6FC8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EF57-91BA-4EDB-A48C-8B0D491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134E6-5A77-4C29-982A-0A482FA9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0EC-94E8-4B01-9DBA-E679BB98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B3FA6-3146-400F-A07B-DF10A9C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F1883-FF90-4AAC-A20B-A0C4E0A4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E2D3-A737-4CD4-B96E-72F8753F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49CBD-B076-4CA1-8A9E-BEE639CF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58878-A8D9-4751-9D1F-83AE7E4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D7E47-BD8B-4FEF-BFC5-4BC2CA08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4F428-8F7D-44B4-936C-47464323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2B6F5-750D-445F-88D5-B439ABAC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CE16C-3D42-4D53-8433-E6820AC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B1051-E098-43A5-AE90-E502EAFB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2396-7B6D-42F7-B4D0-BF168FA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14C2D-A611-4541-938A-9FFC3755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B428E-2CE7-492E-BBB0-11E0AA0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FB3B8-A9AA-4ABF-BCEB-6B1E281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35BD1-DA03-410F-849B-8707EA6C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F3B9D-4880-4E37-86ED-4AB64579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EFA7-7CE3-4521-B7BE-5657D59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655C-A63E-4593-A898-EA27A726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228B-7B1B-4706-8968-FF1AB6C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E00-4B1F-4BB1-A855-49D6C798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A076-533D-4A93-A257-BA04679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0EB-7BC2-4B61-A252-334C442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63C5-B7FA-4C3B-AD77-63A501F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E96-4860-4D60-A006-00AF8C8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4C2-7298-463C-B479-131D8B0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18A1-CF2E-4DD8-9A97-8FC8708B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6B4F-94F9-4BD5-A72C-587F2FDD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D86A-67C7-47D3-B00C-38F6D820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0FAA-5471-4655-A52A-74FDBB43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6EDF-B802-4E0B-B1F5-528B0A61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713C-0568-4AA3-90EE-BFD0A56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BFBF-16E7-41A3-93C7-71F123CB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830-BCA3-48D8-A499-41E0B22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8D50-BD29-43AF-94BC-078487D7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5892E-3C86-46F1-8D2F-A140E2D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51CA-A102-49EF-B5B3-5626135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658C-8C58-4D1D-90B5-0804AAF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3E4C-B4A3-4F2E-B4D8-1156907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83DC-426F-43F1-B3E0-CE9EDADB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BD50-238C-48CE-9A80-B1D836F3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A5BE-4D63-4F52-B3CE-34985AB4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7F05-FF33-42DE-890A-970F329C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7792-7312-4940-8937-F38D34A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DE5-92FA-42D5-9D5F-6C7D0B4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82C3B-54A7-4321-AED5-A0D5DEA0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0616-0A70-4131-83D3-29BF4710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4335-D5D7-4D90-8318-4EFF1A2B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6432-BCEE-4CB3-A03A-B92BF3E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59BE-3DF8-4673-80E1-675EF4A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30F2-14BE-4387-9E98-9D15C1A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FB12-13AB-4F1E-B08C-863A204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1692-5E63-4D7B-8314-91DEEC29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1D65-AD42-4916-9D8A-029283C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8860-715F-40C7-AA1F-D6169213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425-E1AF-4A82-A977-2734905D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F2FF-58DD-4343-9C35-82D91E17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B3CD-13C2-467F-86C8-E7AC525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0B4B-BB54-4555-87E1-56C28CB3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8777-4773-48C3-AA6B-2ADDFA97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5DFA-0610-447B-BB75-B08529F4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7C30-37B0-4F29-BC17-11F7D0E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E8F2-28F4-4B57-90B9-12E8669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D8C6-C26A-45C8-A1C8-0DC76CB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B2430-D010-4C90-8E31-D53BD598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CA06-7D8A-45EA-84ED-C805E146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643-AB15-4600-8E17-453556A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E147-F18A-4EF1-A41A-13BC665B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E61D-0CA9-41C5-B3B4-759B532C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F4E6-D195-4BF8-A535-2B391515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65284-65A5-412F-96E6-0A4F133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8521-337C-41F7-AF45-9DC02B6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4310-FFCE-4653-BB8E-A919073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34C1-FFFE-4DDF-97B5-AE908244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C58A-2408-4726-A7D5-A214BA0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9830-5A11-4116-9AA8-1C9C8084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A263-A1CB-4290-94E0-6742D6C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746-A086-4873-AE00-6834F88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FA96-5ECD-44E9-9C74-3E938F8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1AC2-A052-4588-AF7F-E9A84891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3869-180E-444D-92E8-45C7B6C1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4DC1-3E78-420E-B6B1-E0F79969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EF8F-4366-45EB-9934-31323C6C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29C7-6A40-445B-840B-3176AF2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652E-EF7E-46BF-ADE4-40B80542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3E4B-D77E-4AA9-AF2B-178D5B94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E498-05F1-40DC-A3CB-26E8328C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7291-4802-4102-B722-E1EBFB7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003-DD68-413B-8ED0-CA2E85D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C93A-48DF-4545-BD3C-C7B5600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B914A-19F0-4DFA-9A1D-FD5CAFC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8BF2-54FA-4DCD-ABD3-A166EE2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6F14D-E3A7-4AFE-B10E-4878BBBB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A2196-07E4-4BF3-A255-D386F277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BA565-3794-479E-9470-74EFA9D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3137-6DDB-4101-9488-4F5A7EB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D644-9810-403F-8507-7205D5C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D9CB-E840-42CA-B32E-E8A0F831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EC93B-55D7-4FAC-936D-CCCCFD3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11C-2DEF-4718-AB18-DC68835F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9977-6E49-400D-934B-55F9E6EE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E856F-A9FF-457C-9ABE-80BA7D7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8BF0-3FF3-42BC-A746-6DCE0A2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9DC0-591A-4EA3-A3CC-3315CBD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FB7C4-640F-4684-B9FF-448644C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2D11-B6F2-4025-9976-CBAF1449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53040-B538-4A3F-8CB4-5D5D6D21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1C04F-EC56-47FF-9446-94578B6E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C64AA-1BD4-4EA7-8D28-A520E93D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86617-5E55-44FD-B4F6-746F290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9B93-0089-4FD5-912F-0036D2ABB1E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614-41FC-48D0-A224-5159CFE74D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37F-F5C7-4045-A3BF-B3101AE78F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C9A-3C39-41B2-9089-FC9E55294F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2A7-EB5B-48C4-830D-DF9E10CC05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D014-C57A-422E-99D4-5895CC3A049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937-B217-464D-A044-E60F0C4518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AFD-EAC7-497F-AD33-FE72979917C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C18-1D8A-4D17-8F00-31E4918D6B3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9AE6-6522-4C55-AEDF-79C1927601D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91F-84C1-41F9-A32E-806EE99CB55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DD9-B2A2-4B58-AC67-1CA42458C5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9423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стория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дзержинского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аэроклуб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м. Н.П.Каманина</a:t>
            </a: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музея: Охапкина Н.Н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ЗО МБОУ «Средняя школа № 35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Дзержинск  Нижегородской области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Барковский Эдуард Эдуард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Picture 5" descr="C:\Users\germanich-o\Desktop\Рисунок38.jpg"/>
          <p:cNvPicPr/>
          <p:nvPr/>
        </p:nvPicPr>
        <p:blipFill>
          <a:blip r:embed="rId1"/>
          <a:stretch/>
        </p:blipFill>
        <p:spPr>
          <a:xfrm>
            <a:off x="539640" y="1773360"/>
            <a:ext cx="3330720" cy="4457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C:\Users\germanich-o\Desktop\Рисунок39.jpg"/>
          <p:cNvPicPr/>
          <p:nvPr/>
        </p:nvPicPr>
        <p:blipFill>
          <a:blip r:embed="rId2"/>
          <a:stretch/>
        </p:blipFill>
        <p:spPr>
          <a:xfrm>
            <a:off x="3995640" y="2421000"/>
            <a:ext cx="4587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Чукалин Николай Иван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6" descr="C:\Users\germanich-o\Desktop\Рисунок4.jpg"/>
          <p:cNvPicPr/>
          <p:nvPr/>
        </p:nvPicPr>
        <p:blipFill>
          <a:blip r:embed="rId1"/>
          <a:stretch/>
        </p:blipFill>
        <p:spPr>
          <a:xfrm>
            <a:off x="5219640" y="1557360"/>
            <a:ext cx="2986200" cy="4464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C:\Users\germanich-o\Desktop\Рисунок6.jpg"/>
          <p:cNvPicPr/>
          <p:nvPr/>
        </p:nvPicPr>
        <p:blipFill>
          <a:blip r:embed="rId2"/>
          <a:stretch/>
        </p:blipFill>
        <p:spPr>
          <a:xfrm>
            <a:off x="684360" y="2492280"/>
            <a:ext cx="3760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ереговой Иван Григорье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Picture 6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1214280" y="1628640"/>
            <a:ext cx="3434040" cy="4321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img153"/>
          <p:cNvPicPr/>
          <p:nvPr/>
        </p:nvPicPr>
        <p:blipFill>
          <a:blip r:embed="rId2"/>
          <a:stretch/>
        </p:blipFill>
        <p:spPr>
          <a:xfrm>
            <a:off x="5219640" y="1268280"/>
            <a:ext cx="3160800" cy="2000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" descr="C:\Users\germanich-o\Desktop\Рисунок7.jpg"/>
          <p:cNvPicPr/>
          <p:nvPr/>
        </p:nvPicPr>
        <p:blipFill>
          <a:blip r:embed="rId3"/>
          <a:stretch/>
        </p:blipFill>
        <p:spPr>
          <a:xfrm>
            <a:off x="5219640" y="3716280"/>
            <a:ext cx="3638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дина Таисия Александровна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6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042920" y="1700280"/>
            <a:ext cx="2944800" cy="4167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C:\Users\germanich-o\Desktop\Рисунок5.jpg"/>
          <p:cNvPicPr/>
          <p:nvPr/>
        </p:nvPicPr>
        <p:blipFill>
          <a:blip r:embed="rId2"/>
          <a:stretch/>
        </p:blipFill>
        <p:spPr>
          <a:xfrm>
            <a:off x="4284720" y="2133720"/>
            <a:ext cx="43956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Басов Николай Михайл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0" name="Picture 4" descr="C:\Users\germanich-o\Desktop\Рисунок34.jpg"/>
          <p:cNvPicPr/>
          <p:nvPr/>
        </p:nvPicPr>
        <p:blipFill>
          <a:blip r:embed="rId1"/>
          <a:stretch/>
        </p:blipFill>
        <p:spPr>
          <a:xfrm>
            <a:off x="1763640" y="1844640"/>
            <a:ext cx="585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отапов Александр Дмитриевич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Picture 4" descr="C:\Users\germanich-o\Desktop\Рисунок33.jpg"/>
          <p:cNvPicPr/>
          <p:nvPr/>
        </p:nvPicPr>
        <p:blipFill>
          <a:blip r:embed="rId1"/>
          <a:stretch/>
        </p:blipFill>
        <p:spPr>
          <a:xfrm>
            <a:off x="1619280" y="1557360"/>
            <a:ext cx="60926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826560" y="566100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 год служил Александр Дмитриевич в авиаци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ил 17 типов самолетов, налетал 4500 часов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которых 500 часов – ноч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4" name="Picture 7" descr="C:\Users\germanich-o\Desktop\Рисунок6.jpg"/>
          <p:cNvPicPr/>
          <p:nvPr/>
        </p:nvPicPr>
        <p:blipFill>
          <a:blip r:embed="rId1"/>
          <a:stretch/>
        </p:blipFill>
        <p:spPr>
          <a:xfrm>
            <a:off x="4932360" y="2924280"/>
            <a:ext cx="3252960" cy="2448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C:\Users\germanich-o\Desktop\Рисунок7.jpg"/>
          <p:cNvPicPr/>
          <p:nvPr/>
        </p:nvPicPr>
        <p:blipFill>
          <a:blip r:embed="rId2"/>
          <a:stretch/>
        </p:blipFill>
        <p:spPr>
          <a:xfrm>
            <a:off x="5003640" y="404640"/>
            <a:ext cx="3062520" cy="2303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9" descr="C:\Users\germanich-o\Desktop\Рисунок8.jpg"/>
          <p:cNvPicPr/>
          <p:nvPr/>
        </p:nvPicPr>
        <p:blipFill>
          <a:blip r:embed="rId3"/>
          <a:stretch/>
        </p:blipFill>
        <p:spPr>
          <a:xfrm>
            <a:off x="1042920" y="1557360"/>
            <a:ext cx="2765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Хренов Александр Павлович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8" name="Picture 4" descr="C:\Users\germanich-o\Desktop\Рисунок1.jpg"/>
          <p:cNvPicPr/>
          <p:nvPr/>
        </p:nvPicPr>
        <p:blipFill>
          <a:blip r:embed="rId1"/>
          <a:stretch/>
        </p:blipFill>
        <p:spPr>
          <a:xfrm>
            <a:off x="2987640" y="1557360"/>
            <a:ext cx="3495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гостях у брата  Героя Советского Союза Александра Молева и Тихонина Юрия Ксенофонтовича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0" name="Picture 4" descr="C:\Users\germanich-o\Desktop\Рисунок9.jpg"/>
          <p:cNvPicPr/>
          <p:nvPr/>
        </p:nvPicPr>
        <p:blipFill>
          <a:blip r:embed="rId1"/>
          <a:stretch/>
        </p:blipFill>
        <p:spPr>
          <a:xfrm>
            <a:off x="1835280" y="1628640"/>
            <a:ext cx="5796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C:\Users\germanich-o\Desktop\Рисунок27.png"/>
          <p:cNvPicPr/>
          <p:nvPr/>
        </p:nvPicPr>
        <p:blipFill>
          <a:blip r:embed="rId1"/>
          <a:stretch/>
        </p:blipFill>
        <p:spPr>
          <a:xfrm>
            <a:off x="1763640" y="549360"/>
            <a:ext cx="5621400" cy="42242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11280" y="508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 музея МОУ СОШ № 35 собирает материал об истории Дзержинского аэроклуба имени Н.П.Каманина. Большую работу по возрождению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дрома в Бабино проводит заместитель мэра Дзержинска Хилов А.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глашению Алексея Юрьевича мы посетили Бабинский аэродр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Зарождение авиации в Дзержинске</a:t>
            </a:r>
            <a:br>
              <a:rPr sz="27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3027240" cy="2016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787640" y="1267920"/>
            <a:ext cx="3887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ередине 30-х годов в Дзержинске появились первые признаки зарождения авиаци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4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1935 году была создана городская детская техническая станци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9" descr="C:\Users\germanich-o\Desktop\Рисунок5.png"/>
          <p:cNvPicPr/>
          <p:nvPr/>
        </p:nvPicPr>
        <p:blipFill>
          <a:blip r:embed="rId2"/>
          <a:stretch/>
        </p:blipFill>
        <p:spPr>
          <a:xfrm>
            <a:off x="755640" y="3645000"/>
            <a:ext cx="3787920" cy="2520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Users\germanich-o\Desktop\Рисунок1.jpg"/>
          <p:cNvPicPr/>
          <p:nvPr/>
        </p:nvPicPr>
        <p:blipFill>
          <a:blip r:embed="rId3"/>
          <a:stretch/>
        </p:blipFill>
        <p:spPr>
          <a:xfrm>
            <a:off x="5148360" y="3500280"/>
            <a:ext cx="3522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ктив школьного музея МОУ СОШ № 35 – дружная команда!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4" name="Picture 4" descr="C:\Users\germanich-o\Desktop\Рисунок17.png"/>
          <p:cNvPicPr/>
          <p:nvPr/>
        </p:nvPicPr>
        <p:blipFill>
          <a:blip r:embed="rId1"/>
          <a:stretch/>
        </p:blipFill>
        <p:spPr>
          <a:xfrm>
            <a:off x="1692360" y="1700280"/>
            <a:ext cx="56512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ткрытие зала воинской славы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6" name="Picture 4" descr="C:\Users\germanich-o\Desktop\Рисунок16.jpg"/>
          <p:cNvPicPr/>
          <p:nvPr/>
        </p:nvPicPr>
        <p:blipFill>
          <a:blip r:embed="rId1"/>
          <a:stretch/>
        </p:blipFill>
        <p:spPr>
          <a:xfrm>
            <a:off x="1835280" y="184464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ервые планеристы города. 1934 год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5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835280" y="1628640"/>
            <a:ext cx="5592600" cy="381636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1934году для занятий молодежи руководство завода им. Свердлова приобрело планер УС-2.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f688b"/>
                </a:solidFill>
                <a:latin typeface="Georgia"/>
              </a:rPr>
              <a:t>1935 г. Планерный кружок на пос. Свердлова.</a:t>
            </a:r>
            <a:r>
              <a:rPr b="0" lang="ru-RU" sz="2500" spc="-1" strike="noStrike">
                <a:solidFill>
                  <a:srgbClr val="5f688b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6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826920" y="1413000"/>
            <a:ext cx="2730600" cy="37656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сной 1935 года в город прибыли два самолета У-2. Осенью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брали первую группу курсантов. Борис Трухин, токарь завода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л инструктором-планеристом при аэроклуб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7" descr="C:\Users\germanich-o\Desktop\Рисунок3.png"/>
          <p:cNvPicPr/>
          <p:nvPr/>
        </p:nvPicPr>
        <p:blipFill>
          <a:blip r:embed="rId2"/>
          <a:stretch/>
        </p:blipFill>
        <p:spPr>
          <a:xfrm>
            <a:off x="4140360" y="1844640"/>
            <a:ext cx="44510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ервый выпуск пилотов  аэроклуба. 1936 год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C:\Users\germanich-o\Desktop\Рисунок9.png"/>
          <p:cNvPicPr/>
          <p:nvPr/>
        </p:nvPicPr>
        <p:blipFill>
          <a:blip r:embed="rId1"/>
          <a:stretch/>
        </p:blipFill>
        <p:spPr>
          <a:xfrm>
            <a:off x="1692360" y="1773360"/>
            <a:ext cx="57722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Г.И.Макаров – начальник аэроклуба 1936-1938г.г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Picture 5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900000" y="1628640"/>
            <a:ext cx="3292560" cy="444672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зиме 1936-1937 г.г. Г.И.Макаров перебазировал материальную часть аэроклуба с Бабушкинского аэродрома в Бабино, получил новую технику. К началу полетов весной 1937 года был построен новый аэродром с ангаром для самолетов, планер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2" descr="C:\Users\germanich-o\Desktop\Рисунок2.jpg"/>
          <p:cNvPicPr/>
          <p:nvPr/>
        </p:nvPicPr>
        <p:blipFill>
          <a:blip r:embed="rId1"/>
          <a:stretch/>
        </p:blipFill>
        <p:spPr>
          <a:xfrm>
            <a:off x="324000" y="771480"/>
            <a:ext cx="1584000" cy="2232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C:\Users\germanich-o\Desktop\Рисунок3.jpg"/>
          <p:cNvPicPr/>
          <p:nvPr/>
        </p:nvPicPr>
        <p:blipFill>
          <a:blip r:embed="rId2"/>
          <a:stretch/>
        </p:blipFill>
        <p:spPr>
          <a:xfrm>
            <a:off x="2124000" y="907920"/>
            <a:ext cx="1511280" cy="2132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C:\Users\germanich-o\Desktop\Рисунок4.jpg"/>
          <p:cNvPicPr/>
          <p:nvPr/>
        </p:nvPicPr>
        <p:blipFill>
          <a:blip r:embed="rId3"/>
          <a:stretch/>
        </p:blipFill>
        <p:spPr>
          <a:xfrm>
            <a:off x="3862440" y="836640"/>
            <a:ext cx="1533600" cy="2160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5" descr="C:\Users\germanich-o\Desktop\Рисунок5.jpg"/>
          <p:cNvPicPr/>
          <p:nvPr/>
        </p:nvPicPr>
        <p:blipFill>
          <a:blip r:embed="rId4"/>
          <a:stretch/>
        </p:blipFill>
        <p:spPr>
          <a:xfrm>
            <a:off x="7020000" y="765000"/>
            <a:ext cx="1665360" cy="2346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6" descr="C:\Users\germanich-o\Desktop\Рисунок6.png"/>
          <p:cNvPicPr/>
          <p:nvPr/>
        </p:nvPicPr>
        <p:blipFill>
          <a:blip r:embed="rId5"/>
          <a:stretch/>
        </p:blipFill>
        <p:spPr>
          <a:xfrm>
            <a:off x="5508720" y="907920"/>
            <a:ext cx="1469880" cy="2089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7" descr="C:\Users\germanich-o\Desktop\Рисунок7.jpg"/>
          <p:cNvPicPr/>
          <p:nvPr/>
        </p:nvPicPr>
        <p:blipFill>
          <a:blip r:embed="rId6"/>
          <a:stretch/>
        </p:blipFill>
        <p:spPr>
          <a:xfrm>
            <a:off x="384120" y="3573360"/>
            <a:ext cx="1736640" cy="2448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8" descr="C:\Users\germanich-o\Desktop\Рисунок8.jpg"/>
          <p:cNvPicPr/>
          <p:nvPr/>
        </p:nvPicPr>
        <p:blipFill>
          <a:blip r:embed="rId7"/>
          <a:stretch/>
        </p:blipFill>
        <p:spPr>
          <a:xfrm>
            <a:off x="2411280" y="3573360"/>
            <a:ext cx="1738440" cy="2448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9" descr="C:\Users\germanich-o\Desktop\Рисунок9.jpg"/>
          <p:cNvPicPr/>
          <p:nvPr/>
        </p:nvPicPr>
        <p:blipFill>
          <a:blip r:embed="rId8"/>
          <a:stretch/>
        </p:blipFill>
        <p:spPr>
          <a:xfrm>
            <a:off x="4500720" y="3573360"/>
            <a:ext cx="1787400" cy="25196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0" descr="C:\Users\germanich-o\Desktop\Рисунок10.jpg"/>
          <p:cNvPicPr/>
          <p:nvPr/>
        </p:nvPicPr>
        <p:blipFill>
          <a:blip r:embed="rId9"/>
          <a:stretch/>
        </p:blipFill>
        <p:spPr>
          <a:xfrm>
            <a:off x="6659640" y="3645000"/>
            <a:ext cx="1738080" cy="2449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17884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Курсанты дзержинского аэроклуба- Герои Советского Союз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940 г. Конышев Н.С. – командир отряда аэроклуба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5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611280" y="1700280"/>
            <a:ext cx="2797200" cy="42019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C:\Users\germanich-o\Desktop\Рисунок13.png"/>
          <p:cNvPicPr/>
          <p:nvPr/>
        </p:nvPicPr>
        <p:blipFill>
          <a:blip r:embed="rId2"/>
          <a:stretch/>
        </p:blipFill>
        <p:spPr>
          <a:xfrm>
            <a:off x="3924360" y="2421000"/>
            <a:ext cx="4819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урсанты  аэроклуба</a:t>
            </a:r>
            <a:br>
              <a:rPr sz="2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Мария Васильевна Конышев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5" name="Picture 7" descr="img135"/>
          <p:cNvPicPr/>
          <p:nvPr/>
        </p:nvPicPr>
        <p:blipFill>
          <a:blip r:embed="rId1"/>
          <a:stretch/>
        </p:blipFill>
        <p:spPr>
          <a:xfrm>
            <a:off x="3059280" y="1628640"/>
            <a:ext cx="3031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2:50:45Z</dcterms:created>
  <dc:creator>Admin</dc:creator>
  <dc:description/>
  <dc:language>en-US</dc:language>
  <cp:lastModifiedBy>germanich-o</cp:lastModifiedBy>
  <dcterms:modified xsi:type="dcterms:W3CDTF">2015-04-17T18:14:28Z</dcterms:modified>
  <cp:revision>51</cp:revision>
  <dc:subject/>
  <dc:title>На Бабинском  аэродроме</dc:title>
</cp:coreProperties>
</file>