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8FD-6385-4E36-8778-6C0C93FB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2C0-361A-4402-AFA2-244C072F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514-80B5-4E8B-91F1-A93FDE9F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3B3-B51C-40E5-A363-24EF0529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1EAC-EFEA-45A8-821C-4B090C25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C5E3-9D57-4885-A516-384DD353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354A-DFB9-4F49-BF35-42E12DE5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B6D8-652D-4566-B769-0130CDDC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D6B4-54F1-4A6C-848C-B0FBBB18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3405-4B9C-4F25-97B7-79C946C2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459-B62A-417B-B0AA-1CAC6D19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205-47F1-4A02-8329-45DF1824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FEE-1109-453E-93A7-4BF6295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9819-0378-4A83-9184-16C4408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4757-685B-4C9B-AAFA-D372000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1E1-50B1-497A-BA5B-8E7812BA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69D8-A901-485A-9387-7EB3E5B4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5CF-ABFF-4F7A-8AE4-CF82E94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FA0-0F2C-4F2F-A702-B0F629EC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3AB-ACE6-4166-8A8B-359884C2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5A5-A24E-422B-A440-47D15ABF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561-2500-43B0-943D-8987765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6CD-38BA-4A51-8E36-61A04EA8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0D6-7DB6-4CFD-BCD4-0EC13E5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205B-B6AD-4845-9A2B-CF91D9A3C2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61D8-CF8A-4DAE-9F2A-B89A570AF4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«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ой прадедушка – участник Великой Отечественной войны»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37720" y="5028840"/>
            <a:ext cx="7696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полнила: ученица 6 «б»класса школы №7  Иванова Анже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ечная память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Моя семья никогда не забудет о том, что он и миллионы других солдат, воевавших в годы Великой Отечественной войны, спасли весь мир от фашизма, чтобы мы могли жить под мирным неб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форм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моего прадедушку мне рассказал мой дядя, Иванов Николай Павлович. Он старший сын моего прадеда. Ему сейчас 86 лет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оды войн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ая Отечественная война в каждой Российской семье оставила свой след.  Кто-то не вернулся с войны – и семья получила похоронку. А кто-то вернулся раненый или инвалидом. Так и в нашей семье – мой прадедушка Никифоров Павел Никифорович героически погиб на войн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Биограф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Я хочу рассказать вам о своем прадедушке. Звали его Никифоров Павел Никифорович, родился в крестьянской семье в деревне Акана Нюрбинского  района в 1900-м году.В 1926 году женился на Дарье Иннокентьевне. У них родились 4 детей: Николай, Анна,Матрена, Елена. Дарья рано умерла из-за тяжелой болезни и Павлу Никифоровичу пришлось одному растить маленьких детей. В это тяжелое время для них началась Великая Отечественная война. Летом 1942 получил повестку, но его оставили работать в строительном промкомбинате. В 1943 году летом был призван на войну и четверо маленьких детей остались у родственников. Двое из них умерли в годы войны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 фронт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фронта он писал сыну Никола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письме рассказывал, что немного научился разговаривать по русски, как их с двумя земляками, после короткого обучения, направили  94-ю стрелковую дивизи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рассказам земляков, мой прадедушка был очень храбрым, исполнительным солдатом и за это командир и товарищи его очень уважа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440" y="54100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поле боя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44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" descr="&amp;Ncy;&amp;acy;&amp;vcy;&amp;scy;&amp;tcy;&amp;rcy;&amp;iecy;&amp;chcy;&amp;ucy; 70-&amp;jcy; &amp;gcy;&amp;ocy;&amp;dcy;&amp;ocy;&amp;vcy;&amp;shchcy;&amp;icy;&amp;ncy;&amp;iecy; &amp;Pcy;&amp;ocy;&amp;bcy;&amp;iecy;&amp;dcy;&amp;ycy; &amp;vcy; &amp;Vcy;&amp;iecy;&amp;lcy;&amp;icy;&amp;kcy;&amp;ocy;&amp;jcy; &amp;Ocy;&amp;tcy;&amp;iecy;&amp;chcy;&amp;iecy;&amp;scy;&amp;tcy;&amp;vcy;&amp;iecy;&amp;ncy;&amp;ncy;&amp;ocy;&amp;jcy; &amp;vcy;&amp;ocy;&amp;jcy;&amp;ncy;&amp;iecy; 1941-1945 &amp;gcy;&amp;ocy;&amp;dcy;&amp;ocy;&amp;vcy;"/>
          <p:cNvPicPr/>
          <p:nvPr/>
        </p:nvPicPr>
        <p:blipFill>
          <a:blip r:embed="rId1"/>
          <a:srcRect l="0" t="5084" r="0" b="5084"/>
          <a:stretch/>
        </p:blipFill>
        <p:spPr>
          <a:xfrm>
            <a:off x="533520" y="228600"/>
            <a:ext cx="8076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з рассказа земляк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м из боевых действий, во время атаки на немцев, солдата пулеметчика сильно ранило. Мой прадед взял и стал стрелять из его пулемета и этим очень помог в этом бою. За отвагу его наградили медаль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а фронт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фронте он  служил стрелком в 94 стрелковой дивизии Забайкалья, учавствовал в боях Ленинградском, Прибалтийском фронтах. За участие в боевых действиях, награжден медалью «За храбрость». Потом их часть была направлена на взятие Кенигсбера(Калининград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440" y="54100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еликая Отечественная война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440" y="60958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то время  шли тяжёлые кровопролитные бо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" descr="&amp;Vcy;&amp;iecy;&amp;chcy;&amp;ncy;&amp;ycy;&amp;jcy; &amp;ocy;&amp;gcy;&amp;ocy;&amp;ncy;&amp;softcy; : &amp;Gcy;&amp;rcy;&amp;ucy;&amp;pcy;&amp;pcy;&amp;acy; &amp;pcy;&amp;ocy; &amp;icy;&amp;ncy;&amp;tcy;&amp;iecy;&amp;rcy;&amp;iecy;&amp;scy;&amp;acy;&amp;mcy;. . &amp;Dcy;&amp;rcy;&amp;ucy;&amp;gcy;&amp;ocy;&amp;iecy; : &amp;Ocy;&amp;dcy;&amp;ncy;&amp;ocy;&amp;kcy;&amp;lcy;&amp;acy;&amp;scy;&amp;scy;&amp;ncy;&amp;icy;&amp;kcy;&amp;icy;"/>
          <p:cNvPicPr/>
          <p:nvPr/>
        </p:nvPicPr>
        <p:blipFill>
          <a:blip r:embed="rId1"/>
          <a:stretch/>
        </p:blipFill>
        <p:spPr>
          <a:xfrm>
            <a:off x="762120" y="1522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яжелые бои Кенигсберг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1945 г.их часть перевели в 83 гвардейскую стрелковую дивизию. На взятие Кенигсбера. В то время там шли тяжёлые кровопролитные бои. В этих боях мой прадедушка был тяжело ранен. 30 января 1945 года попал в госпиталь . 31 января 1945 года в 45 лет умер от тяжелого ран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ронен в Восточной Пруссии Кенигсбергской провинции,пос.Шеншор,   (Северная окраина,могила №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3:09:30Z</dcterms:created>
  <dc:creator>DELL</dc:creator>
  <dc:description/>
  <dc:language>en-US</dc:language>
  <cp:lastModifiedBy>Тамара Васильевна</cp:lastModifiedBy>
  <dcterms:modified xsi:type="dcterms:W3CDTF">2015-04-18T02:04:2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