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19E-34CF-4300-A0F0-C087FAC7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93B-4973-4DDE-A1C4-6E23C3E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775-3575-43CC-AEE9-B42F87DE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4A0-1286-4415-93E2-0652E367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D4F1-8860-4030-8F2B-67B6F846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9988-2F03-40C9-AC15-768EC85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922-34A9-4CB0-B86D-52F39A7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28B-8795-4B96-99DB-78F42B51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6016-8759-481B-94CF-C03CDF0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5B35-F67C-4B72-9A64-E94A2AAC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3730-E48F-40D4-93B5-9717DD2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0DC-2316-46CE-8748-0AF633A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4C17-00E6-4F6F-B09D-5ACFC39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9709-B029-46CC-9312-9ABDAAF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2522-DD95-4C34-80C3-8655473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0EE-E908-40DB-B46C-B633258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9D07-5D0F-41F5-8A0B-C7B96923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F5A-A6F7-44FF-9629-9681D38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196-FB38-44E9-898B-76FDAA9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7B2-130F-4B39-B2FA-DE0631DA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AF8-5ED9-4AE4-BF9D-126A405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1ED-B74D-4E23-BBA0-596AA55F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0BE-58CF-44FC-B88F-5EB6202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3B5-8BB0-4D61-AF14-A28E22A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657-0AD8-40AE-BC4E-AB885109CF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DBCA-A926-4E23-863F-3A23C19A48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«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ой прадедушка – участник Великой Отечественной войны»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7720" y="502884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полнила: ученица 6 «б»класса школы №7  Иванова Анже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ечная память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оя семья никогда не забудет о том, что он и миллионы других солдат, воевавших в годы Великой Отечественной войны, спасли весь мир от фашизма, чтобы мы могли жить под мирным неб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моего прадедушку мне рассказал мой дядя, Иванов Николай Павлович. Он старший сын моего прадеда. Ему сейчас 86 лет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оды вой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я Отечественная война в каждой Российской семье оставила свой след.  Кто-то не вернулся с войны – и семья получила похоронку. А кто-то вернулся раненый или инвалидом. Так и в нашей семье – мой прадедушка Никифоров Павел Никифорович героически погиб на войн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иограф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Я хочу рассказать вам о своем прадедушке. Звали его Никифоров Павел Никифорович, родился в крестьянской семье в деревне Акана Нюрбинского  района в 1900-м году.В 1926 году женился на Дарье Иннокентьевне. У них родились 4 детей: Николай, Анна,Матрена, Елена. Дарья рано умерла из-за тяжелой болезни и Павлу Никифоровичу пришлось одному растить маленьких детей. В это тяжелое время для них началась Великая Отечественная война. Летом 1942 получил повестку, но его оставили работать в строительном промкомбинате. В 1943 году летом был призван на войну и четверо маленьких детей остались у родственников. Двое из них умерли в годы войн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 фронт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фронта он писал сыну Никола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исьме рассказывал, что немного научился разговаривать по русски, как их с двумя земляками, после короткого обучения, направили  94-ю стрелковую дивизи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рассказам земляков, мой прадедушка был очень храбрым, исполнительным солдатом и за это командир и товарищи его очень уважа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440" y="54100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поле боя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44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" descr="&amp;Ncy;&amp;acy;&amp;vcy;&amp;scy;&amp;tcy;&amp;rcy;&amp;iecy;&amp;chcy;&amp;ucy; 70-&amp;jcy; &amp;gcy;&amp;ocy;&amp;dcy;&amp;ocy;&amp;vcy;&amp;shchcy;&amp;icy;&amp;ncy;&amp;iecy; &amp;Pcy;&amp;ocy;&amp;bcy;&amp;iecy;&amp;dcy;&amp;ycy; &amp;vcy; &amp;Vcy;&amp;iecy;&amp;lcy;&amp;icy;&amp;kcy;&amp;ocy;&amp;jcy; &amp;Ocy;&amp;tcy;&amp;iecy;&amp;chcy;&amp;iecy;&amp;scy;&amp;tcy;&amp;vcy;&amp;iecy;&amp;ncy;&amp;ncy;&amp;ocy;&amp;jcy; &amp;vcy;&amp;ocy;&amp;jcy;&amp;ncy;&amp;iecy; 1941-1945 &amp;gcy;&amp;ocy;&amp;dcy;&amp;ocy;&amp;vcy;"/>
          <p:cNvPicPr/>
          <p:nvPr/>
        </p:nvPicPr>
        <p:blipFill>
          <a:blip r:embed="rId1"/>
          <a:srcRect l="0" t="5084" r="0" b="5084"/>
          <a:stretch/>
        </p:blipFill>
        <p:spPr>
          <a:xfrm>
            <a:off x="533520" y="228600"/>
            <a:ext cx="8076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рассказа земляк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м из боевых действий, во время атаки на немцев, солдата пулеметчика сильно ранило. Мой прадед взял и стал стрелять из его пулемета и этим очень помог в этом бою. За отвагу его наградили медаль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 фронт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фронте он  служил стрелком в 94 стрелковой дивизии Забайкалья, учавствовал в боях Ленинградском, Прибалтийском фронтах. За участие в боевых действиях, награжден медалью «За храбрость». Потом их часть была направлена на взятие Кенигсбера(Калининград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440" y="54100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еликая Отечественная войн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440" y="60958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то время  шли тяжёлые кровопролитные бо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&amp;Vcy;&amp;iecy;&amp;chcy;&amp;ncy;&amp;ycy;&amp;jcy; &amp;ocy;&amp;gcy;&amp;ocy;&amp;ncy;&amp;softcy; : &amp;Gcy;&amp;rcy;&amp;ucy;&amp;pcy;&amp;pcy;&amp;acy; &amp;pcy;&amp;ocy; &amp;icy;&amp;ncy;&amp;tcy;&amp;iecy;&amp;rcy;&amp;iecy;&amp;scy;&amp;acy;&amp;mcy;. . &amp;Dcy;&amp;rcy;&amp;ucy;&amp;gcy;&amp;ocy;&amp;iecy; : &amp;Ocy;&amp;dcy;&amp;ncy;&amp;ocy;&amp;kcy;&amp;lcy;&amp;acy;&amp;scy;&amp;scy;&amp;ncy;&amp;icy;&amp;kcy;&amp;icy;"/>
          <p:cNvPicPr/>
          <p:nvPr/>
        </p:nvPicPr>
        <p:blipFill>
          <a:blip r:embed="rId1"/>
          <a:stretch/>
        </p:blipFill>
        <p:spPr>
          <a:xfrm>
            <a:off x="762120" y="1522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яжелые бои Кенигсберг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45 г.их часть перевели в 83 гвардейскую стрелковую дивизию. На взятие Кенигсбера. В то время там шли тяжёлые кровопролитные бои. В этих боях мой прадедушка был тяжело ранен. 30 января 1945 года попал в госпиталь . 31 января 1945 года в 45 лет умер от тяжелого ран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ронен в Восточной Пруссии Кенигсбергской провинции,пос.Шеншор,   (Северная окраина,могила №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3:09:30Z</dcterms:created>
  <dc:creator>DELL</dc:creator>
  <dc:description/>
  <dc:language>en-US</dc:language>
  <cp:lastModifiedBy>Тамара Васильевна</cp:lastModifiedBy>
  <dcterms:modified xsi:type="dcterms:W3CDTF">2015-04-18T02:04:2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