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ECB-AAB1-4288-BEF2-4E1B4FEA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C4D-3A19-49A2-9123-24A569BC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2BB-7F88-4239-B8CC-5173CC2F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264-ABFC-402D-B813-3A89983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7A2-9786-48C6-B011-ED4DFB14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BCA-DC9B-421A-922A-C344FA3E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131-7442-45A3-8891-4487E578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B12-4A2B-49C4-94DA-B8BBEDF3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547-E2CD-49FA-BB4F-FFEDE835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DCC-CC02-4570-8A1C-2A8AF249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8B4-24DD-4287-A5A2-C03682B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741-44A4-449E-B263-E3778D10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8EDF-45D6-423A-9B24-A7EDB1A69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189000"/>
            <a:ext cx="422424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836640"/>
            <a:ext cx="216072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836640"/>
            <a:ext cx="216036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187200"/>
            <a:ext cx="422424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4000" y="1693800"/>
            <a:ext cx="2230200" cy="905040"/>
            <a:chOff x="324000" y="1693800"/>
            <a:chExt cx="2230200" cy="905040"/>
          </a:xfrm>
        </p:grpSpPr>
        <p:sp>
          <p:nvSpPr>
            <p:cNvPr id="46" name=""/>
            <p:cNvSpPr/>
            <p:nvPr/>
          </p:nvSpPr>
          <p:spPr>
            <a:xfrm>
              <a:off x="324000" y="169380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42920" y="177336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21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,3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771640" y="170352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4000" y="2757600"/>
            <a:ext cx="2447640" cy="538920"/>
            <a:chOff x="324000" y="2757600"/>
            <a:chExt cx="2447640" cy="538920"/>
          </a:xfrm>
        </p:grpSpPr>
        <p:sp>
          <p:nvSpPr>
            <p:cNvPr id="50" name=""/>
            <p:cNvSpPr/>
            <p:nvPr/>
          </p:nvSpPr>
          <p:spPr>
            <a:xfrm>
              <a:off x="324000" y="275760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42920" y="28368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1,4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,7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771640" y="27669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4000" y="3817800"/>
            <a:ext cx="2519280" cy="908280"/>
            <a:chOff x="324000" y="3817800"/>
            <a:chExt cx="2519280" cy="908280"/>
          </a:xfrm>
        </p:grpSpPr>
        <p:sp>
          <p:nvSpPr>
            <p:cNvPr id="54" name=""/>
            <p:cNvSpPr/>
            <p:nvPr/>
          </p:nvSpPr>
          <p:spPr>
            <a:xfrm>
              <a:off x="324000" y="3817800"/>
              <a:ext cx="617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42920" y="390060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3,5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0,04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771640" y="38307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4884840"/>
            <a:ext cx="2447640" cy="904680"/>
            <a:chOff x="324000" y="4884840"/>
            <a:chExt cx="2447640" cy="904680"/>
          </a:xfrm>
        </p:grpSpPr>
        <p:sp>
          <p:nvSpPr>
            <p:cNvPr id="58" name=""/>
            <p:cNvSpPr/>
            <p:nvPr/>
          </p:nvSpPr>
          <p:spPr>
            <a:xfrm>
              <a:off x="324000" y="488484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42920" y="4964040"/>
              <a:ext cx="172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0,6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200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71640" y="489420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4000" y="5950080"/>
            <a:ext cx="2519280" cy="538920"/>
            <a:chOff x="324000" y="5950080"/>
            <a:chExt cx="2519280" cy="538920"/>
          </a:xfrm>
        </p:grpSpPr>
        <p:sp>
          <p:nvSpPr>
            <p:cNvPr id="62" name=""/>
            <p:cNvSpPr/>
            <p:nvPr/>
          </p:nvSpPr>
          <p:spPr>
            <a:xfrm>
              <a:off x="324000" y="595008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2920" y="60292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1,5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400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771640" y="595944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508720" y="1722600"/>
            <a:ext cx="2230200" cy="904680"/>
            <a:chOff x="5508720" y="1722600"/>
            <a:chExt cx="2230200" cy="904680"/>
          </a:xfrm>
        </p:grpSpPr>
        <p:sp>
          <p:nvSpPr>
            <p:cNvPr id="66" name=""/>
            <p:cNvSpPr/>
            <p:nvPr/>
          </p:nvSpPr>
          <p:spPr>
            <a:xfrm>
              <a:off x="5508720" y="172260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1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27640" y="1801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,2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7959600" y="17319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508720" y="2786040"/>
            <a:ext cx="2447640" cy="538920"/>
            <a:chOff x="5508720" y="2786040"/>
            <a:chExt cx="2447640" cy="538920"/>
          </a:xfrm>
        </p:grpSpPr>
        <p:sp>
          <p:nvSpPr>
            <p:cNvPr id="70" name=""/>
            <p:cNvSpPr/>
            <p:nvPr/>
          </p:nvSpPr>
          <p:spPr>
            <a:xfrm>
              <a:off x="5508720" y="278604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7640" y="286524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1,3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,6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959600" y="27957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508720" y="4913280"/>
            <a:ext cx="2447640" cy="538920"/>
            <a:chOff x="5508720" y="4913280"/>
            <a:chExt cx="2447640" cy="538920"/>
          </a:xfrm>
        </p:grpSpPr>
        <p:sp>
          <p:nvSpPr>
            <p:cNvPr id="74" name=""/>
            <p:cNvSpPr/>
            <p:nvPr/>
          </p:nvSpPr>
          <p:spPr>
            <a:xfrm>
              <a:off x="5508720" y="491328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27640" y="49924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0,4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300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959600" y="492300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508720" y="5978520"/>
            <a:ext cx="2519280" cy="538920"/>
            <a:chOff x="5508720" y="5978520"/>
            <a:chExt cx="2519280" cy="538920"/>
          </a:xfrm>
        </p:grpSpPr>
        <p:sp>
          <p:nvSpPr>
            <p:cNvPr id="78" name=""/>
            <p:cNvSpPr/>
            <p:nvPr/>
          </p:nvSpPr>
          <p:spPr>
            <a:xfrm>
              <a:off x="5508720" y="5978520"/>
              <a:ext cx="64440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27640" y="6057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3,5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200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59600" y="598788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11960" y="3784680"/>
            <a:ext cx="2519280" cy="912600"/>
            <a:chOff x="5511960" y="3784680"/>
            <a:chExt cx="2519280" cy="912600"/>
          </a:xfrm>
        </p:grpSpPr>
        <p:sp>
          <p:nvSpPr>
            <p:cNvPr id="82" name=""/>
            <p:cNvSpPr/>
            <p:nvPr/>
          </p:nvSpPr>
          <p:spPr>
            <a:xfrm>
              <a:off x="5511960" y="3784680"/>
              <a:ext cx="691920" cy="5094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30880" y="387180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2,5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 ·</a:t>
              </a:r>
              <a:r>
                <a:rPr b="1" lang="ru-RU" sz="2400" spc="-1" strike="noStrike">
                  <a:solidFill>
                    <a:srgbClr val="ffffcc"/>
                  </a:solidFill>
                  <a:latin typeface="Arial"/>
                </a:rPr>
                <a:t> 0,06 = </a:t>
              </a:r>
              <a:r>
                <a:rPr b="0" lang="ru-RU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959600" y="3801960"/>
            <a:ext cx="933480" cy="50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1:06:01Z</dcterms:created>
  <dc:creator>Semen</dc:creator>
  <dc:description/>
  <dc:language>en-US</dc:language>
  <cp:lastModifiedBy>Valery</cp:lastModifiedBy>
  <dcterms:modified xsi:type="dcterms:W3CDTF">2008-04-30T14:38:37Z</dcterms:modified>
  <cp:revision>5</cp:revision>
  <dc:subject/>
  <dc:title>Слайд 1</dc:title>
</cp:coreProperties>
</file>