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5AB-050D-4EB3-9FC5-EBE72A9F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CA2-F855-4881-8DBD-8E49086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A2D-550C-40D2-94E9-4000D8BC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D25-FA89-45E0-B7FD-7B6B55A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3A8-D3A2-4E3C-BB7B-783D4D3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E82-02AD-4731-896C-A77B4F4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BCE-1897-48FA-A48D-063E2B2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E55-DCFD-4CF8-BCD9-DA078AF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A98-D138-41FD-BE17-4FEE601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461-DAA6-4EF7-AA8A-55DF4AD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4F4-9E62-4A51-B8F5-0C5BC34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238-5A76-4AD3-9329-A33808D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825-DF3B-42C4-9502-317D3C54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189000"/>
            <a:ext cx="4224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836640"/>
            <a:ext cx="216072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836640"/>
            <a:ext cx="216036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187200"/>
            <a:ext cx="422424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000" y="1693800"/>
            <a:ext cx="2230200" cy="905040"/>
            <a:chOff x="324000" y="1693800"/>
            <a:chExt cx="2230200" cy="905040"/>
          </a:xfrm>
        </p:grpSpPr>
        <p:sp>
          <p:nvSpPr>
            <p:cNvPr id="46" name=""/>
            <p:cNvSpPr/>
            <p:nvPr/>
          </p:nvSpPr>
          <p:spPr>
            <a:xfrm>
              <a:off x="324000" y="16938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42920" y="177336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21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3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771640" y="170352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2757600"/>
            <a:ext cx="2447640" cy="538920"/>
            <a:chOff x="324000" y="2757600"/>
            <a:chExt cx="2447640" cy="538920"/>
          </a:xfrm>
        </p:grpSpPr>
        <p:sp>
          <p:nvSpPr>
            <p:cNvPr id="50" name=""/>
            <p:cNvSpPr/>
            <p:nvPr/>
          </p:nvSpPr>
          <p:spPr>
            <a:xfrm>
              <a:off x="324000" y="27576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42920" y="28368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4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7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771640" y="2766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4000" y="3817800"/>
            <a:ext cx="2519280" cy="908280"/>
            <a:chOff x="324000" y="3817800"/>
            <a:chExt cx="2519280" cy="908280"/>
          </a:xfrm>
        </p:grpSpPr>
        <p:sp>
          <p:nvSpPr>
            <p:cNvPr id="54" name=""/>
            <p:cNvSpPr/>
            <p:nvPr/>
          </p:nvSpPr>
          <p:spPr>
            <a:xfrm>
              <a:off x="324000" y="3817800"/>
              <a:ext cx="617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42920" y="39006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0,04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771640" y="38307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4884840"/>
            <a:ext cx="2447640" cy="904680"/>
            <a:chOff x="324000" y="4884840"/>
            <a:chExt cx="2447640" cy="904680"/>
          </a:xfrm>
        </p:grpSpPr>
        <p:sp>
          <p:nvSpPr>
            <p:cNvPr id="58" name=""/>
            <p:cNvSpPr/>
            <p:nvPr/>
          </p:nvSpPr>
          <p:spPr>
            <a:xfrm>
              <a:off x="324000" y="488484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42920" y="4964040"/>
              <a:ext cx="17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0,6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2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71640" y="489420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00" y="5950080"/>
            <a:ext cx="2519280" cy="538920"/>
            <a:chOff x="324000" y="5950080"/>
            <a:chExt cx="2519280" cy="538920"/>
          </a:xfrm>
        </p:grpSpPr>
        <p:sp>
          <p:nvSpPr>
            <p:cNvPr id="62" name=""/>
            <p:cNvSpPr/>
            <p:nvPr/>
          </p:nvSpPr>
          <p:spPr>
            <a:xfrm>
              <a:off x="324000" y="595008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2920" y="6029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4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771640" y="595944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08720" y="1722600"/>
            <a:ext cx="2230200" cy="904680"/>
            <a:chOff x="5508720" y="1722600"/>
            <a:chExt cx="2230200" cy="904680"/>
          </a:xfrm>
        </p:grpSpPr>
        <p:sp>
          <p:nvSpPr>
            <p:cNvPr id="66" name=""/>
            <p:cNvSpPr/>
            <p:nvPr/>
          </p:nvSpPr>
          <p:spPr>
            <a:xfrm>
              <a:off x="5508720" y="17226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7640" y="1801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2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959600" y="1731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08720" y="2786040"/>
            <a:ext cx="2447640" cy="538920"/>
            <a:chOff x="5508720" y="2786040"/>
            <a:chExt cx="2447640" cy="538920"/>
          </a:xfrm>
        </p:grpSpPr>
        <p:sp>
          <p:nvSpPr>
            <p:cNvPr id="70" name=""/>
            <p:cNvSpPr/>
            <p:nvPr/>
          </p:nvSpPr>
          <p:spPr>
            <a:xfrm>
              <a:off x="5508720" y="278604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7640" y="28652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3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6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959600" y="27957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08720" y="4913280"/>
            <a:ext cx="2447640" cy="538920"/>
            <a:chOff x="5508720" y="4913280"/>
            <a:chExt cx="2447640" cy="538920"/>
          </a:xfrm>
        </p:grpSpPr>
        <p:sp>
          <p:nvSpPr>
            <p:cNvPr id="74" name=""/>
            <p:cNvSpPr/>
            <p:nvPr/>
          </p:nvSpPr>
          <p:spPr>
            <a:xfrm>
              <a:off x="5508720" y="491328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27640" y="49924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0,4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3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959600" y="492300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508720" y="5978520"/>
            <a:ext cx="2519280" cy="538920"/>
            <a:chOff x="5508720" y="5978520"/>
            <a:chExt cx="2519280" cy="538920"/>
          </a:xfrm>
        </p:grpSpPr>
        <p:sp>
          <p:nvSpPr>
            <p:cNvPr id="78" name=""/>
            <p:cNvSpPr/>
            <p:nvPr/>
          </p:nvSpPr>
          <p:spPr>
            <a:xfrm>
              <a:off x="5508720" y="597852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27640" y="6057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2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59600" y="598788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11960" y="3784680"/>
            <a:ext cx="2519280" cy="912600"/>
            <a:chOff x="5511960" y="3784680"/>
            <a:chExt cx="2519280" cy="912600"/>
          </a:xfrm>
        </p:grpSpPr>
        <p:sp>
          <p:nvSpPr>
            <p:cNvPr id="82" name=""/>
            <p:cNvSpPr/>
            <p:nvPr/>
          </p:nvSpPr>
          <p:spPr>
            <a:xfrm>
              <a:off x="5511960" y="3784680"/>
              <a:ext cx="69192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0880" y="38718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2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0,06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959600" y="3801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1:06:01Z</dcterms:created>
  <dc:creator>Semen</dc:creator>
  <dc:description/>
  <dc:language>en-US</dc:language>
  <cp:lastModifiedBy>Valery</cp:lastModifiedBy>
  <dcterms:modified xsi:type="dcterms:W3CDTF">2008-04-30T14:38:37Z</dcterms:modified>
  <cp:revision>5</cp:revision>
  <dc:subject/>
  <dc:title>Слайд 1</dc:title>
</cp:coreProperties>
</file>