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A307-E987-4574-A5C1-F98D41517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9052-D466-445C-9E89-4B6014EB9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B082-F6FC-467B-A57B-2F32D6082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43F5-E1E5-4844-9919-E2AB137A4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067F-7143-4868-A38F-00147A715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3214-7313-44F5-BF1F-8CEA6E4FC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743C-B7C8-4545-A944-3CDAB1C4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1F5A-40B9-43DC-9E19-A76EEF683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BA24-1CF0-4436-BC6A-FC87D1E0A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B371-5C58-4F78-9B15-9263BD5F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C7F9-E2C9-4FD7-BD5A-83F3960F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CE81-1879-4DDF-84AB-3270B645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FEDCF-D91D-460E-BE3B-AF6663D52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Х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: изучить класс моховид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ФАГНУМ (сфагн)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49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динственный род листостебельных сфагновых мх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ебель прямостоячий с пучковидно расположенными ветв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20 видов, распространены широк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тут на болотах плотными дернинами; из нижних отмерших частей образуется торф. Обладают бактерицидными свойствами. Сфагнум мягкий охраня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093080" y="260280"/>
            <a:ext cx="1771560" cy="1971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867280" y="692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764640"/>
            <a:ext cx="4140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ебли сфагнума прямостоячие, без ризоидов, с пучковиднорасположенными ветвями, на верхушке собранными в головку. Листочки состоят из клеток двух типов: хлорофиллоносные и бесцветные водоносные, выполняющие роль водных резервуа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1600200"/>
            <a:ext cx="475308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агновые мхи 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46796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тносительно крупные, мягкие беловато-зелёные, бурые или красноватые растения влажных местообитаний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932360" y="1700280"/>
            <a:ext cx="4211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фагнум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оттопырен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012000" y="404640"/>
            <a:ext cx="2923920" cy="28083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3500280"/>
            <a:ext cx="418608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еленые мх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Bryum argenteum)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класс сам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гочисленного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стостебельных мх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012000" y="3789360"/>
            <a:ext cx="2912760" cy="24955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572000" y="1413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356000" y="4292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274680"/>
            <a:ext cx="3035160" cy="581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 временем нижняя часть стебля сфагнума отмирает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этом благодаря избыточному увлажнению, недостатку кислорода и наличию бактерицидной кислой среды разложение остатков растений не происходит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ак накапливаются залежи торф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95640" y="1125360"/>
            <a:ext cx="4321440" cy="45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ндрэя скальная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Andreaea rupestris),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ласс листостебельных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ндреевых мхов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44845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56000" y="3141720"/>
            <a:ext cx="4103640" cy="3456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356000" y="242100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УКУШКИН ЛЕН (политрихум), род лиственных мх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. 100 видов, распространены широко. Растут подушкообразными дерновинами в тундре, горах, лесах, на лугах и болот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особствуют заболачива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003640" y="1916280"/>
            <a:ext cx="3529080" cy="3527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7812000" y="1341360"/>
            <a:ext cx="733680" cy="121464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ЕЧЕНОЧНЫЕ МХИ (печеночники)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 мхов со слабо развитой протонем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подкласса — маршанциевые и юнгерманниевы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. 6 тыс видов (ок. 300 родов), по всему земному шару, особенно в тропи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огда печеночные мхи выделяют в отд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47516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ршанция относится к печеночным мхам. Таллом имеет форму нескольких розеток или лентовидных пластин, снабженных снизу ризоид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0" y="476280"/>
            <a:ext cx="4319640" cy="37447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780000" y="1844640"/>
            <a:ext cx="814320" cy="866880"/>
          </a:xfrm>
          <a:custGeom>
            <a:avLst/>
            <a:gdLst>
              <a:gd name="textAreaLeft" fmla="*/ 0 w 814320"/>
              <a:gd name="textAreaRight" fmla="*/ 814680 w 81432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аршанциевые мхи (Reboulia hemisphaerica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635280" y="1989000"/>
            <a:ext cx="4969080" cy="4526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356000" y="981000"/>
            <a:ext cx="733680" cy="121464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20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Х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моховидные, бриофиты), отдел высших расте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55640" y="3141720"/>
            <a:ext cx="791352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имущественно многолетние растения, характеризующиеся групповыми формами роста (дерновинки, куртинки, подушки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. 20 тыс видов (ок. 1000 родов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пространены по всему земному шару, растут повсеместн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аццания (Bazzania tridens). Принадлежит к порядку юнгерманниевы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635280" y="1916280"/>
            <a:ext cx="5113440" cy="45259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427640" y="134136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унулария (Lunularia cruciata). Сорняк, покрывающий почву в цветочных горшка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564000" y="1989000"/>
            <a:ext cx="5113440" cy="45262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859280" y="12682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оль в природе и примен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редко способствуют заболачиванию почв, ухудшают качество луг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торфяных болотах составляют основную массу торф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пользуют в медицине (обладают антибиотическими свойствами), также в качестве подстилки для скота, изготовления плит в строительст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95640" y="260280"/>
            <a:ext cx="4824360" cy="1562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03280" y="14842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093080" y="14842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2060640"/>
            <a:ext cx="485640" cy="1481040"/>
          </a:xfrm>
          <a:prstGeom prst="downArrow">
            <a:avLst>
              <a:gd name="adj1" fmla="val 50000"/>
              <a:gd name="adj2" fmla="val 762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24000" y="1989000"/>
            <a:ext cx="1944720" cy="1202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тоцерот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780000" y="3645000"/>
            <a:ext cx="2160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стостеб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19640" y="2060640"/>
            <a:ext cx="1779480" cy="10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ченоч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1628640"/>
            <a:ext cx="2448000" cy="201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РХЕГО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от греч. arche — нача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gone — рождение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219640" y="1628640"/>
            <a:ext cx="2354400" cy="201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ТЕРИДИЙ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т греч. anther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ущ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68360" y="37162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4797360"/>
            <a:ext cx="3888000" cy="1922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нский орга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ового размнож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моховид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ычно колбовидной фор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асширенной части — яйцеклет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59280" y="4869000"/>
            <a:ext cx="3816360" cy="180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ужской орга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лового размножения у мх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антеридии развиваю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ерматозои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37162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19280" y="476280"/>
            <a:ext cx="5616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рганы полового размн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08720" y="83664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83664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08000" y="620640"/>
            <a:ext cx="5040360" cy="1922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сполового размн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789360"/>
            <a:ext cx="5040360" cy="180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ороф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140360" y="2781360"/>
            <a:ext cx="609480" cy="914400"/>
          </a:xfrm>
          <a:prstGeom prst="downArrowCallout">
            <a:avLst>
              <a:gd name="adj1" fmla="val 25002"/>
              <a:gd name="adj2" fmla="val 25000"/>
              <a:gd name="adj3" fmla="val 2500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482436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ховидные распространены во влажных местообитаниях: в тундре, на болотах и в лесах, часто доминируя в растительном покрове. Играют большую роль в регулировании водного баланса ландшафтов. Являются аккумуляторами радиоактивных вещест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219640" y="404640"/>
            <a:ext cx="3598920" cy="3124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084720" y="3933720"/>
            <a:ext cx="852480" cy="7336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22640 h 733680"/>
              <a:gd name="textAreaBottom" fmla="*/ 628560 h 7336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ТОЦЕРОТОВЫЕ МХИ, класс мхов, с лопастным или розетковидным слоевищем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в. 300 видов (4 рода)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имущественно в тропи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724360" y="3860640"/>
            <a:ext cx="2735280" cy="27370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116000" y="3933720"/>
            <a:ext cx="3456000" cy="2664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тоцеротовые мх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а Folioceros fuciform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56000" y="32130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227640" y="1299240"/>
            <a:ext cx="201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тоцеро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Anthoceros fusiformi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2924280"/>
            <a:ext cx="289080" cy="863640"/>
          </a:xfrm>
          <a:prstGeom prst="downArrow">
            <a:avLst>
              <a:gd name="adj1" fmla="val 50000"/>
              <a:gd name="adj2" fmla="val 746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ЛИСТОСТЕБЕЛЬНЫЕ МХИ (настоящие мхи)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асс мхов с телом, расчлененным на стебель и листь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 подкласса: сфагновые, андреевые и бриевы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. 15 тыс. видов, в т. ч. кукушкин лен, дикранум, сфагнум и д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пространены по всему земному шару, главным образом в тундре, лесах, на болотах и в альпийском поясе го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635280" y="1600200"/>
            <a:ext cx="5051520" cy="45259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Листостебельные мхи (спороношение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95640" y="14842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6T05:16:29Z</dcterms:created>
  <dc:creator>Admin</dc:creator>
  <dc:description/>
  <dc:language>en-US</dc:language>
  <cp:lastModifiedBy>Admin</cp:lastModifiedBy>
  <dcterms:modified xsi:type="dcterms:W3CDTF">2015-04-20T13:11:48Z</dcterms:modified>
  <cp:revision>4</cp:revision>
  <dc:subject/>
  <dc:title>Слайд 1</dc:title>
</cp:coreProperties>
</file>