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9273-5E1C-4BED-ADE8-926D03C9A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F819-24C7-4F29-8454-7B333A84B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C41C-E80D-4666-ADF3-DCD1882E8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A0EC-3825-48CC-BD85-6BA950CD5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4B3B-BB08-4AD8-AD21-38EBC35FB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D544-D674-48B8-90F1-650C327B9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0172-BECA-4623-A641-813A86DF4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2D0F-4FC3-4CE5-AE5F-4854AC369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D26D-5A24-4DFB-8C68-0058C4CBB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42D2-5362-497B-B178-66BE4F7E8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18BA-3E24-4B74-A40A-FDB83C23D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AFA4-1217-40D5-8BFB-888D50413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FC801-CACB-4A0A-8A1F-4720F5644D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Х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: изучить класс моховид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ФАГНУМ (сфагн)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49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динственный род листостебельных сфагновых мх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ебель прямостоячий с пучковидно расположенными ветв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20 видов, распространены широк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тут на болотах плотными дернинами; из нижних отмерших частей образуется торф. Обладают бактерицидными свойствами. Сфагнум мягкий охраня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093080" y="260280"/>
            <a:ext cx="1771560" cy="19717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867280" y="692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764640"/>
            <a:ext cx="4140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ебли сфагнума прямостоячие, без ризоидов, с пучковиднорасположенными ветвями, на верхушке собранными в головку. Листочки состоят из клеток двух типов: хлорофиллоносные и бесцветные водоносные, выполняющие роль водных резервуа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1600200"/>
            <a:ext cx="475308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агновые мхи 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46796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тносительно крупные, мягкие беловато-зелёные, бурые или красноватые растения влажных местообитаний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932360" y="1700280"/>
            <a:ext cx="4211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фагнум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оттопырен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012000" y="404640"/>
            <a:ext cx="2923920" cy="28083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3500280"/>
            <a:ext cx="418608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еленые мх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Bryum argenteum)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класс сам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огочисленного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стостебельных мх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012000" y="3789360"/>
            <a:ext cx="2912760" cy="24955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572000" y="1413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356000" y="4292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274680"/>
            <a:ext cx="3035160" cy="581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 временем нижняя часть стебля сфагнума отмирает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 этом благодаря избыточному увлажнению, недостатку кислорода и наличию бактерицидной кислой среды разложение остатков растений не происходит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ак накапливаются залежи торф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995640" y="1125360"/>
            <a:ext cx="4321440" cy="45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ндрэя скальная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Andreaea rupestris),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ласс листостебельных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ндреевых мхов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000" y="1628280"/>
            <a:ext cx="44845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556000" y="3141720"/>
            <a:ext cx="4103640" cy="3456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356000" y="242100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УКУШКИН ЛЕН (политрихум), род лиственных мх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. 100 видов, распространены широко. Растут подушкообразными дерновинами в тундре, горах, лесах, на лугах и болота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особствуют заболачива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003640" y="1916280"/>
            <a:ext cx="3529080" cy="3527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7812000" y="1341360"/>
            <a:ext cx="733680" cy="121464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ЕЧЕНОЧНЫЕ МХИ (печеночники)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с мхов со слабо развитой протонемо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подкласса — маршанциевые и юнгерманниевы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в. 6 тыс видов (ок. 300 родов), по всему земному шару, особенно в тропик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огда печеночные мхи выделяют в отд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47516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аршанция относится к печеночным мхам. Таллом имеет форму нескольких розеток или лентовидных пластин, снабженных снизу ризоид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0" y="476280"/>
            <a:ext cx="4319640" cy="37447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780000" y="1844640"/>
            <a:ext cx="814320" cy="866880"/>
          </a:xfrm>
          <a:custGeom>
            <a:avLst/>
            <a:gdLst>
              <a:gd name="textAreaLeft" fmla="*/ 0 w 814320"/>
              <a:gd name="textAreaRight" fmla="*/ 814680 w 814320"/>
              <a:gd name="textAreaTop" fmla="*/ 0 h 866880"/>
              <a:gd name="textAreaBottom" fmla="*/ 867240 h 866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аршанциевые мхи (Reboulia hemisphaerica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635280" y="1989000"/>
            <a:ext cx="4969080" cy="45262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356000" y="981000"/>
            <a:ext cx="733680" cy="121464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772400" cy="20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ХИ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моховидные, бриофиты), отдел высших растен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55640" y="3141720"/>
            <a:ext cx="791352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имущественно многолетние растения, характеризующиеся групповыми формами роста (дерновинки, куртинки, подушки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к. 20 тыс видов (ок. 1000 родов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пространены по всему земному шару, растут повсеместн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аццания (Bazzania tridens). Принадлежит к порядку юнгерманниевы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635280" y="1916280"/>
            <a:ext cx="5113440" cy="45259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427640" y="134136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унулария (Lunularia cruciata). Сорняк, покрывающий почву в цветочных горшка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564000" y="1989000"/>
            <a:ext cx="5113440" cy="45262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859280" y="12682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оль в природе и примен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редко способствуют заболачиванию почв, ухудшают качество луг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торфяных болотах составляют основную массу торф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спользуют в медицине (обладают антибиотическими свойствами), также в качестве подстилки для скота, изготовления плит в строительст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63700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95640" y="260280"/>
            <a:ext cx="4824360" cy="1562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403280" y="14842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093080" y="14842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2060640"/>
            <a:ext cx="485640" cy="1481040"/>
          </a:xfrm>
          <a:prstGeom prst="downArrow">
            <a:avLst>
              <a:gd name="adj1" fmla="val 50000"/>
              <a:gd name="adj2" fmla="val 7624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24000" y="1989000"/>
            <a:ext cx="1944720" cy="1202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тоцерото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780000" y="3645000"/>
            <a:ext cx="216036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стостебе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19640" y="2060640"/>
            <a:ext cx="1779480" cy="10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ченоч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1628640"/>
            <a:ext cx="2448000" cy="201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РХЕГО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от греч. arche — начал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gone — рождение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219640" y="1628640"/>
            <a:ext cx="2354400" cy="201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ТЕРИДИЙ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от греч. anther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ветущ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68360" y="371628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4797360"/>
            <a:ext cx="3888000" cy="1922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нский орга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ового размнож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моховид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ычно колбовидной фор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асширенной части — яйцеклет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59280" y="4869000"/>
            <a:ext cx="3816360" cy="180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ужской орга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лового размножения у мх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антеридии развиваю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перматозои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4720" y="371628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19280" y="476280"/>
            <a:ext cx="5616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рганы полового размн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08720" y="83664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83664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08000" y="620640"/>
            <a:ext cx="5040360" cy="1922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г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сполового размн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8000" y="3789360"/>
            <a:ext cx="5040360" cy="180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пороф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140360" y="2781360"/>
            <a:ext cx="609480" cy="914400"/>
          </a:xfrm>
          <a:prstGeom prst="downArrowCallout">
            <a:avLst>
              <a:gd name="adj1" fmla="val 25002"/>
              <a:gd name="adj2" fmla="val 25000"/>
              <a:gd name="adj3" fmla="val 2500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482436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ховидные распространены во влажных местообитаниях: в тундре, на болотах и в лесах, часто доминируя в растительном покрове. Играют большую роль в регулировании водного баланса ландшафтов. Являются аккумуляторами радиоактивных вещест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219640" y="404640"/>
            <a:ext cx="3598920" cy="31244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084720" y="3933720"/>
            <a:ext cx="852480" cy="733680"/>
          </a:xfrm>
          <a:custGeom>
            <a:avLst/>
            <a:gdLst>
              <a:gd name="textAreaLeft" fmla="*/ 284040 w 852480"/>
              <a:gd name="textAreaRight" fmla="*/ 730440 w 852480"/>
              <a:gd name="textAreaTop" fmla="*/ 422640 h 733680"/>
              <a:gd name="textAreaBottom" fmla="*/ 628560 h 7336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ТОЦЕРОТОВЫЕ МХИ, класс мхов, с лопастным или розетковидным слоевищем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в. 300 видов (4 рода)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имущественно в тропи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724360" y="3860640"/>
            <a:ext cx="2735280" cy="27370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116000" y="3933720"/>
            <a:ext cx="3456000" cy="2664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тоцеротовые мх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да Folioceros fuciform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56000" y="32130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227640" y="1299240"/>
            <a:ext cx="201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тоцеро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Anthoceros fusiformi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2924280"/>
            <a:ext cx="289080" cy="863640"/>
          </a:xfrm>
          <a:prstGeom prst="downArrow">
            <a:avLst>
              <a:gd name="adj1" fmla="val 50000"/>
              <a:gd name="adj2" fmla="val 746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ЛИСТОСТЕБЕЛЬНЫЕ МХИ (настоящие мхи)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асс мхов с телом, расчлененным на стебель и листь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 подкласса: сфагновые, андреевые и бриевы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. 15 тыс. видов, в т. ч. кукушкин лен, дикранум, сфагнум и д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пространены по всему земному шару, главным образом в тундре, лесах, на болотах и в альпийском поясе го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635280" y="1600200"/>
            <a:ext cx="5051520" cy="45259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Листостебельные мхи (спороношение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95640" y="14842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6T05:16:29Z</dcterms:created>
  <dc:creator>Admin</dc:creator>
  <dc:description/>
  <dc:language>en-US</dc:language>
  <cp:lastModifiedBy>Admin</cp:lastModifiedBy>
  <dcterms:modified xsi:type="dcterms:W3CDTF">2015-04-20T13:11:48Z</dcterms:modified>
  <cp:revision>4</cp:revision>
  <dc:subject/>
  <dc:title>Слайд 1</dc:title>
</cp:coreProperties>
</file>