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0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0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F36F-E5B8-40E8-BFEF-87C4C8F53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1DC-7BEE-4065-8450-D093954C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7EE-0DC8-470D-B6C1-1525D67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C9B0-B983-46E6-8892-1A19E3BC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7161-A8ED-4496-91FB-2C326E5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5593E-4B99-4E00-BAB6-B8C24D8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463C1-8862-4B4C-8F05-B622B01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91943-E1D4-464F-9217-E306DCE2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A4F31-B020-42A2-BA9B-C6CAD8B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EB6F-5911-4921-B846-71846389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EFA7F-C767-424F-BF2D-663C4BD8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1393-C191-49C3-988D-99D12D6F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CCC-AD36-41BE-9B7D-3B2000D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633-BADC-4F4B-BEE0-7A565F95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82E-727B-40B3-85BC-CC9257B8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8E48-20E0-4598-8C0B-EA59212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3BC9-4C37-4635-8DC8-9DC956E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0BA-631B-4691-BFCD-EA56107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8923-FB35-457E-B627-0E6F5992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998-3717-44FD-9240-6A628939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8A0-8AC8-4485-9FED-A1C64F6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8C8-CABB-454C-AB2E-A5FCD3A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502-944C-4571-B70B-D2904F2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230F-0F6E-4FB1-BA52-64B6001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99B4-9968-4FDA-BFD1-0B5D558D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A08-D336-4493-B85D-F5A2512F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CDE-BF2B-4BDE-A87E-09DCDDF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048D-EE8A-41E7-BBEB-9F18C834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A614-5A58-4011-8E45-29D02CD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A3A9-F147-448F-8D65-5FBD2447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EFE7-9F01-46F1-8895-87BA1D3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1213-0177-4A3F-81BB-FBA2A5CA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117-5083-4C22-A2EC-0E4E69E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2194-7877-40DD-BC48-D5DC204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E516-7224-4AD9-AEF5-77FB3A0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64E0-FA65-48EB-8E41-9FEC0BA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C067-BCAA-4B37-8ACD-235D61B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704B-C15A-48B6-930F-FAAC1FD8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DE79-D8BE-499E-96F9-71230118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FAF7-720F-41FB-9E04-769D286E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2D97-FCA0-4BCC-94DA-91847E84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82AA-2351-4980-9C2A-A9BA100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22FF-C7E0-40C3-84FB-5D9B3A2E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77F-B1D6-4A9C-8C09-B851478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22CC-878C-4814-ABA2-BBB467E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D20F-59F3-4828-A227-49BD633B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9F8A-4E05-4054-ACAD-C639B5D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67B4-A768-46E1-A6ED-64069D8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0941-0040-4C4F-874E-E23A54F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FE2B-C199-48F5-8303-D914134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638D-E0B8-4537-8B24-E1102F0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2065-E66C-4FDA-92D7-5C39FC49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2CCF-558C-4891-8032-23150693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0917-A0C4-40D2-B21C-D867DDEF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9B3-3617-4D60-889F-B6B291C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8C40-20B2-4C6C-A57C-DC03C4D1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6EC7-C16F-416E-BF2C-12956E6B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09D7-4CE3-42CD-80D4-B6CD566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9719-BC36-45F8-A762-7B2858BA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6461-4BD2-4D81-8534-66664BA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8091F-2824-402A-90EF-80C90AC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D1BA-BC77-4D2D-9065-35CC1D6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C9E5-7306-4CFA-8EE7-B5AFB385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6056-A02E-417B-A380-29F419F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E299-FBC5-4935-9211-A6CAF8B7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5DA-03C6-4982-8AE8-8B08955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8986-ACA4-4F85-8A0E-734D4FB1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D6745-ADDD-426B-95CB-10D336C6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C84E4-6AC9-4B1B-A254-D94AD2C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A71E-AA7B-41CC-B85D-C03CDA1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3D90-84BF-4323-8557-7346D7F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7D8B-64E1-4A85-9971-24BF830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1B09-FCA7-499C-B4EA-D1E9C06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1979-514C-4EE2-A665-9DC9B3E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819C-1170-4F53-B2C1-5285926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FB45-AE3D-421E-A3A9-C96B96F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BFF-27CD-4091-B1B8-791CC0CA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C0A5-9AB1-4521-BCE8-975E311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70912-137E-4B47-95B2-D327DD5B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633C-6166-4166-A17E-D7D34A6A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D7863-F2D1-4169-86EC-F268A624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625A-D2F1-44CF-8E7B-C71219A0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11A14-26EC-4FAA-AA67-EB2D0C9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BE61-2069-45AB-9B6E-B0F2120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3A3AF-8589-4E95-825E-D7890A40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7BE2-096C-4889-857E-F4D3548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3AF6-ABF0-4FB7-B1A1-776852CC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7E3-755C-45E2-942C-092C863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41AB-0FE8-49CC-9B38-AA5D03A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4F8E-5C9D-47D5-807E-DC71B90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04FD-7C16-4AAE-82CB-AAE04D0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DCF2-4787-4EAE-B732-DDD253D5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93E1-42B0-43E8-983B-ABE60099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6037E-F65B-45FA-9B85-9AA751B4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B5CF-E17A-400B-973D-340AEE0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DB231-4E5E-41A6-897D-E19E098A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30A2-69FC-444A-BB38-F550486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B87CB-D879-417B-8002-83975F2B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8EC-5902-4112-8285-1455EDD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68DB-3B3E-45A5-B382-DDE9B8BA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5C63-9284-4C43-B636-B32BA1B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7FF2-123F-480A-8001-2A932BF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EB195-5DDE-45C8-B5FF-E04143F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8F157-8FC5-4897-A5FB-3EC2DD7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CC81-AD51-4363-BA9A-47285DD9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74E5-3EFA-40F6-BD40-CEDBA4D3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F15B3-AB64-49B5-B5C5-667F9D39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89559-6437-4707-A352-BD13258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098E0-5D3B-4B43-8C55-54F813C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302-0E27-4503-9A0B-4C7555A9CCA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D4C-6D82-423C-B5FA-7E0BDCA11B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9D8-56A0-4773-B6FA-999E88C5D8B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39C-049E-410E-B1B5-26097FF598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4CD-4109-4460-93DA-AFBAE50BAB1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091-F3A7-453A-B05A-44EA2B6A03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664B-6EB5-445E-A5AE-99E2D1AA7C6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000-4BCB-443F-AD2F-1FB08B481D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F63-4DD3-4156-8052-6CAF0C39460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B19B-9124-468F-8635-D4E4D4E003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CB18-C84F-4E1D-8B30-ED8A01A7AF0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42A-30E2-4B2F-93AD-6E44C73922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0A4-3D0C-4168-8AF8-A0DC71A79C8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0E6-27BA-4545-BE14-4C89217733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C494-4430-4F4D-A135-CF118AE97E0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4B9-E6F6-4A95-9E06-CC1FC20185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5CB2-4224-4587-A03F-B1717AAD615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466-509E-4553-BFB7-8CB0646CFE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26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26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Моделирование используется для того, чтобы представить визуально те объекты или процессы, которые нельзя увидет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дель атома                                 Модель электромагнитной волн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6-tub-ru.yandex.net/i?id=414583970-35-72"/>
          <p:cNvPicPr/>
          <p:nvPr/>
        </p:nvPicPr>
        <p:blipFill>
          <a:blip r:embed="rId2"/>
          <a:stretch/>
        </p:blipFill>
        <p:spPr>
          <a:xfrm>
            <a:off x="1116000" y="3357720"/>
            <a:ext cx="2000160" cy="20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6" descr="http://im3-tub-ru.yandex.net/i?id=222866688-48-72"/>
          <p:cNvPicPr/>
          <p:nvPr/>
        </p:nvPicPr>
        <p:blipFill>
          <a:blip r:embed="rId3"/>
          <a:stretch/>
        </p:blipFill>
        <p:spPr>
          <a:xfrm>
            <a:off x="5500800" y="3500280"/>
            <a:ext cx="2571480" cy="17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396720" y="122400"/>
            <a:ext cx="8455320" cy="3821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Цель: научится применять знания по использованию средств MS Excel для моделирования физических процес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троить графическую модель процесса, протекающего в цепи переменного тока, которая содержит катушку индуктивности и сделать вывод. (Интервал и шаг табуляции выбрать самостоятельн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2"/>
          <a:stretch/>
        </p:blipFill>
        <p:spPr>
          <a:xfrm>
            <a:off x="5100480" y="2643120"/>
            <a:ext cx="302580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5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560" y="1553760"/>
            <a:ext cx="84819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6" descr=""/>
          <p:cNvPicPr/>
          <p:nvPr/>
        </p:nvPicPr>
        <p:blipFill>
          <a:blip r:embed="rId2"/>
          <a:stretch/>
        </p:blipFill>
        <p:spPr>
          <a:xfrm>
            <a:off x="3786120" y="3286080"/>
            <a:ext cx="2286000" cy="6364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8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9" descr=""/>
          <p:cNvPicPr/>
          <p:nvPr/>
        </p:nvPicPr>
        <p:blipFill>
          <a:blip r:embed="rId3"/>
          <a:stretch/>
        </p:blipFill>
        <p:spPr>
          <a:xfrm>
            <a:off x="4643280" y="4143240"/>
            <a:ext cx="2805120" cy="571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1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2" descr=""/>
          <p:cNvPicPr/>
          <p:nvPr/>
        </p:nvPicPr>
        <p:blipFill>
          <a:blip r:embed="rId4"/>
          <a:stretch/>
        </p:blipFill>
        <p:spPr>
          <a:xfrm>
            <a:off x="5826240" y="5072040"/>
            <a:ext cx="2727360" cy="5000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4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5" descr=""/>
          <p:cNvPicPr/>
          <p:nvPr/>
        </p:nvPicPr>
        <p:blipFill>
          <a:blip r:embed="rId5"/>
          <a:stretch/>
        </p:blipFill>
        <p:spPr>
          <a:xfrm>
            <a:off x="928800" y="1500120"/>
            <a:ext cx="1665000" cy="642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47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8" descr=""/>
          <p:cNvPicPr/>
          <p:nvPr/>
        </p:nvPicPr>
        <p:blipFill>
          <a:blip r:embed="rId6"/>
          <a:stretch/>
        </p:blipFill>
        <p:spPr>
          <a:xfrm>
            <a:off x="1928880" y="2071800"/>
            <a:ext cx="2571840" cy="5713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0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1" descr=""/>
          <p:cNvPicPr/>
          <p:nvPr/>
        </p:nvPicPr>
        <p:blipFill>
          <a:blip r:embed="rId7"/>
          <a:stretch/>
        </p:blipFill>
        <p:spPr>
          <a:xfrm>
            <a:off x="3214800" y="2643120"/>
            <a:ext cx="1785960" cy="5778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2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4" name="Скругленный прямоугольник 5"/>
          <p:cNvGrpSpPr/>
          <p:nvPr/>
        </p:nvGrpSpPr>
        <p:grpSpPr>
          <a:xfrm>
            <a:off x="969840" y="2023920"/>
            <a:ext cx="7199280" cy="3407040"/>
            <a:chOff x="969840" y="2023920"/>
            <a:chExt cx="7199280" cy="3407040"/>
          </a:xfrm>
        </p:grpSpPr>
        <p:pic>
          <p:nvPicPr>
            <p:cNvPr id="505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969840" y="2023920"/>
              <a:ext cx="7199280" cy="34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"/>
            <p:cNvSpPr/>
            <p:nvPr/>
          </p:nvSpPr>
          <p:spPr>
            <a:xfrm>
              <a:off x="1228680" y="2228760"/>
              <a:ext cx="6686640" cy="29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Franklin Gothic Book"/>
                </a:rPr>
                <a:t>Научились, используя возможности </a:t>
              </a:r>
              <a:r>
                <a:rPr b="0" lang="en-US" sz="3600" spc="-1" strike="noStrike">
                  <a:solidFill>
                    <a:srgbClr val="ffffff"/>
                  </a:solidFill>
                  <a:latin typeface="Franklin Gothic Book"/>
                </a:rPr>
                <a:t>MS Excel</a:t>
              </a:r>
              <a:r>
                <a:rPr b="0" lang="ru-RU" sz="3600" spc="-1" strike="noStrike">
                  <a:solidFill>
                    <a:srgbClr val="ffffff"/>
                  </a:solidFill>
                  <a:latin typeface="Franklin Gothic Book"/>
                </a:rPr>
                <a:t>, создавать графические модели физических процессов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9" name="Скругленный прямоугольник 4"/>
          <p:cNvGrpSpPr/>
          <p:nvPr/>
        </p:nvGrpSpPr>
        <p:grpSpPr>
          <a:xfrm>
            <a:off x="755640" y="1809720"/>
            <a:ext cx="7845480" cy="3908520"/>
            <a:chOff x="755640" y="1809720"/>
            <a:chExt cx="7845480" cy="3908520"/>
          </a:xfrm>
        </p:grpSpPr>
        <p:pic>
          <p:nvPicPr>
            <p:cNvPr id="510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55640" y="1809720"/>
              <a:ext cx="784548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6"/>
            <p:cNvSpPr/>
            <p:nvPr/>
          </p:nvSpPr>
          <p:spPr>
            <a:xfrm>
              <a:off x="1038240" y="2038320"/>
              <a:ext cx="728172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Franklin Gothic Book"/>
                </a:rPr>
                <a:t>  </a:t>
              </a:r>
              <a:r>
                <a:rPr b="0" lang="ru-RU" sz="2800" spc="-1" strike="noStrike">
                  <a:solidFill>
                    <a:srgbClr val="ffffff"/>
                  </a:solidFill>
                  <a:latin typeface="Franklin Gothic Book"/>
                </a:rPr>
                <a:t>Построить графическую модель изменения напряжения и силы тока в цепи переменного тока, содержащей конденсатор для различных значений электрической емкости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Picture 36" descr=""/>
          <p:cNvPicPr/>
          <p:nvPr/>
        </p:nvPicPr>
        <p:blipFill>
          <a:blip r:embed="rId3"/>
          <a:stretch/>
        </p:blipFill>
        <p:spPr>
          <a:xfrm>
            <a:off x="531720" y="5514840"/>
            <a:ext cx="2286000" cy="636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9" descr=""/>
          <p:cNvPicPr/>
          <p:nvPr/>
        </p:nvPicPr>
        <p:blipFill>
          <a:blip r:embed="rId4"/>
          <a:stretch/>
        </p:blipFill>
        <p:spPr>
          <a:xfrm>
            <a:off x="3490920" y="5627520"/>
            <a:ext cx="2805120" cy="571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2" descr=""/>
          <p:cNvPicPr/>
          <p:nvPr/>
        </p:nvPicPr>
        <p:blipFill>
          <a:blip r:embed="rId5"/>
          <a:stretch/>
        </p:blipFill>
        <p:spPr>
          <a:xfrm>
            <a:off x="5897520" y="4816440"/>
            <a:ext cx="2727360" cy="500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5" descr=""/>
          <p:cNvPicPr/>
          <p:nvPr/>
        </p:nvPicPr>
        <p:blipFill>
          <a:blip r:embed="rId6"/>
          <a:stretch/>
        </p:blipFill>
        <p:spPr>
          <a:xfrm>
            <a:off x="682560" y="4745160"/>
            <a:ext cx="1665360" cy="64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" descr=""/>
          <p:cNvPicPr/>
          <p:nvPr/>
        </p:nvPicPr>
        <p:blipFill>
          <a:blip r:embed="rId7"/>
          <a:stretch/>
        </p:blipFill>
        <p:spPr>
          <a:xfrm>
            <a:off x="2820960" y="4714920"/>
            <a:ext cx="2571840" cy="571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1" descr=""/>
          <p:cNvPicPr/>
          <p:nvPr/>
        </p:nvPicPr>
        <p:blipFill>
          <a:blip r:embed="rId8"/>
          <a:stretch/>
        </p:blipFill>
        <p:spPr>
          <a:xfrm>
            <a:off x="6838920" y="5573880"/>
            <a:ext cx="1785960" cy="57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турные модели                                   Информационные моде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ttp://im3-tub-ru.yandex.net/i?id=211496512-31-72"/>
          <p:cNvPicPr/>
          <p:nvPr/>
        </p:nvPicPr>
        <p:blipFill>
          <a:blip r:embed="rId2"/>
          <a:stretch/>
        </p:blipFill>
        <p:spPr>
          <a:xfrm>
            <a:off x="571680" y="1928880"/>
            <a:ext cx="9522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3" name="Picture 4" descr="http://im4-tub-ru.yandex.net/i?id=445741794-15-72"/>
          <p:cNvPicPr/>
          <p:nvPr/>
        </p:nvPicPr>
        <p:blipFill>
          <a:blip r:embed="rId3"/>
          <a:stretch/>
        </p:blipFill>
        <p:spPr>
          <a:xfrm>
            <a:off x="785880" y="3500280"/>
            <a:ext cx="9716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6" descr="http://im6-tub-ru.yandex.net/i?id=159425129-58-72"/>
          <p:cNvPicPr/>
          <p:nvPr/>
        </p:nvPicPr>
        <p:blipFill>
          <a:blip r:embed="rId4"/>
          <a:stretch/>
        </p:blipFill>
        <p:spPr>
          <a:xfrm>
            <a:off x="2286000" y="2500200"/>
            <a:ext cx="6476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Picture 8" descr="http://im6-tub-ru.yandex.net/i?id=106266758-07-72"/>
          <p:cNvPicPr/>
          <p:nvPr/>
        </p:nvPicPr>
        <p:blipFill>
          <a:blip r:embed="rId5"/>
          <a:stretch/>
        </p:blipFill>
        <p:spPr>
          <a:xfrm>
            <a:off x="4429080" y="1643040"/>
            <a:ext cx="14004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6" name="Picture 10" descr="http://im5-tub-ru.yandex.net/i?id=69551688-48-72"/>
          <p:cNvPicPr/>
          <p:nvPr/>
        </p:nvPicPr>
        <p:blipFill>
          <a:blip r:embed="rId6"/>
          <a:stretch/>
        </p:blipFill>
        <p:spPr>
          <a:xfrm>
            <a:off x="6786720" y="1643040"/>
            <a:ext cx="1782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7" name="Picture 12" descr="http://im4-tub-ru.yandex.net/i?id=79678578-56-72"/>
          <p:cNvPicPr/>
          <p:nvPr/>
        </p:nvPicPr>
        <p:blipFill>
          <a:blip r:embed="rId7"/>
          <a:stretch/>
        </p:blipFill>
        <p:spPr>
          <a:xfrm>
            <a:off x="5715000" y="3500280"/>
            <a:ext cx="1285920" cy="14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4269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82520" y="2444760"/>
            <a:ext cx="2683080" cy="968400"/>
          </a:xfrm>
          <a:prstGeom prst="rect">
            <a:avLst/>
          </a:prstGeom>
          <a:ln w="0">
            <a:noFill/>
          </a:ln>
        </p:spPr>
      </p:pic>
      <p:pic>
        <p:nvPicPr>
          <p:cNvPr id="42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1255680" y="4657680"/>
            <a:ext cx="2683080" cy="968400"/>
          </a:xfrm>
          <a:prstGeom prst="rect">
            <a:avLst/>
          </a:prstGeom>
          <a:ln w="0">
            <a:noFill/>
          </a:ln>
        </p:spPr>
      </p:pic>
      <p:pic>
        <p:nvPicPr>
          <p:cNvPr id="422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4827600" y="4516560"/>
            <a:ext cx="2682720" cy="969840"/>
          </a:xfrm>
          <a:prstGeom prst="rect">
            <a:avLst/>
          </a:prstGeom>
          <a:ln w="0">
            <a:noFill/>
          </a:ln>
        </p:spPr>
      </p:pic>
      <p:pic>
        <p:nvPicPr>
          <p:cNvPr id="423" name="Скругленный прямоугольник 7" descr=""/>
          <p:cNvPicPr/>
          <p:nvPr/>
        </p:nvPicPr>
        <p:blipFill>
          <a:blip r:embed="rId5"/>
          <a:stretch/>
        </p:blipFill>
        <p:spPr>
          <a:xfrm>
            <a:off x="6066000" y="2517840"/>
            <a:ext cx="2766960" cy="968400"/>
          </a:xfrm>
          <a:prstGeom prst="rect">
            <a:avLst/>
          </a:prstGeom>
          <a:ln w="0">
            <a:noFill/>
          </a:ln>
        </p:spPr>
      </p:pic>
      <p:cxnSp>
        <p:nvCxnSpPr>
          <p:cNvPr id="424" name="Прямая со стрелкой 10"/>
          <p:cNvCxnSpPr/>
          <p:nvPr/>
        </p:nvCxnSpPr>
        <p:spPr>
          <a:xfrm flipH="1">
            <a:off x="1499400" y="1141920"/>
            <a:ext cx="1500840" cy="12150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5" name="Прямая со стрелкой 12"/>
          <p:cNvCxnSpPr/>
          <p:nvPr/>
        </p:nvCxnSpPr>
        <p:spPr>
          <a:xfrm flipH="1">
            <a:off x="2785680" y="1213920"/>
            <a:ext cx="929520" cy="328716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6" name="Прямая со стрелкой 14"/>
          <p:cNvCxnSpPr/>
          <p:nvPr/>
        </p:nvCxnSpPr>
        <p:spPr>
          <a:xfrm>
            <a:off x="4785120" y="1357200"/>
            <a:ext cx="1143720" cy="314424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7" name="Прямая со стрелкой 16"/>
          <p:cNvCxnSpPr/>
          <p:nvPr/>
        </p:nvCxnSpPr>
        <p:spPr>
          <a:xfrm>
            <a:off x="6143760" y="1285560"/>
            <a:ext cx="1000800" cy="114372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ановка задач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работка моде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мпьютерный эксперимен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нализ этапов модел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Прямая соединительная линия 12"/>
          <p:cNvSpPr/>
          <p:nvPr/>
        </p:nvSpPr>
        <p:spPr>
          <a:xfrm>
            <a:off x="6858000" y="3429000"/>
            <a:ext cx="500040" cy="1440"/>
          </a:xfrm>
          <a:prstGeom prst="line">
            <a:avLst/>
          </a:prstGeom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9"/>
          <p:cNvSpPr/>
          <p:nvPr/>
        </p:nvSpPr>
        <p:spPr>
          <a:xfrm>
            <a:off x="5500800" y="300024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35"/>
          <p:cNvSpPr/>
          <p:nvPr/>
        </p:nvSpPr>
        <p:spPr>
          <a:xfrm>
            <a:off x="6858000" y="3143160"/>
            <a:ext cx="500040" cy="1800"/>
          </a:xfrm>
          <a:prstGeom prst="line">
            <a:avLst/>
          </a:prstGeom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3"/>
          <p:cNvSpPr/>
          <p:nvPr/>
        </p:nvSpPr>
        <p:spPr>
          <a:xfrm>
            <a:off x="5500800" y="342900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5"/>
          <p:cNvSpPr/>
          <p:nvPr/>
        </p:nvSpPr>
        <p:spPr>
          <a:xfrm flipV="1">
            <a:off x="5571360" y="2357280"/>
            <a:ext cx="1800" cy="64296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20"/>
          <p:cNvSpPr/>
          <p:nvPr/>
        </p:nvSpPr>
        <p:spPr>
          <a:xfrm>
            <a:off x="5572080" y="2357280"/>
            <a:ext cx="1571760" cy="180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3"/>
          <p:cNvSpPr/>
          <p:nvPr/>
        </p:nvSpPr>
        <p:spPr>
          <a:xfrm flipH="1">
            <a:off x="7143840" y="2357280"/>
            <a:ext cx="1440" cy="78588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28"/>
          <p:cNvSpPr/>
          <p:nvPr/>
        </p:nvSpPr>
        <p:spPr>
          <a:xfrm flipH="1">
            <a:off x="7143840" y="3430440"/>
            <a:ext cx="1440" cy="64296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30"/>
          <p:cNvSpPr/>
          <p:nvPr/>
        </p:nvSpPr>
        <p:spPr>
          <a:xfrm flipH="1" flipV="1">
            <a:off x="5572080" y="4071960"/>
            <a:ext cx="1571760" cy="144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34"/>
          <p:cNvSpPr/>
          <p:nvPr/>
        </p:nvSpPr>
        <p:spPr>
          <a:xfrm flipH="1">
            <a:off x="5571720" y="3573360"/>
            <a:ext cx="1800" cy="50004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9720" y="666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5720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9"/>
          <p:cNvSpPr/>
          <p:nvPr/>
        </p:nvSpPr>
        <p:spPr>
          <a:xfrm flipV="1">
            <a:off x="-2143080" y="3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2"/>
          <a:stretch/>
        </p:blipFill>
        <p:spPr>
          <a:xfrm>
            <a:off x="689040" y="3714840"/>
            <a:ext cx="3525840" cy="657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0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1" descr=""/>
          <p:cNvPicPr/>
          <p:nvPr/>
        </p:nvPicPr>
        <p:blipFill>
          <a:blip r:embed="rId3"/>
          <a:stretch/>
        </p:blipFill>
        <p:spPr>
          <a:xfrm>
            <a:off x="714240" y="2143080"/>
            <a:ext cx="3571920" cy="714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2075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"/>
          <p:cNvPicPr/>
          <p:nvPr/>
        </p:nvPicPr>
        <p:blipFill>
          <a:blip r:embed="rId3"/>
          <a:stretch/>
        </p:blipFill>
        <p:spPr>
          <a:xfrm>
            <a:off x="2428920" y="2928960"/>
            <a:ext cx="2894040" cy="642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3" descr=""/>
          <p:cNvPicPr/>
          <p:nvPr/>
        </p:nvPicPr>
        <p:blipFill>
          <a:blip r:embed="rId4"/>
          <a:stretch/>
        </p:blipFill>
        <p:spPr>
          <a:xfrm>
            <a:off x="4286160" y="3857760"/>
            <a:ext cx="2046240" cy="7142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5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6" descr=""/>
          <p:cNvPicPr/>
          <p:nvPr/>
        </p:nvPicPr>
        <p:blipFill>
          <a:blip r:embed="rId5"/>
          <a:stretch/>
        </p:blipFill>
        <p:spPr>
          <a:xfrm>
            <a:off x="5572080" y="4929120"/>
            <a:ext cx="2338560" cy="6429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8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5010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84488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менение силы тока и напряжения происходит так:  когда сила тока равна нулю, напряжение принимает максимальное значение и наобор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лебания силы тока опережают по фазе колебания напряжения 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5500800" y="4143240"/>
            <a:ext cx="172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28:16Z</dcterms:created>
  <dc:creator>admin</dc:creator>
  <dc:description/>
  <dc:language>en-US</dc:language>
  <cp:lastModifiedBy>WEAN</cp:lastModifiedBy>
  <dcterms:modified xsi:type="dcterms:W3CDTF">2015-04-20T10:20:22Z</dcterms:modified>
  <cp:revision>80</cp:revision>
  <dc:subject/>
  <dc:title>Слайд 1</dc:title>
</cp:coreProperties>
</file>