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D746-A5F8-4BA4-BD49-1A6B318EE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D385-B35A-42AA-A671-DCC5661D5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67D1-4EDE-442B-8104-3A02EDC85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70F6-5DF8-44B0-AFAF-961E34229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9E63A-D9EE-44D2-B1ED-A41F4E0B1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4A86E-BAD6-4ED8-B8D6-C31386F30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A8E80-27D2-41AD-A1B6-35095879A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84DAC-75F4-4AFF-8484-85B1C8F5A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89C0A-3D89-4CAC-8591-095A21603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F20AA-A0CC-4CC3-A091-51550829A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125C3-C0D4-47BB-86A3-DA2D13092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69EC-FB35-435E-A714-730074CD6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C95D2-F5A4-4FEB-AFE9-C6C2626AE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7D2F5-4D18-4699-A5F8-2A436CEEB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6214B-9E49-49A2-A3F8-186AAC240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EB0A0-0DCE-4B31-A6F7-B0F61EB1A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48B1D-04C6-431B-9435-9EF2A3912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A816-5347-4C41-A5DA-68E24CE70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E53A-F009-4C8A-B2AA-8AD90C65F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F377-C19B-4400-8200-071A41084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9D2E-2652-40D3-A0D5-642C7A50B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9883-DF61-449B-9702-EB6917AB1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833F-C6A4-4285-950A-7D9D26611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CE9B-B46D-4021-B9FD-7A691616D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A4985-2A62-4D00-99CB-F57BEF5DBED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BAFC8-136A-4C06-BFA1-4184EEFBA66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1640" y="1773360"/>
            <a:ext cx="6769080" cy="25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1" lang="ru-RU" sz="5400" spc="-1" strike="noStrike">
                <a:solidFill>
                  <a:srgbClr val="000000"/>
                </a:solidFill>
                <a:latin typeface="Georgia"/>
                <a:ea typeface="Times New Roman"/>
              </a:rPr>
              <a:t>«Никто не забыт и ничто не забыто...»</a:t>
            </a:r>
            <a:br>
              <a:rPr sz="6000"/>
            </a:br>
            <a:br>
              <a:rPr sz="60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О той весне.mp3" descr=""/>
          <p:cNvPicPr/>
          <p:nvPr/>
        </p:nvPicPr>
        <p:blipFill>
          <a:blip r:embed="rId1"/>
          <a:stretch/>
        </p:blipFill>
        <p:spPr>
          <a:xfrm>
            <a:off x="86043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Рисунок 1" descr="69871167_1296210675_26.jpg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539640" y="333360"/>
            <a:ext cx="3745080" cy="274968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2" descr="41l.jpg"/>
          <p:cNvPicPr/>
          <p:nvPr/>
        </p:nvPicPr>
        <p:blipFill>
          <a:blip r:embed="rId2"/>
          <a:stretch/>
        </p:blipFill>
        <p:spPr>
          <a:xfrm>
            <a:off x="4932360" y="1052640"/>
            <a:ext cx="2873520" cy="4913280"/>
          </a:xfrm>
          <a:prstGeom prst="rect">
            <a:avLst/>
          </a:prstGeom>
          <a:ln w="0">
            <a:noFill/>
          </a:ln>
        </p:spPr>
      </p:pic>
      <p:sp>
        <p:nvSpPr>
          <p:cNvPr id="100" name="Прямоугольник 3"/>
          <p:cNvSpPr/>
          <p:nvPr/>
        </p:nvSpPr>
        <p:spPr>
          <a:xfrm>
            <a:off x="179280" y="3357720"/>
            <a:ext cx="45720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HelveticaNeueCyr"/>
              </a:rPr>
              <a:t>…</a:t>
            </a:r>
            <a:r>
              <a:rPr b="1" lang="ru-RU" sz="2000" spc="-1" strike="noStrike">
                <a:solidFill>
                  <a:srgbClr val="000000"/>
                </a:solidFill>
                <a:latin typeface="HelveticaNeueCyr"/>
              </a:rPr>
              <a:t>Скрипят полозья в городе, скрипят... 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HelveticaNeueCyr"/>
              </a:rPr>
              <a:t>Как многих нам уже недосчитаться! 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HelveticaNeueCyr"/>
              </a:rPr>
              <a:t>Но мы не плачем: правду говорят, 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HelveticaNeueCyr"/>
              </a:rPr>
              <a:t>что слезы вымерзли у ленинградцев… (</a:t>
            </a:r>
            <a:r>
              <a:rPr b="1" i="1" lang="ru-RU" sz="2000" spc="-1" strike="noStrike">
                <a:solidFill>
                  <a:srgbClr val="000000"/>
                </a:solidFill>
                <a:latin typeface="HelveticaNeueCyr"/>
              </a:rPr>
              <a:t>Ольга Берггольц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Рисунок 1" descr="UIbqjThBdE0.jpg"/>
          <p:cNvPicPr/>
          <p:nvPr/>
        </p:nvPicPr>
        <p:blipFill>
          <a:blip r:embed="rId1"/>
          <a:stretch/>
        </p:blipFill>
        <p:spPr>
          <a:xfrm>
            <a:off x="4227480" y="2133720"/>
            <a:ext cx="4792680" cy="331632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2" descr="70294619.jpg"/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250920" y="404640"/>
            <a:ext cx="3767040" cy="32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Рисунок 2" descr="37059-eef08-55529102-m750x740-ucad07.jpg"/>
          <p:cNvPicPr/>
          <p:nvPr/>
        </p:nvPicPr>
        <p:blipFill>
          <a:blip r:embed="rId1"/>
          <a:stretch/>
        </p:blipFill>
        <p:spPr>
          <a:xfrm>
            <a:off x="250920" y="1125360"/>
            <a:ext cx="5648400" cy="3922920"/>
          </a:xfrm>
          <a:prstGeom prst="rect">
            <a:avLst/>
          </a:prstGeom>
          <a:ln w="0">
            <a:noFill/>
          </a:ln>
        </p:spPr>
      </p:pic>
      <p:sp>
        <p:nvSpPr>
          <p:cNvPr id="104" name="Прямоугольник 3"/>
          <p:cNvSpPr/>
          <p:nvPr/>
        </p:nvSpPr>
        <p:spPr>
          <a:xfrm>
            <a:off x="6012000" y="1773360"/>
            <a:ext cx="29160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HelveticaNeueCyr"/>
              </a:rPr>
              <a:t>Ехал я из Берлина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HelveticaNeueCyr"/>
              </a:rPr>
              <a:t>По дороге прямой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HelveticaNeueCyr"/>
              </a:rPr>
              <a:t>На попутных машинах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HelveticaNeueCyr"/>
              </a:rPr>
              <a:t>Ехал с фронта домой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HelveticaNeueCyr"/>
              </a:rPr>
              <a:t>Ехал мимо Варшавы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HelveticaNeueCyr"/>
              </a:rPr>
              <a:t>Ехал мимо Орла -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HelveticaNeueCyr"/>
              </a:rPr>
              <a:t>Там, где русская слава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HelveticaNeueCyr"/>
              </a:rPr>
              <a:t>Все тропинки прошла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Рисунок 1" descr="28878376.jpg"/>
          <p:cNvPicPr/>
          <p:nvPr/>
        </p:nvPicPr>
        <p:blipFill>
          <a:blip r:embed="rId1"/>
          <a:stretch/>
        </p:blipFill>
        <p:spPr>
          <a:xfrm>
            <a:off x="324000" y="189000"/>
            <a:ext cx="4495680" cy="309564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2" descr="news_07news_16_07_05.jpg"/>
          <p:cNvPicPr/>
          <p:nvPr/>
        </p:nvPicPr>
        <p:blipFill>
          <a:blip r:embed="rId2"/>
          <a:stretch/>
        </p:blipFill>
        <p:spPr>
          <a:xfrm>
            <a:off x="5076720" y="1413000"/>
            <a:ext cx="3427560" cy="404172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3" descr="62490_1024x768.jpg"/>
          <p:cNvPicPr/>
          <p:nvPr/>
        </p:nvPicPr>
        <p:blipFill>
          <a:blip r:embed="rId3"/>
          <a:stretch/>
        </p:blipFill>
        <p:spPr>
          <a:xfrm>
            <a:off x="684360" y="3357720"/>
            <a:ext cx="3240000" cy="25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Рисунок 2" descr="Парад-ветераны.jpg"/>
          <p:cNvPicPr/>
          <p:nvPr/>
        </p:nvPicPr>
        <p:blipFill>
          <a:blip r:embed="rId1"/>
          <a:stretch/>
        </p:blipFill>
        <p:spPr>
          <a:xfrm>
            <a:off x="179280" y="189000"/>
            <a:ext cx="4608720" cy="3263760"/>
          </a:xfrm>
          <a:prstGeom prst="rect">
            <a:avLst/>
          </a:prstGeom>
          <a:ln w="0">
            <a:noFill/>
          </a:ln>
        </p:spPr>
      </p:pic>
      <p:pic>
        <p:nvPicPr>
          <p:cNvPr id="109" name="Рисунок 3" descr="ustal22_7.jpg"/>
          <p:cNvPicPr/>
          <p:nvPr/>
        </p:nvPicPr>
        <p:blipFill>
          <a:blip r:embed="rId2"/>
          <a:stretch/>
        </p:blipFill>
        <p:spPr>
          <a:xfrm>
            <a:off x="5003640" y="1052640"/>
            <a:ext cx="3009960" cy="304164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4" descr="1909773563_700.jpg"/>
          <p:cNvPicPr/>
          <p:nvPr/>
        </p:nvPicPr>
        <p:blipFill>
          <a:blip r:embed="rId3"/>
          <a:stretch/>
        </p:blipFill>
        <p:spPr>
          <a:xfrm>
            <a:off x="1258920" y="3500280"/>
            <a:ext cx="3487680" cy="2432160"/>
          </a:xfrm>
          <a:prstGeom prst="rect">
            <a:avLst/>
          </a:prstGeom>
          <a:ln w="0">
            <a:noFill/>
          </a:ln>
        </p:spPr>
      </p:pic>
      <p:sp>
        <p:nvSpPr>
          <p:cNvPr id="111" name="Прямоугольник 5"/>
          <p:cNvSpPr/>
          <p:nvPr/>
        </p:nvSpPr>
        <p:spPr>
          <a:xfrm>
            <a:off x="4932360" y="4221000"/>
            <a:ext cx="4032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HelveticaNeueCyr"/>
              </a:rPr>
              <a:t>Ты прошёл всю войну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HelveticaNeueCyr"/>
              </a:rPr>
              <a:t>Ты прополз всю войну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HelveticaNeueCyr"/>
              </a:rPr>
              <a:t>От границы к Москве, до Берлина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HelveticaNeueCyr"/>
              </a:rPr>
              <a:t>Ты держись, ветеран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HelveticaNeueCyr"/>
              </a:rPr>
              <a:t>Подожди умирать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HelveticaNeueCyr"/>
              </a:rPr>
              <a:t>Посмотри на внучат и на сы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Прямоугольник 2"/>
          <p:cNvSpPr/>
          <p:nvPr/>
        </p:nvSpPr>
        <p:spPr>
          <a:xfrm>
            <a:off x="395280" y="260280"/>
            <a:ext cx="5977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HelveticaNeueCyr"/>
              </a:rPr>
              <a:t>Я точно знаю то, что в день Победы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HelveticaNeueCyr"/>
              </a:rPr>
              <a:t>Бессмертный полк </a:t>
            </a:r>
            <a:r>
              <a:rPr b="0" lang="ru-RU" sz="2000" spc="-1" strike="noStrike">
                <a:solidFill>
                  <a:srgbClr val="000000"/>
                </a:solidFill>
                <a:latin typeface="HelveticaNeueCyr"/>
              </a:rPr>
              <a:t>вновь по земле пройдет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HelveticaNeueCyr"/>
              </a:rPr>
              <a:t>В его строю опять отцы и деды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HelveticaNeueCyr"/>
              </a:rPr>
              <a:t>Пусть лишь на фото, память не умрет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Рисунок 4" descr="st-petersburg-5-08-141.jpg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1187280" y="1628640"/>
            <a:ext cx="712980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Рисунок 2" descr="74155523_25757020314e915b37979369f83a73eb49b864f4caf.jpg"/>
          <p:cNvPicPr/>
          <p:nvPr/>
        </p:nvPicPr>
        <p:blipFill>
          <a:blip r:embed="rId1"/>
          <a:stretch/>
        </p:blipFill>
        <p:spPr>
          <a:xfrm>
            <a:off x="324000" y="333360"/>
            <a:ext cx="3859200" cy="5156280"/>
          </a:xfrm>
          <a:prstGeom prst="rect">
            <a:avLst/>
          </a:prstGeom>
          <a:ln w="0">
            <a:noFill/>
          </a:ln>
        </p:spPr>
      </p:pic>
      <p:sp>
        <p:nvSpPr>
          <p:cNvPr id="115" name="Прямоугольник 4"/>
          <p:cNvSpPr/>
          <p:nvPr/>
        </p:nvSpPr>
        <p:spPr>
          <a:xfrm>
            <a:off x="4356000" y="1773360"/>
            <a:ext cx="45720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HelveticaNeueCyr"/>
              </a:rPr>
              <a:t>…</a:t>
            </a:r>
            <a:r>
              <a:rPr b="1" lang="ru-RU" sz="2000" spc="-1" strike="noStrike">
                <a:solidFill>
                  <a:srgbClr val="000000"/>
                </a:solidFill>
                <a:latin typeface="HelveticaNeueCyr"/>
              </a:rPr>
              <a:t>И в Берлине, в праздничную дату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HelveticaNeueCyr"/>
              </a:rPr>
              <a:t>Был воздвигнут, чтоб стоять в веках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HelveticaNeueCyr"/>
              </a:rPr>
              <a:t>Памятник советскому солдат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HelveticaNeueCyr"/>
              </a:rPr>
              <a:t>С девочкой спасённой на рук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HelveticaNeueCyr"/>
              </a:rPr>
              <a:t>Он стоит как символ нашей славы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HelveticaNeueCyr"/>
              </a:rPr>
              <a:t>Как маяк, светящийся во мгл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HelveticaNeueCyr"/>
              </a:rPr>
              <a:t>Это он, солдат моей державы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HelveticaNeueCyr"/>
              </a:rPr>
              <a:t>Охраняет мир на всей земле!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HelveticaNeueCyr"/>
              </a:rPr>
              <a:t>   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HelveticaNeueCyr"/>
              </a:rPr>
              <a:t>(Георгий Рублёв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Прямоугольник 2"/>
          <p:cNvSpPr/>
          <p:nvPr/>
        </p:nvSpPr>
        <p:spPr>
          <a:xfrm>
            <a:off x="250920" y="260280"/>
            <a:ext cx="6480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HelveticaNeueCyr"/>
              </a:rPr>
              <a:t>Никто не забыт и ничто не забыто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HelveticaNeueCyr"/>
              </a:rPr>
              <a:t>Хоть радость Победы до боли грустна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HelveticaNeueCyr"/>
              </a:rPr>
              <a:t>А мы поклоняемся праху убитых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HelveticaNeueCyr"/>
              </a:rPr>
              <a:t>Когда к нам в Россию приходит вес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Рисунок 4" descr="img20.jpg"/>
          <p:cNvPicPr/>
          <p:nvPr/>
        </p:nvPicPr>
        <p:blipFill>
          <a:blip r:embed="rId1"/>
          <a:stretch/>
        </p:blipFill>
        <p:spPr>
          <a:xfrm>
            <a:off x="3780000" y="2565360"/>
            <a:ext cx="4752720" cy="35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Прямоугольник 1"/>
          <p:cNvSpPr/>
          <p:nvPr/>
        </p:nvSpPr>
        <p:spPr>
          <a:xfrm>
            <a:off x="395280" y="549360"/>
            <a:ext cx="7416720" cy="58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HelveticaNeueCyr"/>
                <a:ea typeface="Times New Roman"/>
              </a:rPr>
              <a:t>          </a:t>
            </a:r>
            <a:r>
              <a:rPr b="1" lang="ru-RU" sz="2500" spc="-1" strike="noStrike">
                <a:solidFill>
                  <a:srgbClr val="000000"/>
                </a:solidFill>
                <a:latin typeface="HelveticaNeueCyr"/>
                <a:ea typeface="Times New Roman"/>
              </a:rPr>
              <a:t>Прошло уже 70 лет со дня окончания Великой Отечественной войны, 70 лет с того времени,  как смолкли последние выстрелы пушек, наступила тишина и пришел на нашу землю мир, выстраданный, оплаченный высокой ценой человеческой жизни. Все меньше и меньше остается  ветеранов и участников той войны. Но остается память...   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HelveticaNeueCyr"/>
                <a:ea typeface="Times New Roman"/>
              </a:rPr>
              <a:t>     </a:t>
            </a:r>
            <a:r>
              <a:rPr b="1" lang="ru-RU" sz="2500" spc="-1" strike="noStrike">
                <a:solidFill>
                  <a:srgbClr val="000000"/>
                </a:solidFill>
                <a:latin typeface="HelveticaNeueCyr"/>
                <a:ea typeface="Times New Roman"/>
              </a:rPr>
              <a:t>Память, которая смотрит на нас со старых фронтовых фотографий и тех вещей, которые сохранили бывшие фронтовики, не дает померкнуть ни одной героической странице истории победы над фашизмом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оугольник 1"/>
          <p:cNvSpPr/>
          <p:nvPr/>
        </p:nvSpPr>
        <p:spPr>
          <a:xfrm>
            <a:off x="755640" y="620640"/>
            <a:ext cx="6912000" cy="50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HelveticaNeueCyr"/>
                <a:ea typeface="Times New Roman"/>
              </a:rPr>
              <a:t>       </a:t>
            </a:r>
            <a:r>
              <a:rPr b="1" lang="ru-RU" sz="2500" spc="-1" strike="noStrike">
                <a:solidFill>
                  <a:srgbClr val="000000"/>
                </a:solidFill>
                <a:latin typeface="HelveticaNeueCyr"/>
                <a:ea typeface="Times New Roman"/>
              </a:rPr>
              <a:t>Мы, молодое поколение, о боевых подвигах наших отцов и дедов, их военной жизни можем сегодня узнать только из их рассказов, кинофильмов, произведений художественной литературы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HelveticaNeueCyr"/>
                <a:ea typeface="Times New Roman"/>
              </a:rPr>
              <a:t>       </a:t>
            </a:r>
            <a:r>
              <a:rPr b="1" lang="ru-RU" sz="2500" spc="-1" strike="noStrike">
                <a:solidFill>
                  <a:srgbClr val="000000"/>
                </a:solidFill>
                <a:latin typeface="HelveticaNeueCyr"/>
                <a:ea typeface="Times New Roman"/>
              </a:rPr>
              <a:t>Проходят годы, улетают в вечность. Все дальше в прошлое уходят страшные и тяжелые годы Великой Отечественной войны, но не угасает память о тех, кто не жалел своей крови, своей жизни для будущих поколений.  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Рисунок 2" descr="slide_4.jpg"/>
          <p:cNvPicPr/>
          <p:nvPr/>
        </p:nvPicPr>
        <p:blipFill>
          <a:blip r:embed="rId1"/>
          <a:stretch/>
        </p:blipFill>
        <p:spPr>
          <a:xfrm>
            <a:off x="539640" y="333360"/>
            <a:ext cx="4133880" cy="287964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4" descr="img41 (1).jpg"/>
          <p:cNvPicPr/>
          <p:nvPr/>
        </p:nvPicPr>
        <p:blipFill>
          <a:blip r:embed="rId2"/>
          <a:stretch/>
        </p:blipFill>
        <p:spPr>
          <a:xfrm>
            <a:off x="4764240" y="3141720"/>
            <a:ext cx="3840120" cy="2879640"/>
          </a:xfrm>
          <a:prstGeom prst="rect">
            <a:avLst/>
          </a:prstGeom>
          <a:ln w="0">
            <a:noFill/>
          </a:ln>
        </p:spPr>
      </p:pic>
      <p:sp>
        <p:nvSpPr>
          <p:cNvPr id="88" name="Прямоугольник 5"/>
          <p:cNvSpPr/>
          <p:nvPr/>
        </p:nvSpPr>
        <p:spPr>
          <a:xfrm>
            <a:off x="179280" y="3789360"/>
            <a:ext cx="45720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HelveticaNeueCyr"/>
              </a:rPr>
              <a:t>От неизвестных и до знаменитых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HelveticaNeueCyr"/>
              </a:rPr>
              <a:t>Сразить которых годы не вольны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HelveticaNeueCyr"/>
              </a:rPr>
              <a:t>Нас двадцать миллионов незабытых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HelveticaNeueCyr"/>
              </a:rPr>
              <a:t>Убитых, не вернувшихся с вой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Рисунок 1" descr="Bk_attacke.jpg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468360" y="907920"/>
            <a:ext cx="719928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Рисунок 1" descr="1031803-i_051.jpg"/>
          <p:cNvPicPr/>
          <p:nvPr/>
        </p:nvPicPr>
        <p:blipFill>
          <a:blip r:embed="rId1"/>
          <a:stretch/>
        </p:blipFill>
        <p:spPr>
          <a:xfrm>
            <a:off x="4932360" y="2781360"/>
            <a:ext cx="3887640" cy="300348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3" descr="kartinkijane.ru-61800.jpg"/>
          <p:cNvPicPr/>
          <p:nvPr/>
        </p:nvPicPr>
        <p:blipFill>
          <a:blip r:embed="rId2"/>
          <a:stretch/>
        </p:blipFill>
        <p:spPr>
          <a:xfrm>
            <a:off x="468360" y="404640"/>
            <a:ext cx="431964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Рисунок 1" descr="2-Pasaules-kars-13.jpg"/>
          <p:cNvPicPr/>
          <p:nvPr/>
        </p:nvPicPr>
        <p:blipFill>
          <a:blip r:embed="rId1"/>
          <a:stretch/>
        </p:blipFill>
        <p:spPr>
          <a:xfrm>
            <a:off x="468360" y="404640"/>
            <a:ext cx="3625920" cy="295128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3" descr="8.JPG"/>
          <p:cNvPicPr/>
          <p:nvPr/>
        </p:nvPicPr>
        <p:blipFill>
          <a:blip r:embed="rId2"/>
          <a:stretch/>
        </p:blipFill>
        <p:spPr>
          <a:xfrm>
            <a:off x="4248000" y="2565360"/>
            <a:ext cx="454032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Рисунок 2" descr="1019.jpg"/>
          <p:cNvPicPr/>
          <p:nvPr/>
        </p:nvPicPr>
        <p:blipFill>
          <a:blip r:embed="rId1"/>
          <a:stretch/>
        </p:blipFill>
        <p:spPr>
          <a:xfrm>
            <a:off x="179280" y="333360"/>
            <a:ext cx="4827600" cy="331164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3" descr="55.jpg"/>
          <p:cNvPicPr/>
          <p:nvPr/>
        </p:nvPicPr>
        <p:blipFill>
          <a:blip r:embed="rId2"/>
          <a:stretch/>
        </p:blipFill>
        <p:spPr>
          <a:xfrm>
            <a:off x="5148360" y="2997360"/>
            <a:ext cx="3616200" cy="29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Рисунок 1" descr="236165_html_m7baab1d.jpg"/>
          <p:cNvPicPr/>
          <p:nvPr/>
        </p:nvPicPr>
        <p:blipFill>
          <a:blip r:embed="rId1"/>
          <a:stretch/>
        </p:blipFill>
        <p:spPr>
          <a:xfrm>
            <a:off x="324000" y="404640"/>
            <a:ext cx="4679640" cy="3146760"/>
          </a:xfrm>
          <a:prstGeom prst="rect">
            <a:avLst/>
          </a:prstGeom>
          <a:ln w="0">
            <a:noFill/>
          </a:ln>
        </p:spPr>
      </p:pic>
      <p:sp>
        <p:nvSpPr>
          <p:cNvPr id="97" name="Прямоугольник 3"/>
          <p:cNvSpPr/>
          <p:nvPr/>
        </p:nvSpPr>
        <p:spPr>
          <a:xfrm>
            <a:off x="324000" y="3573360"/>
            <a:ext cx="8351640" cy="24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HelveticaNeueCyr"/>
              </a:rPr>
              <a:t>   </a:t>
            </a:r>
            <a:r>
              <a:rPr b="1" lang="ru-RU" sz="1900" spc="-1" strike="noStrike">
                <a:solidFill>
                  <a:srgbClr val="000000"/>
                </a:solidFill>
                <a:latin typeface="HelveticaNeueCyr"/>
              </a:rPr>
              <a:t>Таня Савичева потеряла свою семью и осталась одна... Ее история – это история тысяч детей блокадного Ленинграда, трагедия ее семьи - трагедия тысяч семей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HelveticaNeueCyr"/>
              </a:rPr>
              <a:t>        </a:t>
            </a:r>
            <a:r>
              <a:rPr b="1" lang="ru-RU" sz="1900" spc="-1" strike="noStrike">
                <a:solidFill>
                  <a:srgbClr val="000000"/>
                </a:solidFill>
                <a:latin typeface="HelveticaNeueCyr"/>
              </a:rPr>
              <a:t>Таня Савичева известна благодаря своему дневнику, который вела в блокноте сестры. Девочка записывала на страницах дневника даты смерти своих родных. Эти записи стали одним из документов обвинения фашистов на Нюрнбергском процессе. 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21:44:05Z</dcterms:created>
  <dc:creator>Федотова Виктория Александровна</dc:creator>
  <dc:description/>
  <dc:language>en-US</dc:language>
  <cp:lastModifiedBy>User</cp:lastModifiedBy>
  <dcterms:modified xsi:type="dcterms:W3CDTF">2015-04-20T18:32:48Z</dcterms:modified>
  <cp:revision>29</cp:revision>
  <dc:subject/>
  <dc:title>Слайд 1</dc:title>
</cp:coreProperties>
</file>