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EAA-EB3E-42CD-AAAA-60B28B1B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9FD-F211-42C8-A7C4-6225EDA2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4F2-AA9C-4C18-90B8-19CE7911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D5F-F4DF-421D-A6AB-02589417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997F-D7AD-49C6-80CC-939A6078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7A11-20A9-4287-9B95-943F8C7E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6635-AE12-4B9F-A249-53DF32B5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70A1-09F9-4704-80AB-8D59EFAF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209D-B6C5-46DD-BD10-9CB71DE5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7670-C775-423A-94BB-4D66479B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55A5-E21B-4C1C-949E-881F439E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E75-4722-4C9D-9BD7-45ED996E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7602-CF04-4D90-B9B5-8D631CB5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2624-DA85-45B6-8EEE-1A4EF777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C628-A184-4BF4-B6EA-8CA13DF6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59A7-0588-4220-B141-2DC7F0EE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2685-9840-4F4E-9DD2-2D88FC69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070-C9EF-4A6A-A131-71DBA408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86A-8BE7-45BF-88E1-B12C1365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B5F-EB03-44A3-BE88-F757D9B6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309-85FB-432B-9DD8-ADEECDD5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B10-4175-4B06-B672-A3442067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30A-FA20-4D3D-A16F-FF45E04C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831-FC1B-49D4-B89B-425ACD37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0E63-71D6-4E9E-A556-96C0C02D9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3184-3E99-4731-B614-5BE97EC08B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773360"/>
            <a:ext cx="676908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5400" spc="-1" strike="noStrike">
                <a:solidFill>
                  <a:srgbClr val="000000"/>
                </a:solidFill>
                <a:latin typeface="Georgia"/>
                <a:ea typeface="Times New Roman"/>
              </a:rPr>
              <a:t>«Никто не забыт и ничто не забыто...»</a:t>
            </a:r>
            <a:br>
              <a:rPr sz="6000"/>
            </a:b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О той весне.mp3" descr=""/>
          <p:cNvPicPr/>
          <p:nvPr/>
        </p:nvPicPr>
        <p:blipFill>
          <a:blip r:embed="rId1"/>
          <a:stretch/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69871167_1296210675_26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39640" y="333360"/>
            <a:ext cx="3745080" cy="2749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41l.jpg"/>
          <p:cNvPicPr/>
          <p:nvPr/>
        </p:nvPicPr>
        <p:blipFill>
          <a:blip r:embed="rId2"/>
          <a:stretch/>
        </p:blipFill>
        <p:spPr>
          <a:xfrm>
            <a:off x="4932360" y="1052640"/>
            <a:ext cx="2873520" cy="49132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179280" y="335772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Скрипят полозья в городе, скрипят..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Как многих нам уже недосчитаться!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Но мы не плачем: правду говоря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что слезы вымерзли у ленинградцев… (</a:t>
            </a:r>
            <a:r>
              <a:rPr b="1" i="1" lang="ru-RU" sz="2000" spc="-1" strike="noStrike">
                <a:solidFill>
                  <a:srgbClr val="000000"/>
                </a:solidFill>
                <a:latin typeface="HelveticaNeueCyr"/>
              </a:rPr>
              <a:t>Ольга Берггольц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UIbqjThBdE0.jpg"/>
          <p:cNvPicPr/>
          <p:nvPr/>
        </p:nvPicPr>
        <p:blipFill>
          <a:blip r:embed="rId1"/>
          <a:stretch/>
        </p:blipFill>
        <p:spPr>
          <a:xfrm>
            <a:off x="4227480" y="2133720"/>
            <a:ext cx="4792680" cy="33163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70294619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50920" y="404640"/>
            <a:ext cx="376704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2" descr="37059-eef08-55529102-m750x740-ucad07.jpg"/>
          <p:cNvPicPr/>
          <p:nvPr/>
        </p:nvPicPr>
        <p:blipFill>
          <a:blip r:embed="rId1"/>
          <a:stretch/>
        </p:blipFill>
        <p:spPr>
          <a:xfrm>
            <a:off x="250920" y="1125360"/>
            <a:ext cx="5648400" cy="39229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6012000" y="1773360"/>
            <a:ext cx="2916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Ехал я из Берли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По дороге прямо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На попутных машина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Ехал с фронта домо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Ехал мимо Варшавы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Ехал мимо Орла 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Там, где русская сла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Все тропинки прошл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28878376.jpg"/>
          <p:cNvPicPr/>
          <p:nvPr/>
        </p:nvPicPr>
        <p:blipFill>
          <a:blip r:embed="rId1"/>
          <a:stretch/>
        </p:blipFill>
        <p:spPr>
          <a:xfrm>
            <a:off x="324000" y="189000"/>
            <a:ext cx="4495680" cy="30956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news_07news_16_07_05.jpg"/>
          <p:cNvPicPr/>
          <p:nvPr/>
        </p:nvPicPr>
        <p:blipFill>
          <a:blip r:embed="rId2"/>
          <a:stretch/>
        </p:blipFill>
        <p:spPr>
          <a:xfrm>
            <a:off x="5076720" y="1413000"/>
            <a:ext cx="3427560" cy="40417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62490_1024x768.jpg"/>
          <p:cNvPicPr/>
          <p:nvPr/>
        </p:nvPicPr>
        <p:blipFill>
          <a:blip r:embed="rId3"/>
          <a:stretch/>
        </p:blipFill>
        <p:spPr>
          <a:xfrm>
            <a:off x="684360" y="3357720"/>
            <a:ext cx="32400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Парад-ветераны.jpg"/>
          <p:cNvPicPr/>
          <p:nvPr/>
        </p:nvPicPr>
        <p:blipFill>
          <a:blip r:embed="rId1"/>
          <a:stretch/>
        </p:blipFill>
        <p:spPr>
          <a:xfrm>
            <a:off x="179280" y="189000"/>
            <a:ext cx="4608720" cy="32637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ustal22_7.jpg"/>
          <p:cNvPicPr/>
          <p:nvPr/>
        </p:nvPicPr>
        <p:blipFill>
          <a:blip r:embed="rId2"/>
          <a:stretch/>
        </p:blipFill>
        <p:spPr>
          <a:xfrm>
            <a:off x="5003640" y="1052640"/>
            <a:ext cx="3009960" cy="3041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1909773563_700.jpg"/>
          <p:cNvPicPr/>
          <p:nvPr/>
        </p:nvPicPr>
        <p:blipFill>
          <a:blip r:embed="rId3"/>
          <a:stretch/>
        </p:blipFill>
        <p:spPr>
          <a:xfrm>
            <a:off x="1258920" y="3500280"/>
            <a:ext cx="3487680" cy="24321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5"/>
          <p:cNvSpPr/>
          <p:nvPr/>
        </p:nvSpPr>
        <p:spPr>
          <a:xfrm>
            <a:off x="4932360" y="4221000"/>
            <a:ext cx="40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HelveticaNeueCyr"/>
              </a:rPr>
              <a:t>Ты прошёл всю войну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HelveticaNeueCyr"/>
              </a:rPr>
              <a:t>Ты прополз всю войну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HelveticaNeueCyr"/>
              </a:rPr>
              <a:t>От границы к Москве, до Берлин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HelveticaNeueCyr"/>
              </a:rPr>
              <a:t>Ты держись, ветеран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HelveticaNeueCyr"/>
              </a:rPr>
              <a:t>Подожди умира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HelveticaNeueCyr"/>
              </a:rPr>
              <a:t>Посмотри на внучат и на сы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2"/>
          <p:cNvSpPr/>
          <p:nvPr/>
        </p:nvSpPr>
        <p:spPr>
          <a:xfrm>
            <a:off x="395280" y="260280"/>
            <a:ext cx="59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NeueCyr"/>
              </a:rPr>
              <a:t>Я точно знаю то, что в день Победы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Бессмертный полк </a:t>
            </a:r>
            <a:r>
              <a:rPr b="0" lang="ru-RU" sz="2000" spc="-1" strike="noStrike">
                <a:solidFill>
                  <a:srgbClr val="000000"/>
                </a:solidFill>
                <a:latin typeface="HelveticaNeueCyr"/>
              </a:rPr>
              <a:t>вновь по земле пройде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HelveticaNeueCyr"/>
              </a:rPr>
              <a:t>В его строю опять отцы и дед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HelveticaNeueCyr"/>
              </a:rPr>
              <a:t>Пусть лишь на фото, память не умре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" descr="st-petersburg-5-08-14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187280" y="1628640"/>
            <a:ext cx="712980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74155523_25757020314e915b37979369f83a73eb49b864f4caf.jpg"/>
          <p:cNvPicPr/>
          <p:nvPr/>
        </p:nvPicPr>
        <p:blipFill>
          <a:blip r:embed="rId1"/>
          <a:stretch/>
        </p:blipFill>
        <p:spPr>
          <a:xfrm>
            <a:off x="324000" y="333360"/>
            <a:ext cx="3859200" cy="51562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356000" y="177336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И в Берлине, в праздничную да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Был воздвигнут, чтоб стоять в век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Памятник советскому солд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С девочкой спасённой на ру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Он стоит как символ нашей слав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Как маяк, светящийся во мг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Это он, солдат моей держав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Охраняет мир на всей земле!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HelveticaNeueCyr"/>
              </a:rPr>
              <a:t>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HelveticaNeueCyr"/>
              </a:rPr>
              <a:t>(Георгий Рублё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2"/>
          <p:cNvSpPr/>
          <p:nvPr/>
        </p:nvSpPr>
        <p:spPr>
          <a:xfrm>
            <a:off x="250920" y="260280"/>
            <a:ext cx="648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HelveticaNeueCyr"/>
              </a:rPr>
              <a:t>Никто не забыт и ничто не забыто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HelveticaNeueCyr"/>
              </a:rPr>
              <a:t>Хоть радость Победы до боли грустн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HelveticaNeueCyr"/>
              </a:rPr>
              <a:t>А мы поклоняемся праху убитых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HelveticaNeueCyr"/>
              </a:rPr>
              <a:t>Когда к нам в Россию приходит ве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4" descr="img20.jpg"/>
          <p:cNvPicPr/>
          <p:nvPr/>
        </p:nvPicPr>
        <p:blipFill>
          <a:blip r:embed="rId1"/>
          <a:stretch/>
        </p:blipFill>
        <p:spPr>
          <a:xfrm>
            <a:off x="3780000" y="2565360"/>
            <a:ext cx="4752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395280" y="549360"/>
            <a:ext cx="741672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HelveticaNeueCyr"/>
                <a:ea typeface="Times New Roman"/>
              </a:rPr>
              <a:t>          </a:t>
            </a:r>
            <a:r>
              <a:rPr b="1" lang="ru-RU" sz="2500" spc="-1" strike="noStrike">
                <a:solidFill>
                  <a:srgbClr val="000000"/>
                </a:solidFill>
                <a:latin typeface="HelveticaNeueCyr"/>
                <a:ea typeface="Times New Roman"/>
              </a:rPr>
              <a:t>Прошло уже 70 лет со дня окончания Великой Отечественной войны, 70 лет с того времени,  как смолкли последние выстрелы пушек, наступила тишина и пришел на нашу землю мир, выстраданный, оплаченный высокой ценой человеческой жизни. Все меньше и меньше остается  ветеранов и участников той войны. Но остается память...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HelveticaNeueCyr"/>
                <a:ea typeface="Times New Roman"/>
              </a:rPr>
              <a:t>     </a:t>
            </a:r>
            <a:r>
              <a:rPr b="1" lang="ru-RU" sz="2500" spc="-1" strike="noStrike">
                <a:solidFill>
                  <a:srgbClr val="000000"/>
                </a:solidFill>
                <a:latin typeface="HelveticaNeueCyr"/>
                <a:ea typeface="Times New Roman"/>
              </a:rPr>
              <a:t>Память, которая смотрит на нас со старых фронтовых фотографий и тех вещей, которые сохранили бывшие фронтовики, не дает померкнуть ни одной героической странице истории победы над фашизмо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755640" y="620640"/>
            <a:ext cx="691200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HelveticaNeueCyr"/>
                <a:ea typeface="Times New Roman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HelveticaNeueCyr"/>
                <a:ea typeface="Times New Roman"/>
              </a:rPr>
              <a:t>Мы, молодое поколение, о боевых подвигах наших отцов и дедов, их военной жизни можем сегодня узнать только из их рассказов, кинофильмов, произведений художественной литератур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HelveticaNeueCyr"/>
                <a:ea typeface="Times New Roman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HelveticaNeueCyr"/>
                <a:ea typeface="Times New Roman"/>
              </a:rPr>
              <a:t>Проходят годы, улетают в вечность. Все дальше в прошлое уходят страшные и тяжелые годы Великой Отечественной войны, но не угасает память о тех, кто не жалел своей крови, своей жизни для будущих поколений. 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2" descr="slide_4.jpg"/>
          <p:cNvPicPr/>
          <p:nvPr/>
        </p:nvPicPr>
        <p:blipFill>
          <a:blip r:embed="rId1"/>
          <a:stretch/>
        </p:blipFill>
        <p:spPr>
          <a:xfrm>
            <a:off x="539640" y="333360"/>
            <a:ext cx="4133880" cy="28796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img41 (1).jpg"/>
          <p:cNvPicPr/>
          <p:nvPr/>
        </p:nvPicPr>
        <p:blipFill>
          <a:blip r:embed="rId2"/>
          <a:stretch/>
        </p:blipFill>
        <p:spPr>
          <a:xfrm>
            <a:off x="4764240" y="314172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179280" y="378936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От неизвестных и до знаменитых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Сразить которых годы не вольны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Нас двадцать миллионов незабытых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Убитых, не вернувшихся с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Bk_attacke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68360" y="907920"/>
            <a:ext cx="71992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1031803-i_051.jpg"/>
          <p:cNvPicPr/>
          <p:nvPr/>
        </p:nvPicPr>
        <p:blipFill>
          <a:blip r:embed="rId1"/>
          <a:stretch/>
        </p:blipFill>
        <p:spPr>
          <a:xfrm>
            <a:off x="4932360" y="2781360"/>
            <a:ext cx="3887640" cy="3003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kartinkijane.ru-61800.jpg"/>
          <p:cNvPicPr/>
          <p:nvPr/>
        </p:nvPicPr>
        <p:blipFill>
          <a:blip r:embed="rId2"/>
          <a:stretch/>
        </p:blipFill>
        <p:spPr>
          <a:xfrm>
            <a:off x="468360" y="404640"/>
            <a:ext cx="43196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2-Pasaules-kars-13.jpg"/>
          <p:cNvPicPr/>
          <p:nvPr/>
        </p:nvPicPr>
        <p:blipFill>
          <a:blip r:embed="rId1"/>
          <a:stretch/>
        </p:blipFill>
        <p:spPr>
          <a:xfrm>
            <a:off x="468360" y="404640"/>
            <a:ext cx="3625920" cy="29512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8.JPG"/>
          <p:cNvPicPr/>
          <p:nvPr/>
        </p:nvPicPr>
        <p:blipFill>
          <a:blip r:embed="rId2"/>
          <a:stretch/>
        </p:blipFill>
        <p:spPr>
          <a:xfrm>
            <a:off x="4248000" y="2565360"/>
            <a:ext cx="45403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1019.jpg"/>
          <p:cNvPicPr/>
          <p:nvPr/>
        </p:nvPicPr>
        <p:blipFill>
          <a:blip r:embed="rId1"/>
          <a:stretch/>
        </p:blipFill>
        <p:spPr>
          <a:xfrm>
            <a:off x="179280" y="333360"/>
            <a:ext cx="4827600" cy="33116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55.jpg"/>
          <p:cNvPicPr/>
          <p:nvPr/>
        </p:nvPicPr>
        <p:blipFill>
          <a:blip r:embed="rId2"/>
          <a:stretch/>
        </p:blipFill>
        <p:spPr>
          <a:xfrm>
            <a:off x="5148360" y="2997360"/>
            <a:ext cx="361620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236165_html_m7baab1d.jpg"/>
          <p:cNvPicPr/>
          <p:nvPr/>
        </p:nvPicPr>
        <p:blipFill>
          <a:blip r:embed="rId1"/>
          <a:stretch/>
        </p:blipFill>
        <p:spPr>
          <a:xfrm>
            <a:off x="324000" y="404640"/>
            <a:ext cx="4679640" cy="3146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324000" y="3573360"/>
            <a:ext cx="83516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HelveticaNeueCyr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HelveticaNeueCyr"/>
              </a:rPr>
              <a:t>Таня Савичева потеряла свою семью и осталась одна... Ее история – это история тысяч детей блокадного Ленинграда, трагедия ее семьи - трагедия тысяч семе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HelveticaNeueCyr"/>
              </a:rPr>
              <a:t>        </a:t>
            </a:r>
            <a:r>
              <a:rPr b="1" lang="ru-RU" sz="1900" spc="-1" strike="noStrike">
                <a:solidFill>
                  <a:srgbClr val="000000"/>
                </a:solidFill>
                <a:latin typeface="HelveticaNeueCyr"/>
              </a:rPr>
              <a:t>Таня Савичева известна благодаря своему дневнику, который вела в блокноте сестры. Девочка записывала на страницах дневника даты смерти своих родных. Эти записи стали одним из документов обвинения фашистов на Нюрнбергском процессе.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21:44:05Z</dcterms:created>
  <dc:creator>Федотова Виктория Александровна</dc:creator>
  <dc:description/>
  <dc:language>en-US</dc:language>
  <cp:lastModifiedBy>User</cp:lastModifiedBy>
  <dcterms:modified xsi:type="dcterms:W3CDTF">2015-04-20T18:32:48Z</dcterms:modified>
  <cp:revision>29</cp:revision>
  <dc:subject/>
  <dc:title>Слайд 1</dc:title>
</cp:coreProperties>
</file>