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BA0-8A19-40F8-BBCA-0585603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BBE-2200-4C95-B094-9367E817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9EA-C86B-40A2-8651-6CA4C361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787-0B9A-4AD6-9F4D-EA2693F2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314-B36A-4281-9E4A-56C9AA2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83D-034B-4D5A-9633-76206BC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87D-297B-4AD3-8EA4-6453DB4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6AC-1D40-45AA-B451-C4EF20B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0AB-29D2-4732-901C-955E468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9DE-A7C6-401E-85AE-FF29CC7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25A-B0F4-48BC-BE3C-017E052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4A8-3955-4D95-8FD0-2EECBF73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8410-5310-41BD-8F9C-E5F2B2003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АПКИНА НАДЕЖДА НИКОЛАЕВ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ИЗОБРАЗИТЕЛЬНОГО ИСКУС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Ш № 35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ДЗЕРЖИН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1557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браз художественной культу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зу бросается в глаза сильно выступающий торжественный портал – вход, похожий на огромную букву «П», с высокой аркой, в затаенной глубине которой еще такая же небольшая арка над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germanich-o\Desktop\Рисунок8.png"/>
          <p:cNvPicPr/>
          <p:nvPr/>
        </p:nvPicPr>
        <p:blipFill>
          <a:blip r:embed="rId1"/>
          <a:stretch/>
        </p:blipFill>
        <p:spPr>
          <a:xfrm>
            <a:off x="1187280" y="692280"/>
            <a:ext cx="66009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ход в медресе – религиозный универс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germanich-o\Desktop\Рисунок7.jpg"/>
          <p:cNvPicPr/>
          <p:nvPr/>
        </p:nvPicPr>
        <p:blipFill>
          <a:blip r:embed="rId1"/>
          <a:stretch/>
        </p:blipFill>
        <p:spPr>
          <a:xfrm>
            <a:off x="1476360" y="549360"/>
            <a:ext cx="62895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– так называется храм, где совершают молитву. Мечеть обычно имеет огромный купол и портал. Это те же основные элементы юрты. Постройки такого типа называются портально-купо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2195640" y="549360"/>
            <a:ext cx="4562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мечети возносятся башни – минар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их служители храма призывают к моли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1187280" y="476280"/>
            <a:ext cx="71298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сь утвердить свое могущество, правители Востока строили величественные мавзолеи – усыпальницы. Это купольные соору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403280" y="404640"/>
            <a:ext cx="6873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желтых выжженных песков приподнятые, как памятники на пьедесталах, сияют, отражая солнце, ярко-бирюзовые, изумрудно-зеленые грандиозные купола, как миражи. И мир может показаться видимостью, но это достойная удивления чудесная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1258920" y="620640"/>
            <a:ext cx="7157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Неменская «Каждый народ-художник» 4класс, учебник для общеобразовательных учреждений под ред. Б. М. Неменского, М. Просвещение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о, нет воды, и степь превращается в пусты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раскаленных песков с трудом продвигается кара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лым, страдающим от жажды путникам чудится сверкающий голубизной сказочный город. Но это лишь ви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971640" y="476280"/>
            <a:ext cx="7259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он показался снова, но теперь все преобразилось вокруг: впереди и вправду очертания города. Множество куполов – небольших и огромных, голубых, мерцающих радужными кра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ет силуэт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germanich-o\Desktop\Рисунок1.png"/>
          <p:cNvPicPr/>
          <p:nvPr/>
        </p:nvPicPr>
        <p:blipFill>
          <a:blip r:embed="rId1"/>
          <a:stretch/>
        </p:blipFill>
        <p:spPr>
          <a:xfrm>
            <a:off x="1187280" y="476280"/>
            <a:ext cx="71042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купола придают городу сходство со станом кочев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массивные, толстые глиняные стены говоря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хорошо защищенна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900000" y="476280"/>
            <a:ext cx="7340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ысокие, прямоугольные, щедро украшенные  ворота с южной стороны здания тоже напоминают о двери в ю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042920" y="549360"/>
            <a:ext cx="734544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В. Верещагин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арка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7322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да сходятся пути многих карав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у них отдых и встреча. А значит, то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547640" y="1052640"/>
            <a:ext cx="6313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ая площадь – шумный и пестрый восточный базар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людное и оживл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496880" y="333360"/>
            <a:ext cx="6859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окружают лавки ремесленников. Искусные мастера создают поразительные по красоте вещи: серебряные и медные сосуды, керамику, ковры и тка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042920" y="404640"/>
            <a:ext cx="315108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3208320" cy="252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germanich-o\Desktop\Рисунок1.png"/>
          <p:cNvPicPr/>
          <p:nvPr/>
        </p:nvPicPr>
        <p:blipFill>
          <a:blip r:embed="rId3"/>
          <a:stretch/>
        </p:blipFill>
        <p:spPr>
          <a:xfrm>
            <a:off x="5076720" y="549360"/>
            <a:ext cx="294192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germanich-o\Desktop\Рисунок2.png"/>
          <p:cNvPicPr/>
          <p:nvPr/>
        </p:nvPicPr>
        <p:blipFill>
          <a:blip r:embed="rId4"/>
          <a:stretch/>
        </p:blipFill>
        <p:spPr>
          <a:xfrm>
            <a:off x="5148360" y="2997360"/>
            <a:ext cx="29131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же витиеватые узоры, сплошь покрывают и поверхность стен, выходящих на площадь. Стены толстые, потому что из глины: только они будут крепкими. Но тяжесть их совсем не видна, они облицованы изразцами. Покрыты моза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042920" y="907920"/>
            <a:ext cx="701208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00:25Z</dcterms:created>
  <dc:creator>Admin</dc:creator>
  <dc:description/>
  <dc:language>en-US</dc:language>
  <cp:lastModifiedBy>germanich-o</cp:lastModifiedBy>
  <dcterms:modified xsi:type="dcterms:W3CDTF">2015-04-20T19:45:48Z</dcterms:modified>
  <cp:revision>32</cp:revision>
  <dc:subject/>
  <dc:title>Образ художественной культуры Средней Азии</dc:title>
</cp:coreProperties>
</file>