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549-096A-440C-8A70-5069E06E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4C2-E377-4EEF-B6E0-C95F32F7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ADE-9559-44A6-8C2E-10C94C3D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882-BD0B-4ACE-9CFC-79C0FC8C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87E-029B-4BAA-83D4-8A8302C2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82B-F750-44E0-8CD7-60AAFA89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CA9-8726-4866-AD0D-53FDE2E3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359-BEAB-44EC-A517-9B5A1CA7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3D2-718E-4B8D-B0B8-D4D3B301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C05-B94A-4305-89BD-7DB57543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616-99FA-4568-8FB6-E60C534B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7CD-6344-46E8-AD5C-07771579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B7EA-E057-49DD-BBBC-D2BAFBDAB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ХАПКИНА НАДЕЖДА НИКОЛАЕВНА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ИЗОБРАЗИТЕЛЬНОГО ИСКУССТ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СШ № 35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ДЗЕРЖИНС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ЕГОРОД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1557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Образ художественной культу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редней 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66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зу бросается в глаза сильно выступающий торжественный портал – вход, похожий на огромную букву «П», с высокой аркой, в затаенной глубине которой еще такая же небольшая арка над двер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germanich-o\Desktop\Рисунок8.png"/>
          <p:cNvPicPr/>
          <p:nvPr/>
        </p:nvPicPr>
        <p:blipFill>
          <a:blip r:embed="rId1"/>
          <a:stretch/>
        </p:blipFill>
        <p:spPr>
          <a:xfrm>
            <a:off x="1187280" y="692280"/>
            <a:ext cx="66009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877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вход в медресе – религиозный универси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germanich-o\Desktop\Рисунок7.jpg"/>
          <p:cNvPicPr/>
          <p:nvPr/>
        </p:nvPicPr>
        <p:blipFill>
          <a:blip r:embed="rId1"/>
          <a:stretch/>
        </p:blipFill>
        <p:spPr>
          <a:xfrm>
            <a:off x="1476360" y="549360"/>
            <a:ext cx="628956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877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еть – так называется храм, где совершают молитву. Мечеть обычно имеет огромный купол и портал. Это те же основные элементы юрты. Постройки такого типа называются портально-купо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germanich-o\Desktop\Рисунок3.png"/>
          <p:cNvPicPr/>
          <p:nvPr/>
        </p:nvPicPr>
        <p:blipFill>
          <a:blip r:embed="rId1"/>
          <a:stretch/>
        </p:blipFill>
        <p:spPr>
          <a:xfrm>
            <a:off x="2195640" y="549360"/>
            <a:ext cx="4562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ло мечети возносятся башни – минар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их служители храма призывают к моли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Users\germanich-o\Desktop\Рисунок2.jpg"/>
          <p:cNvPicPr/>
          <p:nvPr/>
        </p:nvPicPr>
        <p:blipFill>
          <a:blip r:embed="rId1"/>
          <a:stretch/>
        </p:blipFill>
        <p:spPr>
          <a:xfrm>
            <a:off x="1187280" y="476280"/>
            <a:ext cx="71298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мясь утвердить свое могущество, правители Востока строили величественные мавзолеи – усыпальницы. Это купольные соору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:\Users\germanich-o\Desktop\Рисунок9.png"/>
          <p:cNvPicPr/>
          <p:nvPr/>
        </p:nvPicPr>
        <p:blipFill>
          <a:blip r:embed="rId1"/>
          <a:stretch/>
        </p:blipFill>
        <p:spPr>
          <a:xfrm>
            <a:off x="1403280" y="404640"/>
            <a:ext cx="687384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желтых выжженных песков приподнятые, как памятники на пьедесталах, сияют, отражая солнце, ярко-бирюзовые, изумрудно-зеленые грандиозные купола, как миражи. И мир может показаться видимостью, но это достойная удивления чудесная жизн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Users\germanich-o\Desktop\Рисунок10.png"/>
          <p:cNvPicPr/>
          <p:nvPr/>
        </p:nvPicPr>
        <p:blipFill>
          <a:blip r:embed="rId1"/>
          <a:stretch/>
        </p:blipFill>
        <p:spPr>
          <a:xfrm>
            <a:off x="1258920" y="620640"/>
            <a:ext cx="7157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А.Неменская «Каждый народ-художник» 4класс, учебник для общеобразовательных учреждений под ред. Б. М. Неменского, М. Просвещение 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рко, нет воды, и степь превращается в пустын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раскаленных песков с трудом продвигается карав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лым, страдающим от жажды путникам чудится сверкающий голубизной сказочный город. Но это лишь ви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germanich-o\Desktop\Рисунок1.png"/>
          <p:cNvPicPr/>
          <p:nvPr/>
        </p:nvPicPr>
        <p:blipFill>
          <a:blip r:embed="rId1"/>
          <a:stretch/>
        </p:blipFill>
        <p:spPr>
          <a:xfrm>
            <a:off x="971640" y="476280"/>
            <a:ext cx="7259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566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он показался снова, но теперь все преобразилось вокруг: впереди и вправду очертания города. Множество куполов – небольших и огромных, голубых, мерцающих радужными крас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ет силуэт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Users\germanich-o\Desktop\Рисунок1.png"/>
          <p:cNvPicPr/>
          <p:nvPr/>
        </p:nvPicPr>
        <p:blipFill>
          <a:blip r:embed="rId1"/>
          <a:stretch/>
        </p:blipFill>
        <p:spPr>
          <a:xfrm>
            <a:off x="1187280" y="476280"/>
            <a:ext cx="71042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733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купола придают городу сходство со станом кочев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массивные, толстые глиняные стены говоря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это хорошо защищенная креп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:\Users\germanich-o\Desktop\Рисунок2.png"/>
          <p:cNvPicPr/>
          <p:nvPr/>
        </p:nvPicPr>
        <p:blipFill>
          <a:blip r:embed="rId1"/>
          <a:stretch/>
        </p:blipFill>
        <p:spPr>
          <a:xfrm>
            <a:off x="900000" y="476280"/>
            <a:ext cx="7340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733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высокие, прямоугольные, щедро украшенные  ворота с южной стороны здания тоже напоминают о двери в ю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germanich-o\Desktop\Рисунок3.png"/>
          <p:cNvPicPr/>
          <p:nvPr/>
        </p:nvPicPr>
        <p:blipFill>
          <a:blip r:embed="rId1"/>
          <a:stretch/>
        </p:blipFill>
        <p:spPr>
          <a:xfrm>
            <a:off x="1042920" y="549360"/>
            <a:ext cx="734544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В. Верещагин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аркан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573228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юда сходятся пути многих карава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у них отдых и встреча. А значит, то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Users\germanich-o\Desktop\Рисунок4.png"/>
          <p:cNvPicPr/>
          <p:nvPr/>
        </p:nvPicPr>
        <p:blipFill>
          <a:blip r:embed="rId1"/>
          <a:stretch/>
        </p:blipFill>
        <p:spPr>
          <a:xfrm>
            <a:off x="1547640" y="1052640"/>
            <a:ext cx="63136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51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говая площадь – шумный и пестрый восточный базар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людное и оживленно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Users\germanich-o\Desktop\Рисунок4.png"/>
          <p:cNvPicPr/>
          <p:nvPr/>
        </p:nvPicPr>
        <p:blipFill>
          <a:blip r:embed="rId1"/>
          <a:stretch/>
        </p:blipFill>
        <p:spPr>
          <a:xfrm>
            <a:off x="1496880" y="333360"/>
            <a:ext cx="6859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окружают лавки ремесленников. Искусные мастера создают поразительные по красоте вещи: серебряные и медные сосуды, керамику, ковры и ткан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1042920" y="404640"/>
            <a:ext cx="3151080" cy="237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3208320" cy="252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germanich-o\Desktop\Рисунок1.png"/>
          <p:cNvPicPr/>
          <p:nvPr/>
        </p:nvPicPr>
        <p:blipFill>
          <a:blip r:embed="rId3"/>
          <a:stretch/>
        </p:blipFill>
        <p:spPr>
          <a:xfrm>
            <a:off x="5076720" y="549360"/>
            <a:ext cx="294192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germanich-o\Desktop\Рисунок2.png"/>
          <p:cNvPicPr/>
          <p:nvPr/>
        </p:nvPicPr>
        <p:blipFill>
          <a:blip r:embed="rId4"/>
          <a:stretch/>
        </p:blipFill>
        <p:spPr>
          <a:xfrm>
            <a:off x="5148360" y="2997360"/>
            <a:ext cx="29131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е же витиеватые узоры, сплошь покрывают и поверхность стен, выходящих на площадь. Стены толстые, потому что из глины: только они будут крепкими. Но тяжесть их совсем не видна, они облицованы изразцами. Покрыты моза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1042920" y="907920"/>
            <a:ext cx="701208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00:25Z</dcterms:created>
  <dc:creator>Admin</dc:creator>
  <dc:description/>
  <dc:language>en-US</dc:language>
  <cp:lastModifiedBy>germanich-o</cp:lastModifiedBy>
  <dcterms:modified xsi:type="dcterms:W3CDTF">2015-04-20T19:45:48Z</dcterms:modified>
  <cp:revision>32</cp:revision>
  <dc:subject/>
  <dc:title>Образ художественной культуры Средней Азии</dc:title>
</cp:coreProperties>
</file>