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2C7-7F65-4182-AEB3-09FEAB23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CFD-ACC2-4646-8122-31C8CD7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235-89F2-4BB4-920B-2C97A3B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304-1711-42C0-8671-69BDB326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2124-B8D0-4311-9A6B-7ED79262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CB4-A4CF-41CC-9441-6C29A41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643B-41EE-46DD-9839-10C379F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7DF-3890-4D16-A4C0-6FDA6ED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A892-2447-4971-988A-CD4DC43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DC9-826E-49A9-A71A-4C2FA64A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4C4-00FF-49F6-BE21-CB21324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A94-F517-4DBF-82F0-32C871A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7F7-349B-4F5D-9F10-A055342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915-7EE2-43D8-9FB4-751D939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A11D-6B6B-4B18-9233-6370C25A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8F1D-082C-4AB9-9989-07BE1213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A46C-978A-42D7-9107-EF5067C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3D8-FF6F-48D7-A695-DB88CBC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AAC-FE95-42E3-816A-9C532219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552-2F0F-4797-92B8-01A65A9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D96-6EBC-44BC-9F27-48E3E977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C28-2C8E-4967-9C92-3DF4B85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195-4110-44D6-A707-52E0E58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3C8-9252-4C86-B1C9-F776A19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BA8-C927-445A-B89B-D8EFC8C24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BF07-5F61-4942-A0CB-519AD241E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808"/>
                </a:solidFill>
                <a:latin typeface="Arial Black"/>
              </a:rPr>
              <a:t>Особенности работы социального педагога в пенитенциарной систем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63640" y="3213000"/>
            <a:ext cx="554508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Разработка и обоснование путей  совершенствования адаптации бывших осужденных после освобо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258920" y="260280"/>
            <a:ext cx="61927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Основные этапы процесса исправл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Первый этап- ПОДГОТОВИТЕЛЬНЫЙ (диагностик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Второй этап (непосредственная реализ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Третий этап ЗАКЛЮЧИТЕЛЬНЫЙ (оценка воспитательной работ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88800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808"/>
                </a:solidFill>
                <a:latin typeface="Arial"/>
              </a:rPr>
              <a:t>Принципы перевоспитания осужде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4653000"/>
            <a:ext cx="87138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целенаправленности воспитате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Воспитание в коллекти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10364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04000" y="-5067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248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активности осужденного в общественно- полез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опоры на положительное в лич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Принцип дифференцированного подхода в процессе воспит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1773360"/>
            <a:ext cx="424836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Основные направления воспитательной работы в пенитенциарных учреждения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808"/>
                </a:solidFill>
                <a:latin typeface="Arial"/>
              </a:rPr>
              <a:t>Правовое воспит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4000" y="2708280"/>
            <a:ext cx="460836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Нравственн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24720" cy="4972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Трудов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16000" y="177336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Физическое вос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Санитарно- гигиеническо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557360"/>
            <a:ext cx="684072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В итог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Пенитенциарная социальная работа и педагогика очень важна для современного Российского общества, которое находится в довольно сложной криминогенной обстанов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Необходимо создание теории пенитенциарной социальной работы и педагогики, ориентированной именно на практическую де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32720" y="-5067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4171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Пенитенциарное учрежд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Arial"/>
              </a:rPr>
              <a:t>представляет собой специальное (преимущественно государственное) учреждение, предназначенное для выполнения функций наказания за уголовно- наказуемые деяния, исправления и перевоспитания осужде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333360"/>
            <a:ext cx="424980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5400" y="692280"/>
            <a:ext cx="732168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71640" y="1700280"/>
            <a:ext cx="7273800" cy="48448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Виды пенитенциарных учрежд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362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Исправительные колон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Общего реж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Строгого режи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Tahoma"/>
              </a:rPr>
              <a:t>Особ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2. Воспитательные коло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3. Тюрь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Tahoma"/>
              </a:rPr>
              <a:t>4. Лечебные исправительные колонии, профилактическ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04000" y="-51040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92000" y="404640"/>
            <a:ext cx="5194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Основные категории исправительно- воспитательной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1. Карательно- воспитательный проц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2.Образовательно- воспитательный проц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3.Исправительно- трудовое зад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4.Исправл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808"/>
                </a:solidFill>
                <a:latin typeface="Arial"/>
              </a:rPr>
              <a:t>5.Перевоспит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79280" y="1844640"/>
            <a:ext cx="324036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808"/>
                </a:solidFill>
                <a:latin typeface="Arial"/>
              </a:rPr>
              <a:t>6. Исправительно- воспитательный процес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Arial"/>
              </a:rPr>
              <a:t>Субъект воспитания- сотрудники исправительных учреждений, социальные педагоги, воспита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808"/>
                </a:solidFill>
                <a:latin typeface="Arial"/>
              </a:rPr>
              <a:t>Обьект- подростки, нарушившие закон, осужденные су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773360"/>
            <a:ext cx="3600360" cy="228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3280" y="4149720"/>
            <a:ext cx="356724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Основные задачи теории пенитенциарно- педагогической работы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476360" y="2349360"/>
            <a:ext cx="640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86800" y="-50313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Исследование педагогической системы исправления (перевоспитания) и возможности ее совершенствования в условиях пенитенциарных учрежд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Выявление и обоснование закономерностей процесса перевоспитания осужде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40072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86800" y="-5104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808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Исследование процесса перевоспитания, его содержания, средств, форм и методов воспитательной работы в условиях пенитенциарного учреж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808"/>
                </a:solidFill>
                <a:latin typeface="Arial"/>
              </a:rPr>
              <a:t>4. Исследование социально- педагогического назначения уголовного наказания как метода воздействия на личность осужденног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32720" y="-51040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5. Определение критериев и показателей степени исправления личности, насыщение этих понятий конкретным содержанием для практического примен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808"/>
                </a:solidFill>
                <a:latin typeface="Arial"/>
              </a:rPr>
              <a:t>6. Исследование действенности исправительной и перевоспитательной деятельности пенитенциарных учрежд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68360" y="3789360"/>
            <a:ext cx="395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00:18Z</dcterms:created>
  <dc:creator>SamLab.ws</dc:creator>
  <dc:description/>
  <dc:language>en-US</dc:language>
  <cp:lastModifiedBy>SamLab.ws</cp:lastModifiedBy>
  <dcterms:modified xsi:type="dcterms:W3CDTF">2013-10-07T23:03:42Z</dcterms:modified>
  <cp:revision>3</cp:revision>
  <dc:subject/>
  <dc:title>Слайд 1</dc:title>
</cp:coreProperties>
</file>