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6BD-8B39-4FAD-9976-8F21C0E5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2FA-17BB-4B98-953B-CC9B2F78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1C7-64DA-4231-8E5F-4D81BA63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1B6-972A-4710-AF48-CC30B0B2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0138-B696-403C-A7AE-2208DA7B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150-2882-486A-8D5F-A164376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8EC-DF5A-480B-864F-03D46D13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7B9E-18C6-4904-8484-EC2C80B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AAB-C81B-43FB-BD70-3A22B5A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A68E-D19A-452F-B996-A809F55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645-A6E6-4C9E-B445-B9BB540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AA9-53E3-48EC-98DE-2EEB3495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8062-E507-4B26-A25E-348ED34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F329-E360-49D1-ABE7-6859A94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5CEE-CF11-47EA-9574-8A676FE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4957-219D-4F91-8DA0-D6918EF5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D4DB-CE91-45FB-BD14-D89B97DA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028-E156-49F1-84C1-5AC9C2A2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E83-876F-40DA-B588-8C189EB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E30-9515-4093-848E-C6C33494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F36-3F6A-45D9-BCA7-72812E6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A47-01CA-4517-8C98-DF52E399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2A8-01A8-4BC0-80E8-8B49CD26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1B8-31BB-4511-9AAD-0EAA78F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281F-633B-44C8-ABE4-5709849609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EFD0-BEF2-41D7-836E-91E61CB21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808"/>
                </a:solidFill>
                <a:latin typeface="Arial Black"/>
              </a:rPr>
              <a:t>Особенности работы социального педагога в пенитенциарной систем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63640" y="3213000"/>
            <a:ext cx="5545080" cy="3414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000" y="-51040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Разработка и обоснование путей  совершенствования адаптации бывших осужденных после освобо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258920" y="260280"/>
            <a:ext cx="61927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Основные этапы процесса исправл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Первый этап- ПОДГОТОВИТЕЛЬНЫЙ (диагностик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Второй этап (непосредственная реализ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Третий этап ЗАКЛЮЧИТЕЛЬНЫЙ (оценка воспитательной работ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88800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808"/>
                </a:solidFill>
                <a:latin typeface="Arial"/>
              </a:rPr>
              <a:t>Принципы перевоспитания осужде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4653000"/>
            <a:ext cx="87138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целенаправленности воспитатель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Воспитание в коллекти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10364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04000" y="-5067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248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активности осужденного в общественно- полез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опоры на положительное в лич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дифференцированного подхода в процессе воспит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1773360"/>
            <a:ext cx="424836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Основные направления воспитательной работы в пенитенциарных учреждениях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808"/>
                </a:solidFill>
                <a:latin typeface="Arial"/>
              </a:rPr>
              <a:t>Правовое воспит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4000" y="2708280"/>
            <a:ext cx="460836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Нравственное вос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24720" cy="4972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Трудовое вос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16000" y="177336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Физическое вос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Санитарно- гигиеническо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557360"/>
            <a:ext cx="684072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В итог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Пенитенциарная социальная работа и педагогика очень важна для современного Российского общества, которое находится в довольно сложной криминогенной обстанов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Необходимо создание теории пенитенциарной социальной работы и педагогики, ориентированной именно на практическую де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32720" y="-5067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4171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Пенитенциарное учрежд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Arial"/>
              </a:rPr>
              <a:t>представляет собой специальное (преимущественно государственное) учреждение, предназначенное для выполнения функций наказания за уголовно- наказуемые деяния, исправления и перевоспитания осужде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333360"/>
            <a:ext cx="424980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04000" y="-51040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5400" y="692280"/>
            <a:ext cx="732168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71640" y="1700280"/>
            <a:ext cx="7273800" cy="4844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Виды пенитенциарных учрежд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362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Исправительные колон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Общего режи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Строгого режи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Особ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2. Воспитательные коло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3. Тюрь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4. Лечебные исправительные колонии, профилактическ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04000" y="-51040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92000" y="404640"/>
            <a:ext cx="5194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Основные категории исправительно- воспитательной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1. Карательно- воспитательный проц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2.Образовательно- воспитательный проц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3.Исправительно- трудовое зад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4.Исправл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5.Перевоспит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79280" y="1844640"/>
            <a:ext cx="324036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808"/>
                </a:solidFill>
                <a:latin typeface="Arial"/>
              </a:rPr>
              <a:t>6. Исправительно- воспитательный процес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Arial"/>
              </a:rPr>
              <a:t>Субъект воспитания- сотрудники исправительных учреждений, социальные педагоги, воспита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Arial"/>
              </a:rPr>
              <a:t>Обьект- подростки, нарушившие закон, осужденные су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773360"/>
            <a:ext cx="3600360" cy="228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3280" y="4149720"/>
            <a:ext cx="3567240" cy="2378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Основные задачи теории пенитенциарно- педагогической работы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476360" y="2349360"/>
            <a:ext cx="640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686800" y="-50313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Исследование педагогической системы исправления (перевоспитания) и возможности ее совершенствования в условиях пенитенциарных учрежд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Выявление и обоснование закономерностей процесса перевоспитания осужденн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40072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Исследование процесса перевоспитания, его содержания, средств, форм и методов воспитательной работы в условиях пенитенциарного учреж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4. Исследование социально- педагогического назначения уголовного наказания как метода воздействия на личность осужденног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32720" y="-51040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5. Определение критериев и показателей степени исправления личности, насыщение этих понятий конкретным содержанием для практического приме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6. Исследование действенности исправительной и перевоспитательной деятельности пенитенциарных учрежд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68360" y="3789360"/>
            <a:ext cx="395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20:00:18Z</dcterms:created>
  <dc:creator>SamLab.ws</dc:creator>
  <dc:description/>
  <dc:language>en-US</dc:language>
  <cp:lastModifiedBy>SamLab.ws</cp:lastModifiedBy>
  <dcterms:modified xsi:type="dcterms:W3CDTF">2013-10-07T23:03:42Z</dcterms:modified>
  <cp:revision>3</cp:revision>
  <dc:subject/>
  <dc:title>Слайд 1</dc:title>
</cp:coreProperties>
</file>