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7.png" ContentType="image/png"/>
  <Override PartName="/ppt/media/image14.png" ContentType="image/png"/>
  <Override PartName="/ppt/media/image9.wmf" ContentType="image/x-wmf"/>
  <Override PartName="/ppt/media/image4.jpeg" ContentType="image/jpeg"/>
  <Override PartName="/ppt/media/image10.wmf" ContentType="image/x-wmf"/>
  <Override PartName="/ppt/media/image25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5.jpeg" ContentType="image/jpeg"/>
  <Override PartName="/ppt/media/image13.png" ContentType="image/png"/>
  <Override PartName="/ppt/media/image30.jpeg" ContentType="image/jpeg"/>
  <Override PartName="/ppt/media/image15.png" ContentType="image/png"/>
  <Override PartName="/ppt/media/image6.png" ContentType="image/png"/>
  <Override PartName="/ppt/media/image11.png" ContentType="image/png"/>
  <Override PartName="/ppt/media/image31.gif" ContentType="image/gif"/>
  <Override PartName="/ppt/media/image8.gif" ContentType="image/gif"/>
  <Override PartName="/ppt/media/image12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3.gif" ContentType="image/gif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67F1-6202-4103-8E71-56B5FF14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4690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4F70-3B31-4CC1-924A-16E49BD1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8826-D071-4638-9CC0-1352A6B7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20998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20998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4690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4690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4690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6677-E293-4A73-94F2-56BA05BA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F4E67-483A-4B6A-9633-CDBC678F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720" y="209988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A0A4A-C92F-454A-AD60-C649E77F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ABDFE-446B-4D50-959C-7188B319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1F5F1-8854-4F44-96B8-1C77D51A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3DC98-BEB8-402A-BF36-C91B005F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4720" y="322200"/>
            <a:ext cx="9072720" cy="70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49DA1-EEC8-407E-9394-FB918522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72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DED11-DA3D-45BF-83DA-BAD0F40A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209988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F66-F0C9-44EE-A440-9D15DCD5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376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D6B03-A941-432D-8BA3-5CCAD3B5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720" y="44690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B5E75-9E31-4AC4-B6E2-E4E87C6E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720" y="44690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EBABD-3D30-4069-BE88-CA60967D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72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376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848CE-B1F0-4FE8-8192-67593A72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2280" y="20998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9840" y="20998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720" y="44690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2280" y="44690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9840" y="44690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48AA6-0593-40D6-8B22-C9A581A3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098-7D5E-4101-8B5A-A39A86B2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8A29-0F4F-40FF-A50F-0967BFE4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949-A05C-4914-B2DF-320A9ECE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22200"/>
            <a:ext cx="9072720" cy="70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AB6-5DC3-41EE-81DD-8D2DD4F0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4477-E526-48DD-ACBA-B9BCB758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6E41-B393-4291-976F-9F4F14BB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4690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5B53-A0A8-4D81-9356-C551F9EE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911E859E-77E9-4976-A39E-58ACF2A2D094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314280" y="3090960"/>
            <a:ext cx="3240" cy="3344760"/>
          </a:xfrm>
          <a:custGeom>
            <a:avLst/>
            <a:gdLst/>
            <a:ahLst/>
            <a:rect l="l" t="t" r="r" b="b"/>
            <a:pathLst>
              <a:path w="3175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7940E75C-C684-4677-A14D-5155F9ECA6EF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2808360" y="2771640"/>
            <a:ext cx="4676760" cy="4529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6720" y="539280"/>
            <a:ext cx="860904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ru-RU" sz="9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Счастливая семья 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9280" y="178920"/>
            <a:ext cx="885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Times New Roman"/>
              </a:rPr>
              <a:t>Помогите найти деткам              родителе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9074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 fontScale="95000"/>
          </a:bodyPr>
          <a:p>
            <a:pPr marL="358920" indent="0">
              <a:spcBef>
                <a:spcPts val="13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ru-RU" sz="53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5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5300" spc="-1" strike="noStrike">
                <a:solidFill>
                  <a:srgbClr val="23ff23"/>
                </a:solidFill>
                <a:latin typeface="Tahoma"/>
              </a:rPr>
              <a:t>Корова</a:t>
            </a:r>
            <a:r>
              <a:rPr b="0" lang="ru-RU" sz="53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ru-RU" sz="5300" spc="-1" strike="noStrike">
                <a:solidFill>
                  <a:srgbClr val="660066"/>
                </a:solidFill>
                <a:latin typeface="Tahoma"/>
              </a:rPr>
              <a:t>жеребенок </a:t>
            </a:r>
            <a:r>
              <a:rPr b="1" lang="ru-RU" sz="5300" spc="-1" strike="noStrike">
                <a:solidFill>
                  <a:srgbClr val="cc0000"/>
                </a:solidFill>
                <a:latin typeface="Tahoma"/>
              </a:rPr>
              <a:t>конь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  <a:p>
            <a:pPr marL="358920" indent="0">
              <a:spcBef>
                <a:spcPts val="13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ru-RU" sz="53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5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5300" spc="-1" strike="noStrike">
                <a:solidFill>
                  <a:srgbClr val="00ff00"/>
                </a:solidFill>
                <a:latin typeface="Tahoma"/>
              </a:rPr>
              <a:t>Кошка</a:t>
            </a:r>
            <a:r>
              <a:rPr b="1" lang="ru-RU" sz="53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ru-RU" sz="53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1" lang="ru-RU" sz="5300" spc="-1" strike="noStrike">
                <a:solidFill>
                  <a:srgbClr val="660066"/>
                </a:solidFill>
                <a:latin typeface="Tahoma"/>
              </a:rPr>
              <a:t>теленок </a:t>
            </a:r>
            <a:r>
              <a:rPr b="0" lang="ru-RU" sz="53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ru-RU" sz="5300" spc="-1" strike="noStrike">
                <a:solidFill>
                  <a:srgbClr val="cc0000"/>
                </a:solidFill>
                <a:latin typeface="Tahoma"/>
              </a:rPr>
              <a:t>заяц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  <a:p>
            <a:pPr marL="358920" indent="0">
              <a:spcBef>
                <a:spcPts val="13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ru-RU" sz="53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5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5300" spc="-1" strike="noStrike">
                <a:solidFill>
                  <a:srgbClr val="00ff00"/>
                </a:solidFill>
                <a:latin typeface="Tahoma"/>
              </a:rPr>
              <a:t>Зайчиха</a:t>
            </a:r>
            <a:r>
              <a:rPr b="0" lang="ru-RU" sz="53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ru-RU" sz="5300" spc="-1" strike="noStrike">
                <a:solidFill>
                  <a:srgbClr val="660066"/>
                </a:solidFill>
                <a:latin typeface="Tahoma"/>
              </a:rPr>
              <a:t>щенок </a:t>
            </a:r>
            <a:r>
              <a:rPr b="0" lang="ru-RU" sz="53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ru-RU" sz="5300" spc="-1" strike="noStrike">
                <a:solidFill>
                  <a:srgbClr val="cc0000"/>
                </a:solidFill>
                <a:latin typeface="Tahoma"/>
              </a:rPr>
              <a:t>пес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  <a:p>
            <a:pPr marL="358920" indent="0">
              <a:spcBef>
                <a:spcPts val="13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ru-RU" sz="53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5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5300" spc="-1" strike="noStrike">
                <a:solidFill>
                  <a:srgbClr val="00ff00"/>
                </a:solidFill>
                <a:latin typeface="Tahoma"/>
              </a:rPr>
              <a:t>Лошадь</a:t>
            </a:r>
            <a:r>
              <a:rPr b="0" lang="ru-RU" sz="53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ru-RU" sz="5300" spc="-1" strike="noStrike">
                <a:solidFill>
                  <a:srgbClr val="660066"/>
                </a:solidFill>
                <a:latin typeface="Tahoma"/>
              </a:rPr>
              <a:t>котенок   </a:t>
            </a:r>
            <a:r>
              <a:rPr b="0" lang="ru-RU" sz="53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5300" spc="-1" strike="noStrike">
                <a:solidFill>
                  <a:srgbClr val="cc0000"/>
                </a:solidFill>
                <a:latin typeface="Tahoma"/>
              </a:rPr>
              <a:t>бык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  <a:p>
            <a:pPr marL="358920" indent="0">
              <a:spcBef>
                <a:spcPts val="13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ru-RU" sz="53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5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5300" spc="-1" strike="noStrike">
                <a:solidFill>
                  <a:srgbClr val="00ff00"/>
                </a:solidFill>
                <a:latin typeface="Tahoma"/>
              </a:rPr>
              <a:t>Собака</a:t>
            </a:r>
            <a:r>
              <a:rPr b="1" lang="ru-RU" sz="53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53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ru-RU" sz="5300" spc="-1" strike="noStrike">
                <a:solidFill>
                  <a:srgbClr val="660066"/>
                </a:solidFill>
                <a:latin typeface="Tahoma"/>
              </a:rPr>
              <a:t>зайчонок   </a:t>
            </a:r>
            <a:r>
              <a:rPr b="1" lang="ru-RU" sz="5300" spc="-1" strike="noStrike">
                <a:solidFill>
                  <a:srgbClr val="cc0000"/>
                </a:solidFill>
                <a:latin typeface="Tahoma"/>
              </a:rPr>
              <a:t>кот 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0" descr="flowerbig3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515880" y="936360"/>
            <a:ext cx="920772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Microsoft YaHei"/>
              </a:rPr>
              <a:t>Вся семья вместе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Microsoft YaHe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Microsoft YaHei"/>
              </a:rPr>
              <a:t>так и душа на мест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1309680" y="5448240"/>
            <a:ext cx="1508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13"/>
          <p:cNvSpPr/>
          <p:nvPr/>
        </p:nvSpPr>
        <p:spPr>
          <a:xfrm>
            <a:off x="4564080" y="3541680"/>
            <a:ext cx="1746360" cy="16686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семья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14"/>
          <p:cNvSpPr/>
          <p:nvPr/>
        </p:nvSpPr>
        <p:spPr>
          <a:xfrm>
            <a:off x="6627960" y="1795320"/>
            <a:ext cx="1903320" cy="1587600"/>
          </a:xfrm>
          <a:prstGeom prst="diamond">
            <a:avLst/>
          </a:prstGeom>
          <a:gradFill rotWithShape="0">
            <a:gsLst>
              <a:gs pos="0">
                <a:srgbClr val="ff9966"/>
              </a:gs>
              <a:gs pos="100000">
                <a:srgbClr val="764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Microsoft YaHei"/>
              </a:rPr>
              <a:t>душ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15"/>
          <p:cNvSpPr/>
          <p:nvPr/>
        </p:nvSpPr>
        <p:spPr>
          <a:xfrm>
            <a:off x="4483080" y="1795320"/>
            <a:ext cx="1905120" cy="166536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663300"/>
                </a:solidFill>
                <a:latin typeface="Arial"/>
                <a:ea typeface="Microsoft YaHei"/>
              </a:rPr>
              <a:t>и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16"/>
          <p:cNvSpPr/>
          <p:nvPr/>
        </p:nvSpPr>
        <p:spPr>
          <a:xfrm>
            <a:off x="2500200" y="1874880"/>
            <a:ext cx="1906560" cy="1665360"/>
          </a:xfrm>
          <a:prstGeom prst="diamond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Вся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utoShape 17"/>
          <p:cNvSpPr/>
          <p:nvPr/>
        </p:nvSpPr>
        <p:spPr>
          <a:xfrm>
            <a:off x="5516640" y="604800"/>
            <a:ext cx="1903320" cy="1587600"/>
          </a:xfrm>
          <a:prstGeom prst="diamond">
            <a:avLst/>
          </a:prstGeom>
          <a:gradFill rotWithShape="0">
            <a:gsLst>
              <a:gs pos="0">
                <a:srgbClr val="ff99cc"/>
              </a:gs>
              <a:gs pos="100000">
                <a:srgbClr val="764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так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18"/>
          <p:cNvSpPr/>
          <p:nvPr/>
        </p:nvSpPr>
        <p:spPr>
          <a:xfrm>
            <a:off x="7659720" y="525600"/>
            <a:ext cx="1906560" cy="1665000"/>
          </a:xfrm>
          <a:prstGeom prst="diamond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вместе,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19"/>
          <p:cNvSpPr/>
          <p:nvPr/>
        </p:nvSpPr>
        <p:spPr>
          <a:xfrm>
            <a:off x="1387440" y="525600"/>
            <a:ext cx="1827360" cy="1585800"/>
          </a:xfrm>
          <a:prstGeom prst="diamond">
            <a:avLst/>
          </a:prstGeom>
          <a:gradFill rotWithShape="0">
            <a:gsLst>
              <a:gs pos="0">
                <a:srgbClr val="ff99cc"/>
              </a:gs>
              <a:gs pos="100000">
                <a:srgbClr val="764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н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20"/>
          <p:cNvSpPr/>
          <p:nvPr/>
        </p:nvSpPr>
        <p:spPr>
          <a:xfrm>
            <a:off x="3532320" y="446040"/>
            <a:ext cx="1746000" cy="1746360"/>
          </a:xfrm>
          <a:prstGeom prst="diamond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месте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121 -0.01364 C -0.11128 -0.00971 -0.10069 -0.01549 -0.10763 -0.00671 C -0.10972 -0.00393 -0.11267 -0.00347 -0.1151 -0.00162 C -0.11892 0.00485 -0.11788 0.00647 -0.12378 0.00878 C -0.1269 0.01202 -0.12934 0.01572 -0.13229 0.01919 C -0.13472 0.02913 -0.13177 0.01988 -0.13663 0.02774 C -0.14045 0.03399 -0.13958 0.03468 -0.14531 0.03815 C -0.14722 0.0467 -0.14913 0.043 -0.15277 0.05017 C -0.15625 0.05711 -0.15954 0.06659 -0.16475 0.06913 C -0.16684 0.07144 -0.16909 0.07376 -0.17118 0.07607 C -0.17222 0.07722 -0.17222 0.08 -0.17326 0.08115 C -0.17517 0.083 -0.17968 0.08462 -0.17968 0.08485 C -0.18576 0.09433 -0.18315 0.0904 -0.18732 0.09665 C -0.18836 0.09849 -0.19565 0.10289 -0.19791 0.10543 C -0.2019 0.1156 -0.20868 0.11399 -0.21406 0.12092 C -0.21406 0.12092 -0.21875 0.12832 -0.22048 0.13133 E">
                                      <p:cBhvr>
                                        <p:cTn id="79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68208E-006 C -0.00677 -0.00716 -0.00972 -0.01526 -0.01493 -0.02358 C -0.01927 -0.03052 -0.02448 -0.03537 -0.02986 -0.0393 C -0.0316 -0.04069 -0.03316 -0.04277 -0.0349 -0.04462 C -0.03611 -0.04601 -0.03663 -0.04878 -0.03819 -0.05017 C -0.0401 -0.05179 -0.04253 -0.05156 -0.04462 -0.05248 C -0.04792 -0.0541 -0.05469 -0.0578 -0.05469 -0.05757 C -0.06076 -0.06728 -0.06875 -0.0652 -0.07622 -0.07098 C -0.08785 -0.08 -0.07274 -0.07329 -0.09097 -0.08138 C -0.09722 -0.08369 -0.10938 -0.08901 -0.10938 -0.08901 C -0.12917 -0.08832 -0.14896 -0.08809 -0.16875 -0.0867 C -0.175 -0.08647 -0.1809 -0.08416 -0.18715 -0.08416 C -0.19045 -0.08416 -0.19688 -0.0867 -0.19688 -0.08647 E">
                                      <p:cBhvr>
                                        <p:cTn id="8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0.02983 C -0.09965 0.04763 -0.09583 0.06035 -0.10868 0.07445 C -0.11406 0.08856 -0.11753 0.10474 -0.13264 0.11538 C -0.13611 0.12509 -0.14097 0.13226 -0.15104 0.13942 C -0.15781 0.15376 -0.14792 0.13642 -0.16146 0.14867 C -0.16319 0.15029 -0.16267 0.1526 -0.16406 0.15422 C -0.17222 0.1644 -0.18351 0.17642 -0.19323 0.1859 C -0.19566 0.19075 -0.19583 0.19607 -0.19844 0.2007 C -0.19965 0.20301 -0.20226 0.2044 -0.20399 0.20624 C -0.21146 0.21572 -0.21371 0.22266 -0.225 0.23052 C -0.22674 0.23353 -0.22795 0.23676 -0.23021 0.23977 C -0.23351 0.24347 -0.24097 0.25087 -0.24097 0.2511 C -0.24184 0.25272 -0.24201 0.2548 -0.24358 0.25665 C -0.24635 0.26035 -0.25399 0.26752 -0.25399 0.26775 C -0.25486 0.26937 -0.25503 0.27168 -0.2566 0.2733 C -0.25799 0.27468 -0.26094 0.27538 -0.26198 0.277 C -0.26441 0.28 -0.26441 0.28671 -0.26719 0.28994 C -0.27552 0.29896 -0.275 0.29226 -0.275 0.29734 E">
                                      <p:cBhvr>
                                        <p:cTn id="87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5607E-007 C 0.00104 0.00162 0.00191 0.0037 0.00312 0.00532 C 0.00416 0.00694 0.00555 0.00763 0.00642 0.00902 C 0.01076 0.01572 0.01458 0.02405 0.01944 0.02983 C 0.02152 0.03191 0.02396 0.03306 0.02586 0.03538 C 0.0368 0.04786 0.02152 0.03514 0.0342 0.04462 C 0.03576 0.04786 0.03698 0.05133 0.03906 0.0541 C 0.04027 0.05572 0.04271 0.05618 0.04392 0.0578 C 0.05711 0.07514 0.04444 0.06428 0.05538 0.07283 C 0.0592 0.08647 0.05347 0.07075 0.06198 0.08208 C 0.06354 0.08439 0.06389 0.08717 0.0651 0.08971 C 0.06909 0.09757 0.0743 0.10381 0.07968 0.11029 C 0.08368 0.11954 0.08854 0.12092 0.09427 0.12902 C 0.1026 0.14035 0.1085 0.15029 0.11718 0.16069 C 0.12031 0.17064 0.12743 0.17711 0.13038 0.18682 C 0.13142 0.19052 0.13246 0.19445 0.1335 0.19815 C 0.13402 0.2 0.13524 0.2037 0.13524 0.20393 C 0.13767 0.23353 0.14184 0.26335 0.14184 0.29364 E">
                                      <p:cBhvr>
                                        <p:cTn id="91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23699E-006 C -0.00417 0.00578 -0.00521 0.0118 -0.00955 0.01827 C -0.01476 0.04116 -0.03542 0.0733 -0.05157 0.08208 C -0.06823 0.10104 -0.08698 0.11168 -0.10469 0.1274 C -0.1316 0.15075 -0.11736 0.14474 -0.13282 0.15029 C -0.13785 0.16093 -0.14063 0.1563 -0.14688 0.16393 C -0.15643 0.17573 -0.16476 0.18937 -0.17483 0.20047 C -0.17813 0.21318 -0.17414 0.20255 -0.18421 0.2118 C -0.18611 0.21364 -0.18716 0.21688 -0.18907 0.2185 C -0.1948 0.22382 -0.20313 0.22844 -0.20938 0.23237 C -0.2158 0.24 -0.22032 0.2444 -0.22796 0.24833 C -0.23039 0.2585 -0.23525 0.25966 -0.24046 0.26636 C -0.25313 0.28278 -0.24497 0.27792 -0.25469 0.28232 C -0.26129 0.29758 -0.27431 0.30659 -0.28594 0.31191 C -0.29341 0.31954 -0.30035 0.32532 -0.30921 0.32786 C -0.3132 0.33156 -0.31563 0.33434 -0.32014 0.33711 C -0.32483 0.33989 -0.33004 0.33989 -0.33421 0.34382 C -0.3441 0.35353 -0.35382 0.36393 -0.36389 0.37341 C -0.36563 0.38382 -0.3698 0.3933 -0.37778 0.38729 E">
                                      <p:cBhvr>
                                        <p:cTn id="95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6.5896E-006 C -0.01459 0.00808 -0.02084 0.02427 -0.03021 0.04022 C -0.04757 0.07005 -0.06563 0.10011 -0.08577 0.12693 C -0.08889 0.13965 -0.08472 0.1267 -0.09358 0.13965 C -0.09757 0.14566 -0.10104 0.15236 -0.10469 0.1586 C -0.1059 0.16069 -0.10816 0.16115 -0.10955 0.16277 C -0.13351 0.19074 -0.10486 0.15884 -0.12222 0.18196 C -0.13004 0.19236 -0.13611 0.19884 -0.14288 0.21155 C -0.14653 0.22589 -0.14149 0.20993 -0.14913 0.22196 C -0.15573 0.23213 -0.15226 0.23606 -0.16024 0.24323 C -0.16563 0.25386 -0.17379 0.27097 -0.1809 0.27907 C -0.18281 0.28115 -0.18542 0.28161 -0.18733 0.28346 C -0.18906 0.28508 -0.19045 0.28762 -0.19202 0.2897 C -0.19479 0.30057 -0.19167 0.29248 -0.2 0.30242 C -0.21198 0.31675 -0.21545 0.32207 -0.22847 0.3341 C -0.23524 0.34034 -0.24184 0.34612 -0.24913 0.35097 C -0.25434 0.35444 -0.25834 0.36022 -0.26354 0.36369 C -0.28577 0.37826 -0.32656 0.39329 -0.3507 0.39329 E">
                                      <p:cBhvr>
                                        <p:cTn id="99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05 -0.02196 C 0.10364 0.00555 0.12066 0.02012 0.13524 0.03931 C 0.1533 0.06313 0.16944 0.08925 0.1875 0.1133 C 0.18958 0.11607 0.19219 0.11862 0.19392 0.12185 C 0.19653 0.12671 0.19878 0.13203 0.20191 0.13665 C 0.20417 0.13989 0.20764 0.14174 0.20972 0.14521 C 0.21285 0.15029 0.21476 0.15677 0.21771 0.16208 C 0.22274 0.17087 0.23368 0.18729 0.23368 0.18729 C 0.24496 0.22867 0.22986 0.17781 0.24792 0.22336 C 0.26371 0.26313 0.27639 0.32324 0.3066 0.35006 C 0.31024 0.36024 0.31528 0.36717 0.32083 0.3755 C 0.32604 0.38336 0.33212 0.39052 0.3368 0.39885 C 0.33958 0.4037 0.34149 0.40925 0.34479 0.41365 C 0.35156 0.42266 0.35295 0.42128 0.36059 0.42844 C 0.36667 0.43399 0.36962 0.44024 0.37639 0.44324 C 0.38333 0.45642 0.39184 0.46613 0.40035 0.477 C 0.40399 0.49156 0.41614 0.49711 0.42083 0.51076 C 0.42222 0.51492 0.42309 0.51931 0.42413 0.52347 C 0.42465 0.52555 0.42569 0.52995 0.42569 0.52995 C 0.42587 0.53156 0.42726 0.54914 0.42882 0.55307 C 0.42934 0.55422 0.42882 0.55029 0.42882 0.54891 E">
                                      <p:cBhvr>
                                        <p:cTn id="103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323 -0.037 C 0.09826 -0.02775 0.10052 -0.01573 0.10746 -0.00948 C 0.12049 0.01988 0.13125 0.03421 0.15035 0.05618 C 0.15434 0.0608 0.15608 0.0682 0.1599 0.07306 C 0.16406 0.07815 0.16996 0.08069 0.17413 0.08578 C 0.1816 0.09502 0.18611 0.10797 0.19323 0.11745 C 0.21198 0.14242 0.19722 0.11884 0.21215 0.14057 C 0.21753 0.14843 0.22326 0.1556 0.22812 0.16393 C 0.23003 0.16716 0.23073 0.17156 0.23281 0.17456 C 0.23715 0.18127 0.24201 0.18797 0.24722 0.19352 C 0.24983 0.1963 0.25278 0.19861 0.25503 0.20184 C 0.28871 0.25132 0.23837 0.18543 0.27257 0.22728 C 0.29184 0.25086 0.31354 0.27121 0.33281 0.29502 C 0.36371 0.33294 0.3309 0.29202 0.34878 0.32023 C 0.35208 0.32554 0.35625 0.33017 0.3599 0.33502 C 0.36198 0.3378 0.36615 0.34358 0.36615 0.34358 C 0.36979 0.35791 0.38055 0.37109 0.38837 0.38173 C 0.39028 0.38427 0.39184 0.38705 0.39323 0.39005 C 0.39566 0.39537 0.39948 0.40693 0.39948 0.40693 C 0.40104 0.41549 0.40243 0.4208 0.4059 0.4282 C 0.40972 0.45179 0.41059 0.47815 0.41858 0.50011 C 0.42066 0.5126 0.42187 0.52601 0.425 0.53803 C 0.425 0.53826 0.42812 0.55907 0.42812 0.55075 E">
                                      <p:cBhvr>
                                        <p:cTn id="107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740"/>
                            </p:stCondLst>
                            <p:childTnLst>
                              <p:par>
                                <p:cTn id="1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1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1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7240"/>
                            </p:stCondLst>
                            <p:childTnLst>
                              <p:par>
                                <p:cTn id="1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5" descr="Кувшинка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521640" y="287280"/>
            <a:ext cx="9070560" cy="17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5300" spc="-1" strike="noStrike">
                <a:solidFill>
                  <a:srgbClr val="800000"/>
                </a:solidFill>
                <a:latin typeface="Arial"/>
                <a:ea typeface="Microsoft YaHei"/>
              </a:rPr>
              <a:t>Семья сильна, 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5300" spc="-1" strike="noStrike">
                <a:solidFill>
                  <a:srgbClr val="800000"/>
                </a:solidFill>
                <a:latin typeface="Arial"/>
                <a:ea typeface="Microsoft YaHei"/>
              </a:rPr>
              <a:t>когда над ней крыша одна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2500200" y="1001880"/>
            <a:ext cx="1905120" cy="11095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e7cdfb"/>
              </a:gs>
              <a:gs pos="100000">
                <a:srgbClr val="6b5f7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сильна,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673200" y="1001880"/>
            <a:ext cx="1428480" cy="11095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одн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4722840" y="922320"/>
            <a:ext cx="1428840" cy="11113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99cc"/>
              </a:gs>
              <a:gs pos="100000">
                <a:srgbClr val="764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над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1784520" y="2271600"/>
            <a:ext cx="1428480" cy="11113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8f9d7"/>
              </a:gs>
              <a:gs pos="100000">
                <a:srgbClr val="73736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когд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3849840" y="2271600"/>
            <a:ext cx="1428480" cy="11113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71525"/>
              </a:gs>
              <a:gs pos="100000">
                <a:srgbClr val="720a1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крыш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5754600" y="2192400"/>
            <a:ext cx="1427400" cy="11113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ff99"/>
              </a:gs>
              <a:gs pos="100000">
                <a:srgbClr val="47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ней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3"/>
          <p:cNvSpPr/>
          <p:nvPr/>
        </p:nvSpPr>
        <p:spPr>
          <a:xfrm>
            <a:off x="6708600" y="922320"/>
            <a:ext cx="1427400" cy="11113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Семья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50867E-006 L -0.61423 0.47214 E">
                                      <p:cBhvr>
                                        <p:cTn id="157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8.67052E-007 L -0.03159 0.46173 E">
                                      <p:cBhvr>
                                        <p:cTn id="161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4624E-007 L 0.27569 0.28324 E">
                                      <p:cBhvr>
                                        <p:cTn id="16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50867E-006 L 0.19687 0.4511 E">
                                      <p:cBhvr>
                                        <p:cTn id="16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21965E-006 L -0.4724 0.48254 E">
                                      <p:cBhvr>
                                        <p:cTn id="173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4624E-007 L 0.02361 0.48254 E">
                                      <p:cBhvr>
                                        <p:cTn id="17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8.67052E-007 L 0.62223 0.64 E">
                                      <p:cBhvr>
                                        <p:cTn id="181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1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320"/>
                            </p:stCondLst>
                            <p:childTnLst>
                              <p:par>
                                <p:cTn id="2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820"/>
                            </p:stCondLst>
                            <p:childTnLst>
                              <p:par>
                                <p:cTn id="2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320"/>
                            </p:stCondLst>
                            <p:childTnLst>
                              <p:par>
                                <p:cTn id="2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820"/>
                            </p:stCondLst>
                            <p:childTnLst>
                              <p:par>
                                <p:cTn id="2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320"/>
                            </p:stCondLst>
                            <p:childTnLst>
                              <p:par>
                                <p:cTn id="2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 rot="20476200">
            <a:off x="348840" y="3257640"/>
            <a:ext cx="95266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Microsoft YaHei"/>
              </a:rPr>
              <a:t>Когда семьи нет, так и дома нет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276120" y="208080"/>
            <a:ext cx="1428840" cy="1668240"/>
          </a:xfrm>
          <a:prstGeom prst="pentagon">
            <a:avLst/>
          </a:prstGeom>
          <a:gradFill rotWithShape="0">
            <a:gsLst>
              <a:gs pos="0">
                <a:srgbClr val="33cccc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дом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1149480" y="1954080"/>
            <a:ext cx="1428480" cy="1668600"/>
          </a:xfrm>
          <a:prstGeom prst="pentagon">
            <a:avLst/>
          </a:prstGeom>
          <a:gradFill rotWithShape="0">
            <a:gsLst>
              <a:gs pos="0">
                <a:srgbClr val="33cccc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нет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2182680" y="208080"/>
            <a:ext cx="1427400" cy="1668240"/>
          </a:xfrm>
          <a:prstGeom prst="pentagon">
            <a:avLst/>
          </a:prstGeom>
          <a:gradFill rotWithShape="0">
            <a:gsLst>
              <a:gs pos="0">
                <a:srgbClr val="d6ecee"/>
              </a:gs>
              <a:gs pos="100000">
                <a:srgbClr val="636d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и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2976480" y="1795320"/>
            <a:ext cx="1746360" cy="1984680"/>
          </a:xfrm>
          <a:prstGeom prst="pentagon">
            <a:avLst/>
          </a:prstGeom>
          <a:gradFill rotWithShape="0">
            <a:gsLst>
              <a:gs pos="0">
                <a:srgbClr val="d6ecee"/>
              </a:gs>
              <a:gs pos="100000">
                <a:srgbClr val="636d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семьи,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4087800" y="208080"/>
            <a:ext cx="1428840" cy="1668240"/>
          </a:xfrm>
          <a:prstGeom prst="pentagon">
            <a:avLst/>
          </a:prstGeom>
          <a:gradFill rotWithShape="0">
            <a:gsLst>
              <a:gs pos="0">
                <a:srgbClr val="33cccc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Когд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5119560" y="1874880"/>
            <a:ext cx="1427400" cy="1666800"/>
          </a:xfrm>
          <a:prstGeom prst="pentagon">
            <a:avLst/>
          </a:prstGeom>
          <a:gradFill rotWithShape="0">
            <a:gsLst>
              <a:gs pos="0">
                <a:srgbClr val="33cccc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так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6151680" y="287280"/>
            <a:ext cx="1428480" cy="1666800"/>
          </a:xfrm>
          <a:prstGeom prst="pentagon">
            <a:avLst/>
          </a:prstGeom>
          <a:gradFill rotWithShape="0">
            <a:gsLst>
              <a:gs pos="0">
                <a:srgbClr val="d6ecee"/>
              </a:gs>
              <a:gs pos="100000">
                <a:srgbClr val="636d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нет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27" descr="дети4"/>
          <p:cNvPicPr/>
          <p:nvPr/>
        </p:nvPicPr>
        <p:blipFill>
          <a:blip r:embed="rId1"/>
          <a:stretch/>
        </p:blipFill>
        <p:spPr>
          <a:xfrm>
            <a:off x="7500960" y="3859200"/>
            <a:ext cx="2303280" cy="3411720"/>
          </a:xfrm>
          <a:prstGeom prst="rect">
            <a:avLst/>
          </a:prstGeom>
          <a:ln w="0">
            <a:noFill/>
          </a:ln>
        </p:spPr>
      </p:pic>
      <p:sp>
        <p:nvSpPr>
          <p:cNvPr id="173" name="WordArt 18"/>
          <p:cNvSpPr txBox="1"/>
          <p:nvPr/>
        </p:nvSpPr>
        <p:spPr>
          <a:xfrm rot="21157200">
            <a:off x="910800" y="1795320"/>
            <a:ext cx="8891640" cy="28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ем счастья вам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leshenko_lev-roditelskij_dom.mp3" descr=""/>
          <p:cNvPicPr/>
          <p:nvPr/>
        </p:nvPicPr>
        <p:blipFill>
          <a:blip r:embed="rId4"/>
          <a:stretch/>
        </p:blipFill>
        <p:spPr>
          <a:xfrm>
            <a:off x="198360" y="6954840"/>
            <a:ext cx="33516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50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29" dur="50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0" dur="50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50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235" dur="50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236" dur="50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50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41" dur="50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42" dur="50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50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247" dur="50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248" dur="50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53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54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50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03)"/>
                                      </p:to>
                                    </p:set>
                                    <p:set>
                                      <p:cBhvr>
                                        <p:cTn id="259" dur="50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03)"/>
                                      </p:to>
                                    </p:set>
                                    <p:set>
                                      <p:cBhvr>
                                        <p:cTn id="260" dur="50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)"/>
                                      </p:to>
                                    </p:set>
                                    <p:set>
                                      <p:cBhvr>
                                        <p:cTn id="265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)"/>
                                      </p:to>
                                    </p:set>
                                    <p:set>
                                      <p:cBhvr>
                                        <p:cTn id="266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68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7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80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9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12688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6000" y="-360"/>
            <a:ext cx="9001080" cy="154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Заповеди семьи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47280" y="1258560"/>
            <a:ext cx="8690040" cy="4321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77000"/>
          </a:bodyPr>
          <a:p>
            <a:pPr marL="290880" indent="-29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стоящий сын и дочь заботятся о благе своей семь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-29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льзя бездельничать, когда родители трудят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-29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вступайте в пререкания со взрослы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-29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выражайте недовольство тем, что у вас нет той или иной вещ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-29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стоящий сын и дочь берегут своих родител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-29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допускайте, чтобы мать давала вам то, что она не может позволить себ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-29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делайте того, что осуждают старшие, - ни на глазах, нигде – либо ещ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-29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-29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льзя садиться обедать, не пригласив старши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-29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льзя оставлять старшего родного человека в одиночестве, особенно если у 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г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икого нет, кроме теб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595440" y="2352600"/>
            <a:ext cx="8889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Microsoft YaHei"/>
              </a:rPr>
              <a:t>Семья</a:t>
            </a: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Microsoft YaHei"/>
              </a:rPr>
              <a:t> -</a:t>
            </a:r>
            <a:r>
              <a:rPr b="1" lang="ru-RU" sz="4000" spc="-1" strike="noStrike">
                <a:solidFill>
                  <a:srgbClr val="00c600"/>
                </a:solidFill>
                <a:latin typeface="Arial"/>
                <a:ea typeface="Microsoft YaHei"/>
              </a:rPr>
              <a:t>  </a:t>
            </a:r>
            <a:r>
              <a:rPr b="1" i="1" lang="ru-RU" sz="4000" spc="-1" strike="noStrike">
                <a:solidFill>
                  <a:srgbClr val="660033"/>
                </a:solidFill>
                <a:latin typeface="Arial"/>
                <a:ea typeface="Microsoft YaHei"/>
              </a:rPr>
              <a:t>группа людей, состоящая из родителей, детей, внуков и ближних родственников, живущих вместе.</a:t>
            </a: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Microsoft YaHe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Microsoft YaHei"/>
              </a:rPr>
              <a:t>Словарь Д.Н. Ушаков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2738520" y="525600"/>
            <a:ext cx="4763880" cy="13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1" strike="noStrike">
                <a:ln w="507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я</a:t>
            </a:r>
            <a:endParaRPr b="0" lang="en-US" sz="3200" spc="1" strike="noStrike">
              <a:ln w="507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Picture 4" descr="с2"/>
          <p:cNvPicPr/>
          <p:nvPr/>
        </p:nvPicPr>
        <p:blipFill>
          <a:blip r:embed="rId3"/>
          <a:stretch/>
        </p:blipFill>
        <p:spPr>
          <a:xfrm>
            <a:off x="7262640" y="5684760"/>
            <a:ext cx="22244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6360" y="-446040"/>
            <a:ext cx="8661240" cy="78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Овал 3"/>
          <p:cNvSpPr/>
          <p:nvPr/>
        </p:nvSpPr>
        <p:spPr>
          <a:xfrm>
            <a:off x="3745080" y="6012000"/>
            <a:ext cx="2382840" cy="1269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Овал 4"/>
          <p:cNvSpPr/>
          <p:nvPr/>
        </p:nvSpPr>
        <p:spPr>
          <a:xfrm>
            <a:off x="4176720" y="4643280"/>
            <a:ext cx="1749240" cy="1032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Microsoft YaHei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800360" y="3419640"/>
            <a:ext cx="2097000" cy="1050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5327640" y="1476360"/>
            <a:ext cx="1990800" cy="979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4"/>
          <a:stretch/>
        </p:blipFill>
        <p:spPr>
          <a:xfrm>
            <a:off x="216000" y="1476360"/>
            <a:ext cx="2025720" cy="1000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5"/>
          <a:stretch/>
        </p:blipFill>
        <p:spPr>
          <a:xfrm>
            <a:off x="2664000" y="1403280"/>
            <a:ext cx="2063520" cy="1098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6"/>
          <a:stretch/>
        </p:blipFill>
        <p:spPr>
          <a:xfrm>
            <a:off x="6264360" y="3274920"/>
            <a:ext cx="1904760" cy="1192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7"/>
          <a:stretch/>
        </p:blipFill>
        <p:spPr>
          <a:xfrm>
            <a:off x="7704000" y="1403280"/>
            <a:ext cx="1905120" cy="1101960"/>
          </a:xfrm>
          <a:prstGeom prst="rect">
            <a:avLst/>
          </a:prstGeom>
          <a:ln w="0">
            <a:noFill/>
          </a:ln>
        </p:spPr>
      </p:pic>
      <p:cxnSp>
        <p:nvCxnSpPr>
          <p:cNvPr id="97" name="Прямая со стрелкой 15"/>
          <p:cNvCxnSpPr/>
          <p:nvPr/>
        </p:nvCxnSpPr>
        <p:spPr>
          <a:xfrm flipH="1" flipV="1">
            <a:off x="3600360" y="4355280"/>
            <a:ext cx="626040" cy="407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8" name="Прямая со стрелкой 17"/>
          <p:cNvCxnSpPr/>
          <p:nvPr/>
        </p:nvCxnSpPr>
        <p:spPr>
          <a:xfrm flipV="1">
            <a:off x="5832000" y="4355640"/>
            <a:ext cx="686520" cy="45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9" name="Прямая со стрелкой 19"/>
          <p:cNvCxnSpPr>
            <a:stCxn id="91" idx="0"/>
          </p:cNvCxnSpPr>
          <p:nvPr/>
        </p:nvCxnSpPr>
        <p:spPr>
          <a:xfrm flipH="1" flipV="1">
            <a:off x="1655280" y="2484000"/>
            <a:ext cx="1194480" cy="936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0" name="Прямая со стрелкой 22"/>
          <p:cNvCxnSpPr>
            <a:stCxn id="91" idx="0"/>
          </p:cNvCxnSpPr>
          <p:nvPr/>
        </p:nvCxnSpPr>
        <p:spPr>
          <a:xfrm flipV="1">
            <a:off x="2849400" y="2484000"/>
            <a:ext cx="828000" cy="936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1" name="Прямая со стрелкой 24"/>
          <p:cNvCxnSpPr>
            <a:stCxn id="95" idx="0"/>
          </p:cNvCxnSpPr>
          <p:nvPr/>
        </p:nvCxnSpPr>
        <p:spPr>
          <a:xfrm flipH="1" flipV="1">
            <a:off x="6335280" y="2484000"/>
            <a:ext cx="882000" cy="791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2" name="Прямая со стрелкой 26"/>
          <p:cNvCxnSpPr>
            <a:stCxn id="95" idx="0"/>
          </p:cNvCxnSpPr>
          <p:nvPr/>
        </p:nvCxnSpPr>
        <p:spPr>
          <a:xfrm flipV="1">
            <a:off x="7216560" y="2555280"/>
            <a:ext cx="1129320" cy="71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03" name="Text Box 17"/>
          <p:cNvSpPr/>
          <p:nvPr/>
        </p:nvSpPr>
        <p:spPr>
          <a:xfrm>
            <a:off x="383760" y="169236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бабушка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2952720" y="1692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деду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5616720" y="169236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бабу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7920000" y="1692360"/>
            <a:ext cx="15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деду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2218680" y="363528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а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6762600" y="3564000"/>
            <a:ext cx="10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пап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4248000" y="6372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ЕМ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2268720" y="446040"/>
            <a:ext cx="5219280" cy="68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Arial"/>
                <a:ea typeface="Microsoft YaHei"/>
              </a:rPr>
              <a:t>Что может быть семьи дороже?</a:t>
            </a:r>
            <a:br>
              <a:rPr sz="2200"/>
            </a:br>
            <a:r>
              <a:rPr b="1" lang="ru-RU" sz="2200" spc="-1" strike="noStrike">
                <a:solidFill>
                  <a:srgbClr val="990000"/>
                </a:solidFill>
                <a:latin typeface="Arial"/>
                <a:ea typeface="Microsoft YaHei"/>
              </a:rPr>
              <a:t>Теплом встречает отчий дом,</a:t>
            </a:r>
            <a:br>
              <a:rPr sz="2200"/>
            </a:br>
            <a:r>
              <a:rPr b="1" lang="ru-RU" sz="2200" spc="-1" strike="noStrike">
                <a:solidFill>
                  <a:srgbClr val="990000"/>
                </a:solidFill>
                <a:latin typeface="Arial"/>
                <a:ea typeface="Microsoft YaHei"/>
              </a:rPr>
              <a:t>Здесь ждут тебя всегда с любовью,</a:t>
            </a:r>
            <a:br>
              <a:rPr sz="2200"/>
            </a:br>
            <a:r>
              <a:rPr b="1" lang="ru-RU" sz="2200" spc="-1" strike="noStrike">
                <a:solidFill>
                  <a:srgbClr val="990000"/>
                </a:solidFill>
                <a:latin typeface="Arial"/>
                <a:ea typeface="Microsoft YaHei"/>
              </a:rPr>
              <a:t>И провожают в путь с добром!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Arial"/>
                <a:ea typeface="Microsoft YaHei"/>
              </a:rPr>
              <a:t>Отец и мать, и дети дружно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  <a:ea typeface="Microsoft YaHei"/>
              </a:rPr>
              <a:t>Сидят за праздничным столом,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  <a:ea typeface="Microsoft YaHei"/>
              </a:rPr>
              <a:t>И вместе им совсем не скучно,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  <a:ea typeface="Microsoft YaHei"/>
              </a:rPr>
              <a:t>А интересно впятером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990000"/>
                </a:solidFill>
                <a:latin typeface="Arial"/>
                <a:ea typeface="Microsoft YaHei"/>
              </a:rPr>
              <a:t>Малыш для старших как любимец,</a:t>
            </a:r>
            <a:br>
              <a:rPr sz="2200"/>
            </a:br>
            <a:r>
              <a:rPr b="1" lang="ru-RU" sz="2200" spc="-1" strike="noStrike">
                <a:solidFill>
                  <a:srgbClr val="990000"/>
                </a:solidFill>
                <a:latin typeface="Arial"/>
                <a:ea typeface="Microsoft YaHei"/>
              </a:rPr>
              <a:t>Родители - во всем мудрей,</a:t>
            </a:r>
            <a:br>
              <a:rPr sz="2200"/>
            </a:br>
            <a:r>
              <a:rPr b="1" lang="ru-RU" sz="2200" spc="-1" strike="noStrike">
                <a:solidFill>
                  <a:srgbClr val="990000"/>
                </a:solidFill>
                <a:latin typeface="Arial"/>
                <a:ea typeface="Microsoft YaHei"/>
              </a:rPr>
              <a:t>Любимый папа - друг, кормилец,</a:t>
            </a:r>
            <a:br>
              <a:rPr sz="2200"/>
            </a:br>
            <a:r>
              <a:rPr b="1" lang="ru-RU" sz="2200" spc="-1" strike="noStrike">
                <a:solidFill>
                  <a:srgbClr val="990000"/>
                </a:solidFill>
                <a:latin typeface="Arial"/>
                <a:ea typeface="Microsoft YaHei"/>
              </a:rPr>
              <a:t>А мама ближе всех, родн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  <a:ea typeface="Microsoft YaHei"/>
              </a:rPr>
              <a:t>Любите! И цените счастье!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  <a:ea typeface="Microsoft YaHei"/>
              </a:rPr>
              <a:t>Оно рождается в семье,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  <a:ea typeface="Microsoft YaHei"/>
              </a:rPr>
              <a:t>Что может быть ее дороже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  <a:ea typeface="Microsoft YaHei"/>
              </a:rPr>
              <a:t>На этой сказочной земле!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35" descr="j0254434"/>
          <p:cNvPicPr/>
          <p:nvPr/>
        </p:nvPicPr>
        <p:blipFill>
          <a:blip r:embed="rId1"/>
          <a:stretch/>
        </p:blipFill>
        <p:spPr>
          <a:xfrm>
            <a:off x="515880" y="817560"/>
            <a:ext cx="1058760" cy="885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7" descr="j0283630"/>
          <p:cNvPicPr/>
          <p:nvPr/>
        </p:nvPicPr>
        <p:blipFill>
          <a:blip r:embed="rId2"/>
          <a:stretch/>
        </p:blipFill>
        <p:spPr>
          <a:xfrm>
            <a:off x="7581960" y="4017960"/>
            <a:ext cx="860400" cy="94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j0304853"/>
          <p:cNvPicPr/>
          <p:nvPr/>
        </p:nvPicPr>
        <p:blipFill>
          <a:blip r:embed="rId3"/>
          <a:stretch/>
        </p:blipFill>
        <p:spPr>
          <a:xfrm flipH="1" rot="18891000">
            <a:off x="1645200" y="5563440"/>
            <a:ext cx="966960" cy="2111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j0304853"/>
          <p:cNvPicPr/>
          <p:nvPr/>
        </p:nvPicPr>
        <p:blipFill>
          <a:blip r:embed="rId4"/>
          <a:stretch/>
        </p:blipFill>
        <p:spPr>
          <a:xfrm rot="2326200">
            <a:off x="6548400" y="5705640"/>
            <a:ext cx="739800" cy="1854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j0304863"/>
          <p:cNvPicPr/>
          <p:nvPr/>
        </p:nvPicPr>
        <p:blipFill>
          <a:blip r:embed="rId5"/>
          <a:stretch/>
        </p:blipFill>
        <p:spPr>
          <a:xfrm>
            <a:off x="4245120" y="7031160"/>
            <a:ext cx="87444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20760"/>
            <a:ext cx="9072720" cy="152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26 ноября–День Матери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7581960" y="1477800"/>
            <a:ext cx="1984320" cy="2619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436680" y="4653000"/>
            <a:ext cx="2222280" cy="2222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7086600" y="4645080"/>
            <a:ext cx="2216160" cy="1824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436680" y="1477800"/>
            <a:ext cx="2935080" cy="3176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5"/>
          <a:stretch/>
        </p:blipFill>
        <p:spPr>
          <a:xfrm>
            <a:off x="4091040" y="1692360"/>
            <a:ext cx="1746360" cy="1984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6"/>
          <a:stretch/>
        </p:blipFill>
        <p:spPr>
          <a:xfrm>
            <a:off x="4313160" y="4387680"/>
            <a:ext cx="1711440" cy="2063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04360" y="4443480"/>
            <a:ext cx="4459320" cy="219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320760"/>
            <a:ext cx="9072720" cy="152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Семья в живописи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6935760" y="4272120"/>
            <a:ext cx="2416320" cy="1920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595440" y="1557360"/>
            <a:ext cx="1666800" cy="2143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3"/>
          <a:stretch/>
        </p:blipFill>
        <p:spPr>
          <a:xfrm>
            <a:off x="838080" y="4568760"/>
            <a:ext cx="2392560" cy="1625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4"/>
          <a:stretch/>
        </p:blipFill>
        <p:spPr>
          <a:xfrm>
            <a:off x="4405320" y="4336920"/>
            <a:ext cx="1746360" cy="2062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5"/>
          <a:stretch/>
        </p:blipFill>
        <p:spPr>
          <a:xfrm>
            <a:off x="7500960" y="1557360"/>
            <a:ext cx="1974960" cy="2063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6"/>
          <a:stretch/>
        </p:blipFill>
        <p:spPr>
          <a:xfrm>
            <a:off x="2579760" y="1636560"/>
            <a:ext cx="1903320" cy="1586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7"/>
          <a:stretch/>
        </p:blipFill>
        <p:spPr>
          <a:xfrm>
            <a:off x="5040360" y="1636560"/>
            <a:ext cx="182700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720" y="320760"/>
            <a:ext cx="9072720" cy="152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Семейный отдых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720" y="1692360"/>
            <a:ext cx="445320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rmAutofit fontScale="90000"/>
          </a:bodyPr>
          <a:p>
            <a:pPr algn="ctr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а рыбалк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Объект 6" descr=""/>
          <p:cNvPicPr/>
          <p:nvPr/>
        </p:nvPicPr>
        <p:blipFill>
          <a:blip r:embed="rId1"/>
          <a:stretch/>
        </p:blipFill>
        <p:spPr>
          <a:xfrm>
            <a:off x="276120" y="2430360"/>
            <a:ext cx="4681800" cy="41277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21360" y="1692360"/>
            <a:ext cx="44560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rmAutofit fontScale="92000"/>
          </a:bodyPr>
          <a:p>
            <a:pPr marL="347760" indent="-347760" algn="ctr">
              <a:spcBef>
                <a:spcPts val="10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В парке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Объект 8" descr=""/>
          <p:cNvPicPr/>
          <p:nvPr/>
        </p:nvPicPr>
        <p:blipFill>
          <a:blip r:embed="rId2"/>
          <a:stretch/>
        </p:blipFill>
        <p:spPr>
          <a:xfrm>
            <a:off x="5121360" y="2747880"/>
            <a:ext cx="468288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280" y="178920"/>
            <a:ext cx="86806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fff00"/>
                </a:solidFill>
                <a:latin typeface="Times New Roman"/>
              </a:rPr>
              <a:t>Допишите 5 определений счастливой семьи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7640" y="2266560"/>
            <a:ext cx="8385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34200" bIns="0" anchor="t">
            <a:normAutofit fontScale="99000"/>
          </a:bodyPr>
          <a:p>
            <a:pPr marL="374040" indent="0">
              <a:spcBef>
                <a:spcPts val="16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  <a:p>
            <a:pPr marL="374040" indent="0">
              <a:spcBef>
                <a:spcPts val="16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ru-RU" sz="6500" spc="-1" strike="noStrike">
                <a:solidFill>
                  <a:srgbClr val="c5000b"/>
                </a:solidFill>
                <a:latin typeface="Tahoma"/>
              </a:rPr>
              <a:t>-Семья будет счастливой 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  <a:p>
            <a:pPr marL="374040" indent="0">
              <a:spcBef>
                <a:spcPts val="16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ru-RU" sz="6500" spc="-1" strike="noStrike">
                <a:solidFill>
                  <a:srgbClr val="c5000b"/>
                </a:solidFill>
                <a:latin typeface="Tahoma"/>
              </a:rPr>
              <a:t>если…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746760" y="4211640"/>
            <a:ext cx="310068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250920"/>
            <a:ext cx="907416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Качества счастливой семь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-2521080" y="1403280"/>
            <a:ext cx="14624280" cy="658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1:01:12Z</dcterms:created>
  <dc:creator>Администратор</dc:creator>
  <dc:description/>
  <dc:language>en-US</dc:language>
  <cp:lastModifiedBy>stud</cp:lastModifiedBy>
  <dcterms:modified xsi:type="dcterms:W3CDTF">2015-04-19T20:57:31Z</dcterms:modified>
  <cp:revision>66</cp:revision>
  <dc:subject/>
  <dc:title>Слайд 1</dc:title>
</cp:coreProperties>
</file>