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4BC-E891-47A3-91D9-FBAA925B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999-EE3D-4611-9C90-81AA1AC4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AB2-FBF0-436C-9454-9538105D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91D-9BC9-4C33-BB86-617D7DF0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7447-9310-4706-848A-5D59138F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A507-FB9D-4EFA-907B-5300A24A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61AF-4909-496E-95EA-31505708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F13A-8ACC-4D8D-8CB4-2282C2D9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BEB6-28DF-44C5-B33A-C6EA0B13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2082-5093-4930-A904-4E51E429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D2FB-D994-4DDF-88C9-A8858BE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F10-6B56-435E-8DE6-D752FCC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F318-6BC1-4CE2-9322-1B4F2298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A86F-7DF7-4665-974B-5EE6008C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392D-DD10-4597-8389-D9C7425B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6A02-A9F6-4C3F-8980-96008334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0039-70CA-4316-83BF-383BD3F9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8B46-0439-441A-BE7F-F893208F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4A7F-10DE-4AFD-B606-0CD5974E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E865-D164-4215-AAA5-EEACA347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E843-37EC-4BFF-86AD-2CD30886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F9E2-911F-4C97-BBA2-1DE4F63A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07D-E2FA-4B6D-B226-586DDD3A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C951-7CDE-4FCA-9D3B-F2D02AF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9991-87DB-4350-8E07-5C8AE48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11FE-B32A-4BE6-A180-4D7027A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A388-6E49-4964-AB8C-41B88B51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E015-4BF7-4DCF-8B15-CC5E1170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A17C-791C-4362-9844-7D0A60A9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FCDC-4890-4A85-B0AF-0E2EA4A1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5BF0E-A68D-4757-A4BF-B744615C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7E41-B35C-4EEE-873F-B013F51A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8081-8967-422C-A217-2CE2775C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D33-6407-4DCB-92BD-159B2D88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9642-AA77-4808-80F2-EF5599C8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8144-86AF-4726-8E59-37ED51B6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526D-7888-440D-9F45-A9FE49E0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DA97E-0EE1-4BA2-8E2A-76ADFF0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B8F5-61F6-47ED-8525-2A2ECDBB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6B1E-855E-41A8-AEEC-A06F3890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362E3-1472-42DF-96B8-A2F8F22F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D362-2FE3-41A7-8A7F-EA78F1C7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B01F0-C47E-4224-A953-62F711DA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7B2D-C2D8-42FB-B07E-7A369DD5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537-982C-442A-8DDF-6E8EA1BD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38EC-DAC8-4DC1-BF5A-78E74430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2B34A-77E6-434F-B4F9-11A4862B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B80F4-4F27-4926-829E-B2C4DA36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23521-4750-4168-8CBF-B3075254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1141-428E-4132-A1E6-4FAEE960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B43FD-1098-45CE-AC44-C9C82895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7FF7D-5E1D-4427-8F16-A2705433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23EBB-F227-4E06-9777-DCF02EE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6D567-24CD-45A0-8EE2-1D8CA98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9BE75-EB85-42A4-8A0D-A79E5FF1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FDF-85EF-4023-81BD-EB909015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93F15-97C5-445A-BAE9-A265E3DD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739F8-077C-4015-85B1-0FADC407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32828-FC7A-4421-A2DE-746DD553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726F-F454-4E6A-B4FC-ACB0CECD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AF409-A348-4BBC-8E0A-CA13DA11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7BD49-4A67-4BAC-8287-FCD40B71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AE13D-5203-4454-9866-E999931F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8F2F7-A315-4E63-8AE8-D1BC0A7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306F4-08F2-4DF3-8899-733EF65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A2BEF-947C-4D9B-9EF4-589A6F27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624-B5EE-4EC3-9B56-1722A5D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30529-C36E-4BBB-9733-B6C06B3C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A9BB6-5A75-4752-A28F-6ADD6926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BCEE4-E952-4D65-A549-B1F6E2FE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AFD45-FF23-4701-BEBA-5840EF82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31998-D6D8-4A9F-B68C-639D117B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98FD9-6805-486D-924A-6C60AFBA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DE04C-763E-4E56-B0C2-F5916797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DBD9A-7B4F-4D70-A847-3627EF52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D69D-23BF-40C7-8614-8DFADF0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116E-D458-4026-A0B0-2C1F1B95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ED1-EE1A-4A5D-B384-D383CE9A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CC78D-13DD-429D-887C-8A77121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259E3-6F9F-4352-A9BD-DFE42AA3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BAF5-9C89-4970-8AA0-CE6B454B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4CA17-5C41-4CF3-95A3-12839AC5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97F0E-3AFE-4D7D-BA35-136625CC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B744F-B4F4-4A7B-9854-B6A4B1D0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8887C-933A-4864-A746-93EB90D6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2D772-716C-4D2F-942D-BAB0794B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80C0-7DBF-4535-AAA5-84C13F62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3B1DE-21D0-40A6-9DFB-66999651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D90-79D8-4977-ACA6-BB3C7E4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6C7C2-DB5E-4AE7-B057-3BA68D57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162E0-5631-4098-A3F9-F40545AB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E539-58E0-4ED4-89D3-6C1FFF19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74F67-57E0-45EF-952E-1702A580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56177-07A7-49C9-B319-A06CC6CB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AF0DA-34B7-491C-9F72-175BCC70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BD47C-03E8-4EB6-A453-D176A250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F2CF-D024-4C7F-825F-1279584EC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E7E-2F1F-479B-A5AE-F771B12DA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344E-8AAE-4A6C-A30F-B482971CC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43A8-A8E6-4FF9-A8C0-3F882CF5D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80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91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28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229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0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1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2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3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4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5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6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8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9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0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78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0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91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98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3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42E0-CDAC-408E-B43E-329F0A637B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345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54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56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93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94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5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6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7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8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3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6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1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5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8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6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7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8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9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3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443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5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456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463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F31F-F5D8-4813-82B8-81BDD7870C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B6CF-8BD3-4E58-9002-7A16EC9FDD9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1DE6-F4DE-4AC5-A2B2-9FA7A732251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468360" y="4680"/>
            <a:ext cx="8424720" cy="68533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 txBox="1"/>
          <p:nvPr/>
        </p:nvSpPr>
        <p:spPr>
          <a:xfrm>
            <a:off x="2286000" y="2668680"/>
            <a:ext cx="457200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адки о футболе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легко её добыть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до храбрым в схватке быть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олько тем она даётся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о последнего кто бьё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356000" y="62064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5960" cy="53816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 txBox="1"/>
          <p:nvPr/>
        </p:nvSpPr>
        <p:spPr>
          <a:xfrm>
            <a:off x="3924360" y="549360"/>
            <a:ext cx="16002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бед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ня боятся вратари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оящие в воротах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ня ты громко назови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 заработан потом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427640" y="62064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324000" y="1521000"/>
            <a:ext cx="8640720" cy="485604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 txBox="1"/>
          <p:nvPr/>
        </p:nvSpPr>
        <p:spPr>
          <a:xfrm>
            <a:off x="4140360" y="476280"/>
            <a:ext cx="780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л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д трибунами висит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Этот очень нужный щит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ждый гол покажет он –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идно счёт со всех стор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00720" y="549360"/>
            <a:ext cx="263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547640" y="1463760"/>
            <a:ext cx="5904000" cy="50608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 txBox="1"/>
          <p:nvPr/>
        </p:nvSpPr>
        <p:spPr>
          <a:xfrm>
            <a:off x="3780000" y="549360"/>
            <a:ext cx="1161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бл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ламя полыхает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ять колец сияют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аздник для народа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 в четыре года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аздник тот спортивный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ревний, яркий, див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284720" y="54936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826920" y="1136520"/>
            <a:ext cx="7417080" cy="54752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 txBox="1"/>
          <p:nvPr/>
        </p:nvSpPr>
        <p:spPr>
          <a:xfrm>
            <a:off x="3492360" y="476280"/>
            <a:ext cx="2314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лимпиа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 на краю чуть не уснул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дали мячик – так рванул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прорвался на ворот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арил низом с разворот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у, и забил, конечно, гол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асивая игр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00720" y="62064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971640" y="1447920"/>
            <a:ext cx="7272360" cy="51022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3780000" y="47628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ут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Если бросить, он подскочит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росишь снова, мчится вскачь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у, конечно – это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9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д свисток судьи финальный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ыл забит последний мяч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ашей славною победой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Завершился трудный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00720" y="69228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2160" cy="50180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067280" y="476280"/>
            <a:ext cx="981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ч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 воротам ты ударь –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пропустит мяч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427640" y="47628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88360" cy="498492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3564000" y="549360"/>
            <a:ext cx="16095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ратар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9T18:06:25Z</dcterms:created>
  <dc:creator>User</dc:creator>
  <dc:description/>
  <dc:language>en-US</dc:language>
  <cp:lastModifiedBy>User</cp:lastModifiedBy>
  <dcterms:modified xsi:type="dcterms:W3CDTF">2013-06-09T18:28:01Z</dcterms:modified>
  <cp:revision>4</cp:revision>
  <dc:subject/>
  <dc:title>Слайд 1</dc:title>
</cp:coreProperties>
</file>