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341-B193-4E66-8D89-27EFF1A8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277-2DC9-43EB-A4D8-1795D0C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273-B746-4820-9182-35B9FF60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0EE-0B83-4CA6-8C7D-3032A3A4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3B81-7C66-4E78-B430-5786B3A2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3D5-0B29-43D8-99F0-8E7E936B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46E-6EBE-4AEE-A108-185F69E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52A5-A059-41EF-82C3-B0E2C75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E20-8853-4531-BFE3-C583137B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EAA-0CD4-4142-AEED-F7EC17B8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3F94-5927-409D-AB6B-C17E971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CEF-7E86-438E-874C-760512C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ECB-1DA0-48AA-94FD-352CEB4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0CC2-BBDF-4024-85FB-18897FD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8A29-D8F1-4AF6-8EFC-D99BD62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941-BC4D-441D-BC76-6FD26BD5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398-7C9F-4E3B-8F63-01A6CD0A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3737-68DB-48DA-AFD7-D401AB3B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A78E-0378-45F9-BD0C-F0C0E1BF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B80C-9AD0-4AB2-8AE8-7D8C2845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5274-CBE3-4322-AC6D-4221AF35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01E0-FF8C-4257-9A14-04905A4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E9C-63DD-4DF5-A1A1-05689412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481E-92EA-4EF6-8760-AEDDFDFB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15A7-3A7C-4DE2-8BBD-C246C92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4E53-E788-43BD-A1C8-B9A35B5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A8A6-CC5D-4F86-8B6C-C3D3041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C7DB-DBE0-41A7-B328-5BA2F4C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DF8E-A887-447C-86F2-4FB7E41A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DA84-53BC-4C3D-91CE-83FE80BE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836E-CE9B-439A-A367-EFF714DA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B42B-17A5-4361-AFF4-B5E136F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2861-7FC3-45D4-BDB1-8E75A0E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C95-B079-46CE-86C8-B75DED5C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2C74-8C63-4DA6-95CD-563CA2B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3090-364F-4702-AAF6-90816F7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9CEF-E312-4BF4-B057-FADAE15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DD49-A428-42CD-805B-46DC4DD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0543-C5E0-4C28-98D3-A988D32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3ABC-1D2F-4297-8FB1-C235F3F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3FF0-B4DE-4B72-9AD6-1FEB3E10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6E24-AB9D-477D-BFFB-5C270D7E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05A8-826F-4302-970D-B8822A6D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8BC2-D497-4967-B44F-BF33B9D5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6A0-2E22-4946-94B9-8B4226A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5D7C5-5C4E-46A7-99AD-91F90EA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B605-C145-45C7-B9AA-9C9C5CD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1D7F-DFD3-4F99-98B0-30BDC959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54DB-F635-4B3F-8FE2-718B6758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BA63-2B45-43B3-AF54-86B95CFE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1E1F-1BE7-4FAE-8D9D-6117F31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180A-8926-404A-AB3B-8B93E40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633E-F9F8-4811-BAE2-EC84313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574C-053F-470F-AECA-B4EA5C3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E620-C835-40BA-B0DA-DDAA945B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9B1-7775-4D29-9C55-5665B4A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A3B8-435A-4C8E-A70F-6550023E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BB46B-43F3-4249-8F53-DAA1750E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05F1-EEBF-4C9E-9FAA-F50D700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9E01A-75B8-45B4-B7AD-CBB1462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0D1E-5C3C-4B1B-9948-B9C52456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9923-9F77-47FD-B853-4BF72FE7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5E29-E055-41D3-BDCB-0FBBBEFA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26908-53A4-4BE8-8455-B127A80D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28215-5BCD-4F89-BFE8-189CB78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7DEB-174B-4A78-B754-9ED928E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497-58A3-43AE-B7B3-C7B36CD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5BBD-F40D-44A7-97CC-EA8DDEB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1CF5-4C90-4345-B954-1EAD3F1F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3E1A2-F347-4177-98CC-A7ABF442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ABC2-4573-4EC6-949D-60634B4B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A741-B257-4CBA-A53B-6D854B59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F6D5-0694-4DD9-B189-53C78A49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971E-0658-4A0E-B47D-3D0EA713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EA76C-F70D-4A7C-9130-0A2CC34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66778-35F1-4ED4-AF5B-EE8F983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F1451-7020-428A-9F96-A84D881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C16-7023-49E4-90ED-B9E3E32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DB3D0-2A60-46BF-B2CF-2D6F6AA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6E92-338F-4436-BF9D-8788CBF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CC60F-0729-42C8-904F-D347E13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EA6A-F6B9-4FB1-8A5E-BC9975A3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2A4E-D623-4E11-BC94-721F9A77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D824-6A09-4866-A8DF-9AC039EB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7C8D-8A30-4CD7-AD79-EDFE12C6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0303D-45B9-4CA7-A64E-53D9C67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C154-4D92-47DB-8158-FE8A8C7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2B1F-48DD-4B44-86B7-CC7DA1E6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73D-6B2F-4C09-8D46-2F084D0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A8AF-60AA-442A-A18F-7951E8E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A75AC-8013-4BFD-A337-941E119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FF485-5598-4418-B438-C2BBF31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BCDC-9BBC-4CD0-9F8E-A7992D5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ED0C-EB84-4869-9160-488D8795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81FD-DBF9-4C3A-BB3F-F32634DE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9315-863D-48DB-BE85-B3876E48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81D3-9F16-4E98-B1B5-398E518ED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BE5-5F6F-45D6-BCF6-90777DE9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9F2-BA62-479A-9B4A-96AB8242A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432-38CD-41A6-B43F-66BEEC131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2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7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9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9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3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822-C778-4FC5-B587-C196CFE0EF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4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9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45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46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EC7-BC1A-4048-8065-55427FF57C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8D4-6D8C-49DD-9D73-633AF849E76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C20E-916E-4B96-8B41-272529F2CCD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68360" y="4680"/>
            <a:ext cx="8424720" cy="6853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2286000" y="2668680"/>
            <a:ext cx="457200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адки о футболе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легко её добыть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до храбрым в схватке быть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олько тем она даётся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 последнего кто бьё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356000" y="62064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5960" cy="53816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3924360" y="549360"/>
            <a:ext cx="16002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бед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я боятся вратар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ящие в воротах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я ты громко назов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заработан потом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427640" y="620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24000" y="1521000"/>
            <a:ext cx="8640720" cy="485604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140360" y="476280"/>
            <a:ext cx="780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л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д трибунами висит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Этот очень нужный щи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ждый гол покажет он –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идно счёт со все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00720" y="549360"/>
            <a:ext cx="263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547640" y="1463760"/>
            <a:ext cx="5904000" cy="50608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3780000" y="549360"/>
            <a:ext cx="1161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бл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ламя полыхает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ять колец сияю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аздник для народа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 в четыре года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аздник тот спортивный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ревний, яркий, див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284720" y="5493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826920" y="1136520"/>
            <a:ext cx="7417080" cy="54752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 txBox="1"/>
          <p:nvPr/>
        </p:nvSpPr>
        <p:spPr>
          <a:xfrm>
            <a:off x="3492360" y="476280"/>
            <a:ext cx="2314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лимпиа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на краю чуть не уснул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дали мячик – так рванул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прорвался на воро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рил низом с разворо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, и забил, конечно, гол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сивая игр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00720" y="62064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971640" y="1447920"/>
            <a:ext cx="7272360" cy="5102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3780000" y="47628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у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Если бросить, он подскочит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росишь снова, мчится вскачь,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у, конечно – это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10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д свисток судьи финальный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ыл забит последний мяч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ашей славною победой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Завершился трудный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00720" y="6922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0180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067280" y="476280"/>
            <a:ext cx="98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ч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 воротам ты ударь –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пропустит мяч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7640" y="47628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8360" cy="49849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3564000" y="549360"/>
            <a:ext cx="1609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атар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9T18:06:25Z</dcterms:created>
  <dc:creator>User</dc:creator>
  <dc:description/>
  <dc:language>en-US</dc:language>
  <cp:lastModifiedBy>User</cp:lastModifiedBy>
  <dcterms:modified xsi:type="dcterms:W3CDTF">2013-06-09T18:28:01Z</dcterms:modified>
  <cp:revision>4</cp:revision>
  <dc:subject/>
  <dc:title>Слайд 1</dc:title>
</cp:coreProperties>
</file>