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36.png" ContentType="image/pn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C5C-1317-44D9-B942-ABDB8BF1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A92-4E4A-425D-BF01-9393FCF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63D-9235-4CCB-940A-BDF888B6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C90-C022-402F-B15F-1546AEB3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B47-9940-48EF-B48C-8A9AAC0D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334-CFDC-4288-A832-D6CFB550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A04D-9125-4677-A672-39E5008C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083-E79B-4E62-9207-82E882B4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4E6C-B23A-4D1D-A361-C3C46DB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E36-D983-4E96-9596-05AE772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B104-9149-4FD0-9F22-79E0995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EE7-C91F-41F0-988D-F7FF070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113C-94B2-482F-BD5F-2F99882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DBC8-F327-4A79-9E85-2FC3E19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8864-8F59-4DEA-82CB-B552EFE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95F8-A56B-424C-9442-E84473BF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685-827C-492D-ACD6-D3B14612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3B5-4E56-4ECC-B02C-78CF5AB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B69-9E48-41F7-9BAE-73004E4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D2E-BC80-4250-989C-4FEAD65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0BF-CFC7-494D-89FA-365E356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A89-0844-4493-B5F7-17818A1D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13F-F25C-44F3-99A9-C7C65AC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5BC-181F-45B0-A591-22A35A9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2950-1C19-4C68-8B3C-833F2709EF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F5C1-51A5-47C9-8401-0BD30E01D71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Проект</a:t>
            </a:r>
            <a:br>
              <a:rPr sz="8000"/>
            </a:b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«Ветераны живут рядом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00360" y="4005360"/>
            <a:ext cx="3887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музе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апкина Надежда Николаевна, учитель ИЗ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школа № 35» г.Дзержинск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лся 24 марта 1923 года в селе Навля Орловской области.  С августа 1943 служил разведчиком в 446 стрелковом полку. После ранения с 1944 года служил в артиллерии наводчиком на «Катюше». Войну встретил в Германии.  Награжден 20 медалями. В том числе: «За Отвагу», «За взятие Берлина», «За освобождение Варшавы», «За победу над Германией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IMG_2241"/>
          <p:cNvPicPr/>
          <p:nvPr/>
        </p:nvPicPr>
        <p:blipFill>
          <a:blip r:embed="rId1"/>
          <a:stretch/>
        </p:blipFill>
        <p:spPr>
          <a:xfrm>
            <a:off x="5076720" y="1628640"/>
            <a:ext cx="2319480" cy="1663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050920" y="981000"/>
            <a:ext cx="42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Полехин Михаил Михайл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IMG_2251"/>
          <p:cNvPicPr/>
          <p:nvPr/>
        </p:nvPicPr>
        <p:blipFill>
          <a:blip r:embed="rId2"/>
          <a:stretch/>
        </p:blipFill>
        <p:spPr>
          <a:xfrm>
            <a:off x="7451640" y="242100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germanich-o\Desktop\Рисунок14.jpg"/>
          <p:cNvPicPr/>
          <p:nvPr/>
        </p:nvPicPr>
        <p:blipFill>
          <a:blip r:embed="rId3"/>
          <a:stretch/>
        </p:blipFill>
        <p:spPr>
          <a:xfrm>
            <a:off x="468360" y="1989000"/>
            <a:ext cx="421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C:\Users\germanich-o\Desktop\Рисунок15.jpg"/>
          <p:cNvPicPr/>
          <p:nvPr/>
        </p:nvPicPr>
        <p:blipFill>
          <a:blip r:embed="rId4"/>
          <a:stretch/>
        </p:blipFill>
        <p:spPr>
          <a:xfrm>
            <a:off x="5148360" y="3645000"/>
            <a:ext cx="2239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Шульпины  Юрий Константинович и Римма Ивановна</a:t>
            </a:r>
            <a:br>
              <a:rPr sz="24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Горьковского зенитно-артиллерийского училища Юрий Константинович был  направлен в 72 Краснознаменную бригаду противовоздушной обороны под Ленинград. Победу встретил в Кенигсберге. После войны 30 лет служил в зенитно-ракетных войск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IMG_2270"/>
          <p:cNvPicPr/>
          <p:nvPr/>
        </p:nvPicPr>
        <p:blipFill>
          <a:blip r:embed="rId1"/>
          <a:stretch/>
        </p:blipFill>
        <p:spPr>
          <a:xfrm>
            <a:off x="5219640" y="112536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MG_2274"/>
          <p:cNvPicPr/>
          <p:nvPr/>
        </p:nvPicPr>
        <p:blipFill>
          <a:blip r:embed="rId2"/>
          <a:stretch/>
        </p:blipFill>
        <p:spPr>
          <a:xfrm>
            <a:off x="5003640" y="2997360"/>
            <a:ext cx="3294360" cy="247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germanich-o\Desktop\Рисунок16.jpg"/>
          <p:cNvPicPr/>
          <p:nvPr/>
        </p:nvPicPr>
        <p:blipFill>
          <a:blip r:embed="rId3"/>
          <a:stretch/>
        </p:blipFill>
        <p:spPr>
          <a:xfrm>
            <a:off x="1116000" y="1125360"/>
            <a:ext cx="3014640" cy="226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C:\Users\germanich-o\Desktop\Рисунок17.jpg"/>
          <p:cNvPicPr/>
          <p:nvPr/>
        </p:nvPicPr>
        <p:blipFill>
          <a:blip r:embed="rId4"/>
          <a:stretch/>
        </p:blipFill>
        <p:spPr>
          <a:xfrm>
            <a:off x="1332000" y="35002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Смирнов Николай Алексеевич 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82915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ирнов Николай Алексеевич Воевал под Москвой, в обороне стоял до марта 1943 года.  В 1944 году ему вручили Орден Красной Звезды за освобождение Смоленска. Затем в 1945 за освобождение Белоруссии получил второй Орден  Красной Звез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ще были медаль «За Отвагу» и «За Победу над Германией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IMG_2409"/>
          <p:cNvPicPr/>
          <p:nvPr/>
        </p:nvPicPr>
        <p:blipFill>
          <a:blip r:embed="rId1"/>
          <a:stretch/>
        </p:blipFill>
        <p:spPr>
          <a:xfrm>
            <a:off x="5867280" y="3357720"/>
            <a:ext cx="2536920" cy="1901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Users\germanich-o\Desktop\Рисунок18.jpg"/>
          <p:cNvPicPr/>
          <p:nvPr/>
        </p:nvPicPr>
        <p:blipFill>
          <a:blip r:embed="rId2"/>
          <a:stretch/>
        </p:blipFill>
        <p:spPr>
          <a:xfrm>
            <a:off x="755640" y="1628640"/>
            <a:ext cx="4351320" cy="326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germanich-o\Desktop\Рисунок19.jpg"/>
          <p:cNvPicPr/>
          <p:nvPr/>
        </p:nvPicPr>
        <p:blipFill>
          <a:blip r:embed="rId3"/>
          <a:stretch/>
        </p:blipFill>
        <p:spPr>
          <a:xfrm>
            <a:off x="5940360" y="1268280"/>
            <a:ext cx="2495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Денежкина Евдокия Кузьминична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5732280"/>
            <a:ext cx="8362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41 году окончила медицинскую школу. С 1942 года – на 1 Украинском фронте. Служила медсестрой в эвакогоспитал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йны Евдокия Кузьминична работала в детской больниц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IMG_2445"/>
          <p:cNvPicPr/>
          <p:nvPr/>
        </p:nvPicPr>
        <p:blipFill>
          <a:blip r:embed="rId1"/>
          <a:stretch/>
        </p:blipFill>
        <p:spPr>
          <a:xfrm>
            <a:off x="725328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IMG_2458"/>
          <p:cNvPicPr/>
          <p:nvPr/>
        </p:nvPicPr>
        <p:blipFill>
          <a:blip r:embed="rId2"/>
          <a:stretch/>
        </p:blipFill>
        <p:spPr>
          <a:xfrm>
            <a:off x="6012000" y="1413000"/>
            <a:ext cx="2162160" cy="1622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2481"/>
          <p:cNvPicPr/>
          <p:nvPr/>
        </p:nvPicPr>
        <p:blipFill>
          <a:blip r:embed="rId3"/>
          <a:stretch/>
        </p:blipFill>
        <p:spPr>
          <a:xfrm>
            <a:off x="5435640" y="3357720"/>
            <a:ext cx="1620720" cy="21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germanich-o\Desktop\Рисунок20.jpg"/>
          <p:cNvPicPr/>
          <p:nvPr/>
        </p:nvPicPr>
        <p:blipFill>
          <a:blip r:embed="rId4"/>
          <a:stretch/>
        </p:blipFill>
        <p:spPr>
          <a:xfrm>
            <a:off x="755640" y="1844640"/>
            <a:ext cx="44258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Опарин Михаил Михайлович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4724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39 году призван в ряды Красной Армии. В 1941 году направлен на фронт – в Среднюю Азию. Служил связистом-разведчиком в разведроте. Участник Сталинградской битвы. Имеет 17 наград. Его жена Модина Тося,  выпускница Дзержинского аэроклуба им. Каманина, добровольцем ушла на фронт. В 1942 году под Сталинградом вылетала на ночное бомбометание. Войну закончила в Праге в звании гвардии лейтенанта. В числе ее наград Орден Красной Звезды, медали «За оборону Сталинграда», «За освобождение Праги», «За оборону Ленинграда», «За победу над Германией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C:\Users\germanich-o\Desktop\Рисунок21.jpg"/>
          <p:cNvPicPr/>
          <p:nvPr/>
        </p:nvPicPr>
        <p:blipFill>
          <a:blip r:embed="rId1"/>
          <a:stretch/>
        </p:blipFill>
        <p:spPr>
          <a:xfrm>
            <a:off x="826920" y="1413000"/>
            <a:ext cx="4181760" cy="313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germanich-o\Desktop\Рисунок22.png"/>
          <p:cNvPicPr/>
          <p:nvPr/>
        </p:nvPicPr>
        <p:blipFill>
          <a:blip r:embed="rId2"/>
          <a:stretch/>
        </p:blipFill>
        <p:spPr>
          <a:xfrm>
            <a:off x="5867280" y="1197000"/>
            <a:ext cx="2459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Кузнецовы Алексей Филиппович и Татьяна Евтихие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ексей Филиппович  в должности начальника связи полка воевал на фронтах Великой Отечественной войны. 3 раза был ранен. Награждён: двумя Орденами Отечественной войны 1 степени, двумя Орденами Отечественной войны 2 степени, Орденом Красной Звезды, медалью за оборону Сталинграда. Татьяна Евтихиевна перед войной окончила 2-х годичную школу медсестер. В 1942 году была призвана на фронт в г. Корчь в эвакогоспиталь 4547 старшей медсестрой. Войну закончила в Восточной Пруссии. Награждена орденом Красной звезды и меда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C:\Users\germanich-o\Desktop\Рисунок23.jpg"/>
          <p:cNvPicPr/>
          <p:nvPr/>
        </p:nvPicPr>
        <p:blipFill>
          <a:blip r:embed="rId1"/>
          <a:stretch/>
        </p:blipFill>
        <p:spPr>
          <a:xfrm>
            <a:off x="900000" y="1484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Users\germanich-o\Desktop\Рисунок24.jpg"/>
          <p:cNvPicPr/>
          <p:nvPr/>
        </p:nvPicPr>
        <p:blipFill>
          <a:blip r:embed="rId2"/>
          <a:stretch/>
        </p:blipFill>
        <p:spPr>
          <a:xfrm>
            <a:off x="3708360" y="1989000"/>
            <a:ext cx="1828800" cy="277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Users\germanich-o\Desktop\Рисунок25.jpg"/>
          <p:cNvPicPr/>
          <p:nvPr/>
        </p:nvPicPr>
        <p:blipFill>
          <a:blip r:embed="rId3"/>
          <a:stretch/>
        </p:blipFill>
        <p:spPr>
          <a:xfrm>
            <a:off x="395280" y="3500280"/>
            <a:ext cx="2967120" cy="201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C:\Users\germanich-o\Desktop\Рисунок26.jpg"/>
          <p:cNvPicPr/>
          <p:nvPr/>
        </p:nvPicPr>
        <p:blipFill>
          <a:blip r:embed="rId4"/>
          <a:stretch/>
        </p:blipFill>
        <p:spPr>
          <a:xfrm>
            <a:off x="5940360" y="1125360"/>
            <a:ext cx="2874960" cy="215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C:\Users\germanich-o\Desktop\Рисунок27.jpg"/>
          <p:cNvPicPr/>
          <p:nvPr/>
        </p:nvPicPr>
        <p:blipFill>
          <a:blip r:embed="rId5"/>
          <a:stretch/>
        </p:blipFill>
        <p:spPr>
          <a:xfrm>
            <a:off x="6227640" y="350028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Мухина Евгения Николаевна и Шепелева Зинаида Эдуардо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моленщины. Находились в немецкой оккупации. В 1942 году были эвакуированы из Смоленской области. 390 детей приехали в наш город. Работали на Заводстрое. За ударный труд Зинаида Эдуардовна награждена Орденом Ле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C:\Users\germanich-o\Desktop\Рисунок28.jpg"/>
          <p:cNvPicPr/>
          <p:nvPr/>
        </p:nvPicPr>
        <p:blipFill>
          <a:blip r:embed="rId1"/>
          <a:stretch/>
        </p:blipFill>
        <p:spPr>
          <a:xfrm>
            <a:off x="755640" y="1700280"/>
            <a:ext cx="4219560" cy="316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Users\germanich-o\Desktop\Рисунок29.jpg"/>
          <p:cNvPicPr/>
          <p:nvPr/>
        </p:nvPicPr>
        <p:blipFill>
          <a:blip r:embed="rId2"/>
          <a:stretch/>
        </p:blipFill>
        <p:spPr>
          <a:xfrm>
            <a:off x="5435640" y="2060640"/>
            <a:ext cx="3448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Загвоздина Лидия Ивано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ан труда. В 1941 году ее избрали  секретарём комсомольской  организации завода «Корун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ю жизнь проработала на заводе, награждена медалями за ударный тру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вно мы поздравили ее с 90-лет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C:\Users\germanich-o\Desktop\Рисунок30.jpg"/>
          <p:cNvPicPr/>
          <p:nvPr/>
        </p:nvPicPr>
        <p:blipFill>
          <a:blip r:embed="rId1"/>
          <a:stretch/>
        </p:blipFill>
        <p:spPr>
          <a:xfrm>
            <a:off x="611280" y="1484280"/>
            <a:ext cx="4500360" cy="338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Users\germanich-o\Desktop\Рисунок31.jpg"/>
          <p:cNvPicPr/>
          <p:nvPr/>
        </p:nvPicPr>
        <p:blipFill>
          <a:blip r:embed="rId2"/>
          <a:stretch/>
        </p:blipFill>
        <p:spPr>
          <a:xfrm>
            <a:off x="5867280" y="1413000"/>
            <a:ext cx="2384640" cy="159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Users\germanich-o\Desktop\Рисунок32.jpg"/>
          <p:cNvPicPr/>
          <p:nvPr/>
        </p:nvPicPr>
        <p:blipFill>
          <a:blip r:embed="rId3"/>
          <a:stretch/>
        </p:blipFill>
        <p:spPr>
          <a:xfrm>
            <a:off x="5651640" y="321300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Траурный митинг. Захоронение останков летчика Фадеева Семена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вший курсант дзержинского аэроклуба младший лейтенант Семён Фадеев воевал в 431-м истребительном авиаполку 315-й истребительной авиадивизии, 15-й воздушной армии. С 13 июля 1943 года числился пропавшим без вести. Спустя 67 лет его останки вместе с обломками самолёта, на котором он воевал, следопыты нашли на территории Орловской области вблизи деревни Стрельников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C:\Users\germanich-o\Desktop\Рисунок33.jpg"/>
          <p:cNvPicPr/>
          <p:nvPr/>
        </p:nvPicPr>
        <p:blipFill>
          <a:blip r:embed="rId1"/>
          <a:stretch/>
        </p:blipFill>
        <p:spPr>
          <a:xfrm>
            <a:off x="539640" y="1700280"/>
            <a:ext cx="4411800" cy="3309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germanich-o\Desktop\Рисунок34.jpg"/>
          <p:cNvPicPr/>
          <p:nvPr/>
        </p:nvPicPr>
        <p:blipFill>
          <a:blip r:embed="rId2"/>
          <a:stretch/>
        </p:blipFill>
        <p:spPr>
          <a:xfrm>
            <a:off x="5076720" y="2133720"/>
            <a:ext cx="32702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8244"/>
          <p:cNvPicPr/>
          <p:nvPr/>
        </p:nvPicPr>
        <p:blipFill>
          <a:blip r:embed="rId1"/>
          <a:stretch/>
        </p:blipFill>
        <p:spPr>
          <a:xfrm>
            <a:off x="250920" y="907920"/>
            <a:ext cx="1973160" cy="1312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верхность подняли фрагменты истребителя «Як-7Б», оружие, парашют, личные вещи лётчика. Установить личность погибшего помогла заводская табличка с номером машины. Именно за тот последний бой приказом по 315-й дивизии от 15 июля 1943 года Семён Фадеев посмертно награждён орденом Красной Знамени. В день гибели, 12 июля, наш земляк совершил три боевых вылета. Во втором из них младший лейтенант сбил немецкий истребитель. Мы познакомились с родственниками Семена Фадеева и пригласили их в шк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IMG_2706"/>
          <p:cNvPicPr/>
          <p:nvPr/>
        </p:nvPicPr>
        <p:blipFill>
          <a:blip r:embed="rId2"/>
          <a:stretch/>
        </p:blipFill>
        <p:spPr>
          <a:xfrm>
            <a:off x="3132000" y="836640"/>
            <a:ext cx="1997280" cy="26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pic11277108"/>
          <p:cNvPicPr/>
          <p:nvPr/>
        </p:nvPicPr>
        <p:blipFill>
          <a:blip r:embed="rId3"/>
          <a:stretch/>
        </p:blipFill>
        <p:spPr>
          <a:xfrm>
            <a:off x="250920" y="2421000"/>
            <a:ext cx="2016000" cy="131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IMG_2704"/>
          <p:cNvPicPr/>
          <p:nvPr/>
        </p:nvPicPr>
        <p:blipFill>
          <a:blip r:embed="rId4"/>
          <a:stretch/>
        </p:blipFill>
        <p:spPr>
          <a:xfrm>
            <a:off x="2556000" y="3573360"/>
            <a:ext cx="1242720" cy="165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8255"/>
          <p:cNvPicPr/>
          <p:nvPr/>
        </p:nvPicPr>
        <p:blipFill>
          <a:blip r:embed="rId5"/>
          <a:stretch/>
        </p:blipFill>
        <p:spPr>
          <a:xfrm>
            <a:off x="250920" y="3860640"/>
            <a:ext cx="2103480" cy="136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yak7b-1"/>
          <p:cNvPicPr/>
          <p:nvPr/>
        </p:nvPicPr>
        <p:blipFill>
          <a:blip r:embed="rId6"/>
          <a:stretch/>
        </p:blipFill>
        <p:spPr>
          <a:xfrm>
            <a:off x="3924360" y="3789360"/>
            <a:ext cx="1893960" cy="1136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C:\Users\germanich-o\Desktop\Рисунок35.jpg"/>
          <p:cNvPicPr/>
          <p:nvPr/>
        </p:nvPicPr>
        <p:blipFill>
          <a:blip r:embed="rId7"/>
          <a:stretch/>
        </p:blipFill>
        <p:spPr>
          <a:xfrm>
            <a:off x="6084720" y="765000"/>
            <a:ext cx="2354400" cy="172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C:\Users\germanich-o\Desktop\Рисунок36.jpg"/>
          <p:cNvPicPr/>
          <p:nvPr/>
        </p:nvPicPr>
        <p:blipFill>
          <a:blip r:embed="rId8"/>
          <a:stretch/>
        </p:blipFill>
        <p:spPr>
          <a:xfrm>
            <a:off x="5867280" y="2997360"/>
            <a:ext cx="2833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стой год в нашей школе реализуется проект «Ветераны живут рядом», организаторами которого являются администрация МБОУ «Средняя школа № 35», руководитель школьного музея Охапкина Н.Н., член Партии Единая Россия Крашенинников И.Ю., член Городского Совета ветеранов, вдова Героя Советского Союза, Почетный ветеран Нижегородской области Конышева М.В., писатель- краевед Соловьев Н.А.  Участниками проекта являются ученики, родители, педаг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908000" y="692280"/>
            <a:ext cx="56962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вели большую исследовательскую работу, по материалам, собранным ребятами, были написаны статьи в нижегородских и дзержинских газет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C:\Users\germanich-o\Desktop\Рисунок37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мках проекта проводятся  два направления деятельности: «Ценности наших дедов и прадедов»    и «Мы – рядом!». Ученики школы принимают самое активное участие в прое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1763640" y="1052640"/>
            <a:ext cx="58881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эти шесть лет ветераны стали для нас очень близкими и родными людьми. Они самые дорогие гости на праздниках, посвященных Дню пожилого человек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ю Защитника Отечества, Новому году, 8 марта, Дню Поб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C:\Users\germanich-o\Desktop\Рисунок3.jpg"/>
          <p:cNvPicPr/>
          <p:nvPr/>
        </p:nvPicPr>
        <p:blipFill>
          <a:blip r:embed="rId1"/>
          <a:stretch/>
        </p:blipFill>
        <p:spPr>
          <a:xfrm>
            <a:off x="539640" y="90792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germanich-o\Desktop\Рисунок4.jpg"/>
          <p:cNvPicPr/>
          <p:nvPr/>
        </p:nvPicPr>
        <p:blipFill>
          <a:blip r:embed="rId2"/>
          <a:stretch/>
        </p:blipFill>
        <p:spPr>
          <a:xfrm>
            <a:off x="684360" y="3284640"/>
            <a:ext cx="277632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Users\germanich-o\Desktop\Рисунок5.jpg"/>
          <p:cNvPicPr/>
          <p:nvPr/>
        </p:nvPicPr>
        <p:blipFill>
          <a:blip r:embed="rId3"/>
          <a:stretch/>
        </p:blipFill>
        <p:spPr>
          <a:xfrm>
            <a:off x="3851280" y="1484280"/>
            <a:ext cx="4822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В гостях у ветерана тыла, вдовы Героя Советского Союза </a:t>
            </a:r>
            <a:br>
              <a:rPr sz="2000"/>
            </a:b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Конышевой Марии Васильевны.</a:t>
            </a:r>
            <a:br>
              <a:rPr sz="2000"/>
            </a:b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Поздравление с 90-летием. 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аны- люди преклонного возраста, многие из них болеют, плохо ходят. Им  очень нужно общение, часто они ждут нашего прихода, просто телефонного звонка. Им важно, чтобы о них помнили. Поэтому мы решили, что над каждым ветераном возьмут шефство ребя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619280" y="1557360"/>
            <a:ext cx="5933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Встреча с Марией Васильевной Конышевой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аждого ветерана своя неповторимая судьба. И нашей задачей было собрать материал для исследовательских работ о боевом и жизненном пути каждого ветерана. Ребята отсканировали фотографии, выполнили презентации и подарили их ветеранам. В нашей школе работает Зал Воинской славы, посвященный истории дзержинского аэроклуба им. Каманина Н.П. Многие из ветеранов нашего района были курсантами аэроклуба. Среди них – супруги Конышевы. Конышев Николай Сергеевич, начальник аэроклуба, Герой Советского Союза. Лётчик-истребитель. В октябре 1941 года зачислен в полк лёгких ночных бомбардировщиков. На самолёте ПО-2  пятьдесят раз вылетал на связь с партизанами в тыл врага. На истребителе ЯК-9 совершил 237 вылетов, участвовал в 41 воздушном бою, сбил 18 вражеских самолё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копия"/>
          <p:cNvPicPr/>
          <p:nvPr/>
        </p:nvPicPr>
        <p:blipFill>
          <a:blip r:embed="rId1"/>
          <a:stretch/>
        </p:blipFill>
        <p:spPr>
          <a:xfrm>
            <a:off x="2771640" y="1268280"/>
            <a:ext cx="192564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g276"/>
          <p:cNvPicPr/>
          <p:nvPr/>
        </p:nvPicPr>
        <p:blipFill>
          <a:blip r:embed="rId2"/>
          <a:stretch/>
        </p:blipFill>
        <p:spPr>
          <a:xfrm>
            <a:off x="4643280" y="1341360"/>
            <a:ext cx="192096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Users\germanich-o\Desktop\Рисунок7.jpg"/>
          <p:cNvPicPr/>
          <p:nvPr/>
        </p:nvPicPr>
        <p:blipFill>
          <a:blip r:embed="rId3"/>
          <a:stretch/>
        </p:blipFill>
        <p:spPr>
          <a:xfrm>
            <a:off x="324000" y="206064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:\Users\germanich-o\Desktop\Рисунок8.jpg"/>
          <p:cNvPicPr/>
          <p:nvPr/>
        </p:nvPicPr>
        <p:blipFill>
          <a:blip r:embed="rId4"/>
          <a:stretch/>
        </p:blipFill>
        <p:spPr>
          <a:xfrm>
            <a:off x="6583320" y="1844640"/>
            <a:ext cx="24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 апреля 2010 года исполнилось 92 года  замечательному  нашему земляку   Александру Дмитриевичу Потапову, который   более 20  лет возглавлял  городскую станцию юных техников. У него до сих пор, несмотря на преклонный возраст, любимая тема разговоров – о самолетах, приключениях в воздухе, военной службе. Он до сих  пор еще живет небом. В 1937 году Потапов А.Д. окончил дзержинский аэроклуб имени Н.П. Каманина. Служил летчиком-истребителем на Дальнем Востоке, затем на Сахалине. После войны Потапов А.Д. работал инструктором – обучал молодежь, вводил в боевой строй будущих летчиков. У Потапова А.Д. более четырех тысяч вылетов. Он освоил 17 типов самоле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В гостях у Потапова Александра Дмитриевича на дне его рождения. 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7" name="Picture 8" descr="IMG_2121"/>
          <p:cNvPicPr/>
          <p:nvPr/>
        </p:nvPicPr>
        <p:blipFill>
          <a:blip r:embed="rId1"/>
          <a:stretch/>
        </p:blipFill>
        <p:spPr>
          <a:xfrm>
            <a:off x="4859280" y="119700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IMG_2098"/>
          <p:cNvPicPr/>
          <p:nvPr/>
        </p:nvPicPr>
        <p:blipFill>
          <a:blip r:embed="rId2"/>
          <a:stretch/>
        </p:blipFill>
        <p:spPr>
          <a:xfrm>
            <a:off x="7596360" y="3213000"/>
            <a:ext cx="1241280" cy="16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MG_2107"/>
          <p:cNvPicPr/>
          <p:nvPr/>
        </p:nvPicPr>
        <p:blipFill>
          <a:blip r:embed="rId3"/>
          <a:stretch/>
        </p:blipFill>
        <p:spPr>
          <a:xfrm>
            <a:off x="4859280" y="32130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MG_2136"/>
          <p:cNvPicPr/>
          <p:nvPr/>
        </p:nvPicPr>
        <p:blipFill>
          <a:blip r:embed="rId4"/>
          <a:stretch/>
        </p:blipFill>
        <p:spPr>
          <a:xfrm>
            <a:off x="6372360" y="1197000"/>
            <a:ext cx="2557440" cy="180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germanich-o\Desktop\Рисунок9.jpg"/>
          <p:cNvPicPr/>
          <p:nvPr/>
        </p:nvPicPr>
        <p:blipFill>
          <a:blip r:embed="rId5"/>
          <a:stretch/>
        </p:blipFill>
        <p:spPr>
          <a:xfrm>
            <a:off x="468360" y="1484280"/>
            <a:ext cx="4303800" cy="32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522936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 1939 году Басов Н.М. окончил школу № 40 г. Дзержинска. В 1940 году он – курсант аэроклуба им. Каманина. В мае 1942 года, окончив курсы шифровальщиков, в составе 167-й танковой бригады, сформированной в городе Горьком, был направлен под Харьков на Юго-Западный фронт, в 13-й отдельный танковый корпус. Был ранен. Победу встретил во Владивостоке. Участвовал в войне с Японией. Награжден  2 Орденами Отечественной войны и меда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В гостях у Басова Николая Михайлович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Picture 6" descr="C:\Users\germanich-o\Desktop\Рисунок10.jpg"/>
          <p:cNvPicPr/>
          <p:nvPr/>
        </p:nvPicPr>
        <p:blipFill>
          <a:blip r:embed="rId1"/>
          <a:stretch/>
        </p:blipFill>
        <p:spPr>
          <a:xfrm>
            <a:off x="712800" y="1484280"/>
            <a:ext cx="421308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Users\germanich-o\Desktop\Рисунок11.jpg"/>
          <p:cNvPicPr/>
          <p:nvPr/>
        </p:nvPicPr>
        <p:blipFill>
          <a:blip r:embed="rId2"/>
          <a:stretch/>
        </p:blipFill>
        <p:spPr>
          <a:xfrm>
            <a:off x="5076720" y="1773360"/>
            <a:ext cx="3638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Александрова Валентина Иосифовна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530028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а Иосифовна занималась в аэроклубе им. Каманина. В мае 1944 года добровольцем ушла на фронт. Служила в 56 авиадивизии радиотелеграфисткой. Участвовала в освобождении Польши. Победу встретила в Германии. Среди ее наград Орден Отечественной войны, Медаль «За победу над Германией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За освобождение Польши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C:\Users\germanich-o\Desktop\Рисунок12.jpg"/>
          <p:cNvPicPr/>
          <p:nvPr/>
        </p:nvPicPr>
        <p:blipFill>
          <a:blip r:embed="rId1"/>
          <a:stretch/>
        </p:blipFill>
        <p:spPr>
          <a:xfrm>
            <a:off x="611280" y="1628640"/>
            <a:ext cx="4471920" cy="336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germanich-o\Desktop\Рисунок13.jpg"/>
          <p:cNvPicPr/>
          <p:nvPr/>
        </p:nvPicPr>
        <p:blipFill>
          <a:blip r:embed="rId2"/>
          <a:stretch/>
        </p:blipFill>
        <p:spPr>
          <a:xfrm>
            <a:off x="5219640" y="1989000"/>
            <a:ext cx="3648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4:29:06Z</dcterms:created>
  <dc:creator>Admin</dc:creator>
  <dc:description/>
  <dc:language>en-US</dc:language>
  <cp:lastModifiedBy>germanich-o</cp:lastModifiedBy>
  <dcterms:modified xsi:type="dcterms:W3CDTF">2015-04-17T16:50:47Z</dcterms:modified>
  <cp:revision>24</cp:revision>
  <dc:subject/>
  <dc:title>Кадеты - ветеранам</dc:title>
</cp:coreProperties>
</file>