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6.png" ContentType="image/png"/>
  <Override PartName="/ppt/media/image36.png" ContentType="image/png"/>
  <Override PartName="/ppt/media/image28.jpeg" ContentType="image/jpeg"/>
  <Override PartName="/ppt/media/image51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5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7754-054D-477A-B773-9D2278F8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809A-E7C9-4CFE-AE5A-7A710888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F40B-E021-486A-AB3A-B0157C5C8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72F6-9B48-4198-B3C3-3461050B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918D-C034-4B92-A8D9-AC7ED71A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5F42-50BF-475A-B7EE-6514D339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D8B7-1567-4F8A-BE55-32471AB6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341D-6CD0-43CD-B187-D04AE8E4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944C-4FE9-4A34-86E1-FBD84F62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D2DF-CB57-4822-8145-CA9994B6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9B86-B156-4A39-93D1-6B829C62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26F9-9035-4753-B4FC-FFF62A0B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9473-80F4-4813-B1B0-074AFD4A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66CE-2598-4424-AD0E-24E57A85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693B-AD74-4D82-86F2-99A48209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9BD9-48B7-4D32-99D1-5AB883F55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3B02-E22E-4BF7-8123-B8DD4D77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1722-1762-41B9-8608-A91FBB09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1E1C-305D-44A3-863C-9950E69D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11B4-FB4B-4E54-9F88-D4759CB8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C6C5-BE82-4C20-A8B8-5239899A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A67B-04F7-4756-856F-5C8FA5EC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F351-9632-4BB8-A15F-19028DB8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2E36-2BDA-44D1-BF43-14D8AB35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33CF-20F3-4F8F-A91E-B84624FC337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DBEA-9F8D-466F-80A7-19C6763A1DAE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image" Target="../media/image56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9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0000"/>
                </a:solidFill>
                <a:latin typeface="Times New Roman"/>
              </a:rPr>
              <a:t>Проект</a:t>
            </a:r>
            <a:br>
              <a:rPr sz="8000"/>
            </a:b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«Ветераны живут рядом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00360" y="4005360"/>
            <a:ext cx="388764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 музея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хапкина Надежда Николаевна, учитель ИЗ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Средняя школа № 35» г.Дзержинска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55162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одился 24 марта 1923 года в селе Навля Орловской области.  С августа 1943 служил разведчиком в 446 стрелковом полку. После ранения с 1944 года служил в артиллерии наводчиком на «Катюше». Войну встретил в Германии.  Награжден 20 медалями. В том числе: «За Отвагу», «За взятие Берлина», «За освобождение Варшавы», «За победу над Германией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IMG_2241"/>
          <p:cNvPicPr/>
          <p:nvPr/>
        </p:nvPicPr>
        <p:blipFill>
          <a:blip r:embed="rId1"/>
          <a:stretch/>
        </p:blipFill>
        <p:spPr>
          <a:xfrm>
            <a:off x="5076720" y="1628640"/>
            <a:ext cx="2319480" cy="16639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7"/>
          <p:cNvSpPr/>
          <p:nvPr/>
        </p:nvSpPr>
        <p:spPr>
          <a:xfrm>
            <a:off x="2050920" y="981000"/>
            <a:ext cx="42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00"/>
                </a:solidFill>
                <a:latin typeface="Times New Roman"/>
              </a:rPr>
              <a:t>Полехин Михаил Михайлови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8" descr="IMG_2251"/>
          <p:cNvPicPr/>
          <p:nvPr/>
        </p:nvPicPr>
        <p:blipFill>
          <a:blip r:embed="rId2"/>
          <a:stretch/>
        </p:blipFill>
        <p:spPr>
          <a:xfrm>
            <a:off x="7451640" y="2421000"/>
            <a:ext cx="1565280" cy="2087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C:\Users\germanich-o\Desktop\Рисунок14.jpg"/>
          <p:cNvPicPr/>
          <p:nvPr/>
        </p:nvPicPr>
        <p:blipFill>
          <a:blip r:embed="rId3"/>
          <a:stretch/>
        </p:blipFill>
        <p:spPr>
          <a:xfrm>
            <a:off x="468360" y="1989000"/>
            <a:ext cx="4213080" cy="3168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C:\Users\germanich-o\Desktop\Рисунок15.jpg"/>
          <p:cNvPicPr/>
          <p:nvPr/>
        </p:nvPicPr>
        <p:blipFill>
          <a:blip r:embed="rId4"/>
          <a:stretch/>
        </p:blipFill>
        <p:spPr>
          <a:xfrm>
            <a:off x="5148360" y="3645000"/>
            <a:ext cx="223992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00"/>
                </a:solidFill>
                <a:latin typeface="Times New Roman"/>
              </a:rPr>
              <a:t>Шульпины  Юрий Константинович и Римма Ивановна</a:t>
            </a:r>
            <a:br>
              <a:rPr sz="2400"/>
            </a:br>
            <a:endParaRPr b="0" lang="en-US" sz="2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566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 окончания Горьковского зенитно-артиллерийского училища Юрий Константинович был  направлен в 72 Краснознаменную бригаду противовоздушной обороны под Ленинград. Победу встретил в Кенигсберге. После войны 30 лет служил в зенитно-ракетных войсках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IMG_2270"/>
          <p:cNvPicPr/>
          <p:nvPr/>
        </p:nvPicPr>
        <p:blipFill>
          <a:blip r:embed="rId1"/>
          <a:stretch/>
        </p:blipFill>
        <p:spPr>
          <a:xfrm>
            <a:off x="5219640" y="1125360"/>
            <a:ext cx="2521080" cy="1889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IMG_2274"/>
          <p:cNvPicPr/>
          <p:nvPr/>
        </p:nvPicPr>
        <p:blipFill>
          <a:blip r:embed="rId2"/>
          <a:stretch/>
        </p:blipFill>
        <p:spPr>
          <a:xfrm>
            <a:off x="5003640" y="2997360"/>
            <a:ext cx="3294360" cy="2471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C:\Users\germanich-o\Desktop\Рисунок16.jpg"/>
          <p:cNvPicPr/>
          <p:nvPr/>
        </p:nvPicPr>
        <p:blipFill>
          <a:blip r:embed="rId3"/>
          <a:stretch/>
        </p:blipFill>
        <p:spPr>
          <a:xfrm>
            <a:off x="1116000" y="1125360"/>
            <a:ext cx="3014640" cy="2260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C:\Users\germanich-o\Desktop\Рисунок17.jpg"/>
          <p:cNvPicPr/>
          <p:nvPr/>
        </p:nvPicPr>
        <p:blipFill>
          <a:blip r:embed="rId4"/>
          <a:stretch/>
        </p:blipFill>
        <p:spPr>
          <a:xfrm>
            <a:off x="1332000" y="3500280"/>
            <a:ext cx="274320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00"/>
                </a:solidFill>
                <a:latin typeface="Times New Roman"/>
              </a:rPr>
              <a:t>Смирнов Николай Алексеевич </a:t>
            </a:r>
            <a:br>
              <a:rPr sz="2000"/>
            </a:br>
            <a:endParaRPr b="0" lang="en-US" sz="2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5444640"/>
            <a:ext cx="82915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мирнов Николай Алексеевич Воевал под Москвой, в обороне стоял до марта 1943 года.  В 1944 году ему вручили Орден Красной Звезды за освобождение Смоленска. Затем в 1945 за освобождение Белоруссии получил второй Орден  Красной Звезд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ще были медаль «За Отвагу» и «За Победу над Германией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7" descr="IMG_2409"/>
          <p:cNvPicPr/>
          <p:nvPr/>
        </p:nvPicPr>
        <p:blipFill>
          <a:blip r:embed="rId1"/>
          <a:stretch/>
        </p:blipFill>
        <p:spPr>
          <a:xfrm>
            <a:off x="5867280" y="3357720"/>
            <a:ext cx="2536920" cy="1901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C:\Users\germanich-o\Desktop\Рисунок18.jpg"/>
          <p:cNvPicPr/>
          <p:nvPr/>
        </p:nvPicPr>
        <p:blipFill>
          <a:blip r:embed="rId2"/>
          <a:stretch/>
        </p:blipFill>
        <p:spPr>
          <a:xfrm>
            <a:off x="755640" y="1628640"/>
            <a:ext cx="4351320" cy="3264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C:\Users\germanich-o\Desktop\Рисунок19.jpg"/>
          <p:cNvPicPr/>
          <p:nvPr/>
        </p:nvPicPr>
        <p:blipFill>
          <a:blip r:embed="rId3"/>
          <a:stretch/>
        </p:blipFill>
        <p:spPr>
          <a:xfrm>
            <a:off x="5940360" y="1268280"/>
            <a:ext cx="249552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00"/>
                </a:solidFill>
                <a:latin typeface="Times New Roman"/>
              </a:rPr>
              <a:t>Денежкина Евдокия Кузьминична</a:t>
            </a:r>
            <a:br>
              <a:rPr sz="2000"/>
            </a:br>
            <a:endParaRPr b="0" lang="en-US" sz="2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5732280"/>
            <a:ext cx="83628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1941 году окончила медицинскую школу. С 1942 года – на 1 Украинском фронте. Служила медсестрой в эвакогоспитал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 войны Евдокия Кузьминична работала в детской больниц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5" descr="IMG_2445"/>
          <p:cNvPicPr/>
          <p:nvPr/>
        </p:nvPicPr>
        <p:blipFill>
          <a:blip r:embed="rId1"/>
          <a:stretch/>
        </p:blipFill>
        <p:spPr>
          <a:xfrm>
            <a:off x="7253280" y="3284640"/>
            <a:ext cx="1674720" cy="2232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IMG_2458"/>
          <p:cNvPicPr/>
          <p:nvPr/>
        </p:nvPicPr>
        <p:blipFill>
          <a:blip r:embed="rId2"/>
          <a:stretch/>
        </p:blipFill>
        <p:spPr>
          <a:xfrm>
            <a:off x="6012000" y="1413000"/>
            <a:ext cx="2162160" cy="1622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IMG_2481"/>
          <p:cNvPicPr/>
          <p:nvPr/>
        </p:nvPicPr>
        <p:blipFill>
          <a:blip r:embed="rId3"/>
          <a:stretch/>
        </p:blipFill>
        <p:spPr>
          <a:xfrm>
            <a:off x="5435640" y="3357720"/>
            <a:ext cx="1620720" cy="2160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C:\Users\germanich-o\Desktop\Рисунок20.jpg"/>
          <p:cNvPicPr/>
          <p:nvPr/>
        </p:nvPicPr>
        <p:blipFill>
          <a:blip r:embed="rId4"/>
          <a:stretch/>
        </p:blipFill>
        <p:spPr>
          <a:xfrm>
            <a:off x="755640" y="1844640"/>
            <a:ext cx="442584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00"/>
                </a:solidFill>
                <a:latin typeface="Times New Roman"/>
              </a:rPr>
              <a:t>Опарин Михаил Михайлович</a:t>
            </a:r>
            <a:br>
              <a:rPr sz="2000"/>
            </a:br>
            <a:endParaRPr b="0" lang="en-US" sz="2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8920" y="4724280"/>
            <a:ext cx="87138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1939 году призван в ряды Красной Армии. В 1941 году направлен на фронт – в Среднюю Азию. Служил связистом-разведчиком в разведроте. Участник Сталинградской битвы. Имеет 17 наград. Его жена Модина Тося,  выпускница Дзержинского аэроклуба им. Каманина, добровольцем ушла на фронт. В 1942 году под Сталинградом вылетала на ночное бомбометание. Войну закончила в Праге в звании гвардии лейтенанта. В числе ее наград Орден Красной Звезды, медали «За оборону Сталинграда», «За освобождение Праги», «За оборону Ленинграда», «За победу над Германией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6" descr="C:\Users\germanich-o\Desktop\Рисунок21.jpg"/>
          <p:cNvPicPr/>
          <p:nvPr/>
        </p:nvPicPr>
        <p:blipFill>
          <a:blip r:embed="rId1"/>
          <a:stretch/>
        </p:blipFill>
        <p:spPr>
          <a:xfrm>
            <a:off x="826920" y="1413000"/>
            <a:ext cx="4181760" cy="3135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C:\Users\germanich-o\Desktop\Рисунок22.png"/>
          <p:cNvPicPr/>
          <p:nvPr/>
        </p:nvPicPr>
        <p:blipFill>
          <a:blip r:embed="rId2"/>
          <a:stretch/>
        </p:blipFill>
        <p:spPr>
          <a:xfrm>
            <a:off x="5867280" y="1197000"/>
            <a:ext cx="245916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00"/>
                </a:solidFill>
                <a:latin typeface="Times New Roman"/>
              </a:rPr>
              <a:t>Кузнецовы Алексей Филиппович и Татьяна Евтихиевна</a:t>
            </a:r>
            <a:endParaRPr b="0" lang="en-US" sz="2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55893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лексей Филиппович  в должности начальника связи полка воевал на фронтах Великой Отечественной войны. 3 раза был ранен. Награждён: двумя Орденами Отечественной войны 1 степени, двумя Орденами Отечественной войны 2 степени, Орденом Красной Звезды, медалью за оборону Сталинграда. Татьяна Евтихиевна перед войной окончила 2-х годичную школу медсестер. В 1942 году была призвана на фронт в г. Корчь в эвакогоспиталь 4547 старшей медсестрой. Войну закончила в Восточной Пруссии. Награждена орденом Красной звезды и медалям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9" descr="C:\Users\germanich-o\Desktop\Рисунок23.jpg"/>
          <p:cNvPicPr/>
          <p:nvPr/>
        </p:nvPicPr>
        <p:blipFill>
          <a:blip r:embed="rId1"/>
          <a:stretch/>
        </p:blipFill>
        <p:spPr>
          <a:xfrm>
            <a:off x="900000" y="148428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C:\Users\germanich-o\Desktop\Рисунок24.jpg"/>
          <p:cNvPicPr/>
          <p:nvPr/>
        </p:nvPicPr>
        <p:blipFill>
          <a:blip r:embed="rId2"/>
          <a:stretch/>
        </p:blipFill>
        <p:spPr>
          <a:xfrm>
            <a:off x="3708360" y="1989000"/>
            <a:ext cx="1828800" cy="2776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C:\Users\germanich-o\Desktop\Рисунок25.jpg"/>
          <p:cNvPicPr/>
          <p:nvPr/>
        </p:nvPicPr>
        <p:blipFill>
          <a:blip r:embed="rId3"/>
          <a:stretch/>
        </p:blipFill>
        <p:spPr>
          <a:xfrm>
            <a:off x="395280" y="3500280"/>
            <a:ext cx="2967120" cy="2016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C:\Users\germanich-o\Desktop\Рисунок26.jpg"/>
          <p:cNvPicPr/>
          <p:nvPr/>
        </p:nvPicPr>
        <p:blipFill>
          <a:blip r:embed="rId4"/>
          <a:stretch/>
        </p:blipFill>
        <p:spPr>
          <a:xfrm>
            <a:off x="5940360" y="1125360"/>
            <a:ext cx="2874960" cy="2156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C:\Users\germanich-o\Desktop\Рисунок27.jpg"/>
          <p:cNvPicPr/>
          <p:nvPr/>
        </p:nvPicPr>
        <p:blipFill>
          <a:blip r:embed="rId5"/>
          <a:stretch/>
        </p:blipFill>
        <p:spPr>
          <a:xfrm>
            <a:off x="6227640" y="3500280"/>
            <a:ext cx="24321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00"/>
                </a:solidFill>
                <a:latin typeface="Times New Roman"/>
              </a:rPr>
              <a:t>Мухина Евгения Николаевна и Шепелева Зинаида Эдуардовна</a:t>
            </a:r>
            <a:endParaRPr b="0" lang="en-US" sz="2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5516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ти Смоленщины. Находились в немецкой оккупации. В 1942 году были эвакуированы из Смоленской области. 390 детей приехали в наш город. Работали на Заводстрое. За ударный труд Зинаида Эдуардовна награждена Орденом Ленин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7" descr="C:\Users\germanich-o\Desktop\Рисунок28.jpg"/>
          <p:cNvPicPr/>
          <p:nvPr/>
        </p:nvPicPr>
        <p:blipFill>
          <a:blip r:embed="rId1"/>
          <a:stretch/>
        </p:blipFill>
        <p:spPr>
          <a:xfrm>
            <a:off x="755640" y="1700280"/>
            <a:ext cx="4219560" cy="3165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C:\Users\germanich-o\Desktop\Рисунок29.jpg"/>
          <p:cNvPicPr/>
          <p:nvPr/>
        </p:nvPicPr>
        <p:blipFill>
          <a:blip r:embed="rId2"/>
          <a:stretch/>
        </p:blipFill>
        <p:spPr>
          <a:xfrm>
            <a:off x="5435640" y="2060640"/>
            <a:ext cx="3448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0000"/>
                </a:solidFill>
                <a:latin typeface="Times New Roman"/>
              </a:rPr>
              <a:t>Загвоздина Лидия Ивановна</a:t>
            </a:r>
            <a:endParaRPr b="0" lang="en-US" sz="2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теран труда. В 1941 году ее избрали  секретарём комсомольской  организации завода «Корунд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ю жизнь проработала на заводе, награждена медалями за ударный труд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давно мы поздравили ее с 90-летие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8" descr="C:\Users\germanich-o\Desktop\Рисунок30.jpg"/>
          <p:cNvPicPr/>
          <p:nvPr/>
        </p:nvPicPr>
        <p:blipFill>
          <a:blip r:embed="rId1"/>
          <a:stretch/>
        </p:blipFill>
        <p:spPr>
          <a:xfrm>
            <a:off x="611280" y="1484280"/>
            <a:ext cx="4500360" cy="3384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C:\Users\germanich-o\Desktop\Рисунок31.jpg"/>
          <p:cNvPicPr/>
          <p:nvPr/>
        </p:nvPicPr>
        <p:blipFill>
          <a:blip r:embed="rId2"/>
          <a:stretch/>
        </p:blipFill>
        <p:spPr>
          <a:xfrm>
            <a:off x="5867280" y="1413000"/>
            <a:ext cx="2384640" cy="1593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C:\Users\germanich-o\Desktop\Рисунок32.jpg"/>
          <p:cNvPicPr/>
          <p:nvPr/>
        </p:nvPicPr>
        <p:blipFill>
          <a:blip r:embed="rId3"/>
          <a:stretch/>
        </p:blipFill>
        <p:spPr>
          <a:xfrm>
            <a:off x="5651640" y="3213000"/>
            <a:ext cx="29764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9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0000"/>
                </a:solidFill>
                <a:latin typeface="Times New Roman"/>
              </a:rPr>
              <a:t>Траурный митинг. Захоронение останков летчика Фадеева Семена.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544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ывший курсант дзержинского аэроклуба младший лейтенант Семён Фадеев воевал в 431-м истребительном авиаполку 315-й истребительной авиадивизии, 15-й воздушной армии. С 13 июля 1943 года числился пропавшим без вести. Спустя 67 лет его останки вместе с обломками самолёта, на котором он воевал, следопыты нашли на территории Орловской области вблизи деревни Стрельниково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6" descr="C:\Users\germanich-o\Desktop\Рисунок33.jpg"/>
          <p:cNvPicPr/>
          <p:nvPr/>
        </p:nvPicPr>
        <p:blipFill>
          <a:blip r:embed="rId1"/>
          <a:stretch/>
        </p:blipFill>
        <p:spPr>
          <a:xfrm>
            <a:off x="539640" y="1700280"/>
            <a:ext cx="4411800" cy="3309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C:\Users\germanich-o\Desktop\Рисунок34.jpg"/>
          <p:cNvPicPr/>
          <p:nvPr/>
        </p:nvPicPr>
        <p:blipFill>
          <a:blip r:embed="rId2"/>
          <a:stretch/>
        </p:blipFill>
        <p:spPr>
          <a:xfrm>
            <a:off x="5076720" y="2133720"/>
            <a:ext cx="327024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8244"/>
          <p:cNvPicPr/>
          <p:nvPr/>
        </p:nvPicPr>
        <p:blipFill>
          <a:blip r:embed="rId1"/>
          <a:stretch/>
        </p:blipFill>
        <p:spPr>
          <a:xfrm>
            <a:off x="250920" y="907920"/>
            <a:ext cx="1973160" cy="1312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530028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992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поверхность подняли фрагменты истребителя «Як-7Б», оружие, парашют, личные вещи лётчика. Установить личность погибшего помогла заводская табличка с номером машины. Именно за тот последний бой приказом по 315-й дивизии от 15 июля 1943 года Семён Фадеев посмертно награждён орденом Красной Знамени. В день гибели, 12 июля, наш земляк совершил три боевых вылета. Во втором из них младший лейтенант сбил немецкий истребитель. Мы познакомились с родственниками Семена Фадеева и пригласили их в школ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3" descr="IMG_2706"/>
          <p:cNvPicPr/>
          <p:nvPr/>
        </p:nvPicPr>
        <p:blipFill>
          <a:blip r:embed="rId2"/>
          <a:stretch/>
        </p:blipFill>
        <p:spPr>
          <a:xfrm>
            <a:off x="3132000" y="836640"/>
            <a:ext cx="1997280" cy="2663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pic11277108"/>
          <p:cNvPicPr/>
          <p:nvPr/>
        </p:nvPicPr>
        <p:blipFill>
          <a:blip r:embed="rId3"/>
          <a:stretch/>
        </p:blipFill>
        <p:spPr>
          <a:xfrm>
            <a:off x="250920" y="2421000"/>
            <a:ext cx="2016000" cy="1315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IMG_2704"/>
          <p:cNvPicPr/>
          <p:nvPr/>
        </p:nvPicPr>
        <p:blipFill>
          <a:blip r:embed="rId4"/>
          <a:stretch/>
        </p:blipFill>
        <p:spPr>
          <a:xfrm>
            <a:off x="2556000" y="3573360"/>
            <a:ext cx="1242720" cy="1657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8255"/>
          <p:cNvPicPr/>
          <p:nvPr/>
        </p:nvPicPr>
        <p:blipFill>
          <a:blip r:embed="rId5"/>
          <a:stretch/>
        </p:blipFill>
        <p:spPr>
          <a:xfrm>
            <a:off x="250920" y="3860640"/>
            <a:ext cx="2103480" cy="1368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yak7b-1"/>
          <p:cNvPicPr/>
          <p:nvPr/>
        </p:nvPicPr>
        <p:blipFill>
          <a:blip r:embed="rId6"/>
          <a:stretch/>
        </p:blipFill>
        <p:spPr>
          <a:xfrm>
            <a:off x="3924360" y="3789360"/>
            <a:ext cx="1893960" cy="1136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C:\Users\germanich-o\Desktop\Рисунок35.jpg"/>
          <p:cNvPicPr/>
          <p:nvPr/>
        </p:nvPicPr>
        <p:blipFill>
          <a:blip r:embed="rId7"/>
          <a:stretch/>
        </p:blipFill>
        <p:spPr>
          <a:xfrm>
            <a:off x="6084720" y="765000"/>
            <a:ext cx="2354400" cy="1727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C:\Users\germanich-o\Desktop\Рисунок36.jpg"/>
          <p:cNvPicPr/>
          <p:nvPr/>
        </p:nvPicPr>
        <p:blipFill>
          <a:blip r:embed="rId8"/>
          <a:stretch/>
        </p:blipFill>
        <p:spPr>
          <a:xfrm>
            <a:off x="5867280" y="2997360"/>
            <a:ext cx="283392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515772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естой год в нашей школе реализуется проект «Ветераны живут рядом», организаторами которого являются администрация МБОУ «Средняя школа № 35», руководитель школьного музея Охапкина Н.Н., член Партии Единая Россия Крашенинников И.Ю., член Городского Совета ветеранов, вдова Героя Советского Союза, Почетный ветеран Нижегородской области Конышева М.В., писатель- краевед Соловьев Н.А.  Участниками проекта являются ученики, родители, педагог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C:\Users\germanich-o\Desktop\Рисунок1.jpg"/>
          <p:cNvPicPr/>
          <p:nvPr/>
        </p:nvPicPr>
        <p:blipFill>
          <a:blip r:embed="rId1"/>
          <a:stretch/>
        </p:blipFill>
        <p:spPr>
          <a:xfrm>
            <a:off x="1908000" y="692280"/>
            <a:ext cx="569628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573408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ы провели большую исследовательскую работу, по материалам, собранным ребятами, были написаны статьи в нижегородских и дзержинских газетах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4" descr="C:\Users\germanich-o\Desktop\Рисунок37.jpg"/>
          <p:cNvPicPr/>
          <p:nvPr/>
        </p:nvPicPr>
        <p:blipFill>
          <a:blip r:embed="rId1"/>
          <a:stretch/>
        </p:blipFill>
        <p:spPr>
          <a:xfrm>
            <a:off x="1835280" y="1052640"/>
            <a:ext cx="5761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580536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94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амках проекта проводятся  два направления деятельности: «Ценности наших дедов и прадедов»    и «Мы – рядом!». Ученики школы принимают самое активное участие в проект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C:\Users\germanich-o\Desktop\Рисунок2.jpg"/>
          <p:cNvPicPr/>
          <p:nvPr/>
        </p:nvPicPr>
        <p:blipFill>
          <a:blip r:embed="rId1"/>
          <a:stretch/>
        </p:blipFill>
        <p:spPr>
          <a:xfrm>
            <a:off x="1763640" y="1052640"/>
            <a:ext cx="588816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5805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 эти шесть лет ветераны стали для нас очень близкими и родными людьми. Они самые дорогие гости на праздниках, посвященных Дню пожилого человека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ню Защитника Отечества, Новому году, 8 марта, Дню Побед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6" descr="C:\Users\germanich-o\Desktop\Рисунок3.jpg"/>
          <p:cNvPicPr/>
          <p:nvPr/>
        </p:nvPicPr>
        <p:blipFill>
          <a:blip r:embed="rId1"/>
          <a:stretch/>
        </p:blipFill>
        <p:spPr>
          <a:xfrm>
            <a:off x="539640" y="90792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C:\Users\germanich-o\Desktop\Рисунок4.jpg"/>
          <p:cNvPicPr/>
          <p:nvPr/>
        </p:nvPicPr>
        <p:blipFill>
          <a:blip r:embed="rId2"/>
          <a:stretch/>
        </p:blipFill>
        <p:spPr>
          <a:xfrm>
            <a:off x="684360" y="3284640"/>
            <a:ext cx="2776320" cy="2089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C:\Users\germanich-o\Desktop\Рисунок5.jpg"/>
          <p:cNvPicPr/>
          <p:nvPr/>
        </p:nvPicPr>
        <p:blipFill>
          <a:blip r:embed="rId3"/>
          <a:stretch/>
        </p:blipFill>
        <p:spPr>
          <a:xfrm>
            <a:off x="3851280" y="1484280"/>
            <a:ext cx="482292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0000"/>
                </a:solidFill>
                <a:latin typeface="Times New Roman"/>
              </a:rPr>
              <a:t>В гостях у ветерана тыла, вдовы Героя Советского Союза </a:t>
            </a:r>
            <a:br>
              <a:rPr sz="2000"/>
            </a:br>
            <a:r>
              <a:rPr b="0" lang="ru-RU" sz="2000" spc="-1" strike="noStrike">
                <a:solidFill>
                  <a:srgbClr val="420000"/>
                </a:solidFill>
                <a:latin typeface="Times New Roman"/>
              </a:rPr>
              <a:t>Конышевой Марии Васильевны.</a:t>
            </a:r>
            <a:br>
              <a:rPr sz="2000"/>
            </a:br>
            <a:r>
              <a:rPr b="0" lang="ru-RU" sz="2000" spc="-1" strike="noStrike">
                <a:solidFill>
                  <a:srgbClr val="420000"/>
                </a:solidFill>
                <a:latin typeface="Times New Roman"/>
              </a:rPr>
              <a:t>Поздравление с 90-летием. </a:t>
            </a:r>
            <a:endParaRPr b="0" lang="en-US" sz="2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55897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94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тераны- люди преклонного возраста, многие из них болеют, плохо ходят. Им  очень нужно общение, часто они ждут нашего прихода, просто телефонного звонка. Им важно, чтобы о них помнили. Поэтому мы решили, что над каждым ветераном возьмут шефство ребят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5" descr="C:\Users\germanich-o\Desktop\Рисунок6.png"/>
          <p:cNvPicPr/>
          <p:nvPr/>
        </p:nvPicPr>
        <p:blipFill>
          <a:blip r:embed="rId1"/>
          <a:stretch/>
        </p:blipFill>
        <p:spPr>
          <a:xfrm>
            <a:off x="1619280" y="1557360"/>
            <a:ext cx="59338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00"/>
                </a:solidFill>
                <a:latin typeface="Times New Roman"/>
              </a:rPr>
              <a:t>Встреча с Марией Васильевной Конышевой</a:t>
            </a:r>
            <a:endParaRPr b="0" lang="en-US" sz="2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43700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 каждого ветерана своя неповторимая судьба. И нашей задачей было собрать материал для исследовательских работ о боевом и жизненном пути каждого ветерана. Ребята отсканировали фотографии, выполнили презентации и подарили их ветеранам. В нашей школе работает Зал Воинской славы, посвященный истории дзержинского аэроклуба им. Каманина Н.П. Многие из ветеранов нашего района были курсантами аэроклуба. Среди них – супруги Конышевы. Конышев Николай Сергеевич, начальник аэроклуба, Герой Советского Союза. Лётчик-истребитель. В октябре 1941 года зачислен в полк лёгких ночных бомбардировщиков. На самолёте ПО-2  пятьдесят раз вылетал на связь с партизанами в тыл врага. На истребителе ЯК-9 совершил 237 вылетов, участвовал в 41 воздушном бою, сбил 18 вражеских самолётов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7" descr="копия"/>
          <p:cNvPicPr/>
          <p:nvPr/>
        </p:nvPicPr>
        <p:blipFill>
          <a:blip r:embed="rId1"/>
          <a:stretch/>
        </p:blipFill>
        <p:spPr>
          <a:xfrm>
            <a:off x="2771640" y="1268280"/>
            <a:ext cx="1925640" cy="2880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img276"/>
          <p:cNvPicPr/>
          <p:nvPr/>
        </p:nvPicPr>
        <p:blipFill>
          <a:blip r:embed="rId2"/>
          <a:stretch/>
        </p:blipFill>
        <p:spPr>
          <a:xfrm>
            <a:off x="4643280" y="1341360"/>
            <a:ext cx="192096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C:\Users\germanich-o\Desktop\Рисунок7.jpg"/>
          <p:cNvPicPr/>
          <p:nvPr/>
        </p:nvPicPr>
        <p:blipFill>
          <a:blip r:embed="rId3"/>
          <a:stretch/>
        </p:blipFill>
        <p:spPr>
          <a:xfrm>
            <a:off x="324000" y="2060640"/>
            <a:ext cx="2447640" cy="1638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C:\Users\germanich-o\Desktop\Рисунок8.jpg"/>
          <p:cNvPicPr/>
          <p:nvPr/>
        </p:nvPicPr>
        <p:blipFill>
          <a:blip r:embed="rId4"/>
          <a:stretch/>
        </p:blipFill>
        <p:spPr>
          <a:xfrm>
            <a:off x="6583320" y="1844640"/>
            <a:ext cx="24336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494172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0 апреля 2010 года исполнилось 92 года  замечательному  нашему земляку   Александру Дмитриевичу Потапову, который   более 20  лет возглавлял  городскую станцию юных техников. У него до сих пор, несмотря на преклонный возраст, любимая тема разговоров – о самолетах, приключениях в воздухе, военной службе. Он до сих  пор еще живет небом. В 1937 году Потапов А.Д. окончил дзержинский аэроклуб имени Н.П. Каманина. Служил летчиком-истребителем на Дальнем Востоке, затем на Сахалине. После войны Потапов А.Д. работал инструктором – обучал молодежь, вводил в боевой строй будущих летчиков. У Потапова А.Д. более четырех тысяч вылетов. Он освоил 17 типов самолетов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9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00"/>
                </a:solidFill>
                <a:latin typeface="Times New Roman"/>
              </a:rPr>
              <a:t>В гостях у Потапова Александра Дмитриевича на дне его рождения. </a:t>
            </a:r>
            <a:endParaRPr b="0" lang="en-US" sz="2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17" name="Picture 8" descr="IMG_2121"/>
          <p:cNvPicPr/>
          <p:nvPr/>
        </p:nvPicPr>
        <p:blipFill>
          <a:blip r:embed="rId1"/>
          <a:stretch/>
        </p:blipFill>
        <p:spPr>
          <a:xfrm>
            <a:off x="4859280" y="1197000"/>
            <a:ext cx="1405080" cy="187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IMG_2098"/>
          <p:cNvPicPr/>
          <p:nvPr/>
        </p:nvPicPr>
        <p:blipFill>
          <a:blip r:embed="rId2"/>
          <a:stretch/>
        </p:blipFill>
        <p:spPr>
          <a:xfrm>
            <a:off x="7596360" y="3213000"/>
            <a:ext cx="1241280" cy="1656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IMG_2107"/>
          <p:cNvPicPr/>
          <p:nvPr/>
        </p:nvPicPr>
        <p:blipFill>
          <a:blip r:embed="rId3"/>
          <a:stretch/>
        </p:blipFill>
        <p:spPr>
          <a:xfrm>
            <a:off x="4859280" y="3213000"/>
            <a:ext cx="2324160" cy="1743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IMG_2136"/>
          <p:cNvPicPr/>
          <p:nvPr/>
        </p:nvPicPr>
        <p:blipFill>
          <a:blip r:embed="rId4"/>
          <a:stretch/>
        </p:blipFill>
        <p:spPr>
          <a:xfrm>
            <a:off x="6372360" y="1197000"/>
            <a:ext cx="2557440" cy="1808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C:\Users\germanich-o\Desktop\Рисунок9.jpg"/>
          <p:cNvPicPr/>
          <p:nvPr/>
        </p:nvPicPr>
        <p:blipFill>
          <a:blip r:embed="rId5"/>
          <a:stretch/>
        </p:blipFill>
        <p:spPr>
          <a:xfrm>
            <a:off x="468360" y="1484280"/>
            <a:ext cx="4303800" cy="323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000" y="5229360"/>
            <a:ext cx="821844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 1939 году Басов Н.М. окончил школу № 40 г. Дзержинска. В 1940 году он – курсант аэроклуба им. Каманина. В мае 1942 года, окончив курсы шифровальщиков, в составе 167-й танковой бригады, сформированной в городе Горьком, был направлен под Харьков на Юго-Западный фронт, в 13-й отдельный танковый корпус. Был ранен. Победу встретил во Владивостоке. Участвовал в войне с Японией. Награжден  2 Орденами Отечественной войны и медаля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44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0000"/>
                </a:solidFill>
                <a:latin typeface="Times New Roman"/>
              </a:rPr>
              <a:t>В гостях у Басова Николая Михайловича</a:t>
            </a:r>
            <a:endParaRPr b="0" lang="en-US" sz="2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4" name="Picture 6" descr="C:\Users\germanich-o\Desktop\Рисунок10.jpg"/>
          <p:cNvPicPr/>
          <p:nvPr/>
        </p:nvPicPr>
        <p:blipFill>
          <a:blip r:embed="rId1"/>
          <a:stretch/>
        </p:blipFill>
        <p:spPr>
          <a:xfrm>
            <a:off x="712800" y="1484280"/>
            <a:ext cx="4213080" cy="316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C:\Users\germanich-o\Desktop\Рисунок11.jpg"/>
          <p:cNvPicPr/>
          <p:nvPr/>
        </p:nvPicPr>
        <p:blipFill>
          <a:blip r:embed="rId2"/>
          <a:stretch/>
        </p:blipFill>
        <p:spPr>
          <a:xfrm>
            <a:off x="5076720" y="1773360"/>
            <a:ext cx="36385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00"/>
                </a:solidFill>
                <a:latin typeface="Times New Roman"/>
              </a:rPr>
              <a:t>Александрова Валентина Иосифовна</a:t>
            </a:r>
            <a:br>
              <a:rPr sz="2000"/>
            </a:br>
            <a:endParaRPr b="0" lang="en-US" sz="2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5300280"/>
            <a:ext cx="88567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лександра Иосифовна занималась в аэроклубе им. Каманина. В мае 1944 года добровольцем ушла на фронт. Служила в 56 авиадивизии радиотелеграфисткой. Участвовала в освобождении Польши. Победу встретила в Германии. Среди ее наград Орден Отечественной войны, Медаль «За победу над Германией»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За освобождение Польши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6" descr="C:\Users\germanich-o\Desktop\Рисунок12.jpg"/>
          <p:cNvPicPr/>
          <p:nvPr/>
        </p:nvPicPr>
        <p:blipFill>
          <a:blip r:embed="rId1"/>
          <a:stretch/>
        </p:blipFill>
        <p:spPr>
          <a:xfrm>
            <a:off x="611280" y="1628640"/>
            <a:ext cx="4471920" cy="3362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C:\Users\germanich-o\Desktop\Рисунок13.jpg"/>
          <p:cNvPicPr/>
          <p:nvPr/>
        </p:nvPicPr>
        <p:blipFill>
          <a:blip r:embed="rId2"/>
          <a:stretch/>
        </p:blipFill>
        <p:spPr>
          <a:xfrm>
            <a:off x="5219640" y="1989000"/>
            <a:ext cx="36482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4T14:29:06Z</dcterms:created>
  <dc:creator>Admin</dc:creator>
  <dc:description/>
  <dc:language>en-US</dc:language>
  <cp:lastModifiedBy>germanich-o</cp:lastModifiedBy>
  <dcterms:modified xsi:type="dcterms:W3CDTF">2015-04-17T16:50:47Z</dcterms:modified>
  <cp:revision>24</cp:revision>
  <dc:subject/>
  <dc:title>Кадеты - ветеранам</dc:title>
</cp:coreProperties>
</file>