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F13-0328-43A7-8FA1-46C57EA0FC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2DD6-29F6-4F48-B7D6-6D57A0AD43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8F7-6166-4D0F-B739-133EA9F779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DBE1-4FC3-4981-885E-899008956D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9BE-B244-4A3A-8BE2-21575C4D7A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88E-AA1C-4C5C-8578-7AECB33B8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49E-1C32-4273-8E97-D4EDF26FA2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E00-C004-4FC1-B567-84C26E67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12E-9409-425C-86C4-349B457A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EF5-9B3A-46FB-ACDB-6D14DC0E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A4C-A65F-4872-95DA-80D33E7D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09B-15FC-4B56-8BAA-4188135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6F6-93CB-4774-B858-BEE44371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7A2-9C55-4B6D-B5E3-0C7A5F4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611-AA4D-4BD6-8493-0502BAF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7CB-62E1-4FD3-9F01-D9646754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CFB-A5B5-4071-9B96-79A82FB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E3D-5908-480E-B86A-153B6767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5A8-CD15-44BD-A921-B3AFF70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467-7861-419E-9769-38EA78000B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Работа ученицы   </a:t>
            </a:r>
            <a:br>
              <a:rPr sz="28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 2 класса «А»</a:t>
            </a:r>
            <a:br>
              <a:rPr sz="28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ГБОУ Гимназия № 1619</a:t>
            </a:r>
            <a:br>
              <a:rPr sz="2800"/>
            </a:b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Панфиловой   Полины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оводитель проекта: Матросова Л.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86640" y="259920"/>
            <a:ext cx="4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76040" y="426960"/>
            <a:ext cx="89679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 Спасибо деду за Победу!»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ученицы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 класса «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ОУ Гимназия № 161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нфилов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ны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280" y="259920"/>
            <a:ext cx="57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372360" y="609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фро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24000" y="210960"/>
            <a:ext cx="86407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1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8486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1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60836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7308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1280" y="333000"/>
            <a:ext cx="61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871640" y="1469880"/>
            <a:ext cx="5616720" cy="4104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403280" y="476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пасибо   деду   за Победу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2016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 Спасибо деду за Победу!»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ученицы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 класса «А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БОУ Гимназия № 161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нфилово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ны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1280" y="259920"/>
            <a:ext cx="57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570040" y="333360"/>
            <a:ext cx="5616720" cy="6240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6372360" y="609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фро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Samsung</cp:lastModifiedBy>
  <dcterms:modified xsi:type="dcterms:W3CDTF">2015-04-19T21:16:56Z</dcterms:modified>
  <cp:revision>34</cp:revision>
  <dc:subject/>
  <dc:title>Слайд 1</dc:title>
</cp:coreProperties>
</file>