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1AEC-3458-4B01-8684-1D5380DF08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23F4-3D2A-4A0A-AEEA-AA33420ED8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194D-2A21-4E1F-AC7C-B0CC8C943E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AEE3-34AE-4579-88DD-63FD6888B8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8CDF-01DD-4D91-92B2-FF50692260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D981-3CDA-496C-8375-DDCA1C661E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A51C-0A7A-41CB-B3F6-3882665669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B9C6-AD87-4A88-905E-E9C228EE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0865-453D-4C04-A2DB-7A0C06AB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5C72-01DD-4691-A501-30CFEB45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BD9F-D639-4C78-83DB-237E6EBA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5F3C-D3E2-452A-B81D-6CB7F87A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42D9-6825-494F-B82F-77020635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D024-34D2-4664-A24A-85191C99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B6E1-D3BD-4451-AA3B-8B79D3E0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6804-9CAF-49FB-A607-061A9ED9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DC35-38B1-4DF6-9C32-D36ECF6E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4BE-E8DF-4407-BBE9-EC6FA383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961F-4B84-402D-A778-5D2F5B18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0DE4-1D69-4154-BE70-F03698A4FA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007000"/>
                </a:solidFill>
                <a:latin typeface="Times New Roman"/>
              </a:rPr>
              <a:t>Работа ученицы   </a:t>
            </a:r>
            <a:br>
              <a:rPr sz="2800"/>
            </a:br>
            <a:r>
              <a:rPr b="1" lang="ru-RU" sz="2800" spc="-1" strike="noStrike">
                <a:solidFill>
                  <a:srgbClr val="007000"/>
                </a:solidFill>
                <a:latin typeface="Times New Roman"/>
              </a:rPr>
              <a:t> 2 класса «А»</a:t>
            </a:r>
            <a:br>
              <a:rPr sz="2800"/>
            </a:br>
            <a:r>
              <a:rPr b="1" lang="ru-RU" sz="2800" spc="-1" strike="noStrike">
                <a:solidFill>
                  <a:srgbClr val="007000"/>
                </a:solidFill>
                <a:latin typeface="Times New Roman"/>
              </a:rPr>
              <a:t>ГБОУ Гимназия № 1619</a:t>
            </a:r>
            <a:br>
              <a:rPr sz="2800"/>
            </a:br>
            <a:r>
              <a:rPr b="1" lang="ru-RU" sz="2800" spc="-1" strike="noStrike">
                <a:solidFill>
                  <a:srgbClr val="007000"/>
                </a:solidFill>
                <a:latin typeface="Times New Roman"/>
              </a:rPr>
              <a:t>Панфиловой   Полины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уководитель проекта: Матросова Л.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86640" y="259920"/>
            <a:ext cx="46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Прямоугольник 2" descr=""/>
          <p:cNvPicPr/>
          <p:nvPr/>
        </p:nvPicPr>
        <p:blipFill>
          <a:blip r:embed="rId1"/>
          <a:stretch/>
        </p:blipFill>
        <p:spPr>
          <a:xfrm>
            <a:off x="176040" y="426960"/>
            <a:ext cx="896796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201600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 Спасибо деду за Победу!»</a:t>
            </a:r>
            <a:br>
              <a:rPr sz="28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та ученицы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2 класса «А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БОУ Гимназия № 1619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нфиловой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ины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71280" y="259920"/>
            <a:ext cx="5761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6372360" y="6093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 фрон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324000" y="210960"/>
            <a:ext cx="8640720" cy="62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201600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11280" y="333000"/>
            <a:ext cx="6121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684864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201600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11280" y="333000"/>
            <a:ext cx="6121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1908000" y="981000"/>
            <a:ext cx="608364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1773360"/>
            <a:ext cx="7308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11280" y="333000"/>
            <a:ext cx="6121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1871640" y="1469880"/>
            <a:ext cx="5616720" cy="4104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1403280" y="4762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пасибо   деду   за Победу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201600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 Спасибо деду за Победу!»</a:t>
            </a:r>
            <a:br>
              <a:rPr sz="28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та ученицы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2 класса «А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БОУ Гимназия № 1619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нфиловой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ины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71280" y="259920"/>
            <a:ext cx="5761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Рисунок 2" descr=""/>
          <p:cNvPicPr/>
          <p:nvPr/>
        </p:nvPicPr>
        <p:blipFill>
          <a:blip r:embed="rId1"/>
          <a:stretch/>
        </p:blipFill>
        <p:spPr>
          <a:xfrm>
            <a:off x="2570040" y="333360"/>
            <a:ext cx="5616720" cy="62406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6372360" y="6093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 фрон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01:24:37Z</dcterms:created>
  <dc:creator>Елена</dc:creator>
  <dc:description/>
  <dc:language>en-US</dc:language>
  <cp:lastModifiedBy>Samsung</cp:lastModifiedBy>
  <dcterms:modified xsi:type="dcterms:W3CDTF">2015-04-19T21:16:56Z</dcterms:modified>
  <cp:revision>34</cp:revision>
  <dc:subject/>
  <dc:title>Слайд 1</dc:title>
</cp:coreProperties>
</file>