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081-CF4C-4768-BDB8-DFE07241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EE4-21BF-4C31-B026-C7D256E3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A66-B6E6-4F2A-A829-DF9BFEDB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5A7-B4AF-4216-A654-72BEE5FF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99C-5B0D-4686-A7C9-4DB37C4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7EC-BC91-4FD6-B4D6-BAE1A7DE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D1F-B6A1-4D3C-8864-9C1F8271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D8E-5FEB-49D5-9232-3DD09B09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099-5070-4D73-92F9-C5DA85B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225-FC5A-44C0-9B88-76CCE94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756-AA3A-4B6F-9C3D-83D140B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D21-1852-4FF1-AAB2-3B74D828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CC7-E403-4F1C-AF56-241F6A463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050920" y="907920"/>
            <a:ext cx="54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54240" y="29242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omic Sans MS"/>
              </a:rPr>
              <a:t>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1547640" y="177336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3851280" y="1773360"/>
            <a:ext cx="1800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6659640" y="1844640"/>
            <a:ext cx="1728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рач дал больной девочке 3 таблетки и велел принимать их через каждые полчаса. Она строго выполнила указание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017160" y="100008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Arial"/>
              </a:rPr>
              <a:t>на 1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летка фон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48240" y="2293200"/>
            <a:ext cx="656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усь весит 12 к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Сколько он будет вес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если встанет на одну ног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587320" y="178596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12 к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71680" y="228600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Лестница состоит из 7 ступенек. Какая ступенька находится на серед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511000" y="928800"/>
            <a:ext cx="40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Arial"/>
              </a:rPr>
              <a:t>четвёр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24000" y="227664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ке стоят 19 книг. Из них 5 сборников рассказов, 3 сборника стихов, а остальные - учебники. Сколько учебников на по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755640" y="105264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5 + 3 = 8 (к)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и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- 8 = 11 (уч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1 учеб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214200" y="100980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324000" y="1557360"/>
            <a:ext cx="8501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395280" y="184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о краткой записи задачу и реши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D:\мама\разные картинки\рисунки для през фото\баск. мяч.jpg"/>
          <p:cNvPicPr/>
          <p:nvPr/>
        </p:nvPicPr>
        <p:blipFill>
          <a:blip r:embed="rId3"/>
          <a:stretch/>
        </p:blipFill>
        <p:spPr>
          <a:xfrm>
            <a:off x="468360" y="25653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9"/>
          <p:cNvSpPr/>
          <p:nvPr/>
        </p:nvSpPr>
        <p:spPr>
          <a:xfrm>
            <a:off x="125892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 12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мама\разные картинки\рисунки для през фото\мяч ф..jpg"/>
          <p:cNvPicPr/>
          <p:nvPr/>
        </p:nvPicPr>
        <p:blipFill>
          <a:blip r:embed="rId4"/>
          <a:stretch/>
        </p:blipFill>
        <p:spPr>
          <a:xfrm>
            <a:off x="468360" y="3357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1"/>
          <p:cNvSpPr/>
          <p:nvPr/>
        </p:nvSpPr>
        <p:spPr>
          <a:xfrm>
            <a:off x="1332000" y="3429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?, на 5 м. мен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гнутая вниз стрелка 12"/>
          <p:cNvSpPr/>
          <p:nvPr/>
        </p:nvSpPr>
        <p:spPr>
          <a:xfrm rot="15780000">
            <a:off x="4616280" y="2836440"/>
            <a:ext cx="1044360" cy="723960"/>
          </a:xfrm>
          <a:custGeom>
            <a:avLst/>
            <a:gdLst>
              <a:gd name="textAreaLeft" fmla="*/ 203400 w 1044360"/>
              <a:gd name="textAreaRight" fmla="*/ 696240 w 104436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-3566386"/>
                <a:lnTo>
                  <a:pt x="21386" y="4842"/>
                </a:lnTo>
                <a:lnTo>
                  <a:pt x="17719" y="0"/>
                </a:lnTo>
                <a:lnTo>
                  <a:pt x="13624" y="4842"/>
                </a:lnTo>
                <a:lnTo>
                  <a:pt x="16615" y="4842"/>
                </a:lnTo>
                <a:arcTo wR="8415" hR="21600" stAng="1833614" swAng="3424020"/>
                <a:lnTo>
                  <a:pt x="9305" y="21479"/>
                </a:lnTo>
                <a:arcTo wR="8415" hR="21600" stAng="5542365" swAng="5257635"/>
                <a:close/>
              </a:path>
              <a:path fill="darkenLess"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142365"/>
                <a:lnTo>
                  <a:pt x="9305" y="21479"/>
                </a:lnTo>
                <a:arcTo wR="8415" hR="21600" stAng="5542365" swAng="525763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D:\мама\разные картинки\рисунки для през фото\рез. мяч.jpg"/>
          <p:cNvPicPr/>
          <p:nvPr/>
        </p:nvPicPr>
        <p:blipFill>
          <a:blip r:embed="rId5"/>
          <a:stretch/>
        </p:blipFill>
        <p:spPr>
          <a:xfrm>
            <a:off x="395280" y="4149720"/>
            <a:ext cx="760320" cy="716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5"/>
          <p:cNvSpPr/>
          <p:nvPr/>
        </p:nvSpPr>
        <p:spPr>
          <a:xfrm>
            <a:off x="1116000" y="4365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?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8 м. бол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гнутая вниз стрелка 16"/>
          <p:cNvSpPr/>
          <p:nvPr/>
        </p:nvSpPr>
        <p:spPr>
          <a:xfrm rot="15993600">
            <a:off x="5907600" y="2775600"/>
            <a:ext cx="1271520" cy="2432160"/>
          </a:xfrm>
          <a:custGeom>
            <a:avLst/>
            <a:gdLst>
              <a:gd name="textAreaLeft" fmla="*/ 219240 w 1271520"/>
              <a:gd name="textAreaRight" fmla="*/ 809640 w 1271520"/>
              <a:gd name="textAreaTop" fmla="*/ 325800 h 2432160"/>
              <a:gd name="textAreaBottom" fmla="*/ 2106360 h 243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-4473415"/>
                <a:lnTo>
                  <a:pt x="21566" y="2051"/>
                </a:lnTo>
                <a:lnTo>
                  <a:pt x="16200" y="0"/>
                </a:lnTo>
                <a:lnTo>
                  <a:pt x="10766" y="2051"/>
                </a:lnTo>
                <a:lnTo>
                  <a:pt x="14882" y="2051"/>
                </a:lnTo>
                <a:arcTo wR="7458" hR="21600" stAng="926585" swAng="4266214"/>
                <a:lnTo>
                  <a:pt x="8742" y="21277"/>
                </a:lnTo>
                <a:arcTo wR="7458" hR="21600" stAng="5607201" swAng="5192799"/>
                <a:close/>
              </a:path>
              <a:path fill="darkenLess"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207201"/>
                <a:lnTo>
                  <a:pt x="8742" y="21277"/>
                </a:lnTo>
                <a:arcTo wR="7458" hR="21600" stAng="5607201" swAng="5192799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536040" cy="6877080"/>
        </p:xfrm>
        <a:graphic>
          <a:graphicData uri="http://schemas.openxmlformats.org/drawingml/2006/table">
            <a:tbl>
              <a:tblPr/>
              <a:tblGrid>
                <a:gridCol w="1619280"/>
                <a:gridCol w="1368360"/>
                <a:gridCol w="2376360"/>
                <a:gridCol w="2232360"/>
                <a:gridCol w="193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диницы изме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еометрические фиг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Логически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ndalus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1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3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395280" y="10000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1) 12 – 5 = 7 (м.) – футбо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2) 7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ет: 15 резиновых мя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(12 – 5)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4296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Три подружки - Вера, Оля и Таня пошли в лес по ягоды. Для сбора ягод у них были корзина, лукошко и ведерко. Известно, что Оля была не с корзиной и не с лукошком, Вера - не с лукошком. Что с собой взяла каждая девочка для сбора я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28760" y="92880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Вера была с корзинкой, Оля - с ведерк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Таня -с лукош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19720" y="2961720"/>
            <a:ext cx="293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&amp;Fcy;&amp;icy;&amp;gcy;&amp;ucy;&amp;rcy;&amp;ycy;"/>
          <p:cNvPicPr/>
          <p:nvPr/>
        </p:nvPicPr>
        <p:blipFill>
          <a:blip r:embed="rId3"/>
          <a:stretch/>
        </p:blipFill>
        <p:spPr>
          <a:xfrm>
            <a:off x="395280" y="3429000"/>
            <a:ext cx="820908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755640" y="191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 данные фигуры одним словом. Сможешь ли ты назвать каждую из фигур правильно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900000" y="6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уголь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сти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др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42960" y="23572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умма длин сторон квадрата 40 см. Чему равна длина каждой его сторо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2960" y="1428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все стороны имеют равные сторо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таких стороны 4. Следовательно, нужно 40 см. разделить на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читаем: 40 : 4 = 10 (с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клетка фон"/>
          <p:cNvPicPr/>
          <p:nvPr/>
        </p:nvPicPr>
        <p:blipFill>
          <a:blip r:embed="rId2"/>
          <a:stretch/>
        </p:blipFill>
        <p:spPr>
          <a:xfrm>
            <a:off x="-252360" y="-243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4758480" y="5643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&amp;Lcy;&amp;ocy;&amp;mcy;&amp;acy;&amp;ncy;&amp;ncy;&amp;acy;&amp;yacy;"/>
          <p:cNvPicPr/>
          <p:nvPr/>
        </p:nvPicPr>
        <p:blipFill>
          <a:blip r:embed="rId3"/>
          <a:stretch/>
        </p:blipFill>
        <p:spPr>
          <a:xfrm>
            <a:off x="1187280" y="2421000"/>
            <a:ext cx="604872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2"/>
          <p:cNvSpPr/>
          <p:nvPr/>
        </p:nvSpPr>
        <p:spPr>
          <a:xfrm>
            <a:off x="1187280" y="1628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длину лом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24000" y="1341360"/>
            <a:ext cx="5018040" cy="2570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357120" y="1720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http://img1.liveinternet.ru/images/attach/c/1/50/462/50462487_13.jpg"/>
          <p:cNvPicPr/>
          <p:nvPr/>
        </p:nvPicPr>
        <p:blipFill>
          <a:blip r:embed="rId3"/>
          <a:srcRect l="37796" t="1890" r="40819" b="26458"/>
          <a:stretch/>
        </p:blipFill>
        <p:spPr>
          <a:xfrm>
            <a:off x="3780000" y="3213000"/>
            <a:ext cx="1019160" cy="25797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755640" y="1844640"/>
            <a:ext cx="8209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х геометрических фигур нет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857160" y="310500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971640" y="2492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длина трёхзвенной ломаной, если длина её звеньев 7 см, 4 см и 5 с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500040" y="428760"/>
            <a:ext cx="83581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Задание на знание геометрических фигур и внимание. Найдём геометрические фигуры, вспомнив их определения. 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рямоугольник - это геометрическая фигура, четырёхугольник с прямыми углами. На рисунке он представлен в виде основы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1 прямоугольник кстати, квадраты - это тоже прямоугольники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вадрат - это прямоугольник, у которого все стороны равны. На рисунке глаза светофора выполнены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Треугольник - это геометрическая фигура, многоугольник с тремя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руг - это геометрическая фигура. На рисунке мы видим только дугу, а не весь круг. Значит, круги на изображении отсутств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0 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исунке  отсутствует геометрическая фигура - 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Геометрические фигуры 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17080" y="234936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кую геометрическую фиг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ят на голове мужчи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845800" y="515772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Цили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Vc79J"/>
          <p:cNvPicPr/>
          <p:nvPr/>
        </p:nvPicPr>
        <p:blipFill>
          <a:blip r:embed="rId2"/>
          <a:stretch/>
        </p:blipFill>
        <p:spPr>
          <a:xfrm>
            <a:off x="1187280" y="333360"/>
            <a:ext cx="3746520" cy="453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51895_html_m4c4b7368"/>
          <p:cNvPicPr/>
          <p:nvPr/>
        </p:nvPicPr>
        <p:blipFill>
          <a:blip r:embed="rId3"/>
          <a:stretch/>
        </p:blipFill>
        <p:spPr>
          <a:xfrm>
            <a:off x="5435640" y="836640"/>
            <a:ext cx="3219480" cy="34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Логические задач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835280" y="3244680"/>
            <a:ext cx="539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3 3 =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1916280"/>
          <a:ext cx="6577200" cy="2395440"/>
        </p:xfrm>
        <a:graphic>
          <a:graphicData uri="http://schemas.openxmlformats.org/drawingml/2006/table">
            <a:tbl>
              <a:tblPr/>
              <a:tblGrid>
                <a:gridCol w="258840"/>
                <a:gridCol w="6318360"/>
              </a:tblGrid>
              <a:tr h="23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+ 3 - 3 = 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http://onlinetestpad.com/filestest/0015500-0016000/15666/%D0%B2%D0%BE%D0%BB%D0%BA.jpg"/>
          <p:cNvPicPr/>
          <p:nvPr/>
        </p:nvPicPr>
        <p:blipFill>
          <a:blip r:embed="rId3"/>
          <a:stretch/>
        </p:blipFill>
        <p:spPr>
          <a:xfrm>
            <a:off x="2556000" y="3429000"/>
            <a:ext cx="3200400" cy="30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68360" y="1557360"/>
          <a:ext cx="8353440" cy="1677960"/>
        </p:xfrm>
        <a:graphic>
          <a:graphicData uri="http://schemas.openxmlformats.org/drawingml/2006/table">
            <a:tbl>
              <a:tblPr/>
              <a:tblGrid>
                <a:gridCol w="789120"/>
                <a:gridCol w="820440"/>
                <a:gridCol w="6564600"/>
                <a:gridCol w="179280"/>
              </a:tblGrid>
              <a:tr h="12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лугу паслись 10 овец. Всех, кроме девяти, съел волк. Сколько овец осталось на луг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8"/>
          <p:cNvSpPr/>
          <p:nvPr/>
        </p:nvSpPr>
        <p:spPr>
          <a:xfrm>
            <a:off x="1619280" y="765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700360" y="2276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9 ов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24000" y="27428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дешевле ручки, но дороже карандаша. Что дешевл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1187280" y="765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2340000" y="429264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755640" y="2349360"/>
            <a:ext cx="7561440" cy="127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нда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42920" y="2492280"/>
            <a:ext cx="7705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ти вчера был день рождения.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пятница. В какой день недели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Ка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484360" y="141300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050920" y="2637000"/>
            <a:ext cx="5616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а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201744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 ряд чис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611280" y="32446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18, 19, 17, 18, 16, 17, ...., ....,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1692360" y="1557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, 16,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2520" y="1844640"/>
            <a:ext cx="89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250920" y="836640"/>
            <a:ext cx="84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:\Documents and Settings\Admin\Рабочий стол\минус.png"/>
          <p:cNvPicPr/>
          <p:nvPr/>
        </p:nvPicPr>
        <p:blipFill>
          <a:blip r:embed="rId3"/>
          <a:stretch/>
        </p:blipFill>
        <p:spPr>
          <a:xfrm>
            <a:off x="1276200" y="2514600"/>
            <a:ext cx="62247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2733840" y="15001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МИН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1909440" y="148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68360" y="692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http://luntiki.ru/uploads/images/9/c/9/b/5/01eb5b7252.jpg"/>
          <p:cNvPicPr/>
          <p:nvPr/>
        </p:nvPicPr>
        <p:blipFill>
          <a:blip r:embed="rId3"/>
          <a:stretch/>
        </p:blipFill>
        <p:spPr>
          <a:xfrm>
            <a:off x="1763640" y="2276640"/>
            <a:ext cx="476244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10640" y="178596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емь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619280" y="141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http://luntiki.ru/uploads/images/0/c/2/e/5/d89403cb18.jpg"/>
          <p:cNvPicPr/>
          <p:nvPr/>
        </p:nvPicPr>
        <p:blipFill>
          <a:blip r:embed="rId3"/>
          <a:stretch/>
        </p:blipFill>
        <p:spPr>
          <a:xfrm>
            <a:off x="1619280" y="2637000"/>
            <a:ext cx="6121440" cy="249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071800" y="184464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тоя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12580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6" descr="C:\Users\Администратор\Desktop\ребус\1e95f7172a.jpg"/>
          <p:cNvPicPr/>
          <p:nvPr/>
        </p:nvPicPr>
        <p:blipFill>
          <a:blip r:embed="rId3"/>
          <a:stretch/>
        </p:blipFill>
        <p:spPr>
          <a:xfrm>
            <a:off x="1535040" y="2378160"/>
            <a:ext cx="6073920" cy="210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52320" y="105264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42960" y="22860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клетке находятся три кролика. Три девочки попросили дать им по одному кролику. Каждой девочке дали кролика. И все же в клетке остался один кролик. Как э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643040" y="5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214720" y="2071800"/>
            <a:ext cx="43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восем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41080" y="17002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http://luntiki.ru/uploads/images/3/6/3/8/5/8966d6f34e.jpg"/>
          <p:cNvPicPr/>
          <p:nvPr/>
        </p:nvPicPr>
        <p:blipFill>
          <a:blip r:embed="rId3"/>
          <a:stretch/>
        </p:blipFill>
        <p:spPr>
          <a:xfrm>
            <a:off x="1979640" y="2276640"/>
            <a:ext cx="4762440" cy="30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763640" y="2060640"/>
            <a:ext cx="49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кр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143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ужно отдать одной девочке клетку вместе с крол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04800" y="10000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7343640" cy="16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971640" y="177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резков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2050920" y="2492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трезк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42960" y="2286000"/>
            <a:ext cx="7715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47640" y="1916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колько будет сантимет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619280" y="2997360"/>
            <a:ext cx="14400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7"/>
          <p:cNvSpPr/>
          <p:nvPr/>
        </p:nvSpPr>
        <p:spPr>
          <a:xfrm>
            <a:off x="3979800" y="2968560"/>
            <a:ext cx="1871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6443640" y="2997360"/>
            <a:ext cx="1728720" cy="105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м 8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RePack by SPecialiST</cp:lastModifiedBy>
  <dcterms:modified xsi:type="dcterms:W3CDTF">2015-04-17T05:46:46Z</dcterms:modified>
  <cp:revision>161</cp:revision>
  <dc:subject/>
  <dc:title>Слайд 1</dc:title>
</cp:coreProperties>
</file>