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4DF-7DD9-411D-943F-FB2E94E0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BEF-31FC-468D-A569-B2B284AB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A85-CFB1-41D3-9ACD-B558E264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832-1A6A-46D0-8643-C96D822E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8D7-D8E7-4D16-B584-3A031B33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9CC-9DCB-4230-8313-2C9E6E89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8AC3-71EC-4FA7-ABD1-FB6AFC5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A48C-3AB7-4B79-9277-D6618289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74BE-F87B-4F6C-99B0-2A9773CD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8A6D-EBB6-41B2-B6E4-CD566DBD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E928-74B6-4BA1-92D9-2DD7997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6AD-FA73-4FA9-B1E6-E2C96F7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716-ACBB-44B8-9375-6CB2A560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850E-DDE4-41A1-B283-52C2EB96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ACD-7797-4DE3-A9F5-16645F40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D58E-B4FD-432D-80EE-CA420658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F443-1859-4825-84EF-811B6CF0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030-8641-45A8-898E-E062AE13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A13-7BC9-4D33-BABB-1CBCC39D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15B-7859-4AEB-B929-3B044496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C53-ED7D-4C56-AE31-442D4EC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ACE-A5EE-4EC4-ADC8-65D99CC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3C6-E282-4C7B-9E6E-900E824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6DC-6982-42EE-B0F5-5ADBAC6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AEFD99-C519-4883-BD64-6EBECA24495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F695F8-E020-4360-B02B-56CAB1ADE7B8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4568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Уральская кухня</a:t>
            </a:r>
            <a:br>
              <a:rPr sz="4800"/>
            </a:b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Мастер- класс – Уральские пирожки - «слипыш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95640" y="4508280"/>
            <a:ext cx="48895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ыполнила Ипатова Ирина Владими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Учитель технологии ГБОУ СОШ №62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другую миску просеять муку и сухие дрожжи. Перемеш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молочно-яично-масляную смесь всыпать муку с дрожжами. Тщательно вымесить (10 минут). Тесто должно отлипать  от рук, но не быть очень круты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тавить в теплое место. Когда объем теста увеличится вдвое, тесто разделить на  колобки, разложить на разделочной доске и оставить на 10-15 мин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40360" cy="37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лобки раскатать в кружки. На каждый кружок из теста положить столовую ложку начинк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формовать круглые  пирожки.Стараться чтобы начинка не попала на края лепешки, иначе она вытечет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мазать пирожки со всех сторон  растопленным сливочным масл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ложить  близко к друг другу в круглую фор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300720" cy="47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верху «слипыши» смазать желтком или смета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Выпекать при температуре 200˚ около 20 мину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чинка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может быть люб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годы (черника, малина, брусника, калина), капуста, грибы,  картош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приготовить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чинку из свежих яг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годы (любые) - 1к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ахар - по вкус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ахмал - 2 ст.ло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годы перебрать, по возможности не мыть. Добавить сахар по вкусу и крахмал, перемеш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453564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60280"/>
            <a:ext cx="8605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льская  местная кухня отличается яркой индивидуальностью и имеет свои особенности. В ней сочетаются традиции финно-угорских народов,  татар и башкир, а дополняют вкусы современного русского ст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а из особенностей местной кухни – любовь к тесту. Это различные вкуснейшие  пироги со всевозможными начинками, кулебяки, шань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0560" y="2519280"/>
            <a:ext cx="601344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Оригинальная уральская начин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 Урале очень любят «слипыши» с начинкой из клюквы и изю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люква-500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зюм 300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хар –по вку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рахмал -1 ст.лож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се смешать –начинка гото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03200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Начинка из черемух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черёмуху влить примерно ¾ стакана кипятка, очень хорошо перемешать, оставить в теплом месте для того, чтоб черемуха набухла, минут через 40  в разбухшую черемуху добавить сахар, перемешать. Начинка готов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468000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4259160" cy="70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юбимое блюдо уральцев-пельмени, но пельмени не только мясные, но и  пельмени из редьки или квашеной капусты. .Пельмени традиционно лепились впрок, и участвовала в этом вся семья. Нередко в лепке пельменей участвовали и соседи. Таким образом, заготавливали пельмени чуть ли не на всю зиму. Хранились они на морозе, на ул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88800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96472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ществует много рецептов пирогов с рыбой: карасями, щукой, лещем. На Урале их готовят не из филе, а из рыбы целиком с костями и голово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321080" cy="28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24836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78544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уральской кухне преобладают сытные блюда из мяса, рыбы, гриб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стоящая уральская кухня немыслима без соленых груздей, пирогов из черемухи, окрошки по-уральски из квашеной капус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дукт, который очень широко используются на Урале – черемуха. Из нее делают муку, которая является основной для очень вкусных оригинальных пир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обенно популярны на Урале  пирожки-«слипыши». Они называются так потому, что слепленные пирожки смазываются со всех сторон маслом и плотно укладываются в круглую форму. Используют для них разнообразные начинки: ягодную, капустную, картофельную, грибную. Пекут их из дрожжевого тест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86252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396072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Для теста понадоби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ука — 800 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хар — 1 ст.л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локо — 2 ст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асло  сливочное —  3 ст.л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йцо — 2 шт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ожжи сухие —        1 пак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ль — 1 ч.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146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игото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миску влить теплое молоко, добавить яйца, соль, сахар, растопленное сливочное масло. Слегка всбить венч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6:44:26Z</dcterms:created>
  <dc:creator>irina</dc:creator>
  <dc:description/>
  <dc:language>en-US</dc:language>
  <cp:lastModifiedBy>irina</cp:lastModifiedBy>
  <dcterms:modified xsi:type="dcterms:W3CDTF">2015-04-18T21:06:35Z</dcterms:modified>
  <cp:revision>5</cp:revision>
  <dc:subject/>
  <dc:title>Уральская кухня Мастер-класс –Уральские пирожки-«слипыши»</dc:title>
</cp:coreProperties>
</file>