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B52-EAA4-4083-8DFC-C572B270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E8-CFEF-40AE-8692-805E5BE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909-0732-4993-8E27-31C0EACE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64B-97CC-4646-8D67-7805919B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A916-4778-4055-9F91-49A5B15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2E4-68F3-4068-A3AF-4FDDA9D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2B72-6D79-4BE4-89EA-54B5EE3E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5712-E58E-461F-BD34-419ED25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44D6-DE99-43D1-BD3F-DD5CDAC8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D464-D0BD-42E9-96AF-D329855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65E-DDBC-434C-B033-A9346E9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AB1-3879-4BBF-9291-DA018227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735C-A9C6-4A1B-BB8C-A766D3A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8492-EAE8-49EA-B859-786DE8C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96D-BAB3-45CC-BF45-64ABC00B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1C1-E820-41A9-9551-8949B7D1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0C32-426E-4D6B-9B41-18F934AA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2FD-193E-4DC8-9BFC-E6DF89B2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6B3-C584-4323-8DCF-88D86A9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359-89B7-4950-BE1C-32157AA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3D2-4E00-4616-B551-2CF10FE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A1E-5E97-4F50-9C66-4DC96B3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059-489C-49D2-BBF0-C2200B8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4F5-7AAC-49CD-9109-8328EF3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CFB60A-9202-443F-B9D3-E04A45C524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23D375-9AD5-4433-8F77-76951F92762C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4568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Уральская кухня</a:t>
            </a:r>
            <a:br>
              <a:rPr sz="4800"/>
            </a:b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Мастер- класс – Уральские пирожки - «слипыш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95640" y="4508280"/>
            <a:ext cx="48895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ыполнила Ипатова Ирина Владими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Учитель технологии ГБОУ СОШ №62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ругую миску просеять муку и сухие дрожжи. Перемеш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молочно-яично-масляную смесь всыпать муку с дрожжами. Тщательно вымесить (10 минут). Тесто должно отлипать  от рук, но не быть очень круты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ставить в теплое место. Когда объем теста увеличится вдвое, тесто разделить на  колобки, разложить на разделочной доске и оставить на 10-15 мин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040360" cy="37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лобки раскатать в кружки. На каждый кружок из теста положить столовую ложку начинк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формовать круглые  пирожки.Стараться чтобы начинка не попала на края лепешки, иначе она вытечет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мазать пирожки со всех сторон  растопленным сливочным масл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ложить  близко к друг другу в круглую фор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00720" cy="47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верху «слипыши» смазать желтком или смета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Выпекать при температуре 200˚ около 20 мину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чинка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может быть люб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(черника, малина, брусника, калина), капуста, грибы,  картош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приготовить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ачинку из свежих ягод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(любые) - 1к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ахар - по вкус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ахмал - 2 ст.ло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годы перебрать, по возможности не мыть. Добавить сахар по вкусу и крахмал, перемеш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453564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260280"/>
            <a:ext cx="8605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льская  местная кухня отличается яркой индивидуальностью и имеет свои особенности. В ней сочетаются традиции финно-угорских народов,  татар и башкир, а дополняют вкусы современного русского ст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дна из особенностей местной кухни – любовь к тесту. Это различные вкуснейшие  пироги со всевозможными начинками, кулебяки, шань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0560" y="2519280"/>
            <a:ext cx="601344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ригинальная уральская начин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 Урале очень любят «слипыши» с начинкой из клюквы и изю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люква-50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зюм 300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хар –по вку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рахмал -1 ст.ло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се смешать –начинка гото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3200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Начинка из черемух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черёмуху влить примерно ¾ стакана кипятка, очень хорошо перемешать, оставить в теплом месте для того, чтоб черемуха набухла, минут через 40  в разбухшую черемуху добавить сахар, перемешать. Начинка готов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68000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4259160" cy="70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юбимое блюдо уральцев-пельмени, но пельмени не только мясные, но и  пельмени из редьки или квашеной капусты. .Пельмени традиционно лепились впрок, и участвовала в этом вся семья. Нередко в лепке пельменей участвовали и соседи. Таким образом, заготавливали пельмени чуть ли не на всю зиму. Хранились они на морозе, на ул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88800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96472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ществует много рецептов пирогов с рыбой: карасями, щукой, лещем. На Урале их готовят не из филе, а из рыбы целиком с костями и голово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321080" cy="28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24836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78544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уральской кухне преобладают сытные блюда из мяса, рыбы, гриб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стоящая уральская кухня немыслима без соленых груздей, пирогов из черемухи, окрошки по-уральски из квашеной капус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дукт, который очень широко используются на Урале – черемуха. Из нее делают муку, которая является основной для очень вкусных оригинальных пир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обенно популярны на Урале  пирожки-«слипыши». Они называются так потому, что слепленные пирожки смазываются со всех сторон маслом и плотно укладываются в круглую форму. Используют для них разнообразные начинки: ягодную, капустную, картофельную, грибную. Пекут их из дрожжевого тест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862520" cy="30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396072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Для теста понадоби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ука — 800 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хар — 1 ст.л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локо — 2 ст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асло  сливочное —  3 ст.л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йцо — 2 шт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ожжи сухие —        1 пак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ль — 1 ч.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146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игото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миску влить теплое молоко, добавить яйца, соль, сахар, растопленное сливочное масло. Слегка всбить венч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6:44:26Z</dcterms:created>
  <dc:creator>irina</dc:creator>
  <dc:description/>
  <dc:language>en-US</dc:language>
  <cp:lastModifiedBy>irina</cp:lastModifiedBy>
  <dcterms:modified xsi:type="dcterms:W3CDTF">2015-04-18T21:06:35Z</dcterms:modified>
  <cp:revision>5</cp:revision>
  <dc:subject/>
  <dc:title>Уральская кухня Мастер-класс –Уральские пирожки-«слипыши»</dc:title>
</cp:coreProperties>
</file>